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Lucida Sans Typewriter"/>
              </a:rPr>
              <a:t>Click to move the slide</a:t>
            </a:r>
            <a:endParaRPr b="0" lang="en-US" sz="40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A724-59BF-416A-A293-FF350212A7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719-A83B-410A-8C8B-0BD0CF959F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1C94-EED4-4894-B7F6-CE99D700F7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a è no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E18-7A8D-4BF6-BA57-04CAB67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203-9E66-4D7C-B20B-F888253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D9E-05D9-4F93-81F0-E120783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029-E96A-41FE-A377-37534C66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965-541D-4B30-95F0-E989DF5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3C2-2D11-4B24-BFEA-26A3EA61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5BF8-A18C-4878-993F-429D015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7C52-913A-4049-A034-E508187A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22E-66A9-4F61-A42E-4380A09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836A-D15D-4CB8-B4EF-8240E29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B8BA-D79D-465D-9012-3C845B8D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F90-D466-4409-AB3A-990840B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5F5D-2DFC-4845-AD79-EF359D9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DF45-EAEC-49E6-BB0D-A1104EF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AFD1-C446-4A53-BA41-05251BB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F099-EB04-4703-B790-B1DF6018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500F-E51F-4120-B762-2484B935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B6B-BA4A-4B91-A0E7-D477DB06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75A-AB02-41A4-B3E9-FC7B7D8C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2C1-639D-4A96-9C57-1460DD89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B07-B18D-493A-BF0A-E3AB4C5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7C8-FE33-4432-BEF6-68E25F3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342-78DD-4BB9-899F-B792B16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35D-D94D-41D8-8C54-4FF42C6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Lucida Sans Typewriter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Typewriter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BB1B-E7A2-47BA-AB1E-DB46EA27E38D}" type="slidenum"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Lucida Sans Typewriter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Typewriter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D72-CECF-488F-B61F-894B9FECBCA5}" type="slidenum">
              <a:rPr b="0" lang="it-IT" sz="1000" spc="-1" strike="noStrike">
                <a:solidFill>
                  <a:srgbClr val="ffffff"/>
                </a:solidFill>
                <a:latin typeface="Lucida Sans Typewrit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Typewriter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9144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4" marL="1828800" algn="ctr">
              <a:spcBef>
                <a:spcPts val="400"/>
              </a:spcBef>
              <a:buClr>
                <a:srgbClr val="00ccff"/>
              </a:buClr>
              <a:buFont typeface="Lucida Sans Typewriter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Sans Typewriter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Sans Typewriter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Sans Typewriter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2214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Lucida Sans Typewriter"/>
              </a:rPr>
              <a:t>L’organizzazione dell’Equipe Multidisciplinare dell’Handicap nell’Azienda Sanitaria n°3- Alto Friuli</a:t>
            </a:r>
            <a:endParaRPr b="0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4221000"/>
            <a:ext cx="6481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Lucida Sans Typewriter"/>
              </a:rPr>
              <a:t>Dr.ssa Federica Rol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Responsabile Distretto 2 ASS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ffffff"/>
                </a:solidFill>
                <a:uFillTx/>
                <a:latin typeface="Lucida Sans Typewriter"/>
              </a:rPr>
              <a:t>Dr.ssa Gabriella Tavosch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Responsabile Aziend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Equipe Multidisciplinare Handicap ASS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468360" y="811080"/>
          <a:ext cx="8424720" cy="5840640"/>
        </p:xfrm>
        <a:graphic>
          <a:graphicData uri="http://schemas.openxmlformats.org/drawingml/2006/table">
            <a:tbl>
              <a:tblPr/>
              <a:tblGrid>
                <a:gridCol w="4103640"/>
                <a:gridCol w="4321080"/>
              </a:tblGrid>
              <a:tr h="58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N. Personale complessivo del Distretto, di cui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dipendenti 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convenzionati 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Lucida Sans Typewriter"/>
                          <a:ea typeface="Times New Roman"/>
                        </a:rPr>
                        <a:t>da delega Comu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N° mezzi di traspor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Presenti ottobre 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6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  <a:ea typeface="Times New Roman"/>
                        </a:rPr>
                        <a:t>40 MMG, 2 PLS, 24 GM, 4 Odontoiatri, 2 Oculisti, 1 Dermatolo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cc66"/>
                          </a:solidFill>
                          <a:latin typeface="Lucida Sans Typewriter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Lucida Sans Typewriter"/>
                          <a:ea typeface="Times New Roman"/>
                        </a:rPr>
                        <a:t>1 ig; 11,4 ass soci.;11,9 ass dom., 2 a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Lucida Sans Typewriter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684360" y="1773360"/>
          <a:ext cx="7777080" cy="3052800"/>
        </p:xfrm>
        <a:graphic>
          <a:graphicData uri="http://schemas.openxmlformats.org/drawingml/2006/table">
            <a:tbl>
              <a:tblPr/>
              <a:tblGrid>
                <a:gridCol w="3527280"/>
                <a:gridCol w="4249800"/>
              </a:tblGrid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Medici dipenden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Dirigenti sanita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efec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 + 0,5neuropsichiatria dell’età infantile condiviso con D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3 psicolog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efecb"/>
                        </a:gs>
                      </a:gsLst>
                      <a:lin ang="5400000"/>
                    </a:gradFill>
                  </a:tcPr>
                </a:tc>
              </a:tr>
              <a:tr h="20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Infermie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inf. Gen. -  OTA/Ad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terapisti riabilitazi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Assist.socia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N. Ammin.v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efec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8,4 ip (di cui 2 AFD, 2 coord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 ig +13 OS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8,5 FKT, 2 Logopediste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,5 psicomotricis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00ff"/>
                        </a:buClr>
                        <a:buSzPct val="7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efec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: dotazione orga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: l’organizz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19640" y="836640"/>
            <a:ext cx="208908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Responsabile di Dist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00720" y="2133720"/>
            <a:ext cx="2592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Uff.Coord. Serviz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87640" y="3933720"/>
            <a:ext cx="718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64360" y="3933720"/>
            <a:ext cx="648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40360" y="3933720"/>
            <a:ext cx="129708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Equipe Multidis. Handic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933720"/>
            <a:ext cx="1655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nsulto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32000" y="5243400"/>
            <a:ext cx="1584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ord.A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32000" y="5746680"/>
            <a:ext cx="1801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ord.RSA/C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12000" y="3933720"/>
            <a:ext cx="647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84720" y="3933720"/>
            <a:ext cx="122364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Medicina di 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32000" y="6251400"/>
            <a:ext cx="19447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Poliambulat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0" idx="2"/>
            <a:endCxn id="424" idx="0"/>
          </p:cNvCxnSpPr>
          <p:nvPr/>
        </p:nvCxnSpPr>
        <p:spPr>
          <a:xfrm flipH="1" rot="16200000">
            <a:off x="3823200" y="2067120"/>
            <a:ext cx="2507400" cy="122616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0" idx="2"/>
            <a:endCxn id="429" idx="0"/>
          </p:cNvCxnSpPr>
          <p:nvPr/>
        </p:nvCxnSpPr>
        <p:spPr>
          <a:xfrm rot="5400000">
            <a:off x="2976840" y="2446920"/>
            <a:ext cx="2507400" cy="46728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0" idx="2"/>
            <a:endCxn id="421" idx="1"/>
          </p:cNvCxnSpPr>
          <p:nvPr/>
        </p:nvCxnSpPr>
        <p:spPr>
          <a:xfrm flipH="1" rot="16200000">
            <a:off x="4492440" y="1397880"/>
            <a:ext cx="880200" cy="93744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0" idx="2"/>
            <a:endCxn id="422" idx="0"/>
          </p:cNvCxnSpPr>
          <p:nvPr/>
        </p:nvCxnSpPr>
        <p:spPr>
          <a:xfrm rot="5400000">
            <a:off x="2202120" y="1672200"/>
            <a:ext cx="2507400" cy="201672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20" idx="2"/>
            <a:endCxn id="423" idx="0"/>
          </p:cNvCxnSpPr>
          <p:nvPr/>
        </p:nvCxnSpPr>
        <p:spPr>
          <a:xfrm flipH="1" rot="16200000">
            <a:off x="5171760" y="717840"/>
            <a:ext cx="2507400" cy="392508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20" idx="2"/>
            <a:endCxn id="428" idx="0"/>
          </p:cNvCxnSpPr>
          <p:nvPr/>
        </p:nvCxnSpPr>
        <p:spPr>
          <a:xfrm flipH="1" rot="16200000">
            <a:off x="4596480" y="1293840"/>
            <a:ext cx="2507400" cy="277272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22" idx="1"/>
            <a:endCxn id="426" idx="1"/>
          </p:cNvCxnSpPr>
          <p:nvPr/>
        </p:nvCxnSpPr>
        <p:spPr>
          <a:xfrm flipH="1" flipV="1" rot="10800000">
            <a:off x="2086200" y="4106520"/>
            <a:ext cx="144720" cy="131040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22" idx="1"/>
            <a:endCxn id="427" idx="1"/>
          </p:cNvCxnSpPr>
          <p:nvPr/>
        </p:nvCxnSpPr>
        <p:spPr>
          <a:xfrm flipH="1" flipV="1" rot="10800000">
            <a:off x="2086200" y="4106520"/>
            <a:ext cx="144720" cy="181368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22" idx="1"/>
            <a:endCxn id="430" idx="1"/>
          </p:cNvCxnSpPr>
          <p:nvPr/>
        </p:nvCxnSpPr>
        <p:spPr>
          <a:xfrm flipH="1" flipV="1" rot="10800000">
            <a:off x="2086200" y="4106520"/>
            <a:ext cx="144720" cy="231840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504720" y="1758960"/>
            <a:ext cx="288000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Ufficio Coordinamento Attività Distrett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0" idx="2"/>
            <a:endCxn id="440" idx="3"/>
          </p:cNvCxnSpPr>
          <p:nvPr/>
        </p:nvCxnSpPr>
        <p:spPr>
          <a:xfrm rot="5400000">
            <a:off x="3610080" y="1200960"/>
            <a:ext cx="627840" cy="108000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5329080" y="1557360"/>
            <a:ext cx="25927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Medico di Dist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20" idx="2"/>
            <a:endCxn id="442" idx="1"/>
          </p:cNvCxnSpPr>
          <p:nvPr/>
        </p:nvCxnSpPr>
        <p:spPr>
          <a:xfrm flipH="1" rot="16200000">
            <a:off x="4743720" y="1145880"/>
            <a:ext cx="304200" cy="86580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6912000" y="5243400"/>
            <a:ext cx="1584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Area Min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12000" y="5805360"/>
            <a:ext cx="17654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Area Anzia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28" idx="1"/>
            <a:endCxn id="444" idx="1"/>
          </p:cNvCxnSpPr>
          <p:nvPr/>
        </p:nvCxnSpPr>
        <p:spPr>
          <a:xfrm flipH="1" flipV="1" rot="10800000">
            <a:off x="6911640" y="4106520"/>
            <a:ext cx="2160" cy="1310400"/>
          </a:xfrm>
          <a:prstGeom prst="bentConnector3">
            <a:avLst>
              <a:gd name="adj1" fmla="val -144000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28" idx="1"/>
            <a:endCxn id="445" idx="1"/>
          </p:cNvCxnSpPr>
          <p:nvPr/>
        </p:nvCxnSpPr>
        <p:spPr>
          <a:xfrm flipH="1" flipV="1" rot="10800000">
            <a:off x="6911640" y="4105800"/>
            <a:ext cx="2160" cy="1872360"/>
          </a:xfrm>
          <a:prstGeom prst="bentConnector3">
            <a:avLst>
              <a:gd name="adj1" fmla="val -144000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2"/>
            <a:endCxn id="425" idx="0"/>
          </p:cNvCxnSpPr>
          <p:nvPr/>
        </p:nvCxnSpPr>
        <p:spPr>
          <a:xfrm rot="5400000">
            <a:off x="1392480" y="862560"/>
            <a:ext cx="2507400" cy="3636000"/>
          </a:xfrm>
          <a:prstGeom prst="bentConnector3">
            <a:avLst>
              <a:gd name="adj1" fmla="val 49956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825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Fino al 1995 sul territorio era presente il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Il Servizio Psico-Pedagogico nel Distretto n. 1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Il Servizio Materno-Infantile nel Distretto n. 2 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Evoluzione stor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Lucida Sans Typewriter"/>
              </a:rPr>
              <a:t>Nel settembre del 1995 , con delibera, l’ Azienda Sanitaria, istituisce l’ Equipe Multidisciplinare territoriale per l’ Handicap e individua le seguenti figure professionali.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Distretto n.1: 2 psicologi, 2 terapisti della riabilitazione, 2 logopediste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Distretto n.2: 1 psicologa, 3 terapiste della riabilitazione, 2 logopediste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Consulente fisiatra e consulente neuropsichiatra.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Lucida Sans Typewriter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Evoluzione stor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2200" y="981000"/>
            <a:ext cx="7921800" cy="489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Con l’emanazione della L.R. 41 del 1996 viene confermata l’organizzazione precedente, implementando di 1 psicologo il Distretto n.2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Sans Typewriter"/>
              </a:rPr>
              <a:t>COMPITI DELL’ EQUIPE: (art. 9 L.R. 41/96)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presa in carico dei casi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elaborazione del progetto di vita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ontinuità degli interventi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promozione dei necessari contatti con altri Servizi e  figure professionali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integrazione con soggetti privati, privato sociale e istituzioni scolastiche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raccordo con la rete dei servizi socio-sanitari operanti nell’area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ssistenza diretta in ambito scolastico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ollaborazione alla programmazione educativa-didattica , al processo di orientamento e inserimento professionale,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ttività di riabilitazione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raccordo con la commissione di cui all’art. 4 della L. 104/92.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55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tato dell’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82560" y="12679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Lucida Sans Typewriter"/>
              </a:rPr>
              <a:t>L41/96 individua  l’Ente Gestore del Servizio Sociale dei Comuni </a:t>
            </a:r>
            <a:r>
              <a:rPr b="1" lang="it-IT" sz="2400" spc="-1" strike="noStrike" u="sng">
                <a:solidFill>
                  <a:srgbClr val="ffffff"/>
                </a:solidFill>
                <a:uFillTx/>
                <a:latin typeface="Lucida Sans Typewriter"/>
              </a:rPr>
              <a:t>quale programmatore e gestore  di alcuni servizi</a:t>
            </a:r>
            <a:r>
              <a:rPr b="1" lang="it-IT" sz="2400" spc="-1" strike="noStrike">
                <a:solidFill>
                  <a:srgbClr val="ffffff"/>
                </a:solidFill>
                <a:latin typeface="Lucida Sans Typewriter"/>
              </a:rPr>
              <a:t> di cui all’art. 6 ed in particolare: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prestazioni inerenti il sostegno socio-assistenziale scolastico;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attività  integrativa di valenza socio-educativa negli asili nido, nelle scuole di ogni ordine e grado di cui al decreto legislativo 16 aprile 1994, n. 297, nonché in ambito extrascolastico;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attivazione e sostegno di modalità individuali di trasporto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servizio di aiuto personale  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tato dell’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82560" y="140940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Lucida Sans Typewriter"/>
              </a:rPr>
              <a:t>ASS3 ha ricevuto delega anche per la gestione dei Centri ex CAMPP: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centri socio-riabilitativi ed educativi diurni per persone handicappate di eta' compresa tra 14 e 35 anni; 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centri socio-riabilitativi ed educativi diurni rivolti ad ultratrentacinquenni con handicap stabilizzato, attivabili anche all'interno delle strutture di cui alla lettera e); 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soluzioni abitative protette alternative all'istituzionalizzazione; 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centri residenziali per gravi e gravissimi; 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59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tato dell’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68256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Nel 2000 l ‘ Equipe assume il suo assetto attuale.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DISTRETTO N. 1: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3 psicologi (di cui 1 dedicato all’età evolutiva)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2 terapisti della riabilitazione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3 logopediste (di cui 1 a 18ore di convenzione)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1 neuropsichiatra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1 psicomotricista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DISTRETTO N. 2: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4 psicologi (di cui 1 dedicato all’età evolutiva)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3 terapisti della riabilitazione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1 logopedista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1 neuropsichiatra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1 psicomotricista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per entrambi i Distretti 1 consulente fisiatra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Risorse professio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682560" y="148392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Lucida Sans Typewriter"/>
              </a:rPr>
              <a:t>Presenza dell’assistente sociale dei Comuni nell’Equipe Multidisciplinare Handicap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Distretto n°1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n.1 Assistente Sociale Area Minori- Giovani 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n. 1 Assistente Sociale Area Adulti-Anzian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Distretto n°2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n. 5 Assistenti Sociali dell’Area minori e giovani seguono anche i soggetti disabil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n. 6 Assistenti Sociali dell’Area adulti Anziani seguono anche i soggetti disabil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In relazione al Comune di  residenza del richiedente la prestazione.</a:t>
            </a: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63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Risorse professio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9280" y="907920"/>
            <a:ext cx="18716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Lucida Sans Typewriter"/>
              </a:rPr>
              <a:t>Chi fa la segna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11280" y="692280"/>
            <a:ext cx="4969080" cy="1280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Famigl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Medico di Medicina Generale, Pedia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Scuo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Osped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2060640"/>
            <a:ext cx="2016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Lucida Sans Typewriter"/>
              </a:rPr>
              <a:t>Dove inoltrare la segna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11280" y="2133720"/>
            <a:ext cx="4969080" cy="1280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Distret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Equipe Multidimensionale Handic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Servizio Sociale dei Comu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SID/S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9280" y="4475160"/>
            <a:ext cx="1728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Lucida Sans Typewriter"/>
              </a:rPr>
              <a:t>Come si valuta la richies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11280" y="3700440"/>
            <a:ext cx="2232000" cy="946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Valutazione delle competenze presenti e delle disabilità conseguen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5229360"/>
            <a:ext cx="2324160" cy="946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Analisi del contesto familiare e delle risorse territoria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4508640"/>
            <a:ext cx="2664000" cy="5202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Bisogni emergen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Progetto personalizza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6000" y="5661000"/>
            <a:ext cx="1657080" cy="520200"/>
          </a:xfrm>
          <a:prstGeom prst="rect">
            <a:avLst/>
          </a:prstGeom>
          <a:solidFill>
            <a:srgbClr val="003399"/>
          </a:solidFill>
          <a:ln w="76320">
            <a:solidFill>
              <a:srgbClr val="ffff66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Lucida Sans Typewriter"/>
              </a:rPr>
              <a:t>Attivazione interven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5373720"/>
            <a:ext cx="1225440" cy="43164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835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88000" y="3860640"/>
            <a:ext cx="1296720" cy="36036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8350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067400">
            <a:off x="7489080" y="4472280"/>
            <a:ext cx="1150920" cy="1079640"/>
          </a:xfrm>
          <a:custGeom>
            <a:avLst/>
            <a:gdLst>
              <a:gd name="textAreaLeft" fmla="*/ 330120 w 1150920"/>
              <a:gd name="textAreaRight" fmla="*/ 986040 w 1150920"/>
              <a:gd name="textAreaTop" fmla="*/ 621720 h 1079640"/>
              <a:gd name="textAreaBottom" fmla="*/ 92484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Percorsi di accesso ai serviz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36360" y="736560"/>
            <a:ext cx="896436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L. 833/78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Realizzazione dei distretti sanitari di base servizi di I livel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Dlg. 502/92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Istituisce le Azien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Distretti = istituzioni formali ma scarsa autonomia operativa e ges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L.R. 12/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truttura operativa dell’A.S.S., assicura una risposta coordinata e continuativa ai bisogni sanitari della popolazi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entro di riferimento dei cittadini per tutti i servizi dell’A.S.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ede di integrazione dei servizi sanitari con quelli socio-assistenzia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Dpr 27/7/98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distret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entro di servizi e prestazio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Domanda affrontata in modo unitario, attivazione percorsi di accesso ai serviz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truttura operativa con autonomia ges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Dlg. 229/99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Distret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Assicura servizi di assistenza prim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Attribuzione di risorse correlate a popolazione ed obiettiv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Autonomia tecnico-gestionale e economico-finanziaria e Contabilità separ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324000" y="1125360"/>
          <a:ext cx="8135280" cy="2447640"/>
        </p:xfrm>
        <a:graphic>
          <a:graphicData uri="http://schemas.openxmlformats.org/drawingml/2006/table">
            <a:tbl>
              <a:tblPr/>
              <a:tblGrid>
                <a:gridCol w="2286360"/>
                <a:gridCol w="868680"/>
                <a:gridCol w="865440"/>
                <a:gridCol w="1027800"/>
                <a:gridCol w="866880"/>
                <a:gridCol w="1104120"/>
                <a:gridCol w="11160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TIPOLOGIA SCU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Totale ASS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SCUOLA PER L’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SCUOLA</a:t>
                      </a: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ELEMENTA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SCUOLA MED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SCUOLA SUPERIO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TOT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POPOLAZI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3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0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5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0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08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2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4360" y="3933720"/>
          <a:ext cx="8278200" cy="2592000"/>
        </p:xfrm>
        <a:graphic>
          <a:graphicData uri="http://schemas.openxmlformats.org/drawingml/2006/table">
            <a:tbl>
              <a:tblPr/>
              <a:tblGrid>
                <a:gridCol w="3717000"/>
                <a:gridCol w="759960"/>
                <a:gridCol w="758160"/>
                <a:gridCol w="756720"/>
                <a:gridCol w="759960"/>
                <a:gridCol w="759960"/>
                <a:gridCol w="76644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ISABILITA’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Totale ASS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PSICO-FIS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4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5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5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SENSORI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D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1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0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EMOTIVA/COMPORTAMENT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1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1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ALT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2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0.3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TOTA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0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Lucida Sans Typewriter"/>
                          <a:ea typeface="Times New Roman"/>
                        </a:rPr>
                        <a:t>1.2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8360" y="189000"/>
            <a:ext cx="813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Dati di attività anno 2002: certificazioni L104/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9280" y="90792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Lucida Sans Typewriter"/>
              </a:rPr>
              <a:t>Chi fa la segna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11280" y="1027080"/>
            <a:ext cx="158436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Scuo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40000" y="1628640"/>
            <a:ext cx="6480000" cy="3563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Compilazione scheda di segna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Accesso della famiglia al serviz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Fase di valutazione ed osservazione tecn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Restituzione esi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Famigl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Scuo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Stesura del progetto personalizz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Lucida Sans Typewriter"/>
              </a:rPr>
              <a:t>Attivazione interventi/risorse socio-sanit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Percorsi di accesso ai serviz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2560" y="98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Sans Typewriter"/>
              </a:rPr>
              <a:t>Elaborare un Progetto Individuale significa tener conto di: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485" name="Puzzle3"/>
          <p:cNvSpPr/>
          <p:nvPr/>
        </p:nvSpPr>
        <p:spPr>
          <a:xfrm>
            <a:off x="5292720" y="4508640"/>
            <a:ext cx="963720" cy="1326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32000" y="56307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bilità resid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uzzle3"/>
          <p:cNvSpPr/>
          <p:nvPr/>
        </p:nvSpPr>
        <p:spPr>
          <a:xfrm>
            <a:off x="5321160" y="2786040"/>
            <a:ext cx="963720" cy="132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32000" y="292572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Condizioni dello stato di salute (funzionamento/disabilità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uzzle2"/>
          <p:cNvSpPr/>
          <p:nvPr/>
        </p:nvSpPr>
        <p:spPr>
          <a:xfrm>
            <a:off x="5904000" y="3170160"/>
            <a:ext cx="1523880" cy="94788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3809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ttori ambient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uzzle3"/>
          <p:cNvSpPr/>
          <p:nvPr/>
        </p:nvSpPr>
        <p:spPr>
          <a:xfrm>
            <a:off x="7080120" y="2781360"/>
            <a:ext cx="963720" cy="1326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32000" y="4265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ttori contestu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uzzle5"/>
          <p:cNvSpPr/>
          <p:nvPr/>
        </p:nvSpPr>
        <p:spPr>
          <a:xfrm>
            <a:off x="5045040" y="3760920"/>
            <a:ext cx="1523880" cy="120636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32000" y="47214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ttori person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uzzle4"/>
          <p:cNvSpPr/>
          <p:nvPr/>
        </p:nvSpPr>
        <p:spPr>
          <a:xfrm>
            <a:off x="6216480" y="3716280"/>
            <a:ext cx="905040" cy="157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5175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bilità integ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uzzle5"/>
          <p:cNvSpPr/>
          <p:nvPr/>
        </p:nvSpPr>
        <p:spPr>
          <a:xfrm>
            <a:off x="6804000" y="3716280"/>
            <a:ext cx="1523880" cy="120672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60865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bilità recuperabi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189000"/>
            <a:ext cx="727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Lucida Sans Typewriter"/>
              </a:rPr>
              <a:t>Presupposti Generali per l’elaborazione del Progetto Personalizz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250" autoRev="1" fill="hold"/>
                                        <p:tgtEl>
                                          <p:spTgt spid="4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4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Il Progetto Personalizzato definisce: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priorità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esiti desiderat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spettative                              pertanto necessità di individuare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obiettivi a breve, medio, lungo termine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tempi previst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zion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condizion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risorse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ruolo dei partecipanti al progetto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modalità di verifica 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2781360"/>
            <a:ext cx="576000" cy="792000"/>
          </a:xfrm>
          <a:prstGeom prst="downArrow">
            <a:avLst>
              <a:gd name="adj1" fmla="val 50000"/>
              <a:gd name="adj2" fmla="val 3437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Progetto Personalizz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Sans Typewriter"/>
              </a:rPr>
              <a:t>CICLO DI VITA IDEALTIPICO: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prospettiva di sviluppo che ha come quadro di riferimento la famiglia,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successione di fasi delimitate da eventi tipici,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processo di trasformazione (strutturale, organizzativo, relazionale, psicologico)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FASI:</a:t>
            </a:r>
            <a:endParaRPr b="1" lang="en-US" sz="20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se iniziale breve: dalla costituzione della coppia alla nascita del figlio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se centrale prolungata: occupa i genitori e i figli per circa 20 anni. Compresenza di due generazion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se di coppia anziana o del “nido vuoto”: uscita dei figli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Fase di vita in solitudine: ricostituzione della coppia o presenza di un solo genitore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04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Progetto Personalizz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Evoluzione del processo di accettazione/adattamento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Evoluzione dei compiti di sviluppo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Risorse esterne e risorse interne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Prima infanz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187280" y="184464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ura e riabilit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4000" y="3716280"/>
            <a:ext cx="26636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onsulenza  e supporto psic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ssistenza domicili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ssistenza econo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Segretariato so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traspor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56360" y="1916280"/>
            <a:ext cx="2663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Integrazione scola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Integrazione socio-ricrea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Servizio socio-assistenziale scolas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44720" y="1701720"/>
            <a:ext cx="3240000" cy="30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500720" y="1699920"/>
            <a:ext cx="0" cy="3097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60720" y="249228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sanita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60720" y="3357720"/>
            <a:ext cx="144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di supporto alla famig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844720" y="328464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00720" y="286380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educativi di 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Prima infanzia: offerta dei servi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Impatto “forte” con istituzioni, contesto socio-ambientale.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Aspettative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Investimento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Rivisitazione delle risorse interne ed esterne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econda infanz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771640" y="1700280"/>
            <a:ext cx="3313080" cy="3097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1280" y="1844280"/>
            <a:ext cx="1225440" cy="280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25800" y="177336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sanita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43280" y="2421000"/>
            <a:ext cx="143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di supporto alla famig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987640" y="3213000"/>
            <a:ext cx="144000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27640" y="2992320"/>
            <a:ext cx="165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Integrazione scola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427640" y="1989000"/>
            <a:ext cx="86508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068600">
            <a:off x="3059280" y="37555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ervizi ricreativi e di socializz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92720" y="1341360"/>
            <a:ext cx="20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ura e riabilit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1773360"/>
            <a:ext cx="26636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onsulenza  e supporto psic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ssistenza domicili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Assistenza econo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Segretariato so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traspor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56360" y="3068640"/>
            <a:ext cx="2663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Integrazione scola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Servizio socio-assistenziale scolas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90560" y="4724280"/>
            <a:ext cx="2521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Servizio educativo territor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Typewriter"/>
              </a:rPr>
              <a:t>Centri estivi e di aggregazio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econda infanzia: offerta dei servi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7993080" cy="39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Uscita dalla scuola dell’ obbligo </a:t>
            </a: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Il figlio non è più un bambino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Lucida Sans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Lucida Sans Typewriter"/>
              </a:rPr>
              <a:t>Dubbi, aspettative, paure nei confronti del futuro</a:t>
            </a:r>
            <a:endParaRPr b="1" lang="en-US" sz="24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Lucida Sans Typewriter"/>
              </a:rPr>
              <a:t>Progressivo allontanamento dagli interventi riabilitativi</a:t>
            </a:r>
            <a:endParaRPr b="1" lang="en-US" sz="2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33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Adolesc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:a chi dà rispo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42920" y="1628640"/>
            <a:ext cx="6913440" cy="3887640"/>
            <a:chOff x="1042920" y="1628640"/>
            <a:chExt cx="6913440" cy="3887640"/>
          </a:xfrm>
        </p:grpSpPr>
        <p:sp>
          <p:nvSpPr>
            <p:cNvPr id="101" name=""/>
            <p:cNvSpPr/>
            <p:nvPr/>
          </p:nvSpPr>
          <p:spPr>
            <a:xfrm>
              <a:off x="1042920" y="1628640"/>
              <a:ext cx="4147920" cy="26510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66274"/>
                  </a:srgbClr>
                </a:gs>
                <a:gs pos="100000">
                  <a:srgbClr val="f8350e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0" y="1628640"/>
              <a:ext cx="4147560" cy="26510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66274"/>
                  </a:srgbClr>
                </a:gs>
                <a:gs pos="100000">
                  <a:srgbClr val="f8350e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1440" y="2865240"/>
              <a:ext cx="4147560" cy="2651040"/>
            </a:xfrm>
            <a:prstGeom prst="ellipse">
              <a:avLst/>
            </a:prstGeom>
            <a:gradFill rotWithShape="0">
              <a:gsLst>
                <a:gs pos="0">
                  <a:srgbClr val="ffff66">
                    <a:alpha val="66274"/>
                  </a:srgbClr>
                </a:gs>
                <a:gs pos="100000">
                  <a:srgbClr val="f8350e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24120" y="3042360"/>
              <a:ext cx="239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Lucida Sans Typewriter"/>
                </a:rPr>
                <a:t>FAMIGL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4080" y="2158200"/>
              <a:ext cx="211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Lucida Sans Typewriter"/>
                </a:rPr>
                <a:t>Area età evolutiva e giova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37040" y="215820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Lucida Sans Typewriter"/>
                </a:rPr>
                <a:t>Area adult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39080" y="4456800"/>
              <a:ext cx="26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Lucida Sans Typewriter"/>
                </a:rPr>
                <a:t>Area Anzia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627280" y="2060640"/>
            <a:ext cx="3600360" cy="331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427280" y="2060280"/>
            <a:ext cx="73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492360" y="218124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sanitar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2568600">
            <a:off x="2770560" y="279000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di supporto alla famig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643280" y="29973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Formazione profession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2978400">
            <a:off x="4307040" y="412452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ricreativi e di so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132000" y="2422440"/>
            <a:ext cx="2519640" cy="2446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2349360"/>
            <a:ext cx="2447640" cy="244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29080" y="220500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educativ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3280" y="3548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Educazione all’autonom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8311400">
            <a:off x="3324960" y="410112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residenzia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626920" y="3573360"/>
            <a:ext cx="3600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0187000">
            <a:off x="2700720" y="372564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ff"/>
                </a:solidFill>
                <a:latin typeface="Lucida Sans Typewriter"/>
              </a:rPr>
              <a:t>Servizi di supporto al singo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43280" y="1557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ura e riabilitazi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8360" y="1801800"/>
            <a:ext cx="266364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onsulenza  e supporto psicolog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Assistenza domicili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Assistenza econom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egretariato soci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traspor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64000" y="1268280"/>
            <a:ext cx="2664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Integrazione scola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ervizio socio-assistenziale scolas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76720" y="5259240"/>
            <a:ext cx="25210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Servizio educativo territori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entri estivi e di aggregazio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2200" y="4135320"/>
            <a:ext cx="24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onsulenza e supporto psicolog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79640" y="52164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entri diurni e residenzial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27640" y="27813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Cor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42768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Lucida Sans Typewriter"/>
              </a:rPr>
              <a:t>Progetti ad ho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Adolescenza: offerta dei servi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716360" y="981000"/>
            <a:ext cx="0" cy="5183280"/>
          </a:xfrm>
          <a:prstGeom prst="line">
            <a:avLst/>
          </a:prstGeom>
          <a:ln w="9360">
            <a:solidFill>
              <a:srgbClr val="f83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3500280"/>
            <a:ext cx="6337440" cy="0"/>
          </a:xfrm>
          <a:prstGeom prst="line">
            <a:avLst/>
          </a:prstGeom>
          <a:ln w="9360">
            <a:solidFill>
              <a:srgbClr val="f83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116000" y="1239840"/>
            <a:ext cx="345600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Lucida Sans Typewriter"/>
              </a:rPr>
              <a:t>For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Figure professionali compet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Delega del SSc e Handic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Legge Regionale speci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3800" y="3860640"/>
            <a:ext cx="33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Lucida Sans Typewriter"/>
              </a:rPr>
              <a:t>Vinco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Vincoli di bilan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16000" y="3860640"/>
            <a:ext cx="316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Lucida Sans Typewriter"/>
              </a:rPr>
              <a:t>Opportun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Miglioramento metodologia condiv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Rete formale ed in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3800" y="1239840"/>
            <a:ext cx="3743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Lucida Sans Typewriter"/>
              </a:rPr>
              <a:t>Debolez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Lucida Sans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Lucida Sans Typewriter"/>
              </a:rPr>
              <a:t>Rete formale ed infor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SWOT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Blangiardo, Scabini :  “Ciclo di vita della famiglia. Aspetti psico-sociali e demografici”. Ed. Vita e Pensiero. Milano. 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Bramanti : “La famiglia di fronte all’handicap:ovvero la famiglia messa alla prova. Strategie di cura e relazione con i servizi socio-educativi.”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Ed. Franco Angeli. Milano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Byrne, Cunningham : “Le famiglie dei bambini Down”. Ed. Erickson. Trento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Goldfarb : “ La sfida dell’handicap e della malattia cronica”. Ed. Erickson. Trento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Valtolina : “ Famiglia e disabilità”. Ed. Franco Angeli. Milano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Bongiorno, Malizia : “Comunicare la diagnosi grave”. Ed. Carrocci-Faber Roma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Battaglia, Cannevaro, Sorrentino: “Figli per sempre”. Ed Carrocci-Faber. Roma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Soresi : “Psicologia dell’handicap e della riabilitazione” Ed. Il Mulino. Bologna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10) Guerra Lisi, La Malfa, Masi : “Viaggio nel ritardo mentale”. Ed Del Cerro.Pisa.</a:t>
            </a:r>
            <a:endParaRPr b="1" lang="en-US" sz="18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564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Bibliograf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:come dà rispo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628640"/>
            <a:ext cx="4148280" cy="2651400"/>
          </a:xfrm>
          <a:prstGeom prst="ellipse">
            <a:avLst/>
          </a:prstGeom>
          <a:gradFill rotWithShape="0">
            <a:gsLst>
              <a:gs pos="0">
                <a:srgbClr val="ffff66">
                  <a:alpha val="66274"/>
                </a:srgbClr>
              </a:gs>
              <a:gs pos="100000">
                <a:srgbClr val="f8350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440" y="1628640"/>
            <a:ext cx="4148280" cy="2651400"/>
          </a:xfrm>
          <a:prstGeom prst="ellipse">
            <a:avLst/>
          </a:prstGeom>
          <a:gradFill rotWithShape="0">
            <a:gsLst>
              <a:gs pos="0">
                <a:srgbClr val="ffff66">
                  <a:alpha val="66274"/>
                </a:srgbClr>
              </a:gs>
              <a:gs pos="100000">
                <a:srgbClr val="f8350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01800" y="2865600"/>
            <a:ext cx="4146840" cy="2651040"/>
          </a:xfrm>
          <a:prstGeom prst="ellipse">
            <a:avLst/>
          </a:prstGeom>
          <a:gradFill rotWithShape="0">
            <a:gsLst>
              <a:gs pos="0">
                <a:srgbClr val="ffff66">
                  <a:alpha val="66274"/>
                </a:srgbClr>
              </a:gs>
              <a:gs pos="100000">
                <a:srgbClr val="f8350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8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Lucida Sans Typewriter"/>
              </a:rPr>
              <a:t>Distre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4800" y="215892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ssistenza di base domicili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13372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Assistenza specialistica ambulatori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422100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Typewriter"/>
              </a:rPr>
              <a:t>Cure intermedie residenzi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569440" cy="1729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240000" cy="296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contesto:alcuni dati demografici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contesto:alcuni dati demografici 2002 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52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contesto:alcuni dati demografici 2002 D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2600" y="1052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92760" y="476280"/>
            <a:ext cx="8750880" cy="5482800"/>
            <a:chOff x="392760" y="476280"/>
            <a:chExt cx="8750880" cy="5482800"/>
          </a:xfrm>
        </p:grpSpPr>
        <p:grpSp>
          <p:nvGrpSpPr>
            <p:cNvPr id="126" name=""/>
            <p:cNvGrpSpPr/>
            <p:nvPr/>
          </p:nvGrpSpPr>
          <p:grpSpPr>
            <a:xfrm>
              <a:off x="687600" y="1517400"/>
              <a:ext cx="7666200" cy="3818520"/>
              <a:chOff x="687600" y="1517400"/>
              <a:chExt cx="7666200" cy="3818520"/>
            </a:xfrm>
          </p:grpSpPr>
          <p:sp>
            <p:nvSpPr>
              <p:cNvPr id="127" name=""/>
              <p:cNvSpPr/>
              <p:nvPr/>
            </p:nvSpPr>
            <p:spPr>
              <a:xfrm>
                <a:off x="687600" y="1517400"/>
                <a:ext cx="4465800" cy="2802240"/>
              </a:xfrm>
              <a:custGeom>
                <a:avLst/>
                <a:gdLst/>
                <a:ahLst/>
                <a:rect l="l" t="t" r="r" b="b"/>
                <a:pathLst>
                  <a:path w="2896" h="1817">
                    <a:moveTo>
                      <a:pt x="2896" y="473"/>
                    </a:moveTo>
                    <a:lnTo>
                      <a:pt x="2893" y="471"/>
                    </a:lnTo>
                    <a:lnTo>
                      <a:pt x="2888" y="468"/>
                    </a:lnTo>
                    <a:lnTo>
                      <a:pt x="2881" y="466"/>
                    </a:lnTo>
                    <a:lnTo>
                      <a:pt x="2876" y="466"/>
                    </a:lnTo>
                    <a:lnTo>
                      <a:pt x="2869" y="465"/>
                    </a:lnTo>
                    <a:lnTo>
                      <a:pt x="2864" y="465"/>
                    </a:lnTo>
                    <a:lnTo>
                      <a:pt x="2859" y="465"/>
                    </a:lnTo>
                    <a:lnTo>
                      <a:pt x="2857" y="465"/>
                    </a:lnTo>
                    <a:lnTo>
                      <a:pt x="2841" y="455"/>
                    </a:lnTo>
                    <a:lnTo>
                      <a:pt x="2825" y="445"/>
                    </a:lnTo>
                    <a:lnTo>
                      <a:pt x="2809" y="434"/>
                    </a:lnTo>
                    <a:lnTo>
                      <a:pt x="2795" y="423"/>
                    </a:lnTo>
                    <a:lnTo>
                      <a:pt x="2780" y="410"/>
                    </a:lnTo>
                    <a:lnTo>
                      <a:pt x="2768" y="397"/>
                    </a:lnTo>
                    <a:lnTo>
                      <a:pt x="2758" y="384"/>
                    </a:lnTo>
                    <a:lnTo>
                      <a:pt x="2750" y="369"/>
                    </a:lnTo>
                    <a:lnTo>
                      <a:pt x="2724" y="369"/>
                    </a:lnTo>
                    <a:lnTo>
                      <a:pt x="2704" y="369"/>
                    </a:lnTo>
                    <a:lnTo>
                      <a:pt x="2691" y="371"/>
                    </a:lnTo>
                    <a:lnTo>
                      <a:pt x="2681" y="371"/>
                    </a:lnTo>
                    <a:lnTo>
                      <a:pt x="2670" y="369"/>
                    </a:lnTo>
                    <a:lnTo>
                      <a:pt x="2660" y="368"/>
                    </a:lnTo>
                    <a:lnTo>
                      <a:pt x="2647" y="361"/>
                    </a:lnTo>
                    <a:lnTo>
                      <a:pt x="2630" y="351"/>
                    </a:lnTo>
                    <a:lnTo>
                      <a:pt x="2610" y="350"/>
                    </a:lnTo>
                    <a:lnTo>
                      <a:pt x="2586" y="346"/>
                    </a:lnTo>
                    <a:lnTo>
                      <a:pt x="2559" y="342"/>
                    </a:lnTo>
                    <a:lnTo>
                      <a:pt x="2532" y="335"/>
                    </a:lnTo>
                    <a:lnTo>
                      <a:pt x="2505" y="329"/>
                    </a:lnTo>
                    <a:lnTo>
                      <a:pt x="2480" y="319"/>
                    </a:lnTo>
                    <a:lnTo>
                      <a:pt x="2470" y="316"/>
                    </a:lnTo>
                    <a:lnTo>
                      <a:pt x="2462" y="309"/>
                    </a:lnTo>
                    <a:lnTo>
                      <a:pt x="2455" y="304"/>
                    </a:lnTo>
                    <a:lnTo>
                      <a:pt x="2448" y="299"/>
                    </a:lnTo>
                    <a:lnTo>
                      <a:pt x="2445" y="298"/>
                    </a:lnTo>
                    <a:lnTo>
                      <a:pt x="2440" y="298"/>
                    </a:lnTo>
                    <a:lnTo>
                      <a:pt x="2435" y="296"/>
                    </a:lnTo>
                    <a:lnTo>
                      <a:pt x="2430" y="296"/>
                    </a:lnTo>
                    <a:lnTo>
                      <a:pt x="2425" y="295"/>
                    </a:lnTo>
                    <a:lnTo>
                      <a:pt x="2421" y="295"/>
                    </a:lnTo>
                    <a:lnTo>
                      <a:pt x="2416" y="295"/>
                    </a:lnTo>
                    <a:lnTo>
                      <a:pt x="2411" y="293"/>
                    </a:lnTo>
                    <a:lnTo>
                      <a:pt x="2404" y="298"/>
                    </a:lnTo>
                    <a:lnTo>
                      <a:pt x="2394" y="299"/>
                    </a:lnTo>
                    <a:lnTo>
                      <a:pt x="2382" y="301"/>
                    </a:lnTo>
                    <a:lnTo>
                      <a:pt x="2371" y="301"/>
                    </a:lnTo>
                    <a:lnTo>
                      <a:pt x="2359" y="301"/>
                    </a:lnTo>
                    <a:lnTo>
                      <a:pt x="2347" y="299"/>
                    </a:lnTo>
                    <a:lnTo>
                      <a:pt x="2339" y="298"/>
                    </a:lnTo>
                    <a:lnTo>
                      <a:pt x="2332" y="298"/>
                    </a:lnTo>
                    <a:lnTo>
                      <a:pt x="2332" y="299"/>
                    </a:lnTo>
                    <a:lnTo>
                      <a:pt x="2330" y="301"/>
                    </a:lnTo>
                    <a:lnTo>
                      <a:pt x="2330" y="303"/>
                    </a:lnTo>
                    <a:lnTo>
                      <a:pt x="2329" y="304"/>
                    </a:lnTo>
                    <a:lnTo>
                      <a:pt x="2329" y="306"/>
                    </a:lnTo>
                    <a:lnTo>
                      <a:pt x="2327" y="306"/>
                    </a:lnTo>
                    <a:lnTo>
                      <a:pt x="2327" y="308"/>
                    </a:lnTo>
                    <a:lnTo>
                      <a:pt x="2325" y="309"/>
                    </a:lnTo>
                    <a:lnTo>
                      <a:pt x="2324" y="309"/>
                    </a:lnTo>
                    <a:lnTo>
                      <a:pt x="2320" y="309"/>
                    </a:lnTo>
                    <a:lnTo>
                      <a:pt x="2318" y="309"/>
                    </a:lnTo>
                    <a:lnTo>
                      <a:pt x="2315" y="309"/>
                    </a:lnTo>
                    <a:lnTo>
                      <a:pt x="2313" y="309"/>
                    </a:lnTo>
                    <a:lnTo>
                      <a:pt x="2312" y="309"/>
                    </a:lnTo>
                    <a:lnTo>
                      <a:pt x="2308" y="309"/>
                    </a:lnTo>
                    <a:lnTo>
                      <a:pt x="2307" y="309"/>
                    </a:lnTo>
                    <a:lnTo>
                      <a:pt x="2303" y="309"/>
                    </a:lnTo>
                    <a:lnTo>
                      <a:pt x="2290" y="314"/>
                    </a:lnTo>
                    <a:lnTo>
                      <a:pt x="2276" y="316"/>
                    </a:lnTo>
                    <a:lnTo>
                      <a:pt x="2265" y="316"/>
                    </a:lnTo>
                    <a:lnTo>
                      <a:pt x="2251" y="316"/>
                    </a:lnTo>
                    <a:lnTo>
                      <a:pt x="2238" y="316"/>
                    </a:lnTo>
                    <a:lnTo>
                      <a:pt x="2226" y="314"/>
                    </a:lnTo>
                    <a:lnTo>
                      <a:pt x="2212" y="312"/>
                    </a:lnTo>
                    <a:lnTo>
                      <a:pt x="2197" y="311"/>
                    </a:lnTo>
                    <a:lnTo>
                      <a:pt x="2191" y="303"/>
                    </a:lnTo>
                    <a:lnTo>
                      <a:pt x="2180" y="298"/>
                    </a:lnTo>
                    <a:lnTo>
                      <a:pt x="2170" y="293"/>
                    </a:lnTo>
                    <a:lnTo>
                      <a:pt x="2160" y="288"/>
                    </a:lnTo>
                    <a:lnTo>
                      <a:pt x="2137" y="285"/>
                    </a:lnTo>
                    <a:lnTo>
                      <a:pt x="2113" y="283"/>
                    </a:lnTo>
                    <a:lnTo>
                      <a:pt x="2089" y="283"/>
                    </a:lnTo>
                    <a:lnTo>
                      <a:pt x="2068" y="287"/>
                    </a:lnTo>
                    <a:lnTo>
                      <a:pt x="2046" y="290"/>
                    </a:lnTo>
                    <a:lnTo>
                      <a:pt x="2027" y="293"/>
                    </a:lnTo>
                    <a:lnTo>
                      <a:pt x="2014" y="287"/>
                    </a:lnTo>
                    <a:lnTo>
                      <a:pt x="1997" y="278"/>
                    </a:lnTo>
                    <a:lnTo>
                      <a:pt x="1978" y="272"/>
                    </a:lnTo>
                    <a:lnTo>
                      <a:pt x="1958" y="265"/>
                    </a:lnTo>
                    <a:lnTo>
                      <a:pt x="1938" y="261"/>
                    </a:lnTo>
                    <a:lnTo>
                      <a:pt x="1919" y="256"/>
                    </a:lnTo>
                    <a:lnTo>
                      <a:pt x="1903" y="254"/>
                    </a:lnTo>
                    <a:lnTo>
                      <a:pt x="1887" y="254"/>
                    </a:lnTo>
                    <a:lnTo>
                      <a:pt x="1882" y="257"/>
                    </a:lnTo>
                    <a:lnTo>
                      <a:pt x="1876" y="259"/>
                    </a:lnTo>
                    <a:lnTo>
                      <a:pt x="1869" y="259"/>
                    </a:lnTo>
                    <a:lnTo>
                      <a:pt x="1864" y="259"/>
                    </a:lnTo>
                    <a:lnTo>
                      <a:pt x="1852" y="256"/>
                    </a:lnTo>
                    <a:lnTo>
                      <a:pt x="1842" y="251"/>
                    </a:lnTo>
                    <a:lnTo>
                      <a:pt x="1832" y="243"/>
                    </a:lnTo>
                    <a:lnTo>
                      <a:pt x="1822" y="236"/>
                    </a:lnTo>
                    <a:lnTo>
                      <a:pt x="1813" y="228"/>
                    </a:lnTo>
                    <a:lnTo>
                      <a:pt x="1805" y="222"/>
                    </a:lnTo>
                    <a:lnTo>
                      <a:pt x="1783" y="222"/>
                    </a:lnTo>
                    <a:lnTo>
                      <a:pt x="1759" y="222"/>
                    </a:lnTo>
                    <a:lnTo>
                      <a:pt x="1738" y="222"/>
                    </a:lnTo>
                    <a:lnTo>
                      <a:pt x="1714" y="223"/>
                    </a:lnTo>
                    <a:lnTo>
                      <a:pt x="1692" y="225"/>
                    </a:lnTo>
                    <a:lnTo>
                      <a:pt x="1672" y="227"/>
                    </a:lnTo>
                    <a:lnTo>
                      <a:pt x="1652" y="230"/>
                    </a:lnTo>
                    <a:lnTo>
                      <a:pt x="1635" y="235"/>
                    </a:lnTo>
                    <a:lnTo>
                      <a:pt x="1626" y="235"/>
                    </a:lnTo>
                    <a:lnTo>
                      <a:pt x="1620" y="235"/>
                    </a:lnTo>
                    <a:lnTo>
                      <a:pt x="1615" y="233"/>
                    </a:lnTo>
                    <a:lnTo>
                      <a:pt x="1608" y="231"/>
                    </a:lnTo>
                    <a:lnTo>
                      <a:pt x="1603" y="231"/>
                    </a:lnTo>
                    <a:lnTo>
                      <a:pt x="1598" y="228"/>
                    </a:lnTo>
                    <a:lnTo>
                      <a:pt x="1591" y="227"/>
                    </a:lnTo>
                    <a:lnTo>
                      <a:pt x="1584" y="223"/>
                    </a:lnTo>
                    <a:lnTo>
                      <a:pt x="1556" y="225"/>
                    </a:lnTo>
                    <a:lnTo>
                      <a:pt x="1530" y="228"/>
                    </a:lnTo>
                    <a:lnTo>
                      <a:pt x="1510" y="233"/>
                    </a:lnTo>
                    <a:lnTo>
                      <a:pt x="1492" y="238"/>
                    </a:lnTo>
                    <a:lnTo>
                      <a:pt x="1483" y="240"/>
                    </a:lnTo>
                    <a:lnTo>
                      <a:pt x="1473" y="240"/>
                    </a:lnTo>
                    <a:lnTo>
                      <a:pt x="1465" y="238"/>
                    </a:lnTo>
                    <a:lnTo>
                      <a:pt x="1455" y="236"/>
                    </a:lnTo>
                    <a:lnTo>
                      <a:pt x="1445" y="231"/>
                    </a:lnTo>
                    <a:lnTo>
                      <a:pt x="1434" y="227"/>
                    </a:lnTo>
                    <a:lnTo>
                      <a:pt x="1423" y="219"/>
                    </a:lnTo>
                    <a:lnTo>
                      <a:pt x="1409" y="207"/>
                    </a:lnTo>
                    <a:lnTo>
                      <a:pt x="1409" y="197"/>
                    </a:lnTo>
                    <a:lnTo>
                      <a:pt x="1409" y="188"/>
                    </a:lnTo>
                    <a:lnTo>
                      <a:pt x="1409" y="176"/>
                    </a:lnTo>
                    <a:lnTo>
                      <a:pt x="1411" y="165"/>
                    </a:lnTo>
                    <a:lnTo>
                      <a:pt x="1411" y="154"/>
                    </a:lnTo>
                    <a:lnTo>
                      <a:pt x="1414" y="142"/>
                    </a:lnTo>
                    <a:lnTo>
                      <a:pt x="1418" y="129"/>
                    </a:lnTo>
                    <a:lnTo>
                      <a:pt x="1423" y="118"/>
                    </a:lnTo>
                    <a:lnTo>
                      <a:pt x="1419" y="115"/>
                    </a:lnTo>
                    <a:lnTo>
                      <a:pt x="1416" y="112"/>
                    </a:lnTo>
                    <a:lnTo>
                      <a:pt x="1413" y="108"/>
                    </a:lnTo>
                    <a:lnTo>
                      <a:pt x="1409" y="105"/>
                    </a:lnTo>
                    <a:lnTo>
                      <a:pt x="1406" y="100"/>
                    </a:lnTo>
                    <a:lnTo>
                      <a:pt x="1404" y="97"/>
                    </a:lnTo>
                    <a:lnTo>
                      <a:pt x="1401" y="94"/>
                    </a:lnTo>
                    <a:lnTo>
                      <a:pt x="1397" y="91"/>
                    </a:lnTo>
                    <a:lnTo>
                      <a:pt x="1389" y="95"/>
                    </a:lnTo>
                    <a:lnTo>
                      <a:pt x="1381" y="99"/>
                    </a:lnTo>
                    <a:lnTo>
                      <a:pt x="1375" y="102"/>
                    </a:lnTo>
                    <a:lnTo>
                      <a:pt x="1369" y="104"/>
                    </a:lnTo>
                    <a:lnTo>
                      <a:pt x="1364" y="105"/>
                    </a:lnTo>
                    <a:lnTo>
                      <a:pt x="1359" y="107"/>
                    </a:lnTo>
                    <a:lnTo>
                      <a:pt x="1354" y="107"/>
                    </a:lnTo>
                    <a:lnTo>
                      <a:pt x="1345" y="107"/>
                    </a:lnTo>
                    <a:lnTo>
                      <a:pt x="1343" y="105"/>
                    </a:lnTo>
                    <a:lnTo>
                      <a:pt x="1343" y="104"/>
                    </a:lnTo>
                    <a:lnTo>
                      <a:pt x="1342" y="102"/>
                    </a:lnTo>
                    <a:lnTo>
                      <a:pt x="1340" y="100"/>
                    </a:lnTo>
                    <a:lnTo>
                      <a:pt x="1340" y="99"/>
                    </a:lnTo>
                    <a:lnTo>
                      <a:pt x="1338" y="97"/>
                    </a:lnTo>
                    <a:lnTo>
                      <a:pt x="1338" y="95"/>
                    </a:lnTo>
                    <a:lnTo>
                      <a:pt x="1337" y="94"/>
                    </a:lnTo>
                    <a:lnTo>
                      <a:pt x="1320" y="92"/>
                    </a:lnTo>
                    <a:lnTo>
                      <a:pt x="1306" y="87"/>
                    </a:lnTo>
                    <a:lnTo>
                      <a:pt x="1295" y="82"/>
                    </a:lnTo>
                    <a:lnTo>
                      <a:pt x="1286" y="74"/>
                    </a:lnTo>
                    <a:lnTo>
                      <a:pt x="1278" y="65"/>
                    </a:lnTo>
                    <a:lnTo>
                      <a:pt x="1269" y="53"/>
                    </a:lnTo>
                    <a:lnTo>
                      <a:pt x="1263" y="42"/>
                    </a:lnTo>
                    <a:lnTo>
                      <a:pt x="1254" y="29"/>
                    </a:lnTo>
                    <a:lnTo>
                      <a:pt x="1226" y="19"/>
                    </a:lnTo>
                    <a:lnTo>
                      <a:pt x="1195" y="11"/>
                    </a:lnTo>
                    <a:lnTo>
                      <a:pt x="1167" y="3"/>
                    </a:lnTo>
                    <a:lnTo>
                      <a:pt x="1138" y="0"/>
                    </a:lnTo>
                    <a:lnTo>
                      <a:pt x="1125" y="0"/>
                    </a:lnTo>
                    <a:lnTo>
                      <a:pt x="1113" y="0"/>
                    </a:lnTo>
                    <a:lnTo>
                      <a:pt x="1101" y="3"/>
                    </a:lnTo>
                    <a:lnTo>
                      <a:pt x="1089" y="8"/>
                    </a:lnTo>
                    <a:lnTo>
                      <a:pt x="1079" y="14"/>
                    </a:lnTo>
                    <a:lnTo>
                      <a:pt x="1069" y="24"/>
                    </a:lnTo>
                    <a:lnTo>
                      <a:pt x="1062" y="36"/>
                    </a:lnTo>
                    <a:lnTo>
                      <a:pt x="1054" y="48"/>
                    </a:lnTo>
                    <a:lnTo>
                      <a:pt x="1050" y="50"/>
                    </a:lnTo>
                    <a:lnTo>
                      <a:pt x="1047" y="52"/>
                    </a:lnTo>
                    <a:lnTo>
                      <a:pt x="1044" y="53"/>
                    </a:lnTo>
                    <a:lnTo>
                      <a:pt x="1040" y="55"/>
                    </a:lnTo>
                    <a:lnTo>
                      <a:pt x="1037" y="57"/>
                    </a:lnTo>
                    <a:lnTo>
                      <a:pt x="1032" y="58"/>
                    </a:lnTo>
                    <a:lnTo>
                      <a:pt x="1029" y="60"/>
                    </a:lnTo>
                    <a:lnTo>
                      <a:pt x="1024" y="61"/>
                    </a:lnTo>
                    <a:lnTo>
                      <a:pt x="1013" y="65"/>
                    </a:lnTo>
                    <a:lnTo>
                      <a:pt x="1007" y="68"/>
                    </a:lnTo>
                    <a:lnTo>
                      <a:pt x="1000" y="71"/>
                    </a:lnTo>
                    <a:lnTo>
                      <a:pt x="995" y="74"/>
                    </a:lnTo>
                    <a:lnTo>
                      <a:pt x="992" y="79"/>
                    </a:lnTo>
                    <a:lnTo>
                      <a:pt x="988" y="82"/>
                    </a:lnTo>
                    <a:lnTo>
                      <a:pt x="985" y="86"/>
                    </a:lnTo>
                    <a:lnTo>
                      <a:pt x="981" y="89"/>
                    </a:lnTo>
                    <a:lnTo>
                      <a:pt x="983" y="95"/>
                    </a:lnTo>
                    <a:lnTo>
                      <a:pt x="983" y="99"/>
                    </a:lnTo>
                    <a:lnTo>
                      <a:pt x="985" y="102"/>
                    </a:lnTo>
                    <a:lnTo>
                      <a:pt x="985" y="105"/>
                    </a:lnTo>
                    <a:lnTo>
                      <a:pt x="986" y="105"/>
                    </a:lnTo>
                    <a:lnTo>
                      <a:pt x="988" y="107"/>
                    </a:lnTo>
                    <a:lnTo>
                      <a:pt x="990" y="108"/>
                    </a:lnTo>
                    <a:lnTo>
                      <a:pt x="993" y="112"/>
                    </a:lnTo>
                    <a:lnTo>
                      <a:pt x="992" y="113"/>
                    </a:lnTo>
                    <a:lnTo>
                      <a:pt x="992" y="115"/>
                    </a:lnTo>
                    <a:lnTo>
                      <a:pt x="992" y="116"/>
                    </a:lnTo>
                    <a:lnTo>
                      <a:pt x="992" y="120"/>
                    </a:lnTo>
                    <a:lnTo>
                      <a:pt x="992" y="121"/>
                    </a:lnTo>
                    <a:lnTo>
                      <a:pt x="992" y="123"/>
                    </a:lnTo>
                    <a:lnTo>
                      <a:pt x="992" y="125"/>
                    </a:lnTo>
                    <a:lnTo>
                      <a:pt x="992" y="126"/>
                    </a:lnTo>
                    <a:lnTo>
                      <a:pt x="986" y="134"/>
                    </a:lnTo>
                    <a:lnTo>
                      <a:pt x="983" y="144"/>
                    </a:lnTo>
                    <a:lnTo>
                      <a:pt x="981" y="155"/>
                    </a:lnTo>
                    <a:lnTo>
                      <a:pt x="980" y="167"/>
                    </a:lnTo>
                    <a:lnTo>
                      <a:pt x="981" y="178"/>
                    </a:lnTo>
                    <a:lnTo>
                      <a:pt x="983" y="191"/>
                    </a:lnTo>
                    <a:lnTo>
                      <a:pt x="986" y="202"/>
                    </a:lnTo>
                    <a:lnTo>
                      <a:pt x="990" y="214"/>
                    </a:lnTo>
                    <a:lnTo>
                      <a:pt x="1000" y="236"/>
                    </a:lnTo>
                    <a:lnTo>
                      <a:pt x="1012" y="257"/>
                    </a:lnTo>
                    <a:lnTo>
                      <a:pt x="1018" y="265"/>
                    </a:lnTo>
                    <a:lnTo>
                      <a:pt x="1025" y="274"/>
                    </a:lnTo>
                    <a:lnTo>
                      <a:pt x="1034" y="280"/>
                    </a:lnTo>
                    <a:lnTo>
                      <a:pt x="1040" y="285"/>
                    </a:lnTo>
                    <a:lnTo>
                      <a:pt x="1042" y="311"/>
                    </a:lnTo>
                    <a:lnTo>
                      <a:pt x="1042" y="334"/>
                    </a:lnTo>
                    <a:lnTo>
                      <a:pt x="1039" y="355"/>
                    </a:lnTo>
                    <a:lnTo>
                      <a:pt x="1034" y="372"/>
                    </a:lnTo>
                    <a:lnTo>
                      <a:pt x="1027" y="390"/>
                    </a:lnTo>
                    <a:lnTo>
                      <a:pt x="1018" y="405"/>
                    </a:lnTo>
                    <a:lnTo>
                      <a:pt x="1007" y="418"/>
                    </a:lnTo>
                    <a:lnTo>
                      <a:pt x="993" y="431"/>
                    </a:lnTo>
                    <a:lnTo>
                      <a:pt x="995" y="455"/>
                    </a:lnTo>
                    <a:lnTo>
                      <a:pt x="997" y="478"/>
                    </a:lnTo>
                    <a:lnTo>
                      <a:pt x="997" y="497"/>
                    </a:lnTo>
                    <a:lnTo>
                      <a:pt x="998" y="515"/>
                    </a:lnTo>
                    <a:lnTo>
                      <a:pt x="1002" y="523"/>
                    </a:lnTo>
                    <a:lnTo>
                      <a:pt x="1003" y="531"/>
                    </a:lnTo>
                    <a:lnTo>
                      <a:pt x="1008" y="539"/>
                    </a:lnTo>
                    <a:lnTo>
                      <a:pt x="1013" y="547"/>
                    </a:lnTo>
                    <a:lnTo>
                      <a:pt x="1020" y="554"/>
                    </a:lnTo>
                    <a:lnTo>
                      <a:pt x="1030" y="562"/>
                    </a:lnTo>
                    <a:lnTo>
                      <a:pt x="1040" y="570"/>
                    </a:lnTo>
                    <a:lnTo>
                      <a:pt x="1054" y="578"/>
                    </a:lnTo>
                    <a:lnTo>
                      <a:pt x="1042" y="581"/>
                    </a:lnTo>
                    <a:lnTo>
                      <a:pt x="1030" y="583"/>
                    </a:lnTo>
                    <a:lnTo>
                      <a:pt x="1018" y="585"/>
                    </a:lnTo>
                    <a:lnTo>
                      <a:pt x="1007" y="588"/>
                    </a:lnTo>
                    <a:lnTo>
                      <a:pt x="995" y="589"/>
                    </a:lnTo>
                    <a:lnTo>
                      <a:pt x="983" y="593"/>
                    </a:lnTo>
                    <a:lnTo>
                      <a:pt x="971" y="594"/>
                    </a:lnTo>
                    <a:lnTo>
                      <a:pt x="960" y="596"/>
                    </a:lnTo>
                    <a:lnTo>
                      <a:pt x="951" y="589"/>
                    </a:lnTo>
                    <a:lnTo>
                      <a:pt x="943" y="583"/>
                    </a:lnTo>
                    <a:lnTo>
                      <a:pt x="933" y="578"/>
                    </a:lnTo>
                    <a:lnTo>
                      <a:pt x="924" y="576"/>
                    </a:lnTo>
                    <a:lnTo>
                      <a:pt x="916" y="575"/>
                    </a:lnTo>
                    <a:lnTo>
                      <a:pt x="906" y="575"/>
                    </a:lnTo>
                    <a:lnTo>
                      <a:pt x="897" y="575"/>
                    </a:lnTo>
                    <a:lnTo>
                      <a:pt x="887" y="578"/>
                    </a:lnTo>
                    <a:lnTo>
                      <a:pt x="869" y="583"/>
                    </a:lnTo>
                    <a:lnTo>
                      <a:pt x="850" y="593"/>
                    </a:lnTo>
                    <a:lnTo>
                      <a:pt x="832" y="601"/>
                    </a:lnTo>
                    <a:lnTo>
                      <a:pt x="815" y="610"/>
                    </a:lnTo>
                    <a:lnTo>
                      <a:pt x="796" y="630"/>
                    </a:lnTo>
                    <a:lnTo>
                      <a:pt x="784" y="644"/>
                    </a:lnTo>
                    <a:lnTo>
                      <a:pt x="774" y="654"/>
                    </a:lnTo>
                    <a:lnTo>
                      <a:pt x="768" y="662"/>
                    </a:lnTo>
                    <a:lnTo>
                      <a:pt x="759" y="667"/>
                    </a:lnTo>
                    <a:lnTo>
                      <a:pt x="749" y="672"/>
                    </a:lnTo>
                    <a:lnTo>
                      <a:pt x="736" y="675"/>
                    </a:lnTo>
                    <a:lnTo>
                      <a:pt x="715" y="680"/>
                    </a:lnTo>
                    <a:lnTo>
                      <a:pt x="695" y="691"/>
                    </a:lnTo>
                    <a:lnTo>
                      <a:pt x="677" y="700"/>
                    </a:lnTo>
                    <a:lnTo>
                      <a:pt x="660" y="709"/>
                    </a:lnTo>
                    <a:lnTo>
                      <a:pt x="641" y="716"/>
                    </a:lnTo>
                    <a:lnTo>
                      <a:pt x="624" y="722"/>
                    </a:lnTo>
                    <a:lnTo>
                      <a:pt x="606" y="729"/>
                    </a:lnTo>
                    <a:lnTo>
                      <a:pt x="589" y="734"/>
                    </a:lnTo>
                    <a:lnTo>
                      <a:pt x="571" y="740"/>
                    </a:lnTo>
                    <a:lnTo>
                      <a:pt x="566" y="766"/>
                    </a:lnTo>
                    <a:lnTo>
                      <a:pt x="566" y="789"/>
                    </a:lnTo>
                    <a:lnTo>
                      <a:pt x="566" y="798"/>
                    </a:lnTo>
                    <a:lnTo>
                      <a:pt x="567" y="806"/>
                    </a:lnTo>
                    <a:lnTo>
                      <a:pt x="571" y="814"/>
                    </a:lnTo>
                    <a:lnTo>
                      <a:pt x="574" y="823"/>
                    </a:lnTo>
                    <a:lnTo>
                      <a:pt x="579" y="829"/>
                    </a:lnTo>
                    <a:lnTo>
                      <a:pt x="584" y="834"/>
                    </a:lnTo>
                    <a:lnTo>
                      <a:pt x="591" y="840"/>
                    </a:lnTo>
                    <a:lnTo>
                      <a:pt x="599" y="845"/>
                    </a:lnTo>
                    <a:lnTo>
                      <a:pt x="619" y="857"/>
                    </a:lnTo>
                    <a:lnTo>
                      <a:pt x="643" y="866"/>
                    </a:lnTo>
                    <a:lnTo>
                      <a:pt x="646" y="871"/>
                    </a:lnTo>
                    <a:lnTo>
                      <a:pt x="650" y="873"/>
                    </a:lnTo>
                    <a:lnTo>
                      <a:pt x="651" y="876"/>
                    </a:lnTo>
                    <a:lnTo>
                      <a:pt x="653" y="878"/>
                    </a:lnTo>
                    <a:lnTo>
                      <a:pt x="655" y="881"/>
                    </a:lnTo>
                    <a:lnTo>
                      <a:pt x="658" y="884"/>
                    </a:lnTo>
                    <a:lnTo>
                      <a:pt x="660" y="887"/>
                    </a:lnTo>
                    <a:lnTo>
                      <a:pt x="663" y="892"/>
                    </a:lnTo>
                    <a:lnTo>
                      <a:pt x="667" y="905"/>
                    </a:lnTo>
                    <a:lnTo>
                      <a:pt x="672" y="918"/>
                    </a:lnTo>
                    <a:lnTo>
                      <a:pt x="675" y="931"/>
                    </a:lnTo>
                    <a:lnTo>
                      <a:pt x="678" y="944"/>
                    </a:lnTo>
                    <a:lnTo>
                      <a:pt x="683" y="957"/>
                    </a:lnTo>
                    <a:lnTo>
                      <a:pt x="687" y="972"/>
                    </a:lnTo>
                    <a:lnTo>
                      <a:pt x="690" y="985"/>
                    </a:lnTo>
                    <a:lnTo>
                      <a:pt x="692" y="997"/>
                    </a:lnTo>
                    <a:lnTo>
                      <a:pt x="688" y="1004"/>
                    </a:lnTo>
                    <a:lnTo>
                      <a:pt x="683" y="1007"/>
                    </a:lnTo>
                    <a:lnTo>
                      <a:pt x="678" y="1009"/>
                    </a:lnTo>
                    <a:lnTo>
                      <a:pt x="675" y="1010"/>
                    </a:lnTo>
                    <a:lnTo>
                      <a:pt x="670" y="1010"/>
                    </a:lnTo>
                    <a:lnTo>
                      <a:pt x="667" y="1010"/>
                    </a:lnTo>
                    <a:lnTo>
                      <a:pt x="661" y="1009"/>
                    </a:lnTo>
                    <a:lnTo>
                      <a:pt x="658" y="1009"/>
                    </a:lnTo>
                    <a:lnTo>
                      <a:pt x="651" y="1002"/>
                    </a:lnTo>
                    <a:lnTo>
                      <a:pt x="643" y="994"/>
                    </a:lnTo>
                    <a:lnTo>
                      <a:pt x="631" y="986"/>
                    </a:lnTo>
                    <a:lnTo>
                      <a:pt x="621" y="978"/>
                    </a:lnTo>
                    <a:lnTo>
                      <a:pt x="609" y="972"/>
                    </a:lnTo>
                    <a:lnTo>
                      <a:pt x="596" y="965"/>
                    </a:lnTo>
                    <a:lnTo>
                      <a:pt x="584" y="960"/>
                    </a:lnTo>
                    <a:lnTo>
                      <a:pt x="574" y="957"/>
                    </a:lnTo>
                    <a:lnTo>
                      <a:pt x="566" y="957"/>
                    </a:lnTo>
                    <a:lnTo>
                      <a:pt x="559" y="955"/>
                    </a:lnTo>
                    <a:lnTo>
                      <a:pt x="554" y="955"/>
                    </a:lnTo>
                    <a:lnTo>
                      <a:pt x="549" y="955"/>
                    </a:lnTo>
                    <a:lnTo>
                      <a:pt x="545" y="954"/>
                    </a:lnTo>
                    <a:lnTo>
                      <a:pt x="540" y="954"/>
                    </a:lnTo>
                    <a:lnTo>
                      <a:pt x="535" y="952"/>
                    </a:lnTo>
                    <a:lnTo>
                      <a:pt x="528" y="951"/>
                    </a:lnTo>
                    <a:lnTo>
                      <a:pt x="520" y="954"/>
                    </a:lnTo>
                    <a:lnTo>
                      <a:pt x="512" y="959"/>
                    </a:lnTo>
                    <a:lnTo>
                      <a:pt x="502" y="965"/>
                    </a:lnTo>
                    <a:lnTo>
                      <a:pt x="495" y="973"/>
                    </a:lnTo>
                    <a:lnTo>
                      <a:pt x="486" y="981"/>
                    </a:lnTo>
                    <a:lnTo>
                      <a:pt x="480" y="991"/>
                    </a:lnTo>
                    <a:lnTo>
                      <a:pt x="473" y="1001"/>
                    </a:lnTo>
                    <a:lnTo>
                      <a:pt x="466" y="1009"/>
                    </a:lnTo>
                    <a:lnTo>
                      <a:pt x="461" y="1002"/>
                    </a:lnTo>
                    <a:lnTo>
                      <a:pt x="456" y="996"/>
                    </a:lnTo>
                    <a:lnTo>
                      <a:pt x="449" y="989"/>
                    </a:lnTo>
                    <a:lnTo>
                      <a:pt x="443" y="985"/>
                    </a:lnTo>
                    <a:lnTo>
                      <a:pt x="426" y="975"/>
                    </a:lnTo>
                    <a:lnTo>
                      <a:pt x="407" y="967"/>
                    </a:lnTo>
                    <a:lnTo>
                      <a:pt x="389" y="960"/>
                    </a:lnTo>
                    <a:lnTo>
                      <a:pt x="370" y="955"/>
                    </a:lnTo>
                    <a:lnTo>
                      <a:pt x="353" y="952"/>
                    </a:lnTo>
                    <a:lnTo>
                      <a:pt x="338" y="949"/>
                    </a:lnTo>
                    <a:lnTo>
                      <a:pt x="328" y="944"/>
                    </a:lnTo>
                    <a:lnTo>
                      <a:pt x="316" y="942"/>
                    </a:lnTo>
                    <a:lnTo>
                      <a:pt x="306" y="944"/>
                    </a:lnTo>
                    <a:lnTo>
                      <a:pt x="296" y="949"/>
                    </a:lnTo>
                    <a:lnTo>
                      <a:pt x="286" y="955"/>
                    </a:lnTo>
                    <a:lnTo>
                      <a:pt x="276" y="963"/>
                    </a:lnTo>
                    <a:lnTo>
                      <a:pt x="266" y="973"/>
                    </a:lnTo>
                    <a:lnTo>
                      <a:pt x="256" y="983"/>
                    </a:lnTo>
                    <a:lnTo>
                      <a:pt x="237" y="1004"/>
                    </a:lnTo>
                    <a:lnTo>
                      <a:pt x="220" y="1020"/>
                    </a:lnTo>
                    <a:lnTo>
                      <a:pt x="212" y="1027"/>
                    </a:lnTo>
                    <a:lnTo>
                      <a:pt x="203" y="1032"/>
                    </a:lnTo>
                    <a:lnTo>
                      <a:pt x="197" y="1033"/>
                    </a:lnTo>
                    <a:lnTo>
                      <a:pt x="190" y="1032"/>
                    </a:lnTo>
                    <a:lnTo>
                      <a:pt x="187" y="1028"/>
                    </a:lnTo>
                    <a:lnTo>
                      <a:pt x="183" y="1025"/>
                    </a:lnTo>
                    <a:lnTo>
                      <a:pt x="180" y="1020"/>
                    </a:lnTo>
                    <a:lnTo>
                      <a:pt x="178" y="1017"/>
                    </a:lnTo>
                    <a:lnTo>
                      <a:pt x="175" y="1012"/>
                    </a:lnTo>
                    <a:lnTo>
                      <a:pt x="171" y="1009"/>
                    </a:lnTo>
                    <a:lnTo>
                      <a:pt x="168" y="1004"/>
                    </a:lnTo>
                    <a:lnTo>
                      <a:pt x="165" y="1001"/>
                    </a:lnTo>
                    <a:lnTo>
                      <a:pt x="165" y="1001"/>
                    </a:lnTo>
                    <a:lnTo>
                      <a:pt x="163" y="1001"/>
                    </a:lnTo>
                    <a:lnTo>
                      <a:pt x="161" y="1001"/>
                    </a:lnTo>
                    <a:lnTo>
                      <a:pt x="161" y="1001"/>
                    </a:lnTo>
                    <a:lnTo>
                      <a:pt x="160" y="1001"/>
                    </a:lnTo>
                    <a:lnTo>
                      <a:pt x="158" y="1001"/>
                    </a:lnTo>
                    <a:lnTo>
                      <a:pt x="158" y="1001"/>
                    </a:lnTo>
                    <a:lnTo>
                      <a:pt x="156" y="1001"/>
                    </a:lnTo>
                    <a:lnTo>
                      <a:pt x="150" y="1014"/>
                    </a:lnTo>
                    <a:lnTo>
                      <a:pt x="146" y="1027"/>
                    </a:lnTo>
                    <a:lnTo>
                      <a:pt x="145" y="1040"/>
                    </a:lnTo>
                    <a:lnTo>
                      <a:pt x="145" y="1053"/>
                    </a:lnTo>
                    <a:lnTo>
                      <a:pt x="143" y="1064"/>
                    </a:lnTo>
                    <a:lnTo>
                      <a:pt x="141" y="1074"/>
                    </a:lnTo>
                    <a:lnTo>
                      <a:pt x="139" y="1077"/>
                    </a:lnTo>
                    <a:lnTo>
                      <a:pt x="138" y="1080"/>
                    </a:lnTo>
                    <a:lnTo>
                      <a:pt x="134" y="1083"/>
                    </a:lnTo>
                    <a:lnTo>
                      <a:pt x="129" y="1087"/>
                    </a:lnTo>
                    <a:lnTo>
                      <a:pt x="113" y="1091"/>
                    </a:lnTo>
                    <a:lnTo>
                      <a:pt x="99" y="1096"/>
                    </a:lnTo>
                    <a:lnTo>
                      <a:pt x="86" y="1101"/>
                    </a:lnTo>
                    <a:lnTo>
                      <a:pt x="74" y="1108"/>
                    </a:lnTo>
                    <a:lnTo>
                      <a:pt x="65" y="1116"/>
                    </a:lnTo>
                    <a:lnTo>
                      <a:pt x="57" y="1124"/>
                    </a:lnTo>
                    <a:lnTo>
                      <a:pt x="49" y="1132"/>
                    </a:lnTo>
                    <a:lnTo>
                      <a:pt x="42" y="1140"/>
                    </a:lnTo>
                    <a:lnTo>
                      <a:pt x="30" y="1159"/>
                    </a:lnTo>
                    <a:lnTo>
                      <a:pt x="22" y="1179"/>
                    </a:lnTo>
                    <a:lnTo>
                      <a:pt x="11" y="1200"/>
                    </a:lnTo>
                    <a:lnTo>
                      <a:pt x="0" y="1223"/>
                    </a:lnTo>
                    <a:lnTo>
                      <a:pt x="0" y="1237"/>
                    </a:lnTo>
                    <a:lnTo>
                      <a:pt x="1" y="1252"/>
                    </a:lnTo>
                    <a:lnTo>
                      <a:pt x="5" y="1265"/>
                    </a:lnTo>
                    <a:lnTo>
                      <a:pt x="6" y="1279"/>
                    </a:lnTo>
                    <a:lnTo>
                      <a:pt x="10" y="1292"/>
                    </a:lnTo>
                    <a:lnTo>
                      <a:pt x="13" y="1305"/>
                    </a:lnTo>
                    <a:lnTo>
                      <a:pt x="15" y="1318"/>
                    </a:lnTo>
                    <a:lnTo>
                      <a:pt x="17" y="1333"/>
                    </a:lnTo>
                    <a:lnTo>
                      <a:pt x="27" y="1334"/>
                    </a:lnTo>
                    <a:lnTo>
                      <a:pt x="35" y="1338"/>
                    </a:lnTo>
                    <a:lnTo>
                      <a:pt x="45" y="1341"/>
                    </a:lnTo>
                    <a:lnTo>
                      <a:pt x="55" y="1342"/>
                    </a:lnTo>
                    <a:lnTo>
                      <a:pt x="64" y="1346"/>
                    </a:lnTo>
                    <a:lnTo>
                      <a:pt x="74" y="1349"/>
                    </a:lnTo>
                    <a:lnTo>
                      <a:pt x="84" y="1351"/>
                    </a:lnTo>
                    <a:lnTo>
                      <a:pt x="94" y="1354"/>
                    </a:lnTo>
                    <a:lnTo>
                      <a:pt x="94" y="1359"/>
                    </a:lnTo>
                    <a:lnTo>
                      <a:pt x="96" y="1363"/>
                    </a:lnTo>
                    <a:lnTo>
                      <a:pt x="96" y="1367"/>
                    </a:lnTo>
                    <a:lnTo>
                      <a:pt x="97" y="1372"/>
                    </a:lnTo>
                    <a:lnTo>
                      <a:pt x="97" y="1376"/>
                    </a:lnTo>
                    <a:lnTo>
                      <a:pt x="99" y="1381"/>
                    </a:lnTo>
                    <a:lnTo>
                      <a:pt x="99" y="1386"/>
                    </a:lnTo>
                    <a:lnTo>
                      <a:pt x="101" y="1389"/>
                    </a:lnTo>
                    <a:lnTo>
                      <a:pt x="91" y="1399"/>
                    </a:lnTo>
                    <a:lnTo>
                      <a:pt x="82" y="1406"/>
                    </a:lnTo>
                    <a:lnTo>
                      <a:pt x="77" y="1410"/>
                    </a:lnTo>
                    <a:lnTo>
                      <a:pt x="74" y="1415"/>
                    </a:lnTo>
                    <a:lnTo>
                      <a:pt x="70" y="1420"/>
                    </a:lnTo>
                    <a:lnTo>
                      <a:pt x="70" y="1425"/>
                    </a:lnTo>
                    <a:lnTo>
                      <a:pt x="74" y="1432"/>
                    </a:lnTo>
                    <a:lnTo>
                      <a:pt x="77" y="1441"/>
                    </a:lnTo>
                    <a:lnTo>
                      <a:pt x="91" y="1457"/>
                    </a:lnTo>
                    <a:lnTo>
                      <a:pt x="104" y="1475"/>
                    </a:lnTo>
                    <a:lnTo>
                      <a:pt x="116" y="1493"/>
                    </a:lnTo>
                    <a:lnTo>
                      <a:pt x="128" y="1511"/>
                    </a:lnTo>
                    <a:lnTo>
                      <a:pt x="139" y="1527"/>
                    </a:lnTo>
                    <a:lnTo>
                      <a:pt x="151" y="1545"/>
                    </a:lnTo>
                    <a:lnTo>
                      <a:pt x="165" y="1561"/>
                    </a:lnTo>
                    <a:lnTo>
                      <a:pt x="178" y="1576"/>
                    </a:lnTo>
                    <a:lnTo>
                      <a:pt x="188" y="1571"/>
                    </a:lnTo>
                    <a:lnTo>
                      <a:pt x="200" y="1564"/>
                    </a:lnTo>
                    <a:lnTo>
                      <a:pt x="210" y="1559"/>
                    </a:lnTo>
                    <a:lnTo>
                      <a:pt x="222" y="1555"/>
                    </a:lnTo>
                    <a:lnTo>
                      <a:pt x="232" y="1550"/>
                    </a:lnTo>
                    <a:lnTo>
                      <a:pt x="241" y="1547"/>
                    </a:lnTo>
                    <a:lnTo>
                      <a:pt x="247" y="1543"/>
                    </a:lnTo>
                    <a:lnTo>
                      <a:pt x="251" y="1543"/>
                    </a:lnTo>
                    <a:lnTo>
                      <a:pt x="261" y="1543"/>
                    </a:lnTo>
                    <a:lnTo>
                      <a:pt x="271" y="1543"/>
                    </a:lnTo>
                    <a:lnTo>
                      <a:pt x="281" y="1545"/>
                    </a:lnTo>
                    <a:lnTo>
                      <a:pt x="291" y="1547"/>
                    </a:lnTo>
                    <a:lnTo>
                      <a:pt x="301" y="1548"/>
                    </a:lnTo>
                    <a:lnTo>
                      <a:pt x="311" y="1551"/>
                    </a:lnTo>
                    <a:lnTo>
                      <a:pt x="320" y="1553"/>
                    </a:lnTo>
                    <a:lnTo>
                      <a:pt x="330" y="1558"/>
                    </a:lnTo>
                    <a:lnTo>
                      <a:pt x="338" y="1555"/>
                    </a:lnTo>
                    <a:lnTo>
                      <a:pt x="347" y="1553"/>
                    </a:lnTo>
                    <a:lnTo>
                      <a:pt x="353" y="1555"/>
                    </a:lnTo>
                    <a:lnTo>
                      <a:pt x="362" y="1555"/>
                    </a:lnTo>
                    <a:lnTo>
                      <a:pt x="377" y="1561"/>
                    </a:lnTo>
                    <a:lnTo>
                      <a:pt x="390" y="1571"/>
                    </a:lnTo>
                    <a:lnTo>
                      <a:pt x="404" y="1581"/>
                    </a:lnTo>
                    <a:lnTo>
                      <a:pt x="416" y="1592"/>
                    </a:lnTo>
                    <a:lnTo>
                      <a:pt x="427" y="1603"/>
                    </a:lnTo>
                    <a:lnTo>
                      <a:pt x="436" y="1611"/>
                    </a:lnTo>
                    <a:lnTo>
                      <a:pt x="436" y="1613"/>
                    </a:lnTo>
                    <a:lnTo>
                      <a:pt x="436" y="1615"/>
                    </a:lnTo>
                    <a:lnTo>
                      <a:pt x="436" y="1616"/>
                    </a:lnTo>
                    <a:lnTo>
                      <a:pt x="436" y="1616"/>
                    </a:lnTo>
                    <a:lnTo>
                      <a:pt x="436" y="1618"/>
                    </a:lnTo>
                    <a:lnTo>
                      <a:pt x="436" y="1619"/>
                    </a:lnTo>
                    <a:lnTo>
                      <a:pt x="436" y="1619"/>
                    </a:lnTo>
                    <a:lnTo>
                      <a:pt x="436" y="1621"/>
                    </a:lnTo>
                    <a:lnTo>
                      <a:pt x="432" y="1624"/>
                    </a:lnTo>
                    <a:lnTo>
                      <a:pt x="429" y="1627"/>
                    </a:lnTo>
                    <a:lnTo>
                      <a:pt x="426" y="1629"/>
                    </a:lnTo>
                    <a:lnTo>
                      <a:pt x="422" y="1632"/>
                    </a:lnTo>
                    <a:lnTo>
                      <a:pt x="419" y="1636"/>
                    </a:lnTo>
                    <a:lnTo>
                      <a:pt x="416" y="1637"/>
                    </a:lnTo>
                    <a:lnTo>
                      <a:pt x="412" y="1640"/>
                    </a:lnTo>
                    <a:lnTo>
                      <a:pt x="407" y="1642"/>
                    </a:lnTo>
                    <a:lnTo>
                      <a:pt x="409" y="1650"/>
                    </a:lnTo>
                    <a:lnTo>
                      <a:pt x="412" y="1658"/>
                    </a:lnTo>
                    <a:lnTo>
                      <a:pt x="419" y="1665"/>
                    </a:lnTo>
                    <a:lnTo>
                      <a:pt x="426" y="1670"/>
                    </a:lnTo>
                    <a:lnTo>
                      <a:pt x="434" y="1674"/>
                    </a:lnTo>
                    <a:lnTo>
                      <a:pt x="443" y="1678"/>
                    </a:lnTo>
                    <a:lnTo>
                      <a:pt x="451" y="1681"/>
                    </a:lnTo>
                    <a:lnTo>
                      <a:pt x="459" y="1681"/>
                    </a:lnTo>
                    <a:lnTo>
                      <a:pt x="483" y="1668"/>
                    </a:lnTo>
                    <a:lnTo>
                      <a:pt x="500" y="1661"/>
                    </a:lnTo>
                    <a:lnTo>
                      <a:pt x="508" y="1660"/>
                    </a:lnTo>
                    <a:lnTo>
                      <a:pt x="513" y="1660"/>
                    </a:lnTo>
                    <a:lnTo>
                      <a:pt x="520" y="1660"/>
                    </a:lnTo>
                    <a:lnTo>
                      <a:pt x="525" y="1661"/>
                    </a:lnTo>
                    <a:lnTo>
                      <a:pt x="534" y="1668"/>
                    </a:lnTo>
                    <a:lnTo>
                      <a:pt x="544" y="1678"/>
                    </a:lnTo>
                    <a:lnTo>
                      <a:pt x="555" y="1689"/>
                    </a:lnTo>
                    <a:lnTo>
                      <a:pt x="572" y="1704"/>
                    </a:lnTo>
                    <a:lnTo>
                      <a:pt x="582" y="1712"/>
                    </a:lnTo>
                    <a:lnTo>
                      <a:pt x="592" y="1717"/>
                    </a:lnTo>
                    <a:lnTo>
                      <a:pt x="601" y="1720"/>
                    </a:lnTo>
                    <a:lnTo>
                      <a:pt x="609" y="1721"/>
                    </a:lnTo>
                    <a:lnTo>
                      <a:pt x="616" y="1720"/>
                    </a:lnTo>
                    <a:lnTo>
                      <a:pt x="626" y="1715"/>
                    </a:lnTo>
                    <a:lnTo>
                      <a:pt x="636" y="1708"/>
                    </a:lnTo>
                    <a:lnTo>
                      <a:pt x="648" y="1700"/>
                    </a:lnTo>
                    <a:lnTo>
                      <a:pt x="655" y="1692"/>
                    </a:lnTo>
                    <a:lnTo>
                      <a:pt x="658" y="1686"/>
                    </a:lnTo>
                    <a:lnTo>
                      <a:pt x="663" y="1681"/>
                    </a:lnTo>
                    <a:lnTo>
                      <a:pt x="668" y="1679"/>
                    </a:lnTo>
                    <a:lnTo>
                      <a:pt x="677" y="1678"/>
                    </a:lnTo>
                    <a:lnTo>
                      <a:pt x="685" y="1676"/>
                    </a:lnTo>
                    <a:lnTo>
                      <a:pt x="699" y="1674"/>
                    </a:lnTo>
                    <a:lnTo>
                      <a:pt x="715" y="1674"/>
                    </a:lnTo>
                    <a:lnTo>
                      <a:pt x="719" y="1671"/>
                    </a:lnTo>
                    <a:lnTo>
                      <a:pt x="724" y="1668"/>
                    </a:lnTo>
                    <a:lnTo>
                      <a:pt x="729" y="1666"/>
                    </a:lnTo>
                    <a:lnTo>
                      <a:pt x="734" y="1665"/>
                    </a:lnTo>
                    <a:lnTo>
                      <a:pt x="747" y="1665"/>
                    </a:lnTo>
                    <a:lnTo>
                      <a:pt x="761" y="1668"/>
                    </a:lnTo>
                    <a:lnTo>
                      <a:pt x="774" y="1671"/>
                    </a:lnTo>
                    <a:lnTo>
                      <a:pt x="788" y="1676"/>
                    </a:lnTo>
                    <a:lnTo>
                      <a:pt x="801" y="1681"/>
                    </a:lnTo>
                    <a:lnTo>
                      <a:pt x="810" y="1684"/>
                    </a:lnTo>
                    <a:lnTo>
                      <a:pt x="806" y="1691"/>
                    </a:lnTo>
                    <a:lnTo>
                      <a:pt x="803" y="1697"/>
                    </a:lnTo>
                    <a:lnTo>
                      <a:pt x="803" y="1704"/>
                    </a:lnTo>
                    <a:lnTo>
                      <a:pt x="803" y="1710"/>
                    </a:lnTo>
                    <a:lnTo>
                      <a:pt x="806" y="1726"/>
                    </a:lnTo>
                    <a:lnTo>
                      <a:pt x="813" y="1742"/>
                    </a:lnTo>
                    <a:lnTo>
                      <a:pt x="823" y="1759"/>
                    </a:lnTo>
                    <a:lnTo>
                      <a:pt x="833" y="1775"/>
                    </a:lnTo>
                    <a:lnTo>
                      <a:pt x="842" y="1788"/>
                    </a:lnTo>
                    <a:lnTo>
                      <a:pt x="848" y="1799"/>
                    </a:lnTo>
                    <a:lnTo>
                      <a:pt x="860" y="1799"/>
                    </a:lnTo>
                    <a:lnTo>
                      <a:pt x="872" y="1799"/>
                    </a:lnTo>
                    <a:lnTo>
                      <a:pt x="884" y="1798"/>
                    </a:lnTo>
                    <a:lnTo>
                      <a:pt x="896" y="1794"/>
                    </a:lnTo>
                    <a:lnTo>
                      <a:pt x="906" y="1788"/>
                    </a:lnTo>
                    <a:lnTo>
                      <a:pt x="914" y="1780"/>
                    </a:lnTo>
                    <a:lnTo>
                      <a:pt x="919" y="1770"/>
                    </a:lnTo>
                    <a:lnTo>
                      <a:pt x="923" y="1755"/>
                    </a:lnTo>
                    <a:lnTo>
                      <a:pt x="938" y="1747"/>
                    </a:lnTo>
                    <a:lnTo>
                      <a:pt x="951" y="1741"/>
                    </a:lnTo>
                    <a:lnTo>
                      <a:pt x="966" y="1736"/>
                    </a:lnTo>
                    <a:lnTo>
                      <a:pt x="981" y="1731"/>
                    </a:lnTo>
                    <a:lnTo>
                      <a:pt x="997" y="1728"/>
                    </a:lnTo>
                    <a:lnTo>
                      <a:pt x="1013" y="1726"/>
                    </a:lnTo>
                    <a:lnTo>
                      <a:pt x="1029" y="1723"/>
                    </a:lnTo>
                    <a:lnTo>
                      <a:pt x="1044" y="1723"/>
                    </a:lnTo>
                    <a:lnTo>
                      <a:pt x="1109" y="1692"/>
                    </a:lnTo>
                    <a:lnTo>
                      <a:pt x="1114" y="1692"/>
                    </a:lnTo>
                    <a:lnTo>
                      <a:pt x="1121" y="1692"/>
                    </a:lnTo>
                    <a:lnTo>
                      <a:pt x="1126" y="1692"/>
                    </a:lnTo>
                    <a:lnTo>
                      <a:pt x="1131" y="1692"/>
                    </a:lnTo>
                    <a:lnTo>
                      <a:pt x="1136" y="1692"/>
                    </a:lnTo>
                    <a:lnTo>
                      <a:pt x="1141" y="1692"/>
                    </a:lnTo>
                    <a:lnTo>
                      <a:pt x="1146" y="1691"/>
                    </a:lnTo>
                    <a:lnTo>
                      <a:pt x="1153" y="1691"/>
                    </a:lnTo>
                    <a:lnTo>
                      <a:pt x="1158" y="1671"/>
                    </a:lnTo>
                    <a:lnTo>
                      <a:pt x="1153" y="1668"/>
                    </a:lnTo>
                    <a:lnTo>
                      <a:pt x="1150" y="1665"/>
                    </a:lnTo>
                    <a:lnTo>
                      <a:pt x="1146" y="1663"/>
                    </a:lnTo>
                    <a:lnTo>
                      <a:pt x="1145" y="1660"/>
                    </a:lnTo>
                    <a:lnTo>
                      <a:pt x="1143" y="1657"/>
                    </a:lnTo>
                    <a:lnTo>
                      <a:pt x="1141" y="1653"/>
                    </a:lnTo>
                    <a:lnTo>
                      <a:pt x="1141" y="1649"/>
                    </a:lnTo>
                    <a:lnTo>
                      <a:pt x="1140" y="1642"/>
                    </a:lnTo>
                    <a:lnTo>
                      <a:pt x="1150" y="1637"/>
                    </a:lnTo>
                    <a:lnTo>
                      <a:pt x="1158" y="1632"/>
                    </a:lnTo>
                    <a:lnTo>
                      <a:pt x="1168" y="1627"/>
                    </a:lnTo>
                    <a:lnTo>
                      <a:pt x="1177" y="1623"/>
                    </a:lnTo>
                    <a:lnTo>
                      <a:pt x="1187" y="1621"/>
                    </a:lnTo>
                    <a:lnTo>
                      <a:pt x="1197" y="1621"/>
                    </a:lnTo>
                    <a:lnTo>
                      <a:pt x="1202" y="1621"/>
                    </a:lnTo>
                    <a:lnTo>
                      <a:pt x="1207" y="1624"/>
                    </a:lnTo>
                    <a:lnTo>
                      <a:pt x="1212" y="1627"/>
                    </a:lnTo>
                    <a:lnTo>
                      <a:pt x="1217" y="1631"/>
                    </a:lnTo>
                    <a:lnTo>
                      <a:pt x="1221" y="1631"/>
                    </a:lnTo>
                    <a:lnTo>
                      <a:pt x="1224" y="1629"/>
                    </a:lnTo>
                    <a:lnTo>
                      <a:pt x="1226" y="1627"/>
                    </a:lnTo>
                    <a:lnTo>
                      <a:pt x="1229" y="1627"/>
                    </a:lnTo>
                    <a:lnTo>
                      <a:pt x="1231" y="1626"/>
                    </a:lnTo>
                    <a:lnTo>
                      <a:pt x="1234" y="1624"/>
                    </a:lnTo>
                    <a:lnTo>
                      <a:pt x="1237" y="1623"/>
                    </a:lnTo>
                    <a:lnTo>
                      <a:pt x="1239" y="1623"/>
                    </a:lnTo>
                    <a:lnTo>
                      <a:pt x="1269" y="1623"/>
                    </a:lnTo>
                    <a:lnTo>
                      <a:pt x="1293" y="1627"/>
                    </a:lnTo>
                    <a:lnTo>
                      <a:pt x="1303" y="1629"/>
                    </a:lnTo>
                    <a:lnTo>
                      <a:pt x="1311" y="1632"/>
                    </a:lnTo>
                    <a:lnTo>
                      <a:pt x="1318" y="1637"/>
                    </a:lnTo>
                    <a:lnTo>
                      <a:pt x="1325" y="1642"/>
                    </a:lnTo>
                    <a:lnTo>
                      <a:pt x="1337" y="1653"/>
                    </a:lnTo>
                    <a:lnTo>
                      <a:pt x="1349" y="1670"/>
                    </a:lnTo>
                    <a:lnTo>
                      <a:pt x="1360" y="1687"/>
                    </a:lnTo>
                    <a:lnTo>
                      <a:pt x="1375" y="1710"/>
                    </a:lnTo>
                    <a:lnTo>
                      <a:pt x="1377" y="1710"/>
                    </a:lnTo>
                    <a:lnTo>
                      <a:pt x="1379" y="1712"/>
                    </a:lnTo>
                    <a:lnTo>
                      <a:pt x="1382" y="1712"/>
                    </a:lnTo>
                    <a:lnTo>
                      <a:pt x="1384" y="1712"/>
                    </a:lnTo>
                    <a:lnTo>
                      <a:pt x="1387" y="1712"/>
                    </a:lnTo>
                    <a:lnTo>
                      <a:pt x="1389" y="1712"/>
                    </a:lnTo>
                    <a:lnTo>
                      <a:pt x="1392" y="1712"/>
                    </a:lnTo>
                    <a:lnTo>
                      <a:pt x="1396" y="1712"/>
                    </a:lnTo>
                    <a:lnTo>
                      <a:pt x="1544" y="1723"/>
                    </a:lnTo>
                    <a:lnTo>
                      <a:pt x="1542" y="1731"/>
                    </a:lnTo>
                    <a:lnTo>
                      <a:pt x="1541" y="1741"/>
                    </a:lnTo>
                    <a:lnTo>
                      <a:pt x="1541" y="1749"/>
                    </a:lnTo>
                    <a:lnTo>
                      <a:pt x="1539" y="1757"/>
                    </a:lnTo>
                    <a:lnTo>
                      <a:pt x="1537" y="1765"/>
                    </a:lnTo>
                    <a:lnTo>
                      <a:pt x="1537" y="1773"/>
                    </a:lnTo>
                    <a:lnTo>
                      <a:pt x="1535" y="1781"/>
                    </a:lnTo>
                    <a:lnTo>
                      <a:pt x="1534" y="1789"/>
                    </a:lnTo>
                    <a:lnTo>
                      <a:pt x="1542" y="1793"/>
                    </a:lnTo>
                    <a:lnTo>
                      <a:pt x="1549" y="1794"/>
                    </a:lnTo>
                    <a:lnTo>
                      <a:pt x="1554" y="1796"/>
                    </a:lnTo>
                    <a:lnTo>
                      <a:pt x="1561" y="1798"/>
                    </a:lnTo>
                    <a:lnTo>
                      <a:pt x="1566" y="1798"/>
                    </a:lnTo>
                    <a:lnTo>
                      <a:pt x="1573" y="1798"/>
                    </a:lnTo>
                    <a:lnTo>
                      <a:pt x="1583" y="1796"/>
                    </a:lnTo>
                    <a:lnTo>
                      <a:pt x="1594" y="1791"/>
                    </a:lnTo>
                    <a:lnTo>
                      <a:pt x="1610" y="1789"/>
                    </a:lnTo>
                    <a:lnTo>
                      <a:pt x="1623" y="1786"/>
                    </a:lnTo>
                    <a:lnTo>
                      <a:pt x="1633" y="1781"/>
                    </a:lnTo>
                    <a:lnTo>
                      <a:pt x="1642" y="1773"/>
                    </a:lnTo>
                    <a:lnTo>
                      <a:pt x="1648" y="1764"/>
                    </a:lnTo>
                    <a:lnTo>
                      <a:pt x="1653" y="1754"/>
                    </a:lnTo>
                    <a:lnTo>
                      <a:pt x="1658" y="1741"/>
                    </a:lnTo>
                    <a:lnTo>
                      <a:pt x="1660" y="1728"/>
                    </a:lnTo>
                    <a:lnTo>
                      <a:pt x="1662" y="1723"/>
                    </a:lnTo>
                    <a:lnTo>
                      <a:pt x="1663" y="1720"/>
                    </a:lnTo>
                    <a:lnTo>
                      <a:pt x="1665" y="1717"/>
                    </a:lnTo>
                    <a:lnTo>
                      <a:pt x="1667" y="1712"/>
                    </a:lnTo>
                    <a:lnTo>
                      <a:pt x="1668" y="1708"/>
                    </a:lnTo>
                    <a:lnTo>
                      <a:pt x="1670" y="1705"/>
                    </a:lnTo>
                    <a:lnTo>
                      <a:pt x="1672" y="1700"/>
                    </a:lnTo>
                    <a:lnTo>
                      <a:pt x="1674" y="1695"/>
                    </a:lnTo>
                    <a:lnTo>
                      <a:pt x="1685" y="1697"/>
                    </a:lnTo>
                    <a:lnTo>
                      <a:pt x="1695" y="1700"/>
                    </a:lnTo>
                    <a:lnTo>
                      <a:pt x="1706" y="1705"/>
                    </a:lnTo>
                    <a:lnTo>
                      <a:pt x="1714" y="1713"/>
                    </a:lnTo>
                    <a:lnTo>
                      <a:pt x="1731" y="1728"/>
                    </a:lnTo>
                    <a:lnTo>
                      <a:pt x="1746" y="1746"/>
                    </a:lnTo>
                    <a:lnTo>
                      <a:pt x="1754" y="1754"/>
                    </a:lnTo>
                    <a:lnTo>
                      <a:pt x="1763" y="1760"/>
                    </a:lnTo>
                    <a:lnTo>
                      <a:pt x="1770" y="1767"/>
                    </a:lnTo>
                    <a:lnTo>
                      <a:pt x="1780" y="1770"/>
                    </a:lnTo>
                    <a:lnTo>
                      <a:pt x="1788" y="1772"/>
                    </a:lnTo>
                    <a:lnTo>
                      <a:pt x="1798" y="1770"/>
                    </a:lnTo>
                    <a:lnTo>
                      <a:pt x="1810" y="1767"/>
                    </a:lnTo>
                    <a:lnTo>
                      <a:pt x="1822" y="1760"/>
                    </a:lnTo>
                    <a:lnTo>
                      <a:pt x="1879" y="1760"/>
                    </a:lnTo>
                    <a:lnTo>
                      <a:pt x="1879" y="1764"/>
                    </a:lnTo>
                    <a:lnTo>
                      <a:pt x="1879" y="1767"/>
                    </a:lnTo>
                    <a:lnTo>
                      <a:pt x="1881" y="1772"/>
                    </a:lnTo>
                    <a:lnTo>
                      <a:pt x="1881" y="1775"/>
                    </a:lnTo>
                    <a:lnTo>
                      <a:pt x="1881" y="1780"/>
                    </a:lnTo>
                    <a:lnTo>
                      <a:pt x="1881" y="1783"/>
                    </a:lnTo>
                    <a:lnTo>
                      <a:pt x="1882" y="1786"/>
                    </a:lnTo>
                    <a:lnTo>
                      <a:pt x="1882" y="1791"/>
                    </a:lnTo>
                    <a:lnTo>
                      <a:pt x="1887" y="1796"/>
                    </a:lnTo>
                    <a:lnTo>
                      <a:pt x="1894" y="1799"/>
                    </a:lnTo>
                    <a:lnTo>
                      <a:pt x="1901" y="1802"/>
                    </a:lnTo>
                    <a:lnTo>
                      <a:pt x="1908" y="1804"/>
                    </a:lnTo>
                    <a:lnTo>
                      <a:pt x="1914" y="1807"/>
                    </a:lnTo>
                    <a:lnTo>
                      <a:pt x="1921" y="1810"/>
                    </a:lnTo>
                    <a:lnTo>
                      <a:pt x="1926" y="1814"/>
                    </a:lnTo>
                    <a:lnTo>
                      <a:pt x="1931" y="1817"/>
                    </a:lnTo>
                    <a:lnTo>
                      <a:pt x="1935" y="1817"/>
                    </a:lnTo>
                    <a:lnTo>
                      <a:pt x="1936" y="1817"/>
                    </a:lnTo>
                    <a:lnTo>
                      <a:pt x="1938" y="1817"/>
                    </a:lnTo>
                    <a:lnTo>
                      <a:pt x="1941" y="1817"/>
                    </a:lnTo>
                    <a:lnTo>
                      <a:pt x="1943" y="1817"/>
                    </a:lnTo>
                    <a:lnTo>
                      <a:pt x="1946" y="1817"/>
                    </a:lnTo>
                    <a:lnTo>
                      <a:pt x="1948" y="1817"/>
                    </a:lnTo>
                    <a:lnTo>
                      <a:pt x="1950" y="1817"/>
                    </a:lnTo>
                    <a:lnTo>
                      <a:pt x="1951" y="1815"/>
                    </a:lnTo>
                    <a:lnTo>
                      <a:pt x="1953" y="1814"/>
                    </a:lnTo>
                    <a:lnTo>
                      <a:pt x="1953" y="1814"/>
                    </a:lnTo>
                    <a:lnTo>
                      <a:pt x="1955" y="1812"/>
                    </a:lnTo>
                    <a:lnTo>
                      <a:pt x="1956" y="1810"/>
                    </a:lnTo>
                    <a:lnTo>
                      <a:pt x="1958" y="1809"/>
                    </a:lnTo>
                    <a:lnTo>
                      <a:pt x="1958" y="1807"/>
                    </a:lnTo>
                    <a:lnTo>
                      <a:pt x="1960" y="1804"/>
                    </a:lnTo>
                    <a:lnTo>
                      <a:pt x="1972" y="1804"/>
                    </a:lnTo>
                    <a:lnTo>
                      <a:pt x="1985" y="1801"/>
                    </a:lnTo>
                    <a:lnTo>
                      <a:pt x="2000" y="1798"/>
                    </a:lnTo>
                    <a:lnTo>
                      <a:pt x="2017" y="1793"/>
                    </a:lnTo>
                    <a:lnTo>
                      <a:pt x="2034" y="1785"/>
                    </a:lnTo>
                    <a:lnTo>
                      <a:pt x="2047" y="1775"/>
                    </a:lnTo>
                    <a:lnTo>
                      <a:pt x="2054" y="1770"/>
                    </a:lnTo>
                    <a:lnTo>
                      <a:pt x="2059" y="1764"/>
                    </a:lnTo>
                    <a:lnTo>
                      <a:pt x="2063" y="1757"/>
                    </a:lnTo>
                    <a:lnTo>
                      <a:pt x="2066" y="1751"/>
                    </a:lnTo>
                    <a:lnTo>
                      <a:pt x="2083" y="1752"/>
                    </a:lnTo>
                    <a:lnTo>
                      <a:pt x="2101" y="1754"/>
                    </a:lnTo>
                    <a:lnTo>
                      <a:pt x="2121" y="1755"/>
                    </a:lnTo>
                    <a:lnTo>
                      <a:pt x="2140" y="1759"/>
                    </a:lnTo>
                    <a:lnTo>
                      <a:pt x="2160" y="1760"/>
                    </a:lnTo>
                    <a:lnTo>
                      <a:pt x="2180" y="1764"/>
                    </a:lnTo>
                    <a:lnTo>
                      <a:pt x="2201" y="1765"/>
                    </a:lnTo>
                    <a:lnTo>
                      <a:pt x="2221" y="1765"/>
                    </a:lnTo>
                    <a:lnTo>
                      <a:pt x="2226" y="1772"/>
                    </a:lnTo>
                    <a:lnTo>
                      <a:pt x="2231" y="1775"/>
                    </a:lnTo>
                    <a:lnTo>
                      <a:pt x="2236" y="1778"/>
                    </a:lnTo>
                    <a:lnTo>
                      <a:pt x="2241" y="1778"/>
                    </a:lnTo>
                    <a:lnTo>
                      <a:pt x="2246" y="1778"/>
                    </a:lnTo>
                    <a:lnTo>
                      <a:pt x="2251" y="1778"/>
                    </a:lnTo>
                    <a:lnTo>
                      <a:pt x="2258" y="1778"/>
                    </a:lnTo>
                    <a:lnTo>
                      <a:pt x="2266" y="1778"/>
                    </a:lnTo>
                    <a:lnTo>
                      <a:pt x="2268" y="1781"/>
                    </a:lnTo>
                    <a:lnTo>
                      <a:pt x="2268" y="1783"/>
                    </a:lnTo>
                    <a:lnTo>
                      <a:pt x="2270" y="1786"/>
                    </a:lnTo>
                    <a:lnTo>
                      <a:pt x="2271" y="1788"/>
                    </a:lnTo>
                    <a:lnTo>
                      <a:pt x="2271" y="1791"/>
                    </a:lnTo>
                    <a:lnTo>
                      <a:pt x="2273" y="1794"/>
                    </a:lnTo>
                    <a:lnTo>
                      <a:pt x="2275" y="1796"/>
                    </a:lnTo>
                    <a:lnTo>
                      <a:pt x="2275" y="1799"/>
                    </a:lnTo>
                    <a:lnTo>
                      <a:pt x="2286" y="1799"/>
                    </a:lnTo>
                    <a:lnTo>
                      <a:pt x="2297" y="1798"/>
                    </a:lnTo>
                    <a:lnTo>
                      <a:pt x="2307" y="1798"/>
                    </a:lnTo>
                    <a:lnTo>
                      <a:pt x="2317" y="1796"/>
                    </a:lnTo>
                    <a:lnTo>
                      <a:pt x="2327" y="1796"/>
                    </a:lnTo>
                    <a:lnTo>
                      <a:pt x="2339" y="1794"/>
                    </a:lnTo>
                    <a:lnTo>
                      <a:pt x="2349" y="1794"/>
                    </a:lnTo>
                    <a:lnTo>
                      <a:pt x="2361" y="1793"/>
                    </a:lnTo>
                    <a:lnTo>
                      <a:pt x="2366" y="1781"/>
                    </a:lnTo>
                    <a:lnTo>
                      <a:pt x="2372" y="1768"/>
                    </a:lnTo>
                    <a:lnTo>
                      <a:pt x="2382" y="1754"/>
                    </a:lnTo>
                    <a:lnTo>
                      <a:pt x="2393" y="1738"/>
                    </a:lnTo>
                    <a:lnTo>
                      <a:pt x="2403" y="1723"/>
                    </a:lnTo>
                    <a:lnTo>
                      <a:pt x="2414" y="1708"/>
                    </a:lnTo>
                    <a:lnTo>
                      <a:pt x="2425" y="1694"/>
                    </a:lnTo>
                    <a:lnTo>
                      <a:pt x="2435" y="1681"/>
                    </a:lnTo>
                    <a:lnTo>
                      <a:pt x="2435" y="1679"/>
                    </a:lnTo>
                    <a:lnTo>
                      <a:pt x="2436" y="1674"/>
                    </a:lnTo>
                    <a:lnTo>
                      <a:pt x="2438" y="1666"/>
                    </a:lnTo>
                    <a:lnTo>
                      <a:pt x="2441" y="1657"/>
                    </a:lnTo>
                    <a:lnTo>
                      <a:pt x="2443" y="1649"/>
                    </a:lnTo>
                    <a:lnTo>
                      <a:pt x="2446" y="1640"/>
                    </a:lnTo>
                    <a:lnTo>
                      <a:pt x="2446" y="1634"/>
                    </a:lnTo>
                    <a:lnTo>
                      <a:pt x="2448" y="1631"/>
                    </a:lnTo>
                    <a:lnTo>
                      <a:pt x="2450" y="1631"/>
                    </a:lnTo>
                    <a:lnTo>
                      <a:pt x="2458" y="1632"/>
                    </a:lnTo>
                    <a:lnTo>
                      <a:pt x="2468" y="1632"/>
                    </a:lnTo>
                    <a:lnTo>
                      <a:pt x="2478" y="1632"/>
                    </a:lnTo>
                    <a:lnTo>
                      <a:pt x="2490" y="1632"/>
                    </a:lnTo>
                    <a:lnTo>
                      <a:pt x="2502" y="1632"/>
                    </a:lnTo>
                    <a:lnTo>
                      <a:pt x="2510" y="1632"/>
                    </a:lnTo>
                    <a:lnTo>
                      <a:pt x="2514" y="1632"/>
                    </a:lnTo>
                    <a:lnTo>
                      <a:pt x="2527" y="1602"/>
                    </a:lnTo>
                    <a:lnTo>
                      <a:pt x="2537" y="1571"/>
                    </a:lnTo>
                    <a:lnTo>
                      <a:pt x="2546" y="1545"/>
                    </a:lnTo>
                    <a:lnTo>
                      <a:pt x="2556" y="1524"/>
                    </a:lnTo>
                    <a:lnTo>
                      <a:pt x="2563" y="1514"/>
                    </a:lnTo>
                    <a:lnTo>
                      <a:pt x="2573" y="1506"/>
                    </a:lnTo>
                    <a:lnTo>
                      <a:pt x="2583" y="1500"/>
                    </a:lnTo>
                    <a:lnTo>
                      <a:pt x="2596" y="1495"/>
                    </a:lnTo>
                    <a:lnTo>
                      <a:pt x="2613" y="1490"/>
                    </a:lnTo>
                    <a:lnTo>
                      <a:pt x="2632" y="1487"/>
                    </a:lnTo>
                    <a:lnTo>
                      <a:pt x="2655" y="1487"/>
                    </a:lnTo>
                    <a:lnTo>
                      <a:pt x="2682" y="1487"/>
                    </a:lnTo>
                    <a:lnTo>
                      <a:pt x="2684" y="1488"/>
                    </a:lnTo>
                    <a:lnTo>
                      <a:pt x="2684" y="1488"/>
                    </a:lnTo>
                    <a:lnTo>
                      <a:pt x="2686" y="1487"/>
                    </a:lnTo>
                    <a:lnTo>
                      <a:pt x="2689" y="1485"/>
                    </a:lnTo>
                    <a:lnTo>
                      <a:pt x="2691" y="1482"/>
                    </a:lnTo>
                    <a:lnTo>
                      <a:pt x="2694" y="1478"/>
                    </a:lnTo>
                    <a:lnTo>
                      <a:pt x="2699" y="1477"/>
                    </a:lnTo>
                    <a:lnTo>
                      <a:pt x="2702" y="1474"/>
                    </a:lnTo>
                    <a:lnTo>
                      <a:pt x="2707" y="1470"/>
                    </a:lnTo>
                    <a:lnTo>
                      <a:pt x="2707" y="1467"/>
                    </a:lnTo>
                    <a:lnTo>
                      <a:pt x="2707" y="1462"/>
                    </a:lnTo>
                    <a:lnTo>
                      <a:pt x="2706" y="1459"/>
                    </a:lnTo>
                    <a:lnTo>
                      <a:pt x="2706" y="1454"/>
                    </a:lnTo>
                    <a:lnTo>
                      <a:pt x="2706" y="1451"/>
                    </a:lnTo>
                    <a:lnTo>
                      <a:pt x="2704" y="1448"/>
                    </a:lnTo>
                    <a:lnTo>
                      <a:pt x="2704" y="1443"/>
                    </a:lnTo>
                    <a:lnTo>
                      <a:pt x="2704" y="1440"/>
                    </a:lnTo>
                    <a:lnTo>
                      <a:pt x="2697" y="1435"/>
                    </a:lnTo>
                    <a:lnTo>
                      <a:pt x="2689" y="1432"/>
                    </a:lnTo>
                    <a:lnTo>
                      <a:pt x="2682" y="1425"/>
                    </a:lnTo>
                    <a:lnTo>
                      <a:pt x="2674" y="1420"/>
                    </a:lnTo>
                    <a:lnTo>
                      <a:pt x="2669" y="1414"/>
                    </a:lnTo>
                    <a:lnTo>
                      <a:pt x="2662" y="1407"/>
                    </a:lnTo>
                    <a:lnTo>
                      <a:pt x="2657" y="1401"/>
                    </a:lnTo>
                    <a:lnTo>
                      <a:pt x="2654" y="1394"/>
                    </a:lnTo>
                    <a:lnTo>
                      <a:pt x="2649" y="1394"/>
                    </a:lnTo>
                    <a:lnTo>
                      <a:pt x="2643" y="1394"/>
                    </a:lnTo>
                    <a:lnTo>
                      <a:pt x="2642" y="1393"/>
                    </a:lnTo>
                    <a:lnTo>
                      <a:pt x="2638" y="1393"/>
                    </a:lnTo>
                    <a:lnTo>
                      <a:pt x="2637" y="1393"/>
                    </a:lnTo>
                    <a:lnTo>
                      <a:pt x="2635" y="1391"/>
                    </a:lnTo>
                    <a:lnTo>
                      <a:pt x="2633" y="1389"/>
                    </a:lnTo>
                    <a:lnTo>
                      <a:pt x="2632" y="1389"/>
                    </a:lnTo>
                    <a:lnTo>
                      <a:pt x="2630" y="1383"/>
                    </a:lnTo>
                    <a:lnTo>
                      <a:pt x="2625" y="1378"/>
                    </a:lnTo>
                    <a:lnTo>
                      <a:pt x="2622" y="1375"/>
                    </a:lnTo>
                    <a:lnTo>
                      <a:pt x="2617" y="1372"/>
                    </a:lnTo>
                    <a:lnTo>
                      <a:pt x="2605" y="1367"/>
                    </a:lnTo>
                    <a:lnTo>
                      <a:pt x="2591" y="1365"/>
                    </a:lnTo>
                    <a:lnTo>
                      <a:pt x="2576" y="1363"/>
                    </a:lnTo>
                    <a:lnTo>
                      <a:pt x="2564" y="1360"/>
                    </a:lnTo>
                    <a:lnTo>
                      <a:pt x="2559" y="1357"/>
                    </a:lnTo>
                    <a:lnTo>
                      <a:pt x="2554" y="1354"/>
                    </a:lnTo>
                    <a:lnTo>
                      <a:pt x="2551" y="1349"/>
                    </a:lnTo>
                    <a:lnTo>
                      <a:pt x="2548" y="1344"/>
                    </a:lnTo>
                    <a:lnTo>
                      <a:pt x="2539" y="1342"/>
                    </a:lnTo>
                    <a:lnTo>
                      <a:pt x="2529" y="1339"/>
                    </a:lnTo>
                    <a:lnTo>
                      <a:pt x="2521" y="1336"/>
                    </a:lnTo>
                    <a:lnTo>
                      <a:pt x="2512" y="1333"/>
                    </a:lnTo>
                    <a:lnTo>
                      <a:pt x="2504" y="1328"/>
                    </a:lnTo>
                    <a:lnTo>
                      <a:pt x="2495" y="1325"/>
                    </a:lnTo>
                    <a:lnTo>
                      <a:pt x="2487" y="1320"/>
                    </a:lnTo>
                    <a:lnTo>
                      <a:pt x="2478" y="1317"/>
                    </a:lnTo>
                    <a:lnTo>
                      <a:pt x="2477" y="1308"/>
                    </a:lnTo>
                    <a:lnTo>
                      <a:pt x="2475" y="1304"/>
                    </a:lnTo>
                    <a:lnTo>
                      <a:pt x="2473" y="1297"/>
                    </a:lnTo>
                    <a:lnTo>
                      <a:pt x="2472" y="1292"/>
                    </a:lnTo>
                    <a:lnTo>
                      <a:pt x="2472" y="1286"/>
                    </a:lnTo>
                    <a:lnTo>
                      <a:pt x="2472" y="1281"/>
                    </a:lnTo>
                    <a:lnTo>
                      <a:pt x="2472" y="1273"/>
                    </a:lnTo>
                    <a:lnTo>
                      <a:pt x="2475" y="1265"/>
                    </a:lnTo>
                    <a:lnTo>
                      <a:pt x="2477" y="1250"/>
                    </a:lnTo>
                    <a:lnTo>
                      <a:pt x="2480" y="1237"/>
                    </a:lnTo>
                    <a:lnTo>
                      <a:pt x="2485" y="1223"/>
                    </a:lnTo>
                    <a:lnTo>
                      <a:pt x="2492" y="1210"/>
                    </a:lnTo>
                    <a:lnTo>
                      <a:pt x="2499" y="1195"/>
                    </a:lnTo>
                    <a:lnTo>
                      <a:pt x="2504" y="1180"/>
                    </a:lnTo>
                    <a:lnTo>
                      <a:pt x="2509" y="1164"/>
                    </a:lnTo>
                    <a:lnTo>
                      <a:pt x="2510" y="1145"/>
                    </a:lnTo>
                    <a:lnTo>
                      <a:pt x="2519" y="1140"/>
                    </a:lnTo>
                    <a:lnTo>
                      <a:pt x="2529" y="1134"/>
                    </a:lnTo>
                    <a:lnTo>
                      <a:pt x="2537" y="1127"/>
                    </a:lnTo>
                    <a:lnTo>
                      <a:pt x="2546" y="1119"/>
                    </a:lnTo>
                    <a:lnTo>
                      <a:pt x="2554" y="1111"/>
                    </a:lnTo>
                    <a:lnTo>
                      <a:pt x="2563" y="1101"/>
                    </a:lnTo>
                    <a:lnTo>
                      <a:pt x="2569" y="1090"/>
                    </a:lnTo>
                    <a:lnTo>
                      <a:pt x="2576" y="1078"/>
                    </a:lnTo>
                    <a:lnTo>
                      <a:pt x="2585" y="1069"/>
                    </a:lnTo>
                    <a:lnTo>
                      <a:pt x="2591" y="1059"/>
                    </a:lnTo>
                    <a:lnTo>
                      <a:pt x="2595" y="1049"/>
                    </a:lnTo>
                    <a:lnTo>
                      <a:pt x="2598" y="1040"/>
                    </a:lnTo>
                    <a:lnTo>
                      <a:pt x="2601" y="1032"/>
                    </a:lnTo>
                    <a:lnTo>
                      <a:pt x="2605" y="1025"/>
                    </a:lnTo>
                    <a:lnTo>
                      <a:pt x="2610" y="1017"/>
                    </a:lnTo>
                    <a:lnTo>
                      <a:pt x="2620" y="1012"/>
                    </a:lnTo>
                    <a:lnTo>
                      <a:pt x="2623" y="1009"/>
                    </a:lnTo>
                    <a:lnTo>
                      <a:pt x="2628" y="1007"/>
                    </a:lnTo>
                    <a:lnTo>
                      <a:pt x="2633" y="1006"/>
                    </a:lnTo>
                    <a:lnTo>
                      <a:pt x="2638" y="1004"/>
                    </a:lnTo>
                    <a:lnTo>
                      <a:pt x="2645" y="1002"/>
                    </a:lnTo>
                    <a:lnTo>
                      <a:pt x="2652" y="1001"/>
                    </a:lnTo>
                    <a:lnTo>
                      <a:pt x="2660" y="999"/>
                    </a:lnTo>
                    <a:lnTo>
                      <a:pt x="2669" y="999"/>
                    </a:lnTo>
                    <a:lnTo>
                      <a:pt x="2672" y="986"/>
                    </a:lnTo>
                    <a:lnTo>
                      <a:pt x="2674" y="975"/>
                    </a:lnTo>
                    <a:lnTo>
                      <a:pt x="2675" y="962"/>
                    </a:lnTo>
                    <a:lnTo>
                      <a:pt x="2679" y="951"/>
                    </a:lnTo>
                    <a:lnTo>
                      <a:pt x="2684" y="938"/>
                    </a:lnTo>
                    <a:lnTo>
                      <a:pt x="2689" y="926"/>
                    </a:lnTo>
                    <a:lnTo>
                      <a:pt x="2697" y="913"/>
                    </a:lnTo>
                    <a:lnTo>
                      <a:pt x="2711" y="900"/>
                    </a:lnTo>
                    <a:lnTo>
                      <a:pt x="2721" y="894"/>
                    </a:lnTo>
                    <a:lnTo>
                      <a:pt x="2733" y="886"/>
                    </a:lnTo>
                    <a:lnTo>
                      <a:pt x="2743" y="874"/>
                    </a:lnTo>
                    <a:lnTo>
                      <a:pt x="2751" y="863"/>
                    </a:lnTo>
                    <a:lnTo>
                      <a:pt x="2760" y="849"/>
                    </a:lnTo>
                    <a:lnTo>
                      <a:pt x="2766" y="834"/>
                    </a:lnTo>
                    <a:lnTo>
                      <a:pt x="2773" y="816"/>
                    </a:lnTo>
                    <a:lnTo>
                      <a:pt x="2778" y="800"/>
                    </a:lnTo>
                    <a:lnTo>
                      <a:pt x="2787" y="764"/>
                    </a:lnTo>
                    <a:lnTo>
                      <a:pt x="2793" y="729"/>
                    </a:lnTo>
                    <a:lnTo>
                      <a:pt x="2797" y="695"/>
                    </a:lnTo>
                    <a:lnTo>
                      <a:pt x="2798" y="665"/>
                    </a:lnTo>
                    <a:lnTo>
                      <a:pt x="2792" y="662"/>
                    </a:lnTo>
                    <a:lnTo>
                      <a:pt x="2785" y="657"/>
                    </a:lnTo>
                    <a:lnTo>
                      <a:pt x="2780" y="651"/>
                    </a:lnTo>
                    <a:lnTo>
                      <a:pt x="2777" y="644"/>
                    </a:lnTo>
                    <a:lnTo>
                      <a:pt x="2773" y="635"/>
                    </a:lnTo>
                    <a:lnTo>
                      <a:pt x="2771" y="625"/>
                    </a:lnTo>
                    <a:lnTo>
                      <a:pt x="2771" y="615"/>
                    </a:lnTo>
                    <a:lnTo>
                      <a:pt x="2770" y="604"/>
                    </a:lnTo>
                    <a:lnTo>
                      <a:pt x="2773" y="583"/>
                    </a:lnTo>
                    <a:lnTo>
                      <a:pt x="2778" y="562"/>
                    </a:lnTo>
                    <a:lnTo>
                      <a:pt x="2782" y="552"/>
                    </a:lnTo>
                    <a:lnTo>
                      <a:pt x="2787" y="544"/>
                    </a:lnTo>
                    <a:lnTo>
                      <a:pt x="2792" y="536"/>
                    </a:lnTo>
                    <a:lnTo>
                      <a:pt x="2798" y="529"/>
                    </a:lnTo>
                    <a:lnTo>
                      <a:pt x="2800" y="529"/>
                    </a:lnTo>
                    <a:lnTo>
                      <a:pt x="2800" y="531"/>
                    </a:lnTo>
                    <a:lnTo>
                      <a:pt x="2802" y="531"/>
                    </a:lnTo>
                    <a:lnTo>
                      <a:pt x="2803" y="531"/>
                    </a:lnTo>
                    <a:lnTo>
                      <a:pt x="2805" y="531"/>
                    </a:lnTo>
                    <a:lnTo>
                      <a:pt x="2807" y="533"/>
                    </a:lnTo>
                    <a:lnTo>
                      <a:pt x="2810" y="533"/>
                    </a:lnTo>
                    <a:lnTo>
                      <a:pt x="2812" y="534"/>
                    </a:lnTo>
                    <a:lnTo>
                      <a:pt x="2812" y="533"/>
                    </a:lnTo>
                    <a:lnTo>
                      <a:pt x="2814" y="529"/>
                    </a:lnTo>
                    <a:lnTo>
                      <a:pt x="2815" y="528"/>
                    </a:lnTo>
                    <a:lnTo>
                      <a:pt x="2815" y="526"/>
                    </a:lnTo>
                    <a:lnTo>
                      <a:pt x="2817" y="525"/>
                    </a:lnTo>
                    <a:lnTo>
                      <a:pt x="2819" y="521"/>
                    </a:lnTo>
                    <a:lnTo>
                      <a:pt x="2819" y="520"/>
                    </a:lnTo>
                    <a:lnTo>
                      <a:pt x="2820" y="517"/>
                    </a:lnTo>
                    <a:lnTo>
                      <a:pt x="2837" y="521"/>
                    </a:lnTo>
                    <a:lnTo>
                      <a:pt x="2851" y="525"/>
                    </a:lnTo>
                    <a:lnTo>
                      <a:pt x="2861" y="525"/>
                    </a:lnTo>
                    <a:lnTo>
                      <a:pt x="2869" y="521"/>
                    </a:lnTo>
                    <a:lnTo>
                      <a:pt x="2876" y="517"/>
                    </a:lnTo>
                    <a:lnTo>
                      <a:pt x="2881" y="507"/>
                    </a:lnTo>
                    <a:lnTo>
                      <a:pt x="2888" y="492"/>
                    </a:lnTo>
                    <a:lnTo>
                      <a:pt x="2896" y="47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600" y="1517400"/>
                <a:ext cx="4465800" cy="2802240"/>
              </a:xfrm>
              <a:custGeom>
                <a:avLst/>
                <a:gdLst/>
                <a:ahLst/>
                <a:rect l="l" t="t" r="r" b="b"/>
                <a:pathLst>
                  <a:path w="2896" h="1817">
                    <a:moveTo>
                      <a:pt x="2896" y="473"/>
                    </a:moveTo>
                    <a:lnTo>
                      <a:pt x="2893" y="471"/>
                    </a:lnTo>
                    <a:lnTo>
                      <a:pt x="2888" y="468"/>
                    </a:lnTo>
                    <a:lnTo>
                      <a:pt x="2881" y="466"/>
                    </a:lnTo>
                    <a:lnTo>
                      <a:pt x="2876" y="466"/>
                    </a:lnTo>
                    <a:lnTo>
                      <a:pt x="2869" y="465"/>
                    </a:lnTo>
                    <a:lnTo>
                      <a:pt x="2864" y="465"/>
                    </a:lnTo>
                    <a:lnTo>
                      <a:pt x="2859" y="465"/>
                    </a:lnTo>
                    <a:lnTo>
                      <a:pt x="2857" y="465"/>
                    </a:lnTo>
                    <a:lnTo>
                      <a:pt x="2841" y="455"/>
                    </a:lnTo>
                    <a:lnTo>
                      <a:pt x="2825" y="445"/>
                    </a:lnTo>
                    <a:lnTo>
                      <a:pt x="2809" y="434"/>
                    </a:lnTo>
                    <a:lnTo>
                      <a:pt x="2795" y="423"/>
                    </a:lnTo>
                    <a:lnTo>
                      <a:pt x="2780" y="410"/>
                    </a:lnTo>
                    <a:lnTo>
                      <a:pt x="2768" y="397"/>
                    </a:lnTo>
                    <a:lnTo>
                      <a:pt x="2758" y="384"/>
                    </a:lnTo>
                    <a:lnTo>
                      <a:pt x="2750" y="369"/>
                    </a:lnTo>
                    <a:lnTo>
                      <a:pt x="2724" y="369"/>
                    </a:lnTo>
                    <a:lnTo>
                      <a:pt x="2704" y="369"/>
                    </a:lnTo>
                    <a:lnTo>
                      <a:pt x="2691" y="371"/>
                    </a:lnTo>
                    <a:lnTo>
                      <a:pt x="2681" y="371"/>
                    </a:lnTo>
                    <a:lnTo>
                      <a:pt x="2670" y="369"/>
                    </a:lnTo>
                    <a:lnTo>
                      <a:pt x="2660" y="368"/>
                    </a:lnTo>
                    <a:lnTo>
                      <a:pt x="2647" y="361"/>
                    </a:lnTo>
                    <a:lnTo>
                      <a:pt x="2630" y="351"/>
                    </a:lnTo>
                    <a:lnTo>
                      <a:pt x="2610" y="350"/>
                    </a:lnTo>
                    <a:lnTo>
                      <a:pt x="2586" y="346"/>
                    </a:lnTo>
                    <a:lnTo>
                      <a:pt x="2559" y="342"/>
                    </a:lnTo>
                    <a:lnTo>
                      <a:pt x="2532" y="335"/>
                    </a:lnTo>
                    <a:lnTo>
                      <a:pt x="2505" y="329"/>
                    </a:lnTo>
                    <a:lnTo>
                      <a:pt x="2480" y="319"/>
                    </a:lnTo>
                    <a:lnTo>
                      <a:pt x="2470" y="316"/>
                    </a:lnTo>
                    <a:lnTo>
                      <a:pt x="2462" y="309"/>
                    </a:lnTo>
                    <a:lnTo>
                      <a:pt x="2455" y="304"/>
                    </a:lnTo>
                    <a:lnTo>
                      <a:pt x="2448" y="299"/>
                    </a:lnTo>
                    <a:lnTo>
                      <a:pt x="2445" y="298"/>
                    </a:lnTo>
                    <a:lnTo>
                      <a:pt x="2440" y="298"/>
                    </a:lnTo>
                    <a:lnTo>
                      <a:pt x="2435" y="296"/>
                    </a:lnTo>
                    <a:lnTo>
                      <a:pt x="2430" y="296"/>
                    </a:lnTo>
                    <a:lnTo>
                      <a:pt x="2425" y="295"/>
                    </a:lnTo>
                    <a:lnTo>
                      <a:pt x="2421" y="295"/>
                    </a:lnTo>
                    <a:lnTo>
                      <a:pt x="2416" y="295"/>
                    </a:lnTo>
                    <a:lnTo>
                      <a:pt x="2411" y="293"/>
                    </a:lnTo>
                    <a:lnTo>
                      <a:pt x="2404" y="298"/>
                    </a:lnTo>
                    <a:lnTo>
                      <a:pt x="2394" y="299"/>
                    </a:lnTo>
                    <a:lnTo>
                      <a:pt x="2382" y="301"/>
                    </a:lnTo>
                    <a:lnTo>
                      <a:pt x="2371" y="301"/>
                    </a:lnTo>
                    <a:lnTo>
                      <a:pt x="2359" y="301"/>
                    </a:lnTo>
                    <a:lnTo>
                      <a:pt x="2347" y="299"/>
                    </a:lnTo>
                    <a:lnTo>
                      <a:pt x="2339" y="298"/>
                    </a:lnTo>
                    <a:lnTo>
                      <a:pt x="2332" y="298"/>
                    </a:lnTo>
                    <a:lnTo>
                      <a:pt x="2332" y="299"/>
                    </a:lnTo>
                    <a:lnTo>
                      <a:pt x="2330" y="301"/>
                    </a:lnTo>
                    <a:lnTo>
                      <a:pt x="2330" y="303"/>
                    </a:lnTo>
                    <a:lnTo>
                      <a:pt x="2329" y="304"/>
                    </a:lnTo>
                    <a:lnTo>
                      <a:pt x="2329" y="306"/>
                    </a:lnTo>
                    <a:lnTo>
                      <a:pt x="2327" y="306"/>
                    </a:lnTo>
                    <a:lnTo>
                      <a:pt x="2327" y="308"/>
                    </a:lnTo>
                    <a:lnTo>
                      <a:pt x="2325" y="309"/>
                    </a:lnTo>
                    <a:lnTo>
                      <a:pt x="2324" y="309"/>
                    </a:lnTo>
                    <a:lnTo>
                      <a:pt x="2320" y="309"/>
                    </a:lnTo>
                    <a:lnTo>
                      <a:pt x="2318" y="309"/>
                    </a:lnTo>
                    <a:lnTo>
                      <a:pt x="2315" y="309"/>
                    </a:lnTo>
                    <a:lnTo>
                      <a:pt x="2313" y="309"/>
                    </a:lnTo>
                    <a:lnTo>
                      <a:pt x="2312" y="309"/>
                    </a:lnTo>
                    <a:lnTo>
                      <a:pt x="2308" y="309"/>
                    </a:lnTo>
                    <a:lnTo>
                      <a:pt x="2307" y="309"/>
                    </a:lnTo>
                    <a:lnTo>
                      <a:pt x="2303" y="309"/>
                    </a:lnTo>
                    <a:lnTo>
                      <a:pt x="2290" y="314"/>
                    </a:lnTo>
                    <a:lnTo>
                      <a:pt x="2276" y="316"/>
                    </a:lnTo>
                    <a:lnTo>
                      <a:pt x="2265" y="316"/>
                    </a:lnTo>
                    <a:lnTo>
                      <a:pt x="2251" y="316"/>
                    </a:lnTo>
                    <a:lnTo>
                      <a:pt x="2238" y="316"/>
                    </a:lnTo>
                    <a:lnTo>
                      <a:pt x="2226" y="314"/>
                    </a:lnTo>
                    <a:lnTo>
                      <a:pt x="2212" y="312"/>
                    </a:lnTo>
                    <a:lnTo>
                      <a:pt x="2197" y="311"/>
                    </a:lnTo>
                    <a:lnTo>
                      <a:pt x="2191" y="303"/>
                    </a:lnTo>
                    <a:lnTo>
                      <a:pt x="2180" y="298"/>
                    </a:lnTo>
                    <a:lnTo>
                      <a:pt x="2170" y="293"/>
                    </a:lnTo>
                    <a:lnTo>
                      <a:pt x="2160" y="288"/>
                    </a:lnTo>
                    <a:lnTo>
                      <a:pt x="2137" y="285"/>
                    </a:lnTo>
                    <a:lnTo>
                      <a:pt x="2113" y="283"/>
                    </a:lnTo>
                    <a:lnTo>
                      <a:pt x="2089" y="283"/>
                    </a:lnTo>
                    <a:lnTo>
                      <a:pt x="2068" y="287"/>
                    </a:lnTo>
                    <a:lnTo>
                      <a:pt x="2046" y="290"/>
                    </a:lnTo>
                    <a:lnTo>
                      <a:pt x="2027" y="293"/>
                    </a:lnTo>
                    <a:lnTo>
                      <a:pt x="2014" y="287"/>
                    </a:lnTo>
                    <a:lnTo>
                      <a:pt x="1997" y="278"/>
                    </a:lnTo>
                    <a:lnTo>
                      <a:pt x="1978" y="272"/>
                    </a:lnTo>
                    <a:lnTo>
                      <a:pt x="1958" y="265"/>
                    </a:lnTo>
                    <a:lnTo>
                      <a:pt x="1938" y="261"/>
                    </a:lnTo>
                    <a:lnTo>
                      <a:pt x="1919" y="256"/>
                    </a:lnTo>
                    <a:lnTo>
                      <a:pt x="1903" y="254"/>
                    </a:lnTo>
                    <a:lnTo>
                      <a:pt x="1887" y="254"/>
                    </a:lnTo>
                    <a:lnTo>
                      <a:pt x="1882" y="257"/>
                    </a:lnTo>
                    <a:lnTo>
                      <a:pt x="1876" y="259"/>
                    </a:lnTo>
                    <a:lnTo>
                      <a:pt x="1869" y="259"/>
                    </a:lnTo>
                    <a:lnTo>
                      <a:pt x="1864" y="259"/>
                    </a:lnTo>
                    <a:lnTo>
                      <a:pt x="1852" y="256"/>
                    </a:lnTo>
                    <a:lnTo>
                      <a:pt x="1842" y="251"/>
                    </a:lnTo>
                    <a:lnTo>
                      <a:pt x="1832" y="243"/>
                    </a:lnTo>
                    <a:lnTo>
                      <a:pt x="1822" y="236"/>
                    </a:lnTo>
                    <a:lnTo>
                      <a:pt x="1813" y="228"/>
                    </a:lnTo>
                    <a:lnTo>
                      <a:pt x="1805" y="222"/>
                    </a:lnTo>
                    <a:lnTo>
                      <a:pt x="1783" y="222"/>
                    </a:lnTo>
                    <a:lnTo>
                      <a:pt x="1759" y="222"/>
                    </a:lnTo>
                    <a:lnTo>
                      <a:pt x="1738" y="222"/>
                    </a:lnTo>
                    <a:lnTo>
                      <a:pt x="1714" y="223"/>
                    </a:lnTo>
                    <a:lnTo>
                      <a:pt x="1692" y="225"/>
                    </a:lnTo>
                    <a:lnTo>
                      <a:pt x="1672" y="227"/>
                    </a:lnTo>
                    <a:lnTo>
                      <a:pt x="1652" y="230"/>
                    </a:lnTo>
                    <a:lnTo>
                      <a:pt x="1635" y="235"/>
                    </a:lnTo>
                    <a:lnTo>
                      <a:pt x="1626" y="235"/>
                    </a:lnTo>
                    <a:lnTo>
                      <a:pt x="1620" y="235"/>
                    </a:lnTo>
                    <a:lnTo>
                      <a:pt x="1615" y="233"/>
                    </a:lnTo>
                    <a:lnTo>
                      <a:pt x="1608" y="231"/>
                    </a:lnTo>
                    <a:lnTo>
                      <a:pt x="1603" y="231"/>
                    </a:lnTo>
                    <a:lnTo>
                      <a:pt x="1598" y="228"/>
                    </a:lnTo>
                    <a:lnTo>
                      <a:pt x="1591" y="227"/>
                    </a:lnTo>
                    <a:lnTo>
                      <a:pt x="1584" y="223"/>
                    </a:lnTo>
                    <a:lnTo>
                      <a:pt x="1556" y="225"/>
                    </a:lnTo>
                    <a:lnTo>
                      <a:pt x="1530" y="228"/>
                    </a:lnTo>
                    <a:lnTo>
                      <a:pt x="1510" y="233"/>
                    </a:lnTo>
                    <a:lnTo>
                      <a:pt x="1492" y="238"/>
                    </a:lnTo>
                    <a:lnTo>
                      <a:pt x="1483" y="240"/>
                    </a:lnTo>
                    <a:lnTo>
                      <a:pt x="1473" y="240"/>
                    </a:lnTo>
                    <a:lnTo>
                      <a:pt x="1465" y="238"/>
                    </a:lnTo>
                    <a:lnTo>
                      <a:pt x="1455" y="236"/>
                    </a:lnTo>
                    <a:lnTo>
                      <a:pt x="1445" y="231"/>
                    </a:lnTo>
                    <a:lnTo>
                      <a:pt x="1434" y="227"/>
                    </a:lnTo>
                    <a:lnTo>
                      <a:pt x="1423" y="219"/>
                    </a:lnTo>
                    <a:lnTo>
                      <a:pt x="1409" y="207"/>
                    </a:lnTo>
                    <a:lnTo>
                      <a:pt x="1409" y="197"/>
                    </a:lnTo>
                    <a:lnTo>
                      <a:pt x="1409" y="188"/>
                    </a:lnTo>
                    <a:lnTo>
                      <a:pt x="1409" y="176"/>
                    </a:lnTo>
                    <a:lnTo>
                      <a:pt x="1411" y="165"/>
                    </a:lnTo>
                    <a:lnTo>
                      <a:pt x="1411" y="154"/>
                    </a:lnTo>
                    <a:lnTo>
                      <a:pt x="1414" y="142"/>
                    </a:lnTo>
                    <a:lnTo>
                      <a:pt x="1418" y="129"/>
                    </a:lnTo>
                    <a:lnTo>
                      <a:pt x="1423" y="118"/>
                    </a:lnTo>
                    <a:lnTo>
                      <a:pt x="1419" y="115"/>
                    </a:lnTo>
                    <a:lnTo>
                      <a:pt x="1416" y="112"/>
                    </a:lnTo>
                    <a:lnTo>
                      <a:pt x="1413" y="108"/>
                    </a:lnTo>
                    <a:lnTo>
                      <a:pt x="1409" y="105"/>
                    </a:lnTo>
                    <a:lnTo>
                      <a:pt x="1406" y="100"/>
                    </a:lnTo>
                    <a:lnTo>
                      <a:pt x="1404" y="97"/>
                    </a:lnTo>
                    <a:lnTo>
                      <a:pt x="1401" y="94"/>
                    </a:lnTo>
                    <a:lnTo>
                      <a:pt x="1397" y="91"/>
                    </a:lnTo>
                    <a:lnTo>
                      <a:pt x="1389" y="95"/>
                    </a:lnTo>
                    <a:lnTo>
                      <a:pt x="1381" y="99"/>
                    </a:lnTo>
                    <a:lnTo>
                      <a:pt x="1375" y="102"/>
                    </a:lnTo>
                    <a:lnTo>
                      <a:pt x="1369" y="104"/>
                    </a:lnTo>
                    <a:lnTo>
                      <a:pt x="1364" y="105"/>
                    </a:lnTo>
                    <a:lnTo>
                      <a:pt x="1359" y="107"/>
                    </a:lnTo>
                    <a:lnTo>
                      <a:pt x="1354" y="107"/>
                    </a:lnTo>
                    <a:lnTo>
                      <a:pt x="1345" y="107"/>
                    </a:lnTo>
                    <a:lnTo>
                      <a:pt x="1343" y="105"/>
                    </a:lnTo>
                    <a:lnTo>
                      <a:pt x="1343" y="104"/>
                    </a:lnTo>
                    <a:lnTo>
                      <a:pt x="1342" y="102"/>
                    </a:lnTo>
                    <a:lnTo>
                      <a:pt x="1340" y="100"/>
                    </a:lnTo>
                    <a:lnTo>
                      <a:pt x="1340" y="99"/>
                    </a:lnTo>
                    <a:lnTo>
                      <a:pt x="1338" y="97"/>
                    </a:lnTo>
                    <a:lnTo>
                      <a:pt x="1338" y="95"/>
                    </a:lnTo>
                    <a:lnTo>
                      <a:pt x="1337" y="94"/>
                    </a:lnTo>
                    <a:lnTo>
                      <a:pt x="1320" y="92"/>
                    </a:lnTo>
                    <a:lnTo>
                      <a:pt x="1306" y="87"/>
                    </a:lnTo>
                    <a:lnTo>
                      <a:pt x="1295" y="82"/>
                    </a:lnTo>
                    <a:lnTo>
                      <a:pt x="1286" y="74"/>
                    </a:lnTo>
                    <a:lnTo>
                      <a:pt x="1278" y="65"/>
                    </a:lnTo>
                    <a:lnTo>
                      <a:pt x="1269" y="53"/>
                    </a:lnTo>
                    <a:lnTo>
                      <a:pt x="1263" y="42"/>
                    </a:lnTo>
                    <a:lnTo>
                      <a:pt x="1254" y="29"/>
                    </a:lnTo>
                    <a:lnTo>
                      <a:pt x="1226" y="19"/>
                    </a:lnTo>
                    <a:lnTo>
                      <a:pt x="1195" y="11"/>
                    </a:lnTo>
                    <a:lnTo>
                      <a:pt x="1167" y="3"/>
                    </a:lnTo>
                    <a:lnTo>
                      <a:pt x="1138" y="0"/>
                    </a:lnTo>
                    <a:lnTo>
                      <a:pt x="1125" y="0"/>
                    </a:lnTo>
                    <a:lnTo>
                      <a:pt x="1113" y="0"/>
                    </a:lnTo>
                    <a:lnTo>
                      <a:pt x="1101" y="3"/>
                    </a:lnTo>
                    <a:lnTo>
                      <a:pt x="1089" y="8"/>
                    </a:lnTo>
                    <a:lnTo>
                      <a:pt x="1079" y="14"/>
                    </a:lnTo>
                    <a:lnTo>
                      <a:pt x="1069" y="24"/>
                    </a:lnTo>
                    <a:lnTo>
                      <a:pt x="1062" y="36"/>
                    </a:lnTo>
                    <a:lnTo>
                      <a:pt x="1054" y="48"/>
                    </a:lnTo>
                    <a:lnTo>
                      <a:pt x="1050" y="50"/>
                    </a:lnTo>
                    <a:lnTo>
                      <a:pt x="1047" y="52"/>
                    </a:lnTo>
                    <a:lnTo>
                      <a:pt x="1044" y="53"/>
                    </a:lnTo>
                    <a:lnTo>
                      <a:pt x="1040" y="55"/>
                    </a:lnTo>
                    <a:lnTo>
                      <a:pt x="1037" y="57"/>
                    </a:lnTo>
                    <a:lnTo>
                      <a:pt x="1032" y="58"/>
                    </a:lnTo>
                    <a:lnTo>
                      <a:pt x="1029" y="60"/>
                    </a:lnTo>
                    <a:lnTo>
                      <a:pt x="1024" y="61"/>
                    </a:lnTo>
                    <a:lnTo>
                      <a:pt x="1013" y="65"/>
                    </a:lnTo>
                    <a:lnTo>
                      <a:pt x="1007" y="68"/>
                    </a:lnTo>
                    <a:lnTo>
                      <a:pt x="1000" y="71"/>
                    </a:lnTo>
                    <a:lnTo>
                      <a:pt x="995" y="74"/>
                    </a:lnTo>
                    <a:lnTo>
                      <a:pt x="992" y="79"/>
                    </a:lnTo>
                    <a:lnTo>
                      <a:pt x="988" y="82"/>
                    </a:lnTo>
                    <a:lnTo>
                      <a:pt x="985" y="86"/>
                    </a:lnTo>
                    <a:lnTo>
                      <a:pt x="981" y="89"/>
                    </a:lnTo>
                    <a:lnTo>
                      <a:pt x="983" y="95"/>
                    </a:lnTo>
                    <a:lnTo>
                      <a:pt x="983" y="99"/>
                    </a:lnTo>
                    <a:lnTo>
                      <a:pt x="985" y="102"/>
                    </a:lnTo>
                    <a:lnTo>
                      <a:pt x="985" y="105"/>
                    </a:lnTo>
                    <a:lnTo>
                      <a:pt x="986" y="105"/>
                    </a:lnTo>
                    <a:lnTo>
                      <a:pt x="988" y="107"/>
                    </a:lnTo>
                    <a:lnTo>
                      <a:pt x="990" y="108"/>
                    </a:lnTo>
                    <a:lnTo>
                      <a:pt x="993" y="112"/>
                    </a:lnTo>
                    <a:lnTo>
                      <a:pt x="992" y="113"/>
                    </a:lnTo>
                    <a:lnTo>
                      <a:pt x="992" y="115"/>
                    </a:lnTo>
                    <a:lnTo>
                      <a:pt x="992" y="116"/>
                    </a:lnTo>
                    <a:lnTo>
                      <a:pt x="992" y="120"/>
                    </a:lnTo>
                    <a:lnTo>
                      <a:pt x="992" y="121"/>
                    </a:lnTo>
                    <a:lnTo>
                      <a:pt x="992" y="123"/>
                    </a:lnTo>
                    <a:lnTo>
                      <a:pt x="992" y="125"/>
                    </a:lnTo>
                    <a:lnTo>
                      <a:pt x="992" y="126"/>
                    </a:lnTo>
                    <a:lnTo>
                      <a:pt x="986" y="134"/>
                    </a:lnTo>
                    <a:lnTo>
                      <a:pt x="983" y="144"/>
                    </a:lnTo>
                    <a:lnTo>
                      <a:pt x="981" y="155"/>
                    </a:lnTo>
                    <a:lnTo>
                      <a:pt x="980" y="167"/>
                    </a:lnTo>
                    <a:lnTo>
                      <a:pt x="981" y="178"/>
                    </a:lnTo>
                    <a:lnTo>
                      <a:pt x="983" y="191"/>
                    </a:lnTo>
                    <a:lnTo>
                      <a:pt x="986" y="202"/>
                    </a:lnTo>
                    <a:lnTo>
                      <a:pt x="990" y="214"/>
                    </a:lnTo>
                    <a:lnTo>
                      <a:pt x="1000" y="236"/>
                    </a:lnTo>
                    <a:lnTo>
                      <a:pt x="1012" y="257"/>
                    </a:lnTo>
                    <a:lnTo>
                      <a:pt x="1018" y="265"/>
                    </a:lnTo>
                    <a:lnTo>
                      <a:pt x="1025" y="274"/>
                    </a:lnTo>
                    <a:lnTo>
                      <a:pt x="1034" y="280"/>
                    </a:lnTo>
                    <a:lnTo>
                      <a:pt x="1040" y="285"/>
                    </a:lnTo>
                    <a:lnTo>
                      <a:pt x="1042" y="311"/>
                    </a:lnTo>
                    <a:lnTo>
                      <a:pt x="1042" y="334"/>
                    </a:lnTo>
                    <a:lnTo>
                      <a:pt x="1039" y="355"/>
                    </a:lnTo>
                    <a:lnTo>
                      <a:pt x="1034" y="372"/>
                    </a:lnTo>
                    <a:lnTo>
                      <a:pt x="1027" y="390"/>
                    </a:lnTo>
                    <a:lnTo>
                      <a:pt x="1018" y="405"/>
                    </a:lnTo>
                    <a:lnTo>
                      <a:pt x="1007" y="418"/>
                    </a:lnTo>
                    <a:lnTo>
                      <a:pt x="993" y="431"/>
                    </a:lnTo>
                    <a:lnTo>
                      <a:pt x="995" y="455"/>
                    </a:lnTo>
                    <a:lnTo>
                      <a:pt x="997" y="478"/>
                    </a:lnTo>
                    <a:lnTo>
                      <a:pt x="997" y="497"/>
                    </a:lnTo>
                    <a:lnTo>
                      <a:pt x="998" y="515"/>
                    </a:lnTo>
                    <a:lnTo>
                      <a:pt x="1002" y="523"/>
                    </a:lnTo>
                    <a:lnTo>
                      <a:pt x="1003" y="531"/>
                    </a:lnTo>
                    <a:lnTo>
                      <a:pt x="1008" y="539"/>
                    </a:lnTo>
                    <a:lnTo>
                      <a:pt x="1013" y="547"/>
                    </a:lnTo>
                    <a:lnTo>
                      <a:pt x="1020" y="554"/>
                    </a:lnTo>
                    <a:lnTo>
                      <a:pt x="1030" y="562"/>
                    </a:lnTo>
                    <a:lnTo>
                      <a:pt x="1040" y="570"/>
                    </a:lnTo>
                    <a:lnTo>
                      <a:pt x="1054" y="578"/>
                    </a:lnTo>
                    <a:lnTo>
                      <a:pt x="1042" y="581"/>
                    </a:lnTo>
                    <a:lnTo>
                      <a:pt x="1030" y="583"/>
                    </a:lnTo>
                    <a:lnTo>
                      <a:pt x="1018" y="585"/>
                    </a:lnTo>
                    <a:lnTo>
                      <a:pt x="1007" y="588"/>
                    </a:lnTo>
                    <a:lnTo>
                      <a:pt x="995" y="589"/>
                    </a:lnTo>
                    <a:lnTo>
                      <a:pt x="983" y="593"/>
                    </a:lnTo>
                    <a:lnTo>
                      <a:pt x="971" y="594"/>
                    </a:lnTo>
                    <a:lnTo>
                      <a:pt x="960" y="596"/>
                    </a:lnTo>
                    <a:lnTo>
                      <a:pt x="951" y="589"/>
                    </a:lnTo>
                    <a:lnTo>
                      <a:pt x="943" y="583"/>
                    </a:lnTo>
                    <a:lnTo>
                      <a:pt x="933" y="578"/>
                    </a:lnTo>
                    <a:lnTo>
                      <a:pt x="924" y="576"/>
                    </a:lnTo>
                    <a:lnTo>
                      <a:pt x="916" y="575"/>
                    </a:lnTo>
                    <a:lnTo>
                      <a:pt x="906" y="575"/>
                    </a:lnTo>
                    <a:lnTo>
                      <a:pt x="897" y="575"/>
                    </a:lnTo>
                    <a:lnTo>
                      <a:pt x="887" y="578"/>
                    </a:lnTo>
                    <a:lnTo>
                      <a:pt x="869" y="583"/>
                    </a:lnTo>
                    <a:lnTo>
                      <a:pt x="850" y="593"/>
                    </a:lnTo>
                    <a:lnTo>
                      <a:pt x="832" y="601"/>
                    </a:lnTo>
                    <a:lnTo>
                      <a:pt x="815" y="610"/>
                    </a:lnTo>
                    <a:lnTo>
                      <a:pt x="796" y="630"/>
                    </a:lnTo>
                    <a:lnTo>
                      <a:pt x="784" y="644"/>
                    </a:lnTo>
                    <a:lnTo>
                      <a:pt x="774" y="654"/>
                    </a:lnTo>
                    <a:lnTo>
                      <a:pt x="768" y="662"/>
                    </a:lnTo>
                    <a:lnTo>
                      <a:pt x="759" y="667"/>
                    </a:lnTo>
                    <a:lnTo>
                      <a:pt x="749" y="672"/>
                    </a:lnTo>
                    <a:lnTo>
                      <a:pt x="736" y="675"/>
                    </a:lnTo>
                    <a:lnTo>
                      <a:pt x="715" y="680"/>
                    </a:lnTo>
                    <a:lnTo>
                      <a:pt x="695" y="691"/>
                    </a:lnTo>
                    <a:lnTo>
                      <a:pt x="677" y="700"/>
                    </a:lnTo>
                    <a:lnTo>
                      <a:pt x="660" y="709"/>
                    </a:lnTo>
                    <a:lnTo>
                      <a:pt x="641" y="716"/>
                    </a:lnTo>
                    <a:lnTo>
                      <a:pt x="624" y="722"/>
                    </a:lnTo>
                    <a:lnTo>
                      <a:pt x="606" y="729"/>
                    </a:lnTo>
                    <a:lnTo>
                      <a:pt x="589" y="734"/>
                    </a:lnTo>
                    <a:lnTo>
                      <a:pt x="571" y="740"/>
                    </a:lnTo>
                    <a:lnTo>
                      <a:pt x="566" y="766"/>
                    </a:lnTo>
                    <a:lnTo>
                      <a:pt x="566" y="789"/>
                    </a:lnTo>
                    <a:lnTo>
                      <a:pt x="566" y="798"/>
                    </a:lnTo>
                    <a:lnTo>
                      <a:pt x="567" y="806"/>
                    </a:lnTo>
                    <a:lnTo>
                      <a:pt x="571" y="814"/>
                    </a:lnTo>
                    <a:lnTo>
                      <a:pt x="574" y="823"/>
                    </a:lnTo>
                    <a:lnTo>
                      <a:pt x="579" y="829"/>
                    </a:lnTo>
                    <a:lnTo>
                      <a:pt x="584" y="834"/>
                    </a:lnTo>
                    <a:lnTo>
                      <a:pt x="591" y="840"/>
                    </a:lnTo>
                    <a:lnTo>
                      <a:pt x="599" y="845"/>
                    </a:lnTo>
                    <a:lnTo>
                      <a:pt x="619" y="857"/>
                    </a:lnTo>
                    <a:lnTo>
                      <a:pt x="643" y="866"/>
                    </a:lnTo>
                    <a:lnTo>
                      <a:pt x="646" y="871"/>
                    </a:lnTo>
                    <a:lnTo>
                      <a:pt x="650" y="873"/>
                    </a:lnTo>
                    <a:lnTo>
                      <a:pt x="651" y="876"/>
                    </a:lnTo>
                    <a:lnTo>
                      <a:pt x="653" y="878"/>
                    </a:lnTo>
                    <a:lnTo>
                      <a:pt x="655" y="881"/>
                    </a:lnTo>
                    <a:lnTo>
                      <a:pt x="658" y="884"/>
                    </a:lnTo>
                    <a:lnTo>
                      <a:pt x="660" y="887"/>
                    </a:lnTo>
                    <a:lnTo>
                      <a:pt x="663" y="892"/>
                    </a:lnTo>
                    <a:lnTo>
                      <a:pt x="667" y="905"/>
                    </a:lnTo>
                    <a:lnTo>
                      <a:pt x="672" y="918"/>
                    </a:lnTo>
                    <a:lnTo>
                      <a:pt x="675" y="931"/>
                    </a:lnTo>
                    <a:lnTo>
                      <a:pt x="678" y="944"/>
                    </a:lnTo>
                    <a:lnTo>
                      <a:pt x="683" y="957"/>
                    </a:lnTo>
                    <a:lnTo>
                      <a:pt x="687" y="972"/>
                    </a:lnTo>
                    <a:lnTo>
                      <a:pt x="690" y="985"/>
                    </a:lnTo>
                    <a:lnTo>
                      <a:pt x="692" y="997"/>
                    </a:lnTo>
                    <a:lnTo>
                      <a:pt x="688" y="1004"/>
                    </a:lnTo>
                    <a:lnTo>
                      <a:pt x="683" y="1007"/>
                    </a:lnTo>
                    <a:lnTo>
                      <a:pt x="678" y="1009"/>
                    </a:lnTo>
                    <a:lnTo>
                      <a:pt x="675" y="1010"/>
                    </a:lnTo>
                    <a:lnTo>
                      <a:pt x="670" y="1010"/>
                    </a:lnTo>
                    <a:lnTo>
                      <a:pt x="667" y="1010"/>
                    </a:lnTo>
                    <a:lnTo>
                      <a:pt x="661" y="1009"/>
                    </a:lnTo>
                    <a:lnTo>
                      <a:pt x="658" y="1009"/>
                    </a:lnTo>
                    <a:lnTo>
                      <a:pt x="651" y="1002"/>
                    </a:lnTo>
                    <a:lnTo>
                      <a:pt x="643" y="994"/>
                    </a:lnTo>
                    <a:lnTo>
                      <a:pt x="631" y="986"/>
                    </a:lnTo>
                    <a:lnTo>
                      <a:pt x="621" y="978"/>
                    </a:lnTo>
                    <a:lnTo>
                      <a:pt x="609" y="972"/>
                    </a:lnTo>
                    <a:lnTo>
                      <a:pt x="596" y="965"/>
                    </a:lnTo>
                    <a:lnTo>
                      <a:pt x="584" y="960"/>
                    </a:lnTo>
                    <a:lnTo>
                      <a:pt x="574" y="957"/>
                    </a:lnTo>
                    <a:lnTo>
                      <a:pt x="566" y="957"/>
                    </a:lnTo>
                    <a:lnTo>
                      <a:pt x="559" y="955"/>
                    </a:lnTo>
                    <a:lnTo>
                      <a:pt x="554" y="955"/>
                    </a:lnTo>
                    <a:lnTo>
                      <a:pt x="549" y="955"/>
                    </a:lnTo>
                    <a:lnTo>
                      <a:pt x="545" y="954"/>
                    </a:lnTo>
                    <a:lnTo>
                      <a:pt x="540" y="954"/>
                    </a:lnTo>
                    <a:lnTo>
                      <a:pt x="535" y="952"/>
                    </a:lnTo>
                    <a:lnTo>
                      <a:pt x="528" y="951"/>
                    </a:lnTo>
                    <a:lnTo>
                      <a:pt x="520" y="954"/>
                    </a:lnTo>
                    <a:lnTo>
                      <a:pt x="512" y="959"/>
                    </a:lnTo>
                    <a:lnTo>
                      <a:pt x="502" y="965"/>
                    </a:lnTo>
                    <a:lnTo>
                      <a:pt x="495" y="973"/>
                    </a:lnTo>
                    <a:lnTo>
                      <a:pt x="486" y="981"/>
                    </a:lnTo>
                    <a:lnTo>
                      <a:pt x="480" y="991"/>
                    </a:lnTo>
                    <a:lnTo>
                      <a:pt x="473" y="1001"/>
                    </a:lnTo>
                    <a:lnTo>
                      <a:pt x="466" y="1009"/>
                    </a:lnTo>
                    <a:lnTo>
                      <a:pt x="461" y="1002"/>
                    </a:lnTo>
                    <a:lnTo>
                      <a:pt x="456" y="996"/>
                    </a:lnTo>
                    <a:lnTo>
                      <a:pt x="449" y="989"/>
                    </a:lnTo>
                    <a:lnTo>
                      <a:pt x="443" y="985"/>
                    </a:lnTo>
                    <a:lnTo>
                      <a:pt x="426" y="975"/>
                    </a:lnTo>
                    <a:lnTo>
                      <a:pt x="407" y="967"/>
                    </a:lnTo>
                    <a:lnTo>
                      <a:pt x="389" y="960"/>
                    </a:lnTo>
                    <a:lnTo>
                      <a:pt x="370" y="955"/>
                    </a:lnTo>
                    <a:lnTo>
                      <a:pt x="353" y="952"/>
                    </a:lnTo>
                    <a:lnTo>
                      <a:pt x="338" y="949"/>
                    </a:lnTo>
                    <a:lnTo>
                      <a:pt x="328" y="944"/>
                    </a:lnTo>
                    <a:lnTo>
                      <a:pt x="316" y="942"/>
                    </a:lnTo>
                    <a:lnTo>
                      <a:pt x="306" y="944"/>
                    </a:lnTo>
                    <a:lnTo>
                      <a:pt x="296" y="949"/>
                    </a:lnTo>
                    <a:lnTo>
                      <a:pt x="286" y="955"/>
                    </a:lnTo>
                    <a:lnTo>
                      <a:pt x="276" y="963"/>
                    </a:lnTo>
                    <a:lnTo>
                      <a:pt x="266" y="973"/>
                    </a:lnTo>
                    <a:lnTo>
                      <a:pt x="256" y="983"/>
                    </a:lnTo>
                    <a:lnTo>
                      <a:pt x="237" y="1004"/>
                    </a:lnTo>
                    <a:lnTo>
                      <a:pt x="220" y="1020"/>
                    </a:lnTo>
                    <a:lnTo>
                      <a:pt x="212" y="1027"/>
                    </a:lnTo>
                    <a:lnTo>
                      <a:pt x="203" y="1032"/>
                    </a:lnTo>
                    <a:lnTo>
                      <a:pt x="197" y="1033"/>
                    </a:lnTo>
                    <a:lnTo>
                      <a:pt x="190" y="1032"/>
                    </a:lnTo>
                    <a:lnTo>
                      <a:pt x="187" y="1028"/>
                    </a:lnTo>
                    <a:lnTo>
                      <a:pt x="183" y="1025"/>
                    </a:lnTo>
                    <a:lnTo>
                      <a:pt x="180" y="1020"/>
                    </a:lnTo>
                    <a:lnTo>
                      <a:pt x="178" y="1017"/>
                    </a:lnTo>
                    <a:lnTo>
                      <a:pt x="175" y="1012"/>
                    </a:lnTo>
                    <a:lnTo>
                      <a:pt x="171" y="1009"/>
                    </a:lnTo>
                    <a:lnTo>
                      <a:pt x="168" y="1004"/>
                    </a:lnTo>
                    <a:lnTo>
                      <a:pt x="165" y="1001"/>
                    </a:lnTo>
                    <a:lnTo>
                      <a:pt x="165" y="1001"/>
                    </a:lnTo>
                    <a:lnTo>
                      <a:pt x="163" y="1001"/>
                    </a:lnTo>
                    <a:lnTo>
                      <a:pt x="161" y="1001"/>
                    </a:lnTo>
                    <a:lnTo>
                      <a:pt x="161" y="1001"/>
                    </a:lnTo>
                    <a:lnTo>
                      <a:pt x="160" y="1001"/>
                    </a:lnTo>
                    <a:lnTo>
                      <a:pt x="158" y="1001"/>
                    </a:lnTo>
                    <a:lnTo>
                      <a:pt x="158" y="1001"/>
                    </a:lnTo>
                    <a:lnTo>
                      <a:pt x="156" y="1001"/>
                    </a:lnTo>
                    <a:lnTo>
                      <a:pt x="150" y="1014"/>
                    </a:lnTo>
                    <a:lnTo>
                      <a:pt x="146" y="1027"/>
                    </a:lnTo>
                    <a:lnTo>
                      <a:pt x="145" y="1040"/>
                    </a:lnTo>
                    <a:lnTo>
                      <a:pt x="145" y="1053"/>
                    </a:lnTo>
                    <a:lnTo>
                      <a:pt x="143" y="1064"/>
                    </a:lnTo>
                    <a:lnTo>
                      <a:pt x="141" y="1074"/>
                    </a:lnTo>
                    <a:lnTo>
                      <a:pt x="139" y="1077"/>
                    </a:lnTo>
                    <a:lnTo>
                      <a:pt x="138" y="1080"/>
                    </a:lnTo>
                    <a:lnTo>
                      <a:pt x="134" y="1083"/>
                    </a:lnTo>
                    <a:lnTo>
                      <a:pt x="129" y="1087"/>
                    </a:lnTo>
                    <a:lnTo>
                      <a:pt x="113" y="1091"/>
                    </a:lnTo>
                    <a:lnTo>
                      <a:pt x="99" y="1096"/>
                    </a:lnTo>
                    <a:lnTo>
                      <a:pt x="86" y="1101"/>
                    </a:lnTo>
                    <a:lnTo>
                      <a:pt x="74" y="1108"/>
                    </a:lnTo>
                    <a:lnTo>
                      <a:pt x="65" y="1116"/>
                    </a:lnTo>
                    <a:lnTo>
                      <a:pt x="57" y="1124"/>
                    </a:lnTo>
                    <a:lnTo>
                      <a:pt x="49" y="1132"/>
                    </a:lnTo>
                    <a:lnTo>
                      <a:pt x="42" y="1140"/>
                    </a:lnTo>
                    <a:lnTo>
                      <a:pt x="30" y="1159"/>
                    </a:lnTo>
                    <a:lnTo>
                      <a:pt x="22" y="1179"/>
                    </a:lnTo>
                    <a:lnTo>
                      <a:pt x="11" y="1200"/>
                    </a:lnTo>
                    <a:lnTo>
                      <a:pt x="0" y="1223"/>
                    </a:lnTo>
                    <a:lnTo>
                      <a:pt x="0" y="1237"/>
                    </a:lnTo>
                    <a:lnTo>
                      <a:pt x="1" y="1252"/>
                    </a:lnTo>
                    <a:lnTo>
                      <a:pt x="5" y="1265"/>
                    </a:lnTo>
                    <a:lnTo>
                      <a:pt x="6" y="1279"/>
                    </a:lnTo>
                    <a:lnTo>
                      <a:pt x="10" y="1292"/>
                    </a:lnTo>
                    <a:lnTo>
                      <a:pt x="13" y="1305"/>
                    </a:lnTo>
                    <a:lnTo>
                      <a:pt x="15" y="1318"/>
                    </a:lnTo>
                    <a:lnTo>
                      <a:pt x="17" y="1333"/>
                    </a:lnTo>
                    <a:lnTo>
                      <a:pt x="27" y="1334"/>
                    </a:lnTo>
                    <a:lnTo>
                      <a:pt x="35" y="1338"/>
                    </a:lnTo>
                    <a:lnTo>
                      <a:pt x="45" y="1341"/>
                    </a:lnTo>
                    <a:lnTo>
                      <a:pt x="55" y="1342"/>
                    </a:lnTo>
                    <a:lnTo>
                      <a:pt x="64" y="1346"/>
                    </a:lnTo>
                    <a:lnTo>
                      <a:pt x="74" y="1349"/>
                    </a:lnTo>
                    <a:lnTo>
                      <a:pt x="84" y="1351"/>
                    </a:lnTo>
                    <a:lnTo>
                      <a:pt x="94" y="1354"/>
                    </a:lnTo>
                    <a:lnTo>
                      <a:pt x="94" y="1359"/>
                    </a:lnTo>
                    <a:lnTo>
                      <a:pt x="96" y="1363"/>
                    </a:lnTo>
                    <a:lnTo>
                      <a:pt x="96" y="1367"/>
                    </a:lnTo>
                    <a:lnTo>
                      <a:pt x="97" y="1372"/>
                    </a:lnTo>
                    <a:lnTo>
                      <a:pt x="97" y="1376"/>
                    </a:lnTo>
                    <a:lnTo>
                      <a:pt x="99" y="1381"/>
                    </a:lnTo>
                    <a:lnTo>
                      <a:pt x="99" y="1386"/>
                    </a:lnTo>
                    <a:lnTo>
                      <a:pt x="101" y="1389"/>
                    </a:lnTo>
                    <a:lnTo>
                      <a:pt x="91" y="1399"/>
                    </a:lnTo>
                    <a:lnTo>
                      <a:pt x="82" y="1406"/>
                    </a:lnTo>
                    <a:lnTo>
                      <a:pt x="77" y="1410"/>
                    </a:lnTo>
                    <a:lnTo>
                      <a:pt x="74" y="1415"/>
                    </a:lnTo>
                    <a:lnTo>
                      <a:pt x="70" y="1420"/>
                    </a:lnTo>
                    <a:lnTo>
                      <a:pt x="70" y="1425"/>
                    </a:lnTo>
                    <a:lnTo>
                      <a:pt x="74" y="1432"/>
                    </a:lnTo>
                    <a:lnTo>
                      <a:pt x="77" y="1441"/>
                    </a:lnTo>
                    <a:lnTo>
                      <a:pt x="91" y="1457"/>
                    </a:lnTo>
                    <a:lnTo>
                      <a:pt x="104" y="1475"/>
                    </a:lnTo>
                    <a:lnTo>
                      <a:pt x="116" y="1493"/>
                    </a:lnTo>
                    <a:lnTo>
                      <a:pt x="128" y="1511"/>
                    </a:lnTo>
                    <a:lnTo>
                      <a:pt x="139" y="1527"/>
                    </a:lnTo>
                    <a:lnTo>
                      <a:pt x="151" y="1545"/>
                    </a:lnTo>
                    <a:lnTo>
                      <a:pt x="165" y="1561"/>
                    </a:lnTo>
                    <a:lnTo>
                      <a:pt x="178" y="1576"/>
                    </a:lnTo>
                    <a:lnTo>
                      <a:pt x="188" y="1571"/>
                    </a:lnTo>
                    <a:lnTo>
                      <a:pt x="200" y="1564"/>
                    </a:lnTo>
                    <a:lnTo>
                      <a:pt x="210" y="1559"/>
                    </a:lnTo>
                    <a:lnTo>
                      <a:pt x="222" y="1555"/>
                    </a:lnTo>
                    <a:lnTo>
                      <a:pt x="232" y="1550"/>
                    </a:lnTo>
                    <a:lnTo>
                      <a:pt x="241" y="1547"/>
                    </a:lnTo>
                    <a:lnTo>
                      <a:pt x="247" y="1543"/>
                    </a:lnTo>
                    <a:lnTo>
                      <a:pt x="251" y="1543"/>
                    </a:lnTo>
                    <a:lnTo>
                      <a:pt x="261" y="1543"/>
                    </a:lnTo>
                    <a:lnTo>
                      <a:pt x="271" y="1543"/>
                    </a:lnTo>
                    <a:lnTo>
                      <a:pt x="281" y="1545"/>
                    </a:lnTo>
                    <a:lnTo>
                      <a:pt x="291" y="1547"/>
                    </a:lnTo>
                    <a:lnTo>
                      <a:pt x="301" y="1548"/>
                    </a:lnTo>
                    <a:lnTo>
                      <a:pt x="311" y="1551"/>
                    </a:lnTo>
                    <a:lnTo>
                      <a:pt x="320" y="1553"/>
                    </a:lnTo>
                    <a:lnTo>
                      <a:pt x="330" y="1558"/>
                    </a:lnTo>
                    <a:lnTo>
                      <a:pt x="338" y="1555"/>
                    </a:lnTo>
                    <a:lnTo>
                      <a:pt x="347" y="1553"/>
                    </a:lnTo>
                    <a:lnTo>
                      <a:pt x="353" y="1555"/>
                    </a:lnTo>
                    <a:lnTo>
                      <a:pt x="362" y="1555"/>
                    </a:lnTo>
                    <a:lnTo>
                      <a:pt x="377" y="1561"/>
                    </a:lnTo>
                    <a:lnTo>
                      <a:pt x="390" y="1571"/>
                    </a:lnTo>
                    <a:lnTo>
                      <a:pt x="404" y="1581"/>
                    </a:lnTo>
                    <a:lnTo>
                      <a:pt x="416" y="1592"/>
                    </a:lnTo>
                    <a:lnTo>
                      <a:pt x="427" y="1603"/>
                    </a:lnTo>
                    <a:lnTo>
                      <a:pt x="436" y="1611"/>
                    </a:lnTo>
                    <a:lnTo>
                      <a:pt x="436" y="1613"/>
                    </a:lnTo>
                    <a:lnTo>
                      <a:pt x="436" y="1615"/>
                    </a:lnTo>
                    <a:lnTo>
                      <a:pt x="436" y="1616"/>
                    </a:lnTo>
                    <a:lnTo>
                      <a:pt x="436" y="1616"/>
                    </a:lnTo>
                    <a:lnTo>
                      <a:pt x="436" y="1618"/>
                    </a:lnTo>
                    <a:lnTo>
                      <a:pt x="436" y="1619"/>
                    </a:lnTo>
                    <a:lnTo>
                      <a:pt x="436" y="1619"/>
                    </a:lnTo>
                    <a:lnTo>
                      <a:pt x="436" y="1621"/>
                    </a:lnTo>
                    <a:lnTo>
                      <a:pt x="432" y="1624"/>
                    </a:lnTo>
                    <a:lnTo>
                      <a:pt x="429" y="1627"/>
                    </a:lnTo>
                    <a:lnTo>
                      <a:pt x="426" y="1629"/>
                    </a:lnTo>
                    <a:lnTo>
                      <a:pt x="422" y="1632"/>
                    </a:lnTo>
                    <a:lnTo>
                      <a:pt x="419" y="1636"/>
                    </a:lnTo>
                    <a:lnTo>
                      <a:pt x="416" y="1637"/>
                    </a:lnTo>
                    <a:lnTo>
                      <a:pt x="412" y="1640"/>
                    </a:lnTo>
                    <a:lnTo>
                      <a:pt x="407" y="1642"/>
                    </a:lnTo>
                    <a:lnTo>
                      <a:pt x="409" y="1650"/>
                    </a:lnTo>
                    <a:lnTo>
                      <a:pt x="412" y="1658"/>
                    </a:lnTo>
                    <a:lnTo>
                      <a:pt x="419" y="1665"/>
                    </a:lnTo>
                    <a:lnTo>
                      <a:pt x="426" y="1670"/>
                    </a:lnTo>
                    <a:lnTo>
                      <a:pt x="434" y="1674"/>
                    </a:lnTo>
                    <a:lnTo>
                      <a:pt x="443" y="1678"/>
                    </a:lnTo>
                    <a:lnTo>
                      <a:pt x="451" y="1681"/>
                    </a:lnTo>
                    <a:lnTo>
                      <a:pt x="459" y="1681"/>
                    </a:lnTo>
                    <a:lnTo>
                      <a:pt x="483" y="1668"/>
                    </a:lnTo>
                    <a:lnTo>
                      <a:pt x="500" y="1661"/>
                    </a:lnTo>
                    <a:lnTo>
                      <a:pt x="508" y="1660"/>
                    </a:lnTo>
                    <a:lnTo>
                      <a:pt x="513" y="1660"/>
                    </a:lnTo>
                    <a:lnTo>
                      <a:pt x="520" y="1660"/>
                    </a:lnTo>
                    <a:lnTo>
                      <a:pt x="525" y="1661"/>
                    </a:lnTo>
                    <a:lnTo>
                      <a:pt x="534" y="1668"/>
                    </a:lnTo>
                    <a:lnTo>
                      <a:pt x="544" y="1678"/>
                    </a:lnTo>
                    <a:lnTo>
                      <a:pt x="555" y="1689"/>
                    </a:lnTo>
                    <a:lnTo>
                      <a:pt x="572" y="1704"/>
                    </a:lnTo>
                    <a:lnTo>
                      <a:pt x="582" y="1712"/>
                    </a:lnTo>
                    <a:lnTo>
                      <a:pt x="592" y="1717"/>
                    </a:lnTo>
                    <a:lnTo>
                      <a:pt x="601" y="1720"/>
                    </a:lnTo>
                    <a:lnTo>
                      <a:pt x="609" y="1721"/>
                    </a:lnTo>
                    <a:lnTo>
                      <a:pt x="616" y="1720"/>
                    </a:lnTo>
                    <a:lnTo>
                      <a:pt x="626" y="1715"/>
                    </a:lnTo>
                    <a:lnTo>
                      <a:pt x="636" y="1708"/>
                    </a:lnTo>
                    <a:lnTo>
                      <a:pt x="648" y="1700"/>
                    </a:lnTo>
                    <a:lnTo>
                      <a:pt x="655" y="1692"/>
                    </a:lnTo>
                    <a:lnTo>
                      <a:pt x="658" y="1686"/>
                    </a:lnTo>
                    <a:lnTo>
                      <a:pt x="663" y="1681"/>
                    </a:lnTo>
                    <a:lnTo>
                      <a:pt x="668" y="1679"/>
                    </a:lnTo>
                    <a:lnTo>
                      <a:pt x="677" y="1678"/>
                    </a:lnTo>
                    <a:lnTo>
                      <a:pt x="685" y="1676"/>
                    </a:lnTo>
                    <a:lnTo>
                      <a:pt x="699" y="1674"/>
                    </a:lnTo>
                    <a:lnTo>
                      <a:pt x="715" y="1674"/>
                    </a:lnTo>
                    <a:lnTo>
                      <a:pt x="719" y="1671"/>
                    </a:lnTo>
                    <a:lnTo>
                      <a:pt x="724" y="1668"/>
                    </a:lnTo>
                    <a:lnTo>
                      <a:pt x="729" y="1666"/>
                    </a:lnTo>
                    <a:lnTo>
                      <a:pt x="734" y="1665"/>
                    </a:lnTo>
                    <a:lnTo>
                      <a:pt x="747" y="1665"/>
                    </a:lnTo>
                    <a:lnTo>
                      <a:pt x="761" y="1668"/>
                    </a:lnTo>
                    <a:lnTo>
                      <a:pt x="774" y="1671"/>
                    </a:lnTo>
                    <a:lnTo>
                      <a:pt x="788" y="1676"/>
                    </a:lnTo>
                    <a:lnTo>
                      <a:pt x="801" y="1681"/>
                    </a:lnTo>
                    <a:lnTo>
                      <a:pt x="810" y="1684"/>
                    </a:lnTo>
                    <a:lnTo>
                      <a:pt x="806" y="1691"/>
                    </a:lnTo>
                    <a:lnTo>
                      <a:pt x="803" y="1697"/>
                    </a:lnTo>
                    <a:lnTo>
                      <a:pt x="803" y="1704"/>
                    </a:lnTo>
                    <a:lnTo>
                      <a:pt x="803" y="1710"/>
                    </a:lnTo>
                    <a:lnTo>
                      <a:pt x="806" y="1726"/>
                    </a:lnTo>
                    <a:lnTo>
                      <a:pt x="813" y="1742"/>
                    </a:lnTo>
                    <a:lnTo>
                      <a:pt x="823" y="1759"/>
                    </a:lnTo>
                    <a:lnTo>
                      <a:pt x="833" y="1775"/>
                    </a:lnTo>
                    <a:lnTo>
                      <a:pt x="842" y="1788"/>
                    </a:lnTo>
                    <a:lnTo>
                      <a:pt x="848" y="1799"/>
                    </a:lnTo>
                    <a:lnTo>
                      <a:pt x="860" y="1799"/>
                    </a:lnTo>
                    <a:lnTo>
                      <a:pt x="872" y="1799"/>
                    </a:lnTo>
                    <a:lnTo>
                      <a:pt x="884" y="1798"/>
                    </a:lnTo>
                    <a:lnTo>
                      <a:pt x="896" y="1794"/>
                    </a:lnTo>
                    <a:lnTo>
                      <a:pt x="906" y="1788"/>
                    </a:lnTo>
                    <a:lnTo>
                      <a:pt x="914" y="1780"/>
                    </a:lnTo>
                    <a:lnTo>
                      <a:pt x="919" y="1770"/>
                    </a:lnTo>
                    <a:lnTo>
                      <a:pt x="923" y="1755"/>
                    </a:lnTo>
                    <a:lnTo>
                      <a:pt x="938" y="1747"/>
                    </a:lnTo>
                    <a:lnTo>
                      <a:pt x="951" y="1741"/>
                    </a:lnTo>
                    <a:lnTo>
                      <a:pt x="966" y="1736"/>
                    </a:lnTo>
                    <a:lnTo>
                      <a:pt x="981" y="1731"/>
                    </a:lnTo>
                    <a:lnTo>
                      <a:pt x="997" y="1728"/>
                    </a:lnTo>
                    <a:lnTo>
                      <a:pt x="1013" y="1726"/>
                    </a:lnTo>
                    <a:lnTo>
                      <a:pt x="1029" y="1723"/>
                    </a:lnTo>
                    <a:lnTo>
                      <a:pt x="1044" y="1723"/>
                    </a:lnTo>
                    <a:lnTo>
                      <a:pt x="1109" y="1692"/>
                    </a:lnTo>
                    <a:lnTo>
                      <a:pt x="1114" y="1692"/>
                    </a:lnTo>
                    <a:lnTo>
                      <a:pt x="1121" y="1692"/>
                    </a:lnTo>
                    <a:lnTo>
                      <a:pt x="1126" y="1692"/>
                    </a:lnTo>
                    <a:lnTo>
                      <a:pt x="1131" y="1692"/>
                    </a:lnTo>
                    <a:lnTo>
                      <a:pt x="1136" y="1692"/>
                    </a:lnTo>
                    <a:lnTo>
                      <a:pt x="1141" y="1692"/>
                    </a:lnTo>
                    <a:lnTo>
                      <a:pt x="1146" y="1691"/>
                    </a:lnTo>
                    <a:lnTo>
                      <a:pt x="1153" y="1691"/>
                    </a:lnTo>
                    <a:lnTo>
                      <a:pt x="1158" y="1671"/>
                    </a:lnTo>
                    <a:lnTo>
                      <a:pt x="1153" y="1668"/>
                    </a:lnTo>
                    <a:lnTo>
                      <a:pt x="1150" y="1665"/>
                    </a:lnTo>
                    <a:lnTo>
                      <a:pt x="1146" y="1663"/>
                    </a:lnTo>
                    <a:lnTo>
                      <a:pt x="1145" y="1660"/>
                    </a:lnTo>
                    <a:lnTo>
                      <a:pt x="1143" y="1657"/>
                    </a:lnTo>
                    <a:lnTo>
                      <a:pt x="1141" y="1653"/>
                    </a:lnTo>
                    <a:lnTo>
                      <a:pt x="1141" y="1649"/>
                    </a:lnTo>
                    <a:lnTo>
                      <a:pt x="1140" y="1642"/>
                    </a:lnTo>
                    <a:lnTo>
                      <a:pt x="1150" y="1637"/>
                    </a:lnTo>
                    <a:lnTo>
                      <a:pt x="1158" y="1632"/>
                    </a:lnTo>
                    <a:lnTo>
                      <a:pt x="1168" y="1627"/>
                    </a:lnTo>
                    <a:lnTo>
                      <a:pt x="1177" y="1623"/>
                    </a:lnTo>
                    <a:lnTo>
                      <a:pt x="1187" y="1621"/>
                    </a:lnTo>
                    <a:lnTo>
                      <a:pt x="1197" y="1621"/>
                    </a:lnTo>
                    <a:lnTo>
                      <a:pt x="1202" y="1621"/>
                    </a:lnTo>
                    <a:lnTo>
                      <a:pt x="1207" y="1624"/>
                    </a:lnTo>
                    <a:lnTo>
                      <a:pt x="1212" y="1627"/>
                    </a:lnTo>
                    <a:lnTo>
                      <a:pt x="1217" y="1631"/>
                    </a:lnTo>
                    <a:lnTo>
                      <a:pt x="1221" y="1631"/>
                    </a:lnTo>
                    <a:lnTo>
                      <a:pt x="1224" y="1629"/>
                    </a:lnTo>
                    <a:lnTo>
                      <a:pt x="1226" y="1627"/>
                    </a:lnTo>
                    <a:lnTo>
                      <a:pt x="1229" y="1627"/>
                    </a:lnTo>
                    <a:lnTo>
                      <a:pt x="1231" y="1626"/>
                    </a:lnTo>
                    <a:lnTo>
                      <a:pt x="1234" y="1624"/>
                    </a:lnTo>
                    <a:lnTo>
                      <a:pt x="1237" y="1623"/>
                    </a:lnTo>
                    <a:lnTo>
                      <a:pt x="1239" y="1623"/>
                    </a:lnTo>
                    <a:lnTo>
                      <a:pt x="1269" y="1623"/>
                    </a:lnTo>
                    <a:lnTo>
                      <a:pt x="1293" y="1627"/>
                    </a:lnTo>
                    <a:lnTo>
                      <a:pt x="1303" y="1629"/>
                    </a:lnTo>
                    <a:lnTo>
                      <a:pt x="1311" y="1632"/>
                    </a:lnTo>
                    <a:lnTo>
                      <a:pt x="1318" y="1637"/>
                    </a:lnTo>
                    <a:lnTo>
                      <a:pt x="1325" y="1642"/>
                    </a:lnTo>
                    <a:lnTo>
                      <a:pt x="1337" y="1653"/>
                    </a:lnTo>
                    <a:lnTo>
                      <a:pt x="1349" y="1670"/>
                    </a:lnTo>
                    <a:lnTo>
                      <a:pt x="1360" y="1687"/>
                    </a:lnTo>
                    <a:lnTo>
                      <a:pt x="1375" y="1710"/>
                    </a:lnTo>
                    <a:lnTo>
                      <a:pt x="1377" y="1710"/>
                    </a:lnTo>
                    <a:lnTo>
                      <a:pt x="1379" y="1712"/>
                    </a:lnTo>
                    <a:lnTo>
                      <a:pt x="1382" y="1712"/>
                    </a:lnTo>
                    <a:lnTo>
                      <a:pt x="1384" y="1712"/>
                    </a:lnTo>
                    <a:lnTo>
                      <a:pt x="1387" y="1712"/>
                    </a:lnTo>
                    <a:lnTo>
                      <a:pt x="1389" y="1712"/>
                    </a:lnTo>
                    <a:lnTo>
                      <a:pt x="1392" y="1712"/>
                    </a:lnTo>
                    <a:lnTo>
                      <a:pt x="1396" y="1712"/>
                    </a:lnTo>
                    <a:lnTo>
                      <a:pt x="1544" y="1723"/>
                    </a:lnTo>
                    <a:lnTo>
                      <a:pt x="1542" y="1731"/>
                    </a:lnTo>
                    <a:lnTo>
                      <a:pt x="1541" y="1741"/>
                    </a:lnTo>
                    <a:lnTo>
                      <a:pt x="1541" y="1749"/>
                    </a:lnTo>
                    <a:lnTo>
                      <a:pt x="1539" y="1757"/>
                    </a:lnTo>
                    <a:lnTo>
                      <a:pt x="1537" y="1765"/>
                    </a:lnTo>
                    <a:lnTo>
                      <a:pt x="1537" y="1773"/>
                    </a:lnTo>
                    <a:lnTo>
                      <a:pt x="1535" y="1781"/>
                    </a:lnTo>
                    <a:lnTo>
                      <a:pt x="1534" y="1789"/>
                    </a:lnTo>
                    <a:lnTo>
                      <a:pt x="1542" y="1793"/>
                    </a:lnTo>
                    <a:lnTo>
                      <a:pt x="1549" y="1794"/>
                    </a:lnTo>
                    <a:lnTo>
                      <a:pt x="1554" y="1796"/>
                    </a:lnTo>
                    <a:lnTo>
                      <a:pt x="1561" y="1798"/>
                    </a:lnTo>
                    <a:lnTo>
                      <a:pt x="1566" y="1798"/>
                    </a:lnTo>
                    <a:lnTo>
                      <a:pt x="1573" y="1798"/>
                    </a:lnTo>
                    <a:lnTo>
                      <a:pt x="1583" y="1796"/>
                    </a:lnTo>
                    <a:lnTo>
                      <a:pt x="1594" y="1791"/>
                    </a:lnTo>
                    <a:lnTo>
                      <a:pt x="1610" y="1789"/>
                    </a:lnTo>
                    <a:lnTo>
                      <a:pt x="1623" y="1786"/>
                    </a:lnTo>
                    <a:lnTo>
                      <a:pt x="1633" y="1781"/>
                    </a:lnTo>
                    <a:lnTo>
                      <a:pt x="1642" y="1773"/>
                    </a:lnTo>
                    <a:lnTo>
                      <a:pt x="1648" y="1764"/>
                    </a:lnTo>
                    <a:lnTo>
                      <a:pt x="1653" y="1754"/>
                    </a:lnTo>
                    <a:lnTo>
                      <a:pt x="1658" y="1741"/>
                    </a:lnTo>
                    <a:lnTo>
                      <a:pt x="1660" y="1728"/>
                    </a:lnTo>
                    <a:lnTo>
                      <a:pt x="1662" y="1723"/>
                    </a:lnTo>
                    <a:lnTo>
                      <a:pt x="1663" y="1720"/>
                    </a:lnTo>
                    <a:lnTo>
                      <a:pt x="1665" y="1717"/>
                    </a:lnTo>
                    <a:lnTo>
                      <a:pt x="1667" y="1712"/>
                    </a:lnTo>
                    <a:lnTo>
                      <a:pt x="1668" y="1708"/>
                    </a:lnTo>
                    <a:lnTo>
                      <a:pt x="1670" y="1705"/>
                    </a:lnTo>
                    <a:lnTo>
                      <a:pt x="1672" y="1700"/>
                    </a:lnTo>
                    <a:lnTo>
                      <a:pt x="1674" y="1695"/>
                    </a:lnTo>
                    <a:lnTo>
                      <a:pt x="1685" y="1697"/>
                    </a:lnTo>
                    <a:lnTo>
                      <a:pt x="1695" y="1700"/>
                    </a:lnTo>
                    <a:lnTo>
                      <a:pt x="1706" y="1705"/>
                    </a:lnTo>
                    <a:lnTo>
                      <a:pt x="1714" y="1713"/>
                    </a:lnTo>
                    <a:lnTo>
                      <a:pt x="1731" y="1728"/>
                    </a:lnTo>
                    <a:lnTo>
                      <a:pt x="1746" y="1746"/>
                    </a:lnTo>
                    <a:lnTo>
                      <a:pt x="1754" y="1754"/>
                    </a:lnTo>
                    <a:lnTo>
                      <a:pt x="1763" y="1760"/>
                    </a:lnTo>
                    <a:lnTo>
                      <a:pt x="1770" y="1767"/>
                    </a:lnTo>
                    <a:lnTo>
                      <a:pt x="1780" y="1770"/>
                    </a:lnTo>
                    <a:lnTo>
                      <a:pt x="1788" y="1772"/>
                    </a:lnTo>
                    <a:lnTo>
                      <a:pt x="1798" y="1770"/>
                    </a:lnTo>
                    <a:lnTo>
                      <a:pt x="1810" y="1767"/>
                    </a:lnTo>
                    <a:lnTo>
                      <a:pt x="1822" y="1760"/>
                    </a:lnTo>
                    <a:lnTo>
                      <a:pt x="1879" y="1760"/>
                    </a:lnTo>
                    <a:lnTo>
                      <a:pt x="1879" y="1764"/>
                    </a:lnTo>
                    <a:lnTo>
                      <a:pt x="1879" y="1767"/>
                    </a:lnTo>
                    <a:lnTo>
                      <a:pt x="1881" y="1772"/>
                    </a:lnTo>
                    <a:lnTo>
                      <a:pt x="1881" y="1775"/>
                    </a:lnTo>
                    <a:lnTo>
                      <a:pt x="1881" y="1780"/>
                    </a:lnTo>
                    <a:lnTo>
                      <a:pt x="1881" y="1783"/>
                    </a:lnTo>
                    <a:lnTo>
                      <a:pt x="1882" y="1786"/>
                    </a:lnTo>
                    <a:lnTo>
                      <a:pt x="1882" y="1791"/>
                    </a:lnTo>
                    <a:lnTo>
                      <a:pt x="1887" y="1796"/>
                    </a:lnTo>
                    <a:lnTo>
                      <a:pt x="1894" y="1799"/>
                    </a:lnTo>
                    <a:lnTo>
                      <a:pt x="1901" y="1802"/>
                    </a:lnTo>
                    <a:lnTo>
                      <a:pt x="1908" y="1804"/>
                    </a:lnTo>
                    <a:lnTo>
                      <a:pt x="1914" y="1807"/>
                    </a:lnTo>
                    <a:lnTo>
                      <a:pt x="1921" y="1810"/>
                    </a:lnTo>
                    <a:lnTo>
                      <a:pt x="1926" y="1814"/>
                    </a:lnTo>
                    <a:lnTo>
                      <a:pt x="1931" y="1817"/>
                    </a:lnTo>
                    <a:lnTo>
                      <a:pt x="1935" y="1817"/>
                    </a:lnTo>
                    <a:lnTo>
                      <a:pt x="1936" y="1817"/>
                    </a:lnTo>
                    <a:lnTo>
                      <a:pt x="1938" y="1817"/>
                    </a:lnTo>
                    <a:lnTo>
                      <a:pt x="1941" y="1817"/>
                    </a:lnTo>
                    <a:lnTo>
                      <a:pt x="1943" y="1817"/>
                    </a:lnTo>
                    <a:lnTo>
                      <a:pt x="1946" y="1817"/>
                    </a:lnTo>
                    <a:lnTo>
                      <a:pt x="1948" y="1817"/>
                    </a:lnTo>
                    <a:lnTo>
                      <a:pt x="1950" y="1817"/>
                    </a:lnTo>
                    <a:lnTo>
                      <a:pt x="1951" y="1815"/>
                    </a:lnTo>
                    <a:lnTo>
                      <a:pt x="1953" y="1814"/>
                    </a:lnTo>
                    <a:lnTo>
                      <a:pt x="1953" y="1814"/>
                    </a:lnTo>
                    <a:lnTo>
                      <a:pt x="1955" y="1812"/>
                    </a:lnTo>
                    <a:lnTo>
                      <a:pt x="1956" y="1810"/>
                    </a:lnTo>
                    <a:lnTo>
                      <a:pt x="1958" y="1809"/>
                    </a:lnTo>
                    <a:lnTo>
                      <a:pt x="1958" y="1807"/>
                    </a:lnTo>
                    <a:lnTo>
                      <a:pt x="1960" y="1804"/>
                    </a:lnTo>
                    <a:lnTo>
                      <a:pt x="1972" y="1804"/>
                    </a:lnTo>
                    <a:lnTo>
                      <a:pt x="1985" y="1801"/>
                    </a:lnTo>
                    <a:lnTo>
                      <a:pt x="2000" y="1798"/>
                    </a:lnTo>
                    <a:lnTo>
                      <a:pt x="2017" y="1793"/>
                    </a:lnTo>
                    <a:lnTo>
                      <a:pt x="2034" y="1785"/>
                    </a:lnTo>
                    <a:lnTo>
                      <a:pt x="2047" y="1775"/>
                    </a:lnTo>
                    <a:lnTo>
                      <a:pt x="2054" y="1770"/>
                    </a:lnTo>
                    <a:lnTo>
                      <a:pt x="2059" y="1764"/>
                    </a:lnTo>
                    <a:lnTo>
                      <a:pt x="2063" y="1757"/>
                    </a:lnTo>
                    <a:lnTo>
                      <a:pt x="2066" y="1751"/>
                    </a:lnTo>
                    <a:lnTo>
                      <a:pt x="2083" y="1752"/>
                    </a:lnTo>
                    <a:lnTo>
                      <a:pt x="2101" y="1754"/>
                    </a:lnTo>
                    <a:lnTo>
                      <a:pt x="2121" y="1755"/>
                    </a:lnTo>
                    <a:lnTo>
                      <a:pt x="2140" y="1759"/>
                    </a:lnTo>
                    <a:lnTo>
                      <a:pt x="2160" y="1760"/>
                    </a:lnTo>
                    <a:lnTo>
                      <a:pt x="2180" y="1764"/>
                    </a:lnTo>
                    <a:lnTo>
                      <a:pt x="2201" y="1765"/>
                    </a:lnTo>
                    <a:lnTo>
                      <a:pt x="2221" y="1765"/>
                    </a:lnTo>
                    <a:lnTo>
                      <a:pt x="2226" y="1772"/>
                    </a:lnTo>
                    <a:lnTo>
                      <a:pt x="2231" y="1775"/>
                    </a:lnTo>
                    <a:lnTo>
                      <a:pt x="2236" y="1778"/>
                    </a:lnTo>
                    <a:lnTo>
                      <a:pt x="2241" y="1778"/>
                    </a:lnTo>
                    <a:lnTo>
                      <a:pt x="2246" y="1778"/>
                    </a:lnTo>
                    <a:lnTo>
                      <a:pt x="2251" y="1778"/>
                    </a:lnTo>
                    <a:lnTo>
                      <a:pt x="2258" y="1778"/>
                    </a:lnTo>
                    <a:lnTo>
                      <a:pt x="2266" y="1778"/>
                    </a:lnTo>
                    <a:lnTo>
                      <a:pt x="2268" y="1781"/>
                    </a:lnTo>
                    <a:lnTo>
                      <a:pt x="2268" y="1783"/>
                    </a:lnTo>
                    <a:lnTo>
                      <a:pt x="2270" y="1786"/>
                    </a:lnTo>
                    <a:lnTo>
                      <a:pt x="2271" y="1788"/>
                    </a:lnTo>
                    <a:lnTo>
                      <a:pt x="2271" y="1791"/>
                    </a:lnTo>
                    <a:lnTo>
                      <a:pt x="2273" y="1794"/>
                    </a:lnTo>
                    <a:lnTo>
                      <a:pt x="2275" y="1796"/>
                    </a:lnTo>
                    <a:lnTo>
                      <a:pt x="2275" y="1799"/>
                    </a:lnTo>
                    <a:lnTo>
                      <a:pt x="2286" y="1799"/>
                    </a:lnTo>
                    <a:lnTo>
                      <a:pt x="2297" y="1798"/>
                    </a:lnTo>
                    <a:lnTo>
                      <a:pt x="2307" y="1798"/>
                    </a:lnTo>
                    <a:lnTo>
                      <a:pt x="2317" y="1796"/>
                    </a:lnTo>
                    <a:lnTo>
                      <a:pt x="2327" y="1796"/>
                    </a:lnTo>
                    <a:lnTo>
                      <a:pt x="2339" y="1794"/>
                    </a:lnTo>
                    <a:lnTo>
                      <a:pt x="2349" y="1794"/>
                    </a:lnTo>
                    <a:lnTo>
                      <a:pt x="2361" y="1793"/>
                    </a:lnTo>
                    <a:lnTo>
                      <a:pt x="2366" y="1781"/>
                    </a:lnTo>
                    <a:lnTo>
                      <a:pt x="2372" y="1768"/>
                    </a:lnTo>
                    <a:lnTo>
                      <a:pt x="2382" y="1754"/>
                    </a:lnTo>
                    <a:lnTo>
                      <a:pt x="2393" y="1738"/>
                    </a:lnTo>
                    <a:lnTo>
                      <a:pt x="2403" y="1723"/>
                    </a:lnTo>
                    <a:lnTo>
                      <a:pt x="2414" y="1708"/>
                    </a:lnTo>
                    <a:lnTo>
                      <a:pt x="2425" y="1694"/>
                    </a:lnTo>
                    <a:lnTo>
                      <a:pt x="2435" y="1681"/>
                    </a:lnTo>
                    <a:lnTo>
                      <a:pt x="2435" y="1679"/>
                    </a:lnTo>
                    <a:lnTo>
                      <a:pt x="2436" y="1674"/>
                    </a:lnTo>
                    <a:lnTo>
                      <a:pt x="2438" y="1666"/>
                    </a:lnTo>
                    <a:lnTo>
                      <a:pt x="2441" y="1657"/>
                    </a:lnTo>
                    <a:lnTo>
                      <a:pt x="2443" y="1649"/>
                    </a:lnTo>
                    <a:lnTo>
                      <a:pt x="2446" y="1640"/>
                    </a:lnTo>
                    <a:lnTo>
                      <a:pt x="2446" y="1634"/>
                    </a:lnTo>
                    <a:lnTo>
                      <a:pt x="2448" y="1631"/>
                    </a:lnTo>
                    <a:lnTo>
                      <a:pt x="2450" y="1631"/>
                    </a:lnTo>
                    <a:lnTo>
                      <a:pt x="2458" y="1632"/>
                    </a:lnTo>
                    <a:lnTo>
                      <a:pt x="2468" y="1632"/>
                    </a:lnTo>
                    <a:lnTo>
                      <a:pt x="2478" y="1632"/>
                    </a:lnTo>
                    <a:lnTo>
                      <a:pt x="2490" y="1632"/>
                    </a:lnTo>
                    <a:lnTo>
                      <a:pt x="2502" y="1632"/>
                    </a:lnTo>
                    <a:lnTo>
                      <a:pt x="2510" y="1632"/>
                    </a:lnTo>
                    <a:lnTo>
                      <a:pt x="2514" y="1632"/>
                    </a:lnTo>
                    <a:lnTo>
                      <a:pt x="2527" y="1602"/>
                    </a:lnTo>
                    <a:lnTo>
                      <a:pt x="2537" y="1571"/>
                    </a:lnTo>
                    <a:lnTo>
                      <a:pt x="2546" y="1545"/>
                    </a:lnTo>
                    <a:lnTo>
                      <a:pt x="2556" y="1524"/>
                    </a:lnTo>
                    <a:lnTo>
                      <a:pt x="2563" y="1514"/>
                    </a:lnTo>
                    <a:lnTo>
                      <a:pt x="2573" y="1506"/>
                    </a:lnTo>
                    <a:lnTo>
                      <a:pt x="2583" y="1500"/>
                    </a:lnTo>
                    <a:lnTo>
                      <a:pt x="2596" y="1495"/>
                    </a:lnTo>
                    <a:lnTo>
                      <a:pt x="2613" y="1490"/>
                    </a:lnTo>
                    <a:lnTo>
                      <a:pt x="2632" y="1487"/>
                    </a:lnTo>
                    <a:lnTo>
                      <a:pt x="2655" y="1487"/>
                    </a:lnTo>
                    <a:lnTo>
                      <a:pt x="2682" y="1487"/>
                    </a:lnTo>
                    <a:lnTo>
                      <a:pt x="2684" y="1488"/>
                    </a:lnTo>
                    <a:lnTo>
                      <a:pt x="2684" y="1488"/>
                    </a:lnTo>
                    <a:lnTo>
                      <a:pt x="2686" y="1487"/>
                    </a:lnTo>
                    <a:lnTo>
                      <a:pt x="2689" y="1485"/>
                    </a:lnTo>
                    <a:lnTo>
                      <a:pt x="2691" y="1482"/>
                    </a:lnTo>
                    <a:lnTo>
                      <a:pt x="2694" y="1478"/>
                    </a:lnTo>
                    <a:lnTo>
                      <a:pt x="2699" y="1477"/>
                    </a:lnTo>
                    <a:lnTo>
                      <a:pt x="2702" y="1474"/>
                    </a:lnTo>
                    <a:lnTo>
                      <a:pt x="2707" y="1470"/>
                    </a:lnTo>
                    <a:lnTo>
                      <a:pt x="2707" y="1467"/>
                    </a:lnTo>
                    <a:lnTo>
                      <a:pt x="2707" y="1462"/>
                    </a:lnTo>
                    <a:lnTo>
                      <a:pt x="2706" y="1459"/>
                    </a:lnTo>
                    <a:lnTo>
                      <a:pt x="2706" y="1454"/>
                    </a:lnTo>
                    <a:lnTo>
                      <a:pt x="2706" y="1451"/>
                    </a:lnTo>
                    <a:lnTo>
                      <a:pt x="2704" y="1448"/>
                    </a:lnTo>
                    <a:lnTo>
                      <a:pt x="2704" y="1443"/>
                    </a:lnTo>
                    <a:lnTo>
                      <a:pt x="2704" y="1440"/>
                    </a:lnTo>
                    <a:lnTo>
                      <a:pt x="2697" y="1435"/>
                    </a:lnTo>
                    <a:lnTo>
                      <a:pt x="2689" y="1432"/>
                    </a:lnTo>
                    <a:lnTo>
                      <a:pt x="2682" y="1425"/>
                    </a:lnTo>
                    <a:lnTo>
                      <a:pt x="2674" y="1420"/>
                    </a:lnTo>
                    <a:lnTo>
                      <a:pt x="2669" y="1414"/>
                    </a:lnTo>
                    <a:lnTo>
                      <a:pt x="2662" y="1407"/>
                    </a:lnTo>
                    <a:lnTo>
                      <a:pt x="2657" y="1401"/>
                    </a:lnTo>
                    <a:lnTo>
                      <a:pt x="2654" y="1394"/>
                    </a:lnTo>
                    <a:lnTo>
                      <a:pt x="2649" y="1394"/>
                    </a:lnTo>
                    <a:lnTo>
                      <a:pt x="2643" y="1394"/>
                    </a:lnTo>
                    <a:lnTo>
                      <a:pt x="2642" y="1393"/>
                    </a:lnTo>
                    <a:lnTo>
                      <a:pt x="2638" y="1393"/>
                    </a:lnTo>
                    <a:lnTo>
                      <a:pt x="2637" y="1393"/>
                    </a:lnTo>
                    <a:lnTo>
                      <a:pt x="2635" y="1391"/>
                    </a:lnTo>
                    <a:lnTo>
                      <a:pt x="2633" y="1389"/>
                    </a:lnTo>
                    <a:lnTo>
                      <a:pt x="2632" y="1389"/>
                    </a:lnTo>
                    <a:lnTo>
                      <a:pt x="2630" y="1383"/>
                    </a:lnTo>
                    <a:lnTo>
                      <a:pt x="2625" y="1378"/>
                    </a:lnTo>
                    <a:lnTo>
                      <a:pt x="2622" y="1375"/>
                    </a:lnTo>
                    <a:lnTo>
                      <a:pt x="2617" y="1372"/>
                    </a:lnTo>
                    <a:lnTo>
                      <a:pt x="2605" y="1367"/>
                    </a:lnTo>
                    <a:lnTo>
                      <a:pt x="2591" y="1365"/>
                    </a:lnTo>
                    <a:lnTo>
                      <a:pt x="2576" y="1363"/>
                    </a:lnTo>
                    <a:lnTo>
                      <a:pt x="2564" y="1360"/>
                    </a:lnTo>
                    <a:lnTo>
                      <a:pt x="2559" y="1357"/>
                    </a:lnTo>
                    <a:lnTo>
                      <a:pt x="2554" y="1354"/>
                    </a:lnTo>
                    <a:lnTo>
                      <a:pt x="2551" y="1349"/>
                    </a:lnTo>
                    <a:lnTo>
                      <a:pt x="2548" y="1344"/>
                    </a:lnTo>
                    <a:lnTo>
                      <a:pt x="2539" y="1342"/>
                    </a:lnTo>
                    <a:lnTo>
                      <a:pt x="2529" y="1339"/>
                    </a:lnTo>
                    <a:lnTo>
                      <a:pt x="2521" y="1336"/>
                    </a:lnTo>
                    <a:lnTo>
                      <a:pt x="2512" y="1333"/>
                    </a:lnTo>
                    <a:lnTo>
                      <a:pt x="2504" y="1328"/>
                    </a:lnTo>
                    <a:lnTo>
                      <a:pt x="2495" y="1325"/>
                    </a:lnTo>
                    <a:lnTo>
                      <a:pt x="2487" y="1320"/>
                    </a:lnTo>
                    <a:lnTo>
                      <a:pt x="2478" y="1317"/>
                    </a:lnTo>
                    <a:lnTo>
                      <a:pt x="2477" y="1308"/>
                    </a:lnTo>
                    <a:lnTo>
                      <a:pt x="2475" y="1304"/>
                    </a:lnTo>
                    <a:lnTo>
                      <a:pt x="2473" y="1297"/>
                    </a:lnTo>
                    <a:lnTo>
                      <a:pt x="2472" y="1292"/>
                    </a:lnTo>
                    <a:lnTo>
                      <a:pt x="2472" y="1286"/>
                    </a:lnTo>
                    <a:lnTo>
                      <a:pt x="2472" y="1281"/>
                    </a:lnTo>
                    <a:lnTo>
                      <a:pt x="2472" y="1273"/>
                    </a:lnTo>
                    <a:lnTo>
                      <a:pt x="2475" y="1265"/>
                    </a:lnTo>
                    <a:lnTo>
                      <a:pt x="2477" y="1250"/>
                    </a:lnTo>
                    <a:lnTo>
                      <a:pt x="2480" y="1237"/>
                    </a:lnTo>
                    <a:lnTo>
                      <a:pt x="2485" y="1223"/>
                    </a:lnTo>
                    <a:lnTo>
                      <a:pt x="2492" y="1210"/>
                    </a:lnTo>
                    <a:lnTo>
                      <a:pt x="2499" y="1195"/>
                    </a:lnTo>
                    <a:lnTo>
                      <a:pt x="2504" y="1180"/>
                    </a:lnTo>
                    <a:lnTo>
                      <a:pt x="2509" y="1164"/>
                    </a:lnTo>
                    <a:lnTo>
                      <a:pt x="2510" y="1145"/>
                    </a:lnTo>
                    <a:lnTo>
                      <a:pt x="2519" y="1140"/>
                    </a:lnTo>
                    <a:lnTo>
                      <a:pt x="2529" y="1134"/>
                    </a:lnTo>
                    <a:lnTo>
                      <a:pt x="2537" y="1127"/>
                    </a:lnTo>
                    <a:lnTo>
                      <a:pt x="2546" y="1119"/>
                    </a:lnTo>
                    <a:lnTo>
                      <a:pt x="2554" y="1111"/>
                    </a:lnTo>
                    <a:lnTo>
                      <a:pt x="2563" y="1101"/>
                    </a:lnTo>
                    <a:lnTo>
                      <a:pt x="2569" y="1090"/>
                    </a:lnTo>
                    <a:lnTo>
                      <a:pt x="2576" y="1078"/>
                    </a:lnTo>
                    <a:lnTo>
                      <a:pt x="2585" y="1069"/>
                    </a:lnTo>
                    <a:lnTo>
                      <a:pt x="2591" y="1059"/>
                    </a:lnTo>
                    <a:lnTo>
                      <a:pt x="2595" y="1049"/>
                    </a:lnTo>
                    <a:lnTo>
                      <a:pt x="2598" y="1040"/>
                    </a:lnTo>
                    <a:lnTo>
                      <a:pt x="2601" y="1032"/>
                    </a:lnTo>
                    <a:lnTo>
                      <a:pt x="2605" y="1025"/>
                    </a:lnTo>
                    <a:lnTo>
                      <a:pt x="2610" y="1017"/>
                    </a:lnTo>
                    <a:lnTo>
                      <a:pt x="2620" y="1012"/>
                    </a:lnTo>
                    <a:lnTo>
                      <a:pt x="2623" y="1009"/>
                    </a:lnTo>
                    <a:lnTo>
                      <a:pt x="2628" y="1007"/>
                    </a:lnTo>
                    <a:lnTo>
                      <a:pt x="2633" y="1006"/>
                    </a:lnTo>
                    <a:lnTo>
                      <a:pt x="2638" y="1004"/>
                    </a:lnTo>
                    <a:lnTo>
                      <a:pt x="2645" y="1002"/>
                    </a:lnTo>
                    <a:lnTo>
                      <a:pt x="2652" y="1001"/>
                    </a:lnTo>
                    <a:lnTo>
                      <a:pt x="2660" y="999"/>
                    </a:lnTo>
                    <a:lnTo>
                      <a:pt x="2669" y="999"/>
                    </a:lnTo>
                    <a:lnTo>
                      <a:pt x="2672" y="986"/>
                    </a:lnTo>
                    <a:lnTo>
                      <a:pt x="2674" y="975"/>
                    </a:lnTo>
                    <a:lnTo>
                      <a:pt x="2675" y="962"/>
                    </a:lnTo>
                    <a:lnTo>
                      <a:pt x="2679" y="951"/>
                    </a:lnTo>
                    <a:lnTo>
                      <a:pt x="2684" y="938"/>
                    </a:lnTo>
                    <a:lnTo>
                      <a:pt x="2689" y="926"/>
                    </a:lnTo>
                    <a:lnTo>
                      <a:pt x="2697" y="913"/>
                    </a:lnTo>
                    <a:lnTo>
                      <a:pt x="2711" y="900"/>
                    </a:lnTo>
                    <a:lnTo>
                      <a:pt x="2721" y="894"/>
                    </a:lnTo>
                    <a:lnTo>
                      <a:pt x="2733" y="886"/>
                    </a:lnTo>
                    <a:lnTo>
                      <a:pt x="2743" y="874"/>
                    </a:lnTo>
                    <a:lnTo>
                      <a:pt x="2751" y="863"/>
                    </a:lnTo>
                    <a:lnTo>
                      <a:pt x="2760" y="849"/>
                    </a:lnTo>
                    <a:lnTo>
                      <a:pt x="2766" y="834"/>
                    </a:lnTo>
                    <a:lnTo>
                      <a:pt x="2773" y="816"/>
                    </a:lnTo>
                    <a:lnTo>
                      <a:pt x="2778" y="800"/>
                    </a:lnTo>
                    <a:lnTo>
                      <a:pt x="2787" y="764"/>
                    </a:lnTo>
                    <a:lnTo>
                      <a:pt x="2793" y="729"/>
                    </a:lnTo>
                    <a:lnTo>
                      <a:pt x="2797" y="695"/>
                    </a:lnTo>
                    <a:lnTo>
                      <a:pt x="2798" y="665"/>
                    </a:lnTo>
                    <a:lnTo>
                      <a:pt x="2792" y="662"/>
                    </a:lnTo>
                    <a:lnTo>
                      <a:pt x="2785" y="657"/>
                    </a:lnTo>
                    <a:lnTo>
                      <a:pt x="2780" y="651"/>
                    </a:lnTo>
                    <a:lnTo>
                      <a:pt x="2777" y="644"/>
                    </a:lnTo>
                    <a:lnTo>
                      <a:pt x="2773" y="635"/>
                    </a:lnTo>
                    <a:lnTo>
                      <a:pt x="2771" y="625"/>
                    </a:lnTo>
                    <a:lnTo>
                      <a:pt x="2771" y="615"/>
                    </a:lnTo>
                    <a:lnTo>
                      <a:pt x="2770" y="604"/>
                    </a:lnTo>
                    <a:lnTo>
                      <a:pt x="2773" y="583"/>
                    </a:lnTo>
                    <a:lnTo>
                      <a:pt x="2778" y="562"/>
                    </a:lnTo>
                    <a:lnTo>
                      <a:pt x="2782" y="552"/>
                    </a:lnTo>
                    <a:lnTo>
                      <a:pt x="2787" y="544"/>
                    </a:lnTo>
                    <a:lnTo>
                      <a:pt x="2792" y="536"/>
                    </a:lnTo>
                    <a:lnTo>
                      <a:pt x="2798" y="529"/>
                    </a:lnTo>
                    <a:lnTo>
                      <a:pt x="2800" y="529"/>
                    </a:lnTo>
                    <a:lnTo>
                      <a:pt x="2800" y="531"/>
                    </a:lnTo>
                    <a:lnTo>
                      <a:pt x="2802" y="531"/>
                    </a:lnTo>
                    <a:lnTo>
                      <a:pt x="2803" y="531"/>
                    </a:lnTo>
                    <a:lnTo>
                      <a:pt x="2805" y="531"/>
                    </a:lnTo>
                    <a:lnTo>
                      <a:pt x="2807" y="533"/>
                    </a:lnTo>
                    <a:lnTo>
                      <a:pt x="2810" y="533"/>
                    </a:lnTo>
                    <a:lnTo>
                      <a:pt x="2812" y="534"/>
                    </a:lnTo>
                    <a:lnTo>
                      <a:pt x="2812" y="533"/>
                    </a:lnTo>
                    <a:lnTo>
                      <a:pt x="2814" y="529"/>
                    </a:lnTo>
                    <a:lnTo>
                      <a:pt x="2815" y="528"/>
                    </a:lnTo>
                    <a:lnTo>
                      <a:pt x="2815" y="526"/>
                    </a:lnTo>
                    <a:lnTo>
                      <a:pt x="2817" y="525"/>
                    </a:lnTo>
                    <a:lnTo>
                      <a:pt x="2819" y="521"/>
                    </a:lnTo>
                    <a:lnTo>
                      <a:pt x="2819" y="520"/>
                    </a:lnTo>
                    <a:lnTo>
                      <a:pt x="2820" y="517"/>
                    </a:lnTo>
                    <a:lnTo>
                      <a:pt x="2837" y="521"/>
                    </a:lnTo>
                    <a:lnTo>
                      <a:pt x="2851" y="525"/>
                    </a:lnTo>
                    <a:lnTo>
                      <a:pt x="2861" y="525"/>
                    </a:lnTo>
                    <a:lnTo>
                      <a:pt x="2869" y="521"/>
                    </a:lnTo>
                    <a:lnTo>
                      <a:pt x="2876" y="517"/>
                    </a:lnTo>
                    <a:lnTo>
                      <a:pt x="2881" y="507"/>
                    </a:lnTo>
                    <a:lnTo>
                      <a:pt x="2888" y="492"/>
                    </a:lnTo>
                    <a:lnTo>
                      <a:pt x="2896" y="47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33040" y="2198880"/>
                <a:ext cx="4820760" cy="3137040"/>
              </a:xfrm>
              <a:custGeom>
                <a:avLst/>
                <a:gdLst/>
                <a:ahLst/>
                <a:rect l="l" t="t" r="r" b="b"/>
                <a:pathLst>
                  <a:path w="3126" h="2034">
                    <a:moveTo>
                      <a:pt x="86" y="1375"/>
                    </a:moveTo>
                    <a:lnTo>
                      <a:pt x="86" y="1385"/>
                    </a:lnTo>
                    <a:lnTo>
                      <a:pt x="86" y="1393"/>
                    </a:lnTo>
                    <a:lnTo>
                      <a:pt x="86" y="1402"/>
                    </a:lnTo>
                    <a:lnTo>
                      <a:pt x="84" y="1411"/>
                    </a:lnTo>
                    <a:lnTo>
                      <a:pt x="84" y="1420"/>
                    </a:lnTo>
                    <a:lnTo>
                      <a:pt x="84" y="1428"/>
                    </a:lnTo>
                    <a:lnTo>
                      <a:pt x="84" y="1436"/>
                    </a:lnTo>
                    <a:lnTo>
                      <a:pt x="84" y="1446"/>
                    </a:lnTo>
                    <a:lnTo>
                      <a:pt x="73" y="1454"/>
                    </a:lnTo>
                    <a:lnTo>
                      <a:pt x="59" y="1464"/>
                    </a:lnTo>
                    <a:lnTo>
                      <a:pt x="44" y="1477"/>
                    </a:lnTo>
                    <a:lnTo>
                      <a:pt x="29" y="1490"/>
                    </a:lnTo>
                    <a:lnTo>
                      <a:pt x="17" y="1503"/>
                    </a:lnTo>
                    <a:lnTo>
                      <a:pt x="7" y="1516"/>
                    </a:lnTo>
                    <a:lnTo>
                      <a:pt x="4" y="1521"/>
                    </a:lnTo>
                    <a:lnTo>
                      <a:pt x="0" y="1526"/>
                    </a:lnTo>
                    <a:lnTo>
                      <a:pt x="0" y="1530"/>
                    </a:lnTo>
                    <a:lnTo>
                      <a:pt x="2" y="1534"/>
                    </a:lnTo>
                    <a:lnTo>
                      <a:pt x="2" y="1539"/>
                    </a:lnTo>
                    <a:lnTo>
                      <a:pt x="2" y="1543"/>
                    </a:lnTo>
                    <a:lnTo>
                      <a:pt x="2" y="1548"/>
                    </a:lnTo>
                    <a:lnTo>
                      <a:pt x="2" y="1553"/>
                    </a:lnTo>
                    <a:lnTo>
                      <a:pt x="2" y="1556"/>
                    </a:lnTo>
                    <a:lnTo>
                      <a:pt x="2" y="1561"/>
                    </a:lnTo>
                    <a:lnTo>
                      <a:pt x="2" y="1566"/>
                    </a:lnTo>
                    <a:lnTo>
                      <a:pt x="2" y="1571"/>
                    </a:lnTo>
                    <a:lnTo>
                      <a:pt x="17" y="1579"/>
                    </a:lnTo>
                    <a:lnTo>
                      <a:pt x="27" y="1587"/>
                    </a:lnTo>
                    <a:lnTo>
                      <a:pt x="32" y="1595"/>
                    </a:lnTo>
                    <a:lnTo>
                      <a:pt x="37" y="1603"/>
                    </a:lnTo>
                    <a:lnTo>
                      <a:pt x="41" y="1610"/>
                    </a:lnTo>
                    <a:lnTo>
                      <a:pt x="49" y="1615"/>
                    </a:lnTo>
                    <a:lnTo>
                      <a:pt x="63" y="1620"/>
                    </a:lnTo>
                    <a:lnTo>
                      <a:pt x="83" y="1624"/>
                    </a:lnTo>
                    <a:lnTo>
                      <a:pt x="84" y="1629"/>
                    </a:lnTo>
                    <a:lnTo>
                      <a:pt x="88" y="1632"/>
                    </a:lnTo>
                    <a:lnTo>
                      <a:pt x="91" y="1636"/>
                    </a:lnTo>
                    <a:lnTo>
                      <a:pt x="93" y="1637"/>
                    </a:lnTo>
                    <a:lnTo>
                      <a:pt x="98" y="1639"/>
                    </a:lnTo>
                    <a:lnTo>
                      <a:pt x="101" y="1641"/>
                    </a:lnTo>
                    <a:lnTo>
                      <a:pt x="105" y="1641"/>
                    </a:lnTo>
                    <a:lnTo>
                      <a:pt x="110" y="1644"/>
                    </a:lnTo>
                    <a:lnTo>
                      <a:pt x="110" y="1650"/>
                    </a:lnTo>
                    <a:lnTo>
                      <a:pt x="113" y="1657"/>
                    </a:lnTo>
                    <a:lnTo>
                      <a:pt x="116" y="1663"/>
                    </a:lnTo>
                    <a:lnTo>
                      <a:pt x="122" y="1670"/>
                    </a:lnTo>
                    <a:lnTo>
                      <a:pt x="133" y="1684"/>
                    </a:lnTo>
                    <a:lnTo>
                      <a:pt x="148" y="1699"/>
                    </a:lnTo>
                    <a:lnTo>
                      <a:pt x="162" y="1715"/>
                    </a:lnTo>
                    <a:lnTo>
                      <a:pt x="175" y="1731"/>
                    </a:lnTo>
                    <a:lnTo>
                      <a:pt x="180" y="1739"/>
                    </a:lnTo>
                    <a:lnTo>
                      <a:pt x="186" y="1747"/>
                    </a:lnTo>
                    <a:lnTo>
                      <a:pt x="189" y="1756"/>
                    </a:lnTo>
                    <a:lnTo>
                      <a:pt x="191" y="1764"/>
                    </a:lnTo>
                    <a:lnTo>
                      <a:pt x="192" y="1767"/>
                    </a:lnTo>
                    <a:lnTo>
                      <a:pt x="194" y="1768"/>
                    </a:lnTo>
                    <a:lnTo>
                      <a:pt x="196" y="1772"/>
                    </a:lnTo>
                    <a:lnTo>
                      <a:pt x="196" y="1773"/>
                    </a:lnTo>
                    <a:lnTo>
                      <a:pt x="196" y="1777"/>
                    </a:lnTo>
                    <a:lnTo>
                      <a:pt x="197" y="1780"/>
                    </a:lnTo>
                    <a:lnTo>
                      <a:pt x="197" y="1783"/>
                    </a:lnTo>
                    <a:lnTo>
                      <a:pt x="199" y="1788"/>
                    </a:lnTo>
                    <a:lnTo>
                      <a:pt x="201" y="1788"/>
                    </a:lnTo>
                    <a:lnTo>
                      <a:pt x="202" y="1788"/>
                    </a:lnTo>
                    <a:lnTo>
                      <a:pt x="204" y="1788"/>
                    </a:lnTo>
                    <a:lnTo>
                      <a:pt x="207" y="1786"/>
                    </a:lnTo>
                    <a:lnTo>
                      <a:pt x="209" y="1786"/>
                    </a:lnTo>
                    <a:lnTo>
                      <a:pt x="211" y="1786"/>
                    </a:lnTo>
                    <a:lnTo>
                      <a:pt x="212" y="1786"/>
                    </a:lnTo>
                    <a:lnTo>
                      <a:pt x="216" y="1785"/>
                    </a:lnTo>
                    <a:lnTo>
                      <a:pt x="216" y="1790"/>
                    </a:lnTo>
                    <a:lnTo>
                      <a:pt x="216" y="1793"/>
                    </a:lnTo>
                    <a:lnTo>
                      <a:pt x="216" y="1796"/>
                    </a:lnTo>
                    <a:lnTo>
                      <a:pt x="218" y="1799"/>
                    </a:lnTo>
                    <a:lnTo>
                      <a:pt x="218" y="1804"/>
                    </a:lnTo>
                    <a:lnTo>
                      <a:pt x="218" y="1807"/>
                    </a:lnTo>
                    <a:lnTo>
                      <a:pt x="219" y="1811"/>
                    </a:lnTo>
                    <a:lnTo>
                      <a:pt x="219" y="1814"/>
                    </a:lnTo>
                    <a:lnTo>
                      <a:pt x="221" y="1814"/>
                    </a:lnTo>
                    <a:lnTo>
                      <a:pt x="223" y="1814"/>
                    </a:lnTo>
                    <a:lnTo>
                      <a:pt x="226" y="1814"/>
                    </a:lnTo>
                    <a:lnTo>
                      <a:pt x="228" y="1814"/>
                    </a:lnTo>
                    <a:lnTo>
                      <a:pt x="229" y="1814"/>
                    </a:lnTo>
                    <a:lnTo>
                      <a:pt x="231" y="1814"/>
                    </a:lnTo>
                    <a:lnTo>
                      <a:pt x="233" y="1814"/>
                    </a:lnTo>
                    <a:lnTo>
                      <a:pt x="234" y="1814"/>
                    </a:lnTo>
                    <a:lnTo>
                      <a:pt x="239" y="1824"/>
                    </a:lnTo>
                    <a:lnTo>
                      <a:pt x="243" y="1833"/>
                    </a:lnTo>
                    <a:lnTo>
                      <a:pt x="246" y="1843"/>
                    </a:lnTo>
                    <a:lnTo>
                      <a:pt x="248" y="1851"/>
                    </a:lnTo>
                    <a:lnTo>
                      <a:pt x="248" y="1867"/>
                    </a:lnTo>
                    <a:lnTo>
                      <a:pt x="250" y="1880"/>
                    </a:lnTo>
                    <a:lnTo>
                      <a:pt x="253" y="1887"/>
                    </a:lnTo>
                    <a:lnTo>
                      <a:pt x="256" y="1892"/>
                    </a:lnTo>
                    <a:lnTo>
                      <a:pt x="261" y="1896"/>
                    </a:lnTo>
                    <a:lnTo>
                      <a:pt x="268" y="1900"/>
                    </a:lnTo>
                    <a:lnTo>
                      <a:pt x="278" y="1903"/>
                    </a:lnTo>
                    <a:lnTo>
                      <a:pt x="290" y="1905"/>
                    </a:lnTo>
                    <a:lnTo>
                      <a:pt x="307" y="1906"/>
                    </a:lnTo>
                    <a:lnTo>
                      <a:pt x="325" y="1906"/>
                    </a:lnTo>
                    <a:lnTo>
                      <a:pt x="324" y="1924"/>
                    </a:lnTo>
                    <a:lnTo>
                      <a:pt x="322" y="1939"/>
                    </a:lnTo>
                    <a:lnTo>
                      <a:pt x="320" y="1950"/>
                    </a:lnTo>
                    <a:lnTo>
                      <a:pt x="319" y="1961"/>
                    </a:lnTo>
                    <a:lnTo>
                      <a:pt x="314" y="1971"/>
                    </a:lnTo>
                    <a:lnTo>
                      <a:pt x="308" y="1979"/>
                    </a:lnTo>
                    <a:lnTo>
                      <a:pt x="298" y="1989"/>
                    </a:lnTo>
                    <a:lnTo>
                      <a:pt x="285" y="2000"/>
                    </a:lnTo>
                    <a:lnTo>
                      <a:pt x="297" y="2031"/>
                    </a:lnTo>
                    <a:lnTo>
                      <a:pt x="297" y="2031"/>
                    </a:lnTo>
                    <a:lnTo>
                      <a:pt x="297" y="2029"/>
                    </a:lnTo>
                    <a:lnTo>
                      <a:pt x="298" y="2029"/>
                    </a:lnTo>
                    <a:lnTo>
                      <a:pt x="298" y="2029"/>
                    </a:lnTo>
                    <a:lnTo>
                      <a:pt x="300" y="2029"/>
                    </a:lnTo>
                    <a:lnTo>
                      <a:pt x="300" y="2029"/>
                    </a:lnTo>
                    <a:lnTo>
                      <a:pt x="302" y="2028"/>
                    </a:lnTo>
                    <a:lnTo>
                      <a:pt x="302" y="2028"/>
                    </a:lnTo>
                    <a:lnTo>
                      <a:pt x="307" y="2031"/>
                    </a:lnTo>
                    <a:lnTo>
                      <a:pt x="310" y="2034"/>
                    </a:lnTo>
                    <a:lnTo>
                      <a:pt x="315" y="2034"/>
                    </a:lnTo>
                    <a:lnTo>
                      <a:pt x="319" y="2034"/>
                    </a:lnTo>
                    <a:lnTo>
                      <a:pt x="324" y="2032"/>
                    </a:lnTo>
                    <a:lnTo>
                      <a:pt x="329" y="2031"/>
                    </a:lnTo>
                    <a:lnTo>
                      <a:pt x="335" y="2029"/>
                    </a:lnTo>
                    <a:lnTo>
                      <a:pt x="344" y="2029"/>
                    </a:lnTo>
                    <a:lnTo>
                      <a:pt x="347" y="2029"/>
                    </a:lnTo>
                    <a:lnTo>
                      <a:pt x="352" y="2029"/>
                    </a:lnTo>
                    <a:lnTo>
                      <a:pt x="356" y="2029"/>
                    </a:lnTo>
                    <a:lnTo>
                      <a:pt x="357" y="2029"/>
                    </a:lnTo>
                    <a:lnTo>
                      <a:pt x="361" y="2029"/>
                    </a:lnTo>
                    <a:lnTo>
                      <a:pt x="364" y="2029"/>
                    </a:lnTo>
                    <a:lnTo>
                      <a:pt x="367" y="2029"/>
                    </a:lnTo>
                    <a:lnTo>
                      <a:pt x="369" y="2029"/>
                    </a:lnTo>
                    <a:lnTo>
                      <a:pt x="369" y="2029"/>
                    </a:lnTo>
                    <a:lnTo>
                      <a:pt x="371" y="2028"/>
                    </a:lnTo>
                    <a:lnTo>
                      <a:pt x="371" y="2028"/>
                    </a:lnTo>
                    <a:lnTo>
                      <a:pt x="371" y="2026"/>
                    </a:lnTo>
                    <a:lnTo>
                      <a:pt x="371" y="2024"/>
                    </a:lnTo>
                    <a:lnTo>
                      <a:pt x="372" y="2024"/>
                    </a:lnTo>
                    <a:lnTo>
                      <a:pt x="372" y="2023"/>
                    </a:lnTo>
                    <a:lnTo>
                      <a:pt x="374" y="2021"/>
                    </a:lnTo>
                    <a:lnTo>
                      <a:pt x="383" y="2020"/>
                    </a:lnTo>
                    <a:lnTo>
                      <a:pt x="393" y="2018"/>
                    </a:lnTo>
                    <a:lnTo>
                      <a:pt x="403" y="2013"/>
                    </a:lnTo>
                    <a:lnTo>
                      <a:pt x="415" y="2010"/>
                    </a:lnTo>
                    <a:lnTo>
                      <a:pt x="426" y="2007"/>
                    </a:lnTo>
                    <a:lnTo>
                      <a:pt x="438" y="2003"/>
                    </a:lnTo>
                    <a:lnTo>
                      <a:pt x="450" y="2000"/>
                    </a:lnTo>
                    <a:lnTo>
                      <a:pt x="462" y="2000"/>
                    </a:lnTo>
                    <a:lnTo>
                      <a:pt x="468" y="1986"/>
                    </a:lnTo>
                    <a:lnTo>
                      <a:pt x="479" y="1968"/>
                    </a:lnTo>
                    <a:lnTo>
                      <a:pt x="489" y="1945"/>
                    </a:lnTo>
                    <a:lnTo>
                      <a:pt x="502" y="1922"/>
                    </a:lnTo>
                    <a:lnTo>
                      <a:pt x="516" y="1900"/>
                    </a:lnTo>
                    <a:lnTo>
                      <a:pt x="529" y="1879"/>
                    </a:lnTo>
                    <a:lnTo>
                      <a:pt x="536" y="1871"/>
                    </a:lnTo>
                    <a:lnTo>
                      <a:pt x="544" y="1862"/>
                    </a:lnTo>
                    <a:lnTo>
                      <a:pt x="551" y="1856"/>
                    </a:lnTo>
                    <a:lnTo>
                      <a:pt x="558" y="1853"/>
                    </a:lnTo>
                    <a:lnTo>
                      <a:pt x="561" y="1851"/>
                    </a:lnTo>
                    <a:lnTo>
                      <a:pt x="563" y="1851"/>
                    </a:lnTo>
                    <a:lnTo>
                      <a:pt x="564" y="1851"/>
                    </a:lnTo>
                    <a:lnTo>
                      <a:pt x="568" y="1851"/>
                    </a:lnTo>
                    <a:lnTo>
                      <a:pt x="569" y="1851"/>
                    </a:lnTo>
                    <a:lnTo>
                      <a:pt x="571" y="1851"/>
                    </a:lnTo>
                    <a:lnTo>
                      <a:pt x="575" y="1851"/>
                    </a:lnTo>
                    <a:lnTo>
                      <a:pt x="576" y="1849"/>
                    </a:lnTo>
                    <a:lnTo>
                      <a:pt x="583" y="1861"/>
                    </a:lnTo>
                    <a:lnTo>
                      <a:pt x="590" y="1867"/>
                    </a:lnTo>
                    <a:lnTo>
                      <a:pt x="596" y="1874"/>
                    </a:lnTo>
                    <a:lnTo>
                      <a:pt x="603" y="1877"/>
                    </a:lnTo>
                    <a:lnTo>
                      <a:pt x="610" y="1880"/>
                    </a:lnTo>
                    <a:lnTo>
                      <a:pt x="618" y="1880"/>
                    </a:lnTo>
                    <a:lnTo>
                      <a:pt x="627" y="1880"/>
                    </a:lnTo>
                    <a:lnTo>
                      <a:pt x="635" y="1879"/>
                    </a:lnTo>
                    <a:lnTo>
                      <a:pt x="639" y="1887"/>
                    </a:lnTo>
                    <a:lnTo>
                      <a:pt x="642" y="1895"/>
                    </a:lnTo>
                    <a:lnTo>
                      <a:pt x="647" y="1901"/>
                    </a:lnTo>
                    <a:lnTo>
                      <a:pt x="654" y="1908"/>
                    </a:lnTo>
                    <a:lnTo>
                      <a:pt x="659" y="1914"/>
                    </a:lnTo>
                    <a:lnTo>
                      <a:pt x="667" y="1917"/>
                    </a:lnTo>
                    <a:lnTo>
                      <a:pt x="676" y="1921"/>
                    </a:lnTo>
                    <a:lnTo>
                      <a:pt x="686" y="1921"/>
                    </a:lnTo>
                    <a:lnTo>
                      <a:pt x="689" y="1927"/>
                    </a:lnTo>
                    <a:lnTo>
                      <a:pt x="694" y="1930"/>
                    </a:lnTo>
                    <a:lnTo>
                      <a:pt x="697" y="1935"/>
                    </a:lnTo>
                    <a:lnTo>
                      <a:pt x="703" y="1937"/>
                    </a:lnTo>
                    <a:lnTo>
                      <a:pt x="709" y="1940"/>
                    </a:lnTo>
                    <a:lnTo>
                      <a:pt x="716" y="1943"/>
                    </a:lnTo>
                    <a:lnTo>
                      <a:pt x="723" y="1947"/>
                    </a:lnTo>
                    <a:lnTo>
                      <a:pt x="729" y="1950"/>
                    </a:lnTo>
                    <a:lnTo>
                      <a:pt x="735" y="1958"/>
                    </a:lnTo>
                    <a:lnTo>
                      <a:pt x="741" y="1968"/>
                    </a:lnTo>
                    <a:lnTo>
                      <a:pt x="746" y="1979"/>
                    </a:lnTo>
                    <a:lnTo>
                      <a:pt x="753" y="1990"/>
                    </a:lnTo>
                    <a:lnTo>
                      <a:pt x="758" y="2000"/>
                    </a:lnTo>
                    <a:lnTo>
                      <a:pt x="765" y="2008"/>
                    </a:lnTo>
                    <a:lnTo>
                      <a:pt x="770" y="2015"/>
                    </a:lnTo>
                    <a:lnTo>
                      <a:pt x="777" y="2018"/>
                    </a:lnTo>
                    <a:lnTo>
                      <a:pt x="804" y="2021"/>
                    </a:lnTo>
                    <a:lnTo>
                      <a:pt x="804" y="2020"/>
                    </a:lnTo>
                    <a:lnTo>
                      <a:pt x="804" y="2016"/>
                    </a:lnTo>
                    <a:lnTo>
                      <a:pt x="804" y="2015"/>
                    </a:lnTo>
                    <a:lnTo>
                      <a:pt x="805" y="2013"/>
                    </a:lnTo>
                    <a:lnTo>
                      <a:pt x="807" y="2011"/>
                    </a:lnTo>
                    <a:lnTo>
                      <a:pt x="810" y="2008"/>
                    </a:lnTo>
                    <a:lnTo>
                      <a:pt x="814" y="2007"/>
                    </a:lnTo>
                    <a:lnTo>
                      <a:pt x="820" y="2005"/>
                    </a:lnTo>
                    <a:lnTo>
                      <a:pt x="820" y="2002"/>
                    </a:lnTo>
                    <a:lnTo>
                      <a:pt x="822" y="1997"/>
                    </a:lnTo>
                    <a:lnTo>
                      <a:pt x="824" y="1994"/>
                    </a:lnTo>
                    <a:lnTo>
                      <a:pt x="825" y="1989"/>
                    </a:lnTo>
                    <a:lnTo>
                      <a:pt x="829" y="1984"/>
                    </a:lnTo>
                    <a:lnTo>
                      <a:pt x="830" y="1979"/>
                    </a:lnTo>
                    <a:lnTo>
                      <a:pt x="830" y="1973"/>
                    </a:lnTo>
                    <a:lnTo>
                      <a:pt x="832" y="1966"/>
                    </a:lnTo>
                    <a:lnTo>
                      <a:pt x="825" y="1963"/>
                    </a:lnTo>
                    <a:lnTo>
                      <a:pt x="827" y="1956"/>
                    </a:lnTo>
                    <a:lnTo>
                      <a:pt x="832" y="1948"/>
                    </a:lnTo>
                    <a:lnTo>
                      <a:pt x="837" y="1937"/>
                    </a:lnTo>
                    <a:lnTo>
                      <a:pt x="846" y="1926"/>
                    </a:lnTo>
                    <a:lnTo>
                      <a:pt x="852" y="1913"/>
                    </a:lnTo>
                    <a:lnTo>
                      <a:pt x="857" y="1901"/>
                    </a:lnTo>
                    <a:lnTo>
                      <a:pt x="861" y="1890"/>
                    </a:lnTo>
                    <a:lnTo>
                      <a:pt x="861" y="1880"/>
                    </a:lnTo>
                    <a:lnTo>
                      <a:pt x="873" y="1885"/>
                    </a:lnTo>
                    <a:lnTo>
                      <a:pt x="886" y="1892"/>
                    </a:lnTo>
                    <a:lnTo>
                      <a:pt x="900" y="1898"/>
                    </a:lnTo>
                    <a:lnTo>
                      <a:pt x="915" y="1905"/>
                    </a:lnTo>
                    <a:lnTo>
                      <a:pt x="928" y="1911"/>
                    </a:lnTo>
                    <a:lnTo>
                      <a:pt x="943" y="1916"/>
                    </a:lnTo>
                    <a:lnTo>
                      <a:pt x="957" y="1919"/>
                    </a:lnTo>
                    <a:lnTo>
                      <a:pt x="969" y="1921"/>
                    </a:lnTo>
                    <a:lnTo>
                      <a:pt x="969" y="1908"/>
                    </a:lnTo>
                    <a:lnTo>
                      <a:pt x="972" y="1896"/>
                    </a:lnTo>
                    <a:lnTo>
                      <a:pt x="977" y="1883"/>
                    </a:lnTo>
                    <a:lnTo>
                      <a:pt x="984" y="1872"/>
                    </a:lnTo>
                    <a:lnTo>
                      <a:pt x="992" y="1861"/>
                    </a:lnTo>
                    <a:lnTo>
                      <a:pt x="1001" y="1849"/>
                    </a:lnTo>
                    <a:lnTo>
                      <a:pt x="1011" y="1840"/>
                    </a:lnTo>
                    <a:lnTo>
                      <a:pt x="1022" y="1830"/>
                    </a:lnTo>
                    <a:lnTo>
                      <a:pt x="1043" y="1814"/>
                    </a:lnTo>
                    <a:lnTo>
                      <a:pt x="1061" y="1801"/>
                    </a:lnTo>
                    <a:lnTo>
                      <a:pt x="1075" y="1793"/>
                    </a:lnTo>
                    <a:lnTo>
                      <a:pt x="1080" y="1790"/>
                    </a:lnTo>
                    <a:lnTo>
                      <a:pt x="1135" y="1768"/>
                    </a:lnTo>
                    <a:lnTo>
                      <a:pt x="1135" y="1767"/>
                    </a:lnTo>
                    <a:lnTo>
                      <a:pt x="1135" y="1764"/>
                    </a:lnTo>
                    <a:lnTo>
                      <a:pt x="1137" y="1762"/>
                    </a:lnTo>
                    <a:lnTo>
                      <a:pt x="1137" y="1759"/>
                    </a:lnTo>
                    <a:lnTo>
                      <a:pt x="1139" y="1756"/>
                    </a:lnTo>
                    <a:lnTo>
                      <a:pt x="1140" y="1754"/>
                    </a:lnTo>
                    <a:lnTo>
                      <a:pt x="1140" y="1751"/>
                    </a:lnTo>
                    <a:lnTo>
                      <a:pt x="1142" y="1747"/>
                    </a:lnTo>
                    <a:lnTo>
                      <a:pt x="1139" y="1746"/>
                    </a:lnTo>
                    <a:lnTo>
                      <a:pt x="1129" y="1738"/>
                    </a:lnTo>
                    <a:lnTo>
                      <a:pt x="1115" y="1726"/>
                    </a:lnTo>
                    <a:lnTo>
                      <a:pt x="1098" y="1712"/>
                    </a:lnTo>
                    <a:lnTo>
                      <a:pt x="1080" y="1696"/>
                    </a:lnTo>
                    <a:lnTo>
                      <a:pt x="1060" y="1681"/>
                    </a:lnTo>
                    <a:lnTo>
                      <a:pt x="1039" y="1670"/>
                    </a:lnTo>
                    <a:lnTo>
                      <a:pt x="1019" y="1662"/>
                    </a:lnTo>
                    <a:lnTo>
                      <a:pt x="1014" y="1657"/>
                    </a:lnTo>
                    <a:lnTo>
                      <a:pt x="1009" y="1652"/>
                    </a:lnTo>
                    <a:lnTo>
                      <a:pt x="1004" y="1649"/>
                    </a:lnTo>
                    <a:lnTo>
                      <a:pt x="999" y="1645"/>
                    </a:lnTo>
                    <a:lnTo>
                      <a:pt x="992" y="1642"/>
                    </a:lnTo>
                    <a:lnTo>
                      <a:pt x="987" y="1639"/>
                    </a:lnTo>
                    <a:lnTo>
                      <a:pt x="982" y="1639"/>
                    </a:lnTo>
                    <a:lnTo>
                      <a:pt x="977" y="1637"/>
                    </a:lnTo>
                    <a:lnTo>
                      <a:pt x="979" y="1632"/>
                    </a:lnTo>
                    <a:lnTo>
                      <a:pt x="982" y="1626"/>
                    </a:lnTo>
                    <a:lnTo>
                      <a:pt x="987" y="1618"/>
                    </a:lnTo>
                    <a:lnTo>
                      <a:pt x="992" y="1611"/>
                    </a:lnTo>
                    <a:lnTo>
                      <a:pt x="999" y="1602"/>
                    </a:lnTo>
                    <a:lnTo>
                      <a:pt x="1006" y="1594"/>
                    </a:lnTo>
                    <a:lnTo>
                      <a:pt x="1011" y="1584"/>
                    </a:lnTo>
                    <a:lnTo>
                      <a:pt x="1017" y="1574"/>
                    </a:lnTo>
                    <a:lnTo>
                      <a:pt x="1021" y="1574"/>
                    </a:lnTo>
                    <a:lnTo>
                      <a:pt x="1024" y="1574"/>
                    </a:lnTo>
                    <a:lnTo>
                      <a:pt x="1028" y="1574"/>
                    </a:lnTo>
                    <a:lnTo>
                      <a:pt x="1031" y="1576"/>
                    </a:lnTo>
                    <a:lnTo>
                      <a:pt x="1034" y="1576"/>
                    </a:lnTo>
                    <a:lnTo>
                      <a:pt x="1038" y="1576"/>
                    </a:lnTo>
                    <a:lnTo>
                      <a:pt x="1041" y="1577"/>
                    </a:lnTo>
                    <a:lnTo>
                      <a:pt x="1046" y="1577"/>
                    </a:lnTo>
                    <a:lnTo>
                      <a:pt x="1051" y="1579"/>
                    </a:lnTo>
                    <a:lnTo>
                      <a:pt x="1058" y="1579"/>
                    </a:lnTo>
                    <a:lnTo>
                      <a:pt x="1066" y="1579"/>
                    </a:lnTo>
                    <a:lnTo>
                      <a:pt x="1075" y="1579"/>
                    </a:lnTo>
                    <a:lnTo>
                      <a:pt x="1083" y="1579"/>
                    </a:lnTo>
                    <a:lnTo>
                      <a:pt x="1093" y="1579"/>
                    </a:lnTo>
                    <a:lnTo>
                      <a:pt x="1102" y="1579"/>
                    </a:lnTo>
                    <a:lnTo>
                      <a:pt x="1110" y="1579"/>
                    </a:lnTo>
                    <a:lnTo>
                      <a:pt x="1112" y="1577"/>
                    </a:lnTo>
                    <a:lnTo>
                      <a:pt x="1113" y="1574"/>
                    </a:lnTo>
                    <a:lnTo>
                      <a:pt x="1115" y="1571"/>
                    </a:lnTo>
                    <a:lnTo>
                      <a:pt x="1117" y="1568"/>
                    </a:lnTo>
                    <a:lnTo>
                      <a:pt x="1118" y="1563"/>
                    </a:lnTo>
                    <a:lnTo>
                      <a:pt x="1120" y="1560"/>
                    </a:lnTo>
                    <a:lnTo>
                      <a:pt x="1122" y="1553"/>
                    </a:lnTo>
                    <a:lnTo>
                      <a:pt x="1123" y="1548"/>
                    </a:lnTo>
                    <a:lnTo>
                      <a:pt x="1139" y="1542"/>
                    </a:lnTo>
                    <a:lnTo>
                      <a:pt x="1147" y="1535"/>
                    </a:lnTo>
                    <a:lnTo>
                      <a:pt x="1152" y="1530"/>
                    </a:lnTo>
                    <a:lnTo>
                      <a:pt x="1154" y="1522"/>
                    </a:lnTo>
                    <a:lnTo>
                      <a:pt x="1155" y="1514"/>
                    </a:lnTo>
                    <a:lnTo>
                      <a:pt x="1157" y="1505"/>
                    </a:lnTo>
                    <a:lnTo>
                      <a:pt x="1162" y="1492"/>
                    </a:lnTo>
                    <a:lnTo>
                      <a:pt x="1171" y="1477"/>
                    </a:lnTo>
                    <a:lnTo>
                      <a:pt x="1174" y="1475"/>
                    </a:lnTo>
                    <a:lnTo>
                      <a:pt x="1176" y="1474"/>
                    </a:lnTo>
                    <a:lnTo>
                      <a:pt x="1179" y="1471"/>
                    </a:lnTo>
                    <a:lnTo>
                      <a:pt x="1181" y="1469"/>
                    </a:lnTo>
                    <a:lnTo>
                      <a:pt x="1182" y="1466"/>
                    </a:lnTo>
                    <a:lnTo>
                      <a:pt x="1186" y="1462"/>
                    </a:lnTo>
                    <a:lnTo>
                      <a:pt x="1187" y="1459"/>
                    </a:lnTo>
                    <a:lnTo>
                      <a:pt x="1189" y="1456"/>
                    </a:lnTo>
                    <a:lnTo>
                      <a:pt x="1193" y="1448"/>
                    </a:lnTo>
                    <a:lnTo>
                      <a:pt x="1198" y="1438"/>
                    </a:lnTo>
                    <a:lnTo>
                      <a:pt x="1201" y="1428"/>
                    </a:lnTo>
                    <a:lnTo>
                      <a:pt x="1203" y="1417"/>
                    </a:lnTo>
                    <a:lnTo>
                      <a:pt x="1206" y="1407"/>
                    </a:lnTo>
                    <a:lnTo>
                      <a:pt x="1208" y="1396"/>
                    </a:lnTo>
                    <a:lnTo>
                      <a:pt x="1209" y="1385"/>
                    </a:lnTo>
                    <a:lnTo>
                      <a:pt x="1211" y="1375"/>
                    </a:lnTo>
                    <a:lnTo>
                      <a:pt x="1213" y="1375"/>
                    </a:lnTo>
                    <a:lnTo>
                      <a:pt x="1214" y="1375"/>
                    </a:lnTo>
                    <a:lnTo>
                      <a:pt x="1216" y="1373"/>
                    </a:lnTo>
                    <a:lnTo>
                      <a:pt x="1218" y="1373"/>
                    </a:lnTo>
                    <a:lnTo>
                      <a:pt x="1219" y="1373"/>
                    </a:lnTo>
                    <a:lnTo>
                      <a:pt x="1221" y="1373"/>
                    </a:lnTo>
                    <a:lnTo>
                      <a:pt x="1223" y="1372"/>
                    </a:lnTo>
                    <a:lnTo>
                      <a:pt x="1225" y="1372"/>
                    </a:lnTo>
                    <a:lnTo>
                      <a:pt x="1228" y="1372"/>
                    </a:lnTo>
                    <a:lnTo>
                      <a:pt x="1231" y="1373"/>
                    </a:lnTo>
                    <a:lnTo>
                      <a:pt x="1235" y="1375"/>
                    </a:lnTo>
                    <a:lnTo>
                      <a:pt x="1238" y="1375"/>
                    </a:lnTo>
                    <a:lnTo>
                      <a:pt x="1243" y="1377"/>
                    </a:lnTo>
                    <a:lnTo>
                      <a:pt x="1248" y="1377"/>
                    </a:lnTo>
                    <a:lnTo>
                      <a:pt x="1255" y="1375"/>
                    </a:lnTo>
                    <a:lnTo>
                      <a:pt x="1262" y="1373"/>
                    </a:lnTo>
                    <a:lnTo>
                      <a:pt x="1295" y="1381"/>
                    </a:lnTo>
                    <a:lnTo>
                      <a:pt x="1329" y="1391"/>
                    </a:lnTo>
                    <a:lnTo>
                      <a:pt x="1363" y="1399"/>
                    </a:lnTo>
                    <a:lnTo>
                      <a:pt x="1395" y="1407"/>
                    </a:lnTo>
                    <a:lnTo>
                      <a:pt x="1428" y="1417"/>
                    </a:lnTo>
                    <a:lnTo>
                      <a:pt x="1462" y="1427"/>
                    </a:lnTo>
                    <a:lnTo>
                      <a:pt x="1494" y="1436"/>
                    </a:lnTo>
                    <a:lnTo>
                      <a:pt x="1528" y="1448"/>
                    </a:lnTo>
                    <a:lnTo>
                      <a:pt x="1533" y="1461"/>
                    </a:lnTo>
                    <a:lnTo>
                      <a:pt x="1539" y="1472"/>
                    </a:lnTo>
                    <a:lnTo>
                      <a:pt x="1550" y="1480"/>
                    </a:lnTo>
                    <a:lnTo>
                      <a:pt x="1560" y="1487"/>
                    </a:lnTo>
                    <a:lnTo>
                      <a:pt x="1573" y="1492"/>
                    </a:lnTo>
                    <a:lnTo>
                      <a:pt x="1587" y="1496"/>
                    </a:lnTo>
                    <a:lnTo>
                      <a:pt x="1602" y="1498"/>
                    </a:lnTo>
                    <a:lnTo>
                      <a:pt x="1617" y="1501"/>
                    </a:lnTo>
                    <a:lnTo>
                      <a:pt x="1649" y="1505"/>
                    </a:lnTo>
                    <a:lnTo>
                      <a:pt x="1679" y="1509"/>
                    </a:lnTo>
                    <a:lnTo>
                      <a:pt x="1694" y="1514"/>
                    </a:lnTo>
                    <a:lnTo>
                      <a:pt x="1708" y="1519"/>
                    </a:lnTo>
                    <a:lnTo>
                      <a:pt x="1720" y="1526"/>
                    </a:lnTo>
                    <a:lnTo>
                      <a:pt x="1731" y="1534"/>
                    </a:lnTo>
                    <a:lnTo>
                      <a:pt x="1730" y="1540"/>
                    </a:lnTo>
                    <a:lnTo>
                      <a:pt x="1726" y="1545"/>
                    </a:lnTo>
                    <a:lnTo>
                      <a:pt x="1725" y="1548"/>
                    </a:lnTo>
                    <a:lnTo>
                      <a:pt x="1721" y="1553"/>
                    </a:lnTo>
                    <a:lnTo>
                      <a:pt x="1718" y="1558"/>
                    </a:lnTo>
                    <a:lnTo>
                      <a:pt x="1716" y="1561"/>
                    </a:lnTo>
                    <a:lnTo>
                      <a:pt x="1713" y="1566"/>
                    </a:lnTo>
                    <a:lnTo>
                      <a:pt x="1711" y="1571"/>
                    </a:lnTo>
                    <a:lnTo>
                      <a:pt x="1731" y="1571"/>
                    </a:lnTo>
                    <a:lnTo>
                      <a:pt x="1750" y="1571"/>
                    </a:lnTo>
                    <a:lnTo>
                      <a:pt x="1767" y="1571"/>
                    </a:lnTo>
                    <a:lnTo>
                      <a:pt x="1782" y="1571"/>
                    </a:lnTo>
                    <a:lnTo>
                      <a:pt x="1797" y="1568"/>
                    </a:lnTo>
                    <a:lnTo>
                      <a:pt x="1812" y="1563"/>
                    </a:lnTo>
                    <a:lnTo>
                      <a:pt x="1819" y="1558"/>
                    </a:lnTo>
                    <a:lnTo>
                      <a:pt x="1824" y="1551"/>
                    </a:lnTo>
                    <a:lnTo>
                      <a:pt x="1831" y="1545"/>
                    </a:lnTo>
                    <a:lnTo>
                      <a:pt x="1836" y="1537"/>
                    </a:lnTo>
                    <a:lnTo>
                      <a:pt x="1841" y="1535"/>
                    </a:lnTo>
                    <a:lnTo>
                      <a:pt x="1848" y="1535"/>
                    </a:lnTo>
                    <a:lnTo>
                      <a:pt x="1853" y="1535"/>
                    </a:lnTo>
                    <a:lnTo>
                      <a:pt x="1858" y="1535"/>
                    </a:lnTo>
                    <a:lnTo>
                      <a:pt x="1863" y="1534"/>
                    </a:lnTo>
                    <a:lnTo>
                      <a:pt x="1868" y="1534"/>
                    </a:lnTo>
                    <a:lnTo>
                      <a:pt x="1875" y="1534"/>
                    </a:lnTo>
                    <a:lnTo>
                      <a:pt x="1880" y="1534"/>
                    </a:lnTo>
                    <a:lnTo>
                      <a:pt x="1880" y="1532"/>
                    </a:lnTo>
                    <a:lnTo>
                      <a:pt x="1881" y="1532"/>
                    </a:lnTo>
                    <a:lnTo>
                      <a:pt x="1881" y="1530"/>
                    </a:lnTo>
                    <a:lnTo>
                      <a:pt x="1881" y="1530"/>
                    </a:lnTo>
                    <a:lnTo>
                      <a:pt x="1881" y="1529"/>
                    </a:lnTo>
                    <a:lnTo>
                      <a:pt x="1883" y="1529"/>
                    </a:lnTo>
                    <a:lnTo>
                      <a:pt x="1883" y="1527"/>
                    </a:lnTo>
                    <a:lnTo>
                      <a:pt x="1883" y="1527"/>
                    </a:lnTo>
                    <a:lnTo>
                      <a:pt x="1881" y="1519"/>
                    </a:lnTo>
                    <a:lnTo>
                      <a:pt x="1880" y="1513"/>
                    </a:lnTo>
                    <a:lnTo>
                      <a:pt x="1878" y="1505"/>
                    </a:lnTo>
                    <a:lnTo>
                      <a:pt x="1878" y="1496"/>
                    </a:lnTo>
                    <a:lnTo>
                      <a:pt x="1880" y="1488"/>
                    </a:lnTo>
                    <a:lnTo>
                      <a:pt x="1881" y="1480"/>
                    </a:lnTo>
                    <a:lnTo>
                      <a:pt x="1885" y="1472"/>
                    </a:lnTo>
                    <a:lnTo>
                      <a:pt x="1888" y="1466"/>
                    </a:lnTo>
                    <a:lnTo>
                      <a:pt x="1893" y="1459"/>
                    </a:lnTo>
                    <a:lnTo>
                      <a:pt x="1900" y="1454"/>
                    </a:lnTo>
                    <a:lnTo>
                      <a:pt x="1907" y="1449"/>
                    </a:lnTo>
                    <a:lnTo>
                      <a:pt x="1913" y="1445"/>
                    </a:lnTo>
                    <a:lnTo>
                      <a:pt x="1922" y="1443"/>
                    </a:lnTo>
                    <a:lnTo>
                      <a:pt x="1930" y="1441"/>
                    </a:lnTo>
                    <a:lnTo>
                      <a:pt x="1940" y="1441"/>
                    </a:lnTo>
                    <a:lnTo>
                      <a:pt x="1952" y="1445"/>
                    </a:lnTo>
                    <a:lnTo>
                      <a:pt x="1967" y="1445"/>
                    </a:lnTo>
                    <a:lnTo>
                      <a:pt x="1969" y="1438"/>
                    </a:lnTo>
                    <a:lnTo>
                      <a:pt x="1974" y="1430"/>
                    </a:lnTo>
                    <a:lnTo>
                      <a:pt x="1979" y="1422"/>
                    </a:lnTo>
                    <a:lnTo>
                      <a:pt x="1984" y="1414"/>
                    </a:lnTo>
                    <a:lnTo>
                      <a:pt x="1989" y="1404"/>
                    </a:lnTo>
                    <a:lnTo>
                      <a:pt x="1996" y="1394"/>
                    </a:lnTo>
                    <a:lnTo>
                      <a:pt x="2001" y="1385"/>
                    </a:lnTo>
                    <a:lnTo>
                      <a:pt x="2006" y="1375"/>
                    </a:lnTo>
                    <a:lnTo>
                      <a:pt x="2003" y="1359"/>
                    </a:lnTo>
                    <a:lnTo>
                      <a:pt x="1997" y="1343"/>
                    </a:lnTo>
                    <a:lnTo>
                      <a:pt x="1991" y="1326"/>
                    </a:lnTo>
                    <a:lnTo>
                      <a:pt x="1984" y="1310"/>
                    </a:lnTo>
                    <a:lnTo>
                      <a:pt x="1977" y="1294"/>
                    </a:lnTo>
                    <a:lnTo>
                      <a:pt x="1971" y="1278"/>
                    </a:lnTo>
                    <a:lnTo>
                      <a:pt x="1967" y="1258"/>
                    </a:lnTo>
                    <a:lnTo>
                      <a:pt x="1965" y="1239"/>
                    </a:lnTo>
                    <a:lnTo>
                      <a:pt x="1971" y="1237"/>
                    </a:lnTo>
                    <a:lnTo>
                      <a:pt x="1974" y="1237"/>
                    </a:lnTo>
                    <a:lnTo>
                      <a:pt x="1979" y="1237"/>
                    </a:lnTo>
                    <a:lnTo>
                      <a:pt x="1984" y="1237"/>
                    </a:lnTo>
                    <a:lnTo>
                      <a:pt x="1991" y="1236"/>
                    </a:lnTo>
                    <a:lnTo>
                      <a:pt x="1996" y="1232"/>
                    </a:lnTo>
                    <a:lnTo>
                      <a:pt x="2003" y="1228"/>
                    </a:lnTo>
                    <a:lnTo>
                      <a:pt x="2009" y="1221"/>
                    </a:lnTo>
                    <a:lnTo>
                      <a:pt x="2018" y="1221"/>
                    </a:lnTo>
                    <a:lnTo>
                      <a:pt x="2028" y="1221"/>
                    </a:lnTo>
                    <a:lnTo>
                      <a:pt x="2036" y="1223"/>
                    </a:lnTo>
                    <a:lnTo>
                      <a:pt x="2045" y="1223"/>
                    </a:lnTo>
                    <a:lnTo>
                      <a:pt x="2055" y="1224"/>
                    </a:lnTo>
                    <a:lnTo>
                      <a:pt x="2063" y="1226"/>
                    </a:lnTo>
                    <a:lnTo>
                      <a:pt x="2073" y="1229"/>
                    </a:lnTo>
                    <a:lnTo>
                      <a:pt x="2083" y="1232"/>
                    </a:lnTo>
                    <a:lnTo>
                      <a:pt x="2132" y="1190"/>
                    </a:lnTo>
                    <a:lnTo>
                      <a:pt x="2151" y="1190"/>
                    </a:lnTo>
                    <a:lnTo>
                      <a:pt x="2166" y="1189"/>
                    </a:lnTo>
                    <a:lnTo>
                      <a:pt x="2181" y="1187"/>
                    </a:lnTo>
                    <a:lnTo>
                      <a:pt x="2193" y="1184"/>
                    </a:lnTo>
                    <a:lnTo>
                      <a:pt x="2206" y="1179"/>
                    </a:lnTo>
                    <a:lnTo>
                      <a:pt x="2218" y="1173"/>
                    </a:lnTo>
                    <a:lnTo>
                      <a:pt x="2233" y="1164"/>
                    </a:lnTo>
                    <a:lnTo>
                      <a:pt x="2248" y="1153"/>
                    </a:lnTo>
                    <a:lnTo>
                      <a:pt x="2253" y="1151"/>
                    </a:lnTo>
                    <a:lnTo>
                      <a:pt x="2258" y="1151"/>
                    </a:lnTo>
                    <a:lnTo>
                      <a:pt x="2264" y="1150"/>
                    </a:lnTo>
                    <a:lnTo>
                      <a:pt x="2270" y="1150"/>
                    </a:lnTo>
                    <a:lnTo>
                      <a:pt x="2275" y="1148"/>
                    </a:lnTo>
                    <a:lnTo>
                      <a:pt x="2282" y="1147"/>
                    </a:lnTo>
                    <a:lnTo>
                      <a:pt x="2289" y="1145"/>
                    </a:lnTo>
                    <a:lnTo>
                      <a:pt x="2294" y="1142"/>
                    </a:lnTo>
                    <a:lnTo>
                      <a:pt x="2294" y="1137"/>
                    </a:lnTo>
                    <a:lnTo>
                      <a:pt x="2296" y="1132"/>
                    </a:lnTo>
                    <a:lnTo>
                      <a:pt x="2296" y="1129"/>
                    </a:lnTo>
                    <a:lnTo>
                      <a:pt x="2296" y="1124"/>
                    </a:lnTo>
                    <a:lnTo>
                      <a:pt x="2297" y="1122"/>
                    </a:lnTo>
                    <a:lnTo>
                      <a:pt x="2299" y="1119"/>
                    </a:lnTo>
                    <a:lnTo>
                      <a:pt x="2301" y="1116"/>
                    </a:lnTo>
                    <a:lnTo>
                      <a:pt x="2301" y="1114"/>
                    </a:lnTo>
                    <a:lnTo>
                      <a:pt x="2304" y="1111"/>
                    </a:lnTo>
                    <a:lnTo>
                      <a:pt x="2307" y="1108"/>
                    </a:lnTo>
                    <a:lnTo>
                      <a:pt x="2311" y="1105"/>
                    </a:lnTo>
                    <a:lnTo>
                      <a:pt x="2316" y="1101"/>
                    </a:lnTo>
                    <a:lnTo>
                      <a:pt x="2319" y="1100"/>
                    </a:lnTo>
                    <a:lnTo>
                      <a:pt x="2324" y="1096"/>
                    </a:lnTo>
                    <a:lnTo>
                      <a:pt x="2329" y="1092"/>
                    </a:lnTo>
                    <a:lnTo>
                      <a:pt x="2334" y="1088"/>
                    </a:lnTo>
                    <a:lnTo>
                      <a:pt x="2343" y="1093"/>
                    </a:lnTo>
                    <a:lnTo>
                      <a:pt x="2351" y="1096"/>
                    </a:lnTo>
                    <a:lnTo>
                      <a:pt x="2358" y="1098"/>
                    </a:lnTo>
                    <a:lnTo>
                      <a:pt x="2363" y="1098"/>
                    </a:lnTo>
                    <a:lnTo>
                      <a:pt x="2373" y="1095"/>
                    </a:lnTo>
                    <a:lnTo>
                      <a:pt x="2381" y="1088"/>
                    </a:lnTo>
                    <a:lnTo>
                      <a:pt x="2391" y="1080"/>
                    </a:lnTo>
                    <a:lnTo>
                      <a:pt x="2403" y="1070"/>
                    </a:lnTo>
                    <a:lnTo>
                      <a:pt x="2410" y="1067"/>
                    </a:lnTo>
                    <a:lnTo>
                      <a:pt x="2417" y="1064"/>
                    </a:lnTo>
                    <a:lnTo>
                      <a:pt x="2425" y="1062"/>
                    </a:lnTo>
                    <a:lnTo>
                      <a:pt x="2435" y="1061"/>
                    </a:lnTo>
                    <a:lnTo>
                      <a:pt x="2437" y="1059"/>
                    </a:lnTo>
                    <a:lnTo>
                      <a:pt x="2440" y="1054"/>
                    </a:lnTo>
                    <a:lnTo>
                      <a:pt x="2445" y="1051"/>
                    </a:lnTo>
                    <a:lnTo>
                      <a:pt x="2450" y="1046"/>
                    </a:lnTo>
                    <a:lnTo>
                      <a:pt x="2455" y="1041"/>
                    </a:lnTo>
                    <a:lnTo>
                      <a:pt x="2462" y="1036"/>
                    </a:lnTo>
                    <a:lnTo>
                      <a:pt x="2469" y="1032"/>
                    </a:lnTo>
                    <a:lnTo>
                      <a:pt x="2476" y="1030"/>
                    </a:lnTo>
                    <a:lnTo>
                      <a:pt x="2489" y="1027"/>
                    </a:lnTo>
                    <a:lnTo>
                      <a:pt x="2501" y="1020"/>
                    </a:lnTo>
                    <a:lnTo>
                      <a:pt x="2511" y="1014"/>
                    </a:lnTo>
                    <a:lnTo>
                      <a:pt x="2518" y="1006"/>
                    </a:lnTo>
                    <a:lnTo>
                      <a:pt x="2525" y="996"/>
                    </a:lnTo>
                    <a:lnTo>
                      <a:pt x="2530" y="985"/>
                    </a:lnTo>
                    <a:lnTo>
                      <a:pt x="2533" y="972"/>
                    </a:lnTo>
                    <a:lnTo>
                      <a:pt x="2536" y="959"/>
                    </a:lnTo>
                    <a:lnTo>
                      <a:pt x="2543" y="931"/>
                    </a:lnTo>
                    <a:lnTo>
                      <a:pt x="2548" y="904"/>
                    </a:lnTo>
                    <a:lnTo>
                      <a:pt x="2553" y="891"/>
                    </a:lnTo>
                    <a:lnTo>
                      <a:pt x="2557" y="878"/>
                    </a:lnTo>
                    <a:lnTo>
                      <a:pt x="2563" y="865"/>
                    </a:lnTo>
                    <a:lnTo>
                      <a:pt x="2570" y="852"/>
                    </a:lnTo>
                    <a:lnTo>
                      <a:pt x="2577" y="850"/>
                    </a:lnTo>
                    <a:lnTo>
                      <a:pt x="2583" y="847"/>
                    </a:lnTo>
                    <a:lnTo>
                      <a:pt x="2590" y="842"/>
                    </a:lnTo>
                    <a:lnTo>
                      <a:pt x="2597" y="837"/>
                    </a:lnTo>
                    <a:lnTo>
                      <a:pt x="2602" y="829"/>
                    </a:lnTo>
                    <a:lnTo>
                      <a:pt x="2609" y="823"/>
                    </a:lnTo>
                    <a:lnTo>
                      <a:pt x="2617" y="813"/>
                    </a:lnTo>
                    <a:lnTo>
                      <a:pt x="2626" y="805"/>
                    </a:lnTo>
                    <a:lnTo>
                      <a:pt x="2642" y="805"/>
                    </a:lnTo>
                    <a:lnTo>
                      <a:pt x="2661" y="805"/>
                    </a:lnTo>
                    <a:lnTo>
                      <a:pt x="2679" y="802"/>
                    </a:lnTo>
                    <a:lnTo>
                      <a:pt x="2698" y="797"/>
                    </a:lnTo>
                    <a:lnTo>
                      <a:pt x="2716" y="794"/>
                    </a:lnTo>
                    <a:lnTo>
                      <a:pt x="2735" y="790"/>
                    </a:lnTo>
                    <a:lnTo>
                      <a:pt x="2754" y="787"/>
                    </a:lnTo>
                    <a:lnTo>
                      <a:pt x="2772" y="789"/>
                    </a:lnTo>
                    <a:lnTo>
                      <a:pt x="2782" y="784"/>
                    </a:lnTo>
                    <a:lnTo>
                      <a:pt x="2796" y="777"/>
                    </a:lnTo>
                    <a:lnTo>
                      <a:pt x="2809" y="773"/>
                    </a:lnTo>
                    <a:lnTo>
                      <a:pt x="2823" y="769"/>
                    </a:lnTo>
                    <a:lnTo>
                      <a:pt x="2829" y="769"/>
                    </a:lnTo>
                    <a:lnTo>
                      <a:pt x="2836" y="769"/>
                    </a:lnTo>
                    <a:lnTo>
                      <a:pt x="2841" y="771"/>
                    </a:lnTo>
                    <a:lnTo>
                      <a:pt x="2846" y="774"/>
                    </a:lnTo>
                    <a:lnTo>
                      <a:pt x="2850" y="779"/>
                    </a:lnTo>
                    <a:lnTo>
                      <a:pt x="2853" y="784"/>
                    </a:lnTo>
                    <a:lnTo>
                      <a:pt x="2855" y="792"/>
                    </a:lnTo>
                    <a:lnTo>
                      <a:pt x="2855" y="800"/>
                    </a:lnTo>
                    <a:lnTo>
                      <a:pt x="2866" y="802"/>
                    </a:lnTo>
                    <a:lnTo>
                      <a:pt x="2876" y="802"/>
                    </a:lnTo>
                    <a:lnTo>
                      <a:pt x="2888" y="802"/>
                    </a:lnTo>
                    <a:lnTo>
                      <a:pt x="2900" y="802"/>
                    </a:lnTo>
                    <a:lnTo>
                      <a:pt x="2910" y="803"/>
                    </a:lnTo>
                    <a:lnTo>
                      <a:pt x="2922" y="803"/>
                    </a:lnTo>
                    <a:lnTo>
                      <a:pt x="2934" y="803"/>
                    </a:lnTo>
                    <a:lnTo>
                      <a:pt x="2946" y="803"/>
                    </a:lnTo>
                    <a:lnTo>
                      <a:pt x="2957" y="810"/>
                    </a:lnTo>
                    <a:lnTo>
                      <a:pt x="2969" y="811"/>
                    </a:lnTo>
                    <a:lnTo>
                      <a:pt x="2979" y="811"/>
                    </a:lnTo>
                    <a:lnTo>
                      <a:pt x="2988" y="808"/>
                    </a:lnTo>
                    <a:lnTo>
                      <a:pt x="2996" y="803"/>
                    </a:lnTo>
                    <a:lnTo>
                      <a:pt x="3003" y="795"/>
                    </a:lnTo>
                    <a:lnTo>
                      <a:pt x="3010" y="785"/>
                    </a:lnTo>
                    <a:lnTo>
                      <a:pt x="3015" y="776"/>
                    </a:lnTo>
                    <a:lnTo>
                      <a:pt x="3020" y="763"/>
                    </a:lnTo>
                    <a:lnTo>
                      <a:pt x="3023" y="751"/>
                    </a:lnTo>
                    <a:lnTo>
                      <a:pt x="3025" y="738"/>
                    </a:lnTo>
                    <a:lnTo>
                      <a:pt x="3026" y="726"/>
                    </a:lnTo>
                    <a:lnTo>
                      <a:pt x="3028" y="700"/>
                    </a:lnTo>
                    <a:lnTo>
                      <a:pt x="3025" y="677"/>
                    </a:lnTo>
                    <a:lnTo>
                      <a:pt x="3021" y="670"/>
                    </a:lnTo>
                    <a:lnTo>
                      <a:pt x="3020" y="662"/>
                    </a:lnTo>
                    <a:lnTo>
                      <a:pt x="3020" y="656"/>
                    </a:lnTo>
                    <a:lnTo>
                      <a:pt x="3021" y="649"/>
                    </a:lnTo>
                    <a:lnTo>
                      <a:pt x="3030" y="636"/>
                    </a:lnTo>
                    <a:lnTo>
                      <a:pt x="3043" y="624"/>
                    </a:lnTo>
                    <a:lnTo>
                      <a:pt x="3057" y="612"/>
                    </a:lnTo>
                    <a:lnTo>
                      <a:pt x="3068" y="599"/>
                    </a:lnTo>
                    <a:lnTo>
                      <a:pt x="3075" y="593"/>
                    </a:lnTo>
                    <a:lnTo>
                      <a:pt x="3079" y="586"/>
                    </a:lnTo>
                    <a:lnTo>
                      <a:pt x="3082" y="580"/>
                    </a:lnTo>
                    <a:lnTo>
                      <a:pt x="3082" y="572"/>
                    </a:lnTo>
                    <a:lnTo>
                      <a:pt x="3080" y="570"/>
                    </a:lnTo>
                    <a:lnTo>
                      <a:pt x="3077" y="568"/>
                    </a:lnTo>
                    <a:lnTo>
                      <a:pt x="3075" y="567"/>
                    </a:lnTo>
                    <a:lnTo>
                      <a:pt x="3072" y="564"/>
                    </a:lnTo>
                    <a:lnTo>
                      <a:pt x="3070" y="562"/>
                    </a:lnTo>
                    <a:lnTo>
                      <a:pt x="3067" y="560"/>
                    </a:lnTo>
                    <a:lnTo>
                      <a:pt x="3065" y="557"/>
                    </a:lnTo>
                    <a:lnTo>
                      <a:pt x="3062" y="555"/>
                    </a:lnTo>
                    <a:lnTo>
                      <a:pt x="3063" y="549"/>
                    </a:lnTo>
                    <a:lnTo>
                      <a:pt x="3063" y="541"/>
                    </a:lnTo>
                    <a:lnTo>
                      <a:pt x="3065" y="533"/>
                    </a:lnTo>
                    <a:lnTo>
                      <a:pt x="3067" y="523"/>
                    </a:lnTo>
                    <a:lnTo>
                      <a:pt x="3067" y="515"/>
                    </a:lnTo>
                    <a:lnTo>
                      <a:pt x="3067" y="505"/>
                    </a:lnTo>
                    <a:lnTo>
                      <a:pt x="3065" y="497"/>
                    </a:lnTo>
                    <a:lnTo>
                      <a:pt x="3062" y="489"/>
                    </a:lnTo>
                    <a:lnTo>
                      <a:pt x="3062" y="481"/>
                    </a:lnTo>
                    <a:lnTo>
                      <a:pt x="3062" y="475"/>
                    </a:lnTo>
                    <a:lnTo>
                      <a:pt x="3063" y="468"/>
                    </a:lnTo>
                    <a:lnTo>
                      <a:pt x="3065" y="463"/>
                    </a:lnTo>
                    <a:lnTo>
                      <a:pt x="3072" y="457"/>
                    </a:lnTo>
                    <a:lnTo>
                      <a:pt x="3080" y="450"/>
                    </a:lnTo>
                    <a:lnTo>
                      <a:pt x="3089" y="444"/>
                    </a:lnTo>
                    <a:lnTo>
                      <a:pt x="3099" y="436"/>
                    </a:lnTo>
                    <a:lnTo>
                      <a:pt x="3107" y="424"/>
                    </a:lnTo>
                    <a:lnTo>
                      <a:pt x="3116" y="408"/>
                    </a:lnTo>
                    <a:lnTo>
                      <a:pt x="3126" y="394"/>
                    </a:lnTo>
                    <a:lnTo>
                      <a:pt x="3122" y="387"/>
                    </a:lnTo>
                    <a:lnTo>
                      <a:pt x="3121" y="381"/>
                    </a:lnTo>
                    <a:lnTo>
                      <a:pt x="3117" y="374"/>
                    </a:lnTo>
                    <a:lnTo>
                      <a:pt x="3116" y="369"/>
                    </a:lnTo>
                    <a:lnTo>
                      <a:pt x="3112" y="363"/>
                    </a:lnTo>
                    <a:lnTo>
                      <a:pt x="3109" y="358"/>
                    </a:lnTo>
                    <a:lnTo>
                      <a:pt x="3107" y="351"/>
                    </a:lnTo>
                    <a:lnTo>
                      <a:pt x="3105" y="343"/>
                    </a:lnTo>
                    <a:lnTo>
                      <a:pt x="3094" y="345"/>
                    </a:lnTo>
                    <a:lnTo>
                      <a:pt x="3084" y="345"/>
                    </a:lnTo>
                    <a:lnTo>
                      <a:pt x="3075" y="345"/>
                    </a:lnTo>
                    <a:lnTo>
                      <a:pt x="3067" y="345"/>
                    </a:lnTo>
                    <a:lnTo>
                      <a:pt x="3058" y="343"/>
                    </a:lnTo>
                    <a:lnTo>
                      <a:pt x="3052" y="342"/>
                    </a:lnTo>
                    <a:lnTo>
                      <a:pt x="3043" y="340"/>
                    </a:lnTo>
                    <a:lnTo>
                      <a:pt x="3033" y="338"/>
                    </a:lnTo>
                    <a:lnTo>
                      <a:pt x="3023" y="340"/>
                    </a:lnTo>
                    <a:lnTo>
                      <a:pt x="3015" y="343"/>
                    </a:lnTo>
                    <a:lnTo>
                      <a:pt x="3004" y="343"/>
                    </a:lnTo>
                    <a:lnTo>
                      <a:pt x="2994" y="343"/>
                    </a:lnTo>
                    <a:lnTo>
                      <a:pt x="2972" y="342"/>
                    </a:lnTo>
                    <a:lnTo>
                      <a:pt x="2952" y="337"/>
                    </a:lnTo>
                    <a:lnTo>
                      <a:pt x="2932" y="330"/>
                    </a:lnTo>
                    <a:lnTo>
                      <a:pt x="2910" y="321"/>
                    </a:lnTo>
                    <a:lnTo>
                      <a:pt x="2888" y="311"/>
                    </a:lnTo>
                    <a:lnTo>
                      <a:pt x="2866" y="300"/>
                    </a:lnTo>
                    <a:lnTo>
                      <a:pt x="2824" y="274"/>
                    </a:lnTo>
                    <a:lnTo>
                      <a:pt x="2782" y="251"/>
                    </a:lnTo>
                    <a:lnTo>
                      <a:pt x="2762" y="240"/>
                    </a:lnTo>
                    <a:lnTo>
                      <a:pt x="2742" y="232"/>
                    </a:lnTo>
                    <a:lnTo>
                      <a:pt x="2722" y="225"/>
                    </a:lnTo>
                    <a:lnTo>
                      <a:pt x="2701" y="220"/>
                    </a:lnTo>
                    <a:lnTo>
                      <a:pt x="2686" y="219"/>
                    </a:lnTo>
                    <a:lnTo>
                      <a:pt x="2673" y="215"/>
                    </a:lnTo>
                    <a:lnTo>
                      <a:pt x="2658" y="212"/>
                    </a:lnTo>
                    <a:lnTo>
                      <a:pt x="2644" y="209"/>
                    </a:lnTo>
                    <a:lnTo>
                      <a:pt x="2632" y="206"/>
                    </a:lnTo>
                    <a:lnTo>
                      <a:pt x="2621" y="204"/>
                    </a:lnTo>
                    <a:lnTo>
                      <a:pt x="2609" y="204"/>
                    </a:lnTo>
                    <a:lnTo>
                      <a:pt x="2599" y="207"/>
                    </a:lnTo>
                    <a:lnTo>
                      <a:pt x="2589" y="220"/>
                    </a:lnTo>
                    <a:lnTo>
                      <a:pt x="2582" y="228"/>
                    </a:lnTo>
                    <a:lnTo>
                      <a:pt x="2575" y="235"/>
                    </a:lnTo>
                    <a:lnTo>
                      <a:pt x="2568" y="240"/>
                    </a:lnTo>
                    <a:lnTo>
                      <a:pt x="2562" y="241"/>
                    </a:lnTo>
                    <a:lnTo>
                      <a:pt x="2555" y="243"/>
                    </a:lnTo>
                    <a:lnTo>
                      <a:pt x="2545" y="243"/>
                    </a:lnTo>
                    <a:lnTo>
                      <a:pt x="2533" y="245"/>
                    </a:lnTo>
                    <a:lnTo>
                      <a:pt x="2528" y="236"/>
                    </a:lnTo>
                    <a:lnTo>
                      <a:pt x="2526" y="228"/>
                    </a:lnTo>
                    <a:lnTo>
                      <a:pt x="2525" y="219"/>
                    </a:lnTo>
                    <a:lnTo>
                      <a:pt x="2523" y="207"/>
                    </a:lnTo>
                    <a:lnTo>
                      <a:pt x="2519" y="198"/>
                    </a:lnTo>
                    <a:lnTo>
                      <a:pt x="2514" y="188"/>
                    </a:lnTo>
                    <a:lnTo>
                      <a:pt x="2511" y="183"/>
                    </a:lnTo>
                    <a:lnTo>
                      <a:pt x="2504" y="178"/>
                    </a:lnTo>
                    <a:lnTo>
                      <a:pt x="2499" y="173"/>
                    </a:lnTo>
                    <a:lnTo>
                      <a:pt x="2491" y="170"/>
                    </a:lnTo>
                    <a:lnTo>
                      <a:pt x="2474" y="168"/>
                    </a:lnTo>
                    <a:lnTo>
                      <a:pt x="2459" y="165"/>
                    </a:lnTo>
                    <a:lnTo>
                      <a:pt x="2447" y="162"/>
                    </a:lnTo>
                    <a:lnTo>
                      <a:pt x="2435" y="159"/>
                    </a:lnTo>
                    <a:lnTo>
                      <a:pt x="2425" y="157"/>
                    </a:lnTo>
                    <a:lnTo>
                      <a:pt x="2415" y="160"/>
                    </a:lnTo>
                    <a:lnTo>
                      <a:pt x="2403" y="165"/>
                    </a:lnTo>
                    <a:lnTo>
                      <a:pt x="2388" y="175"/>
                    </a:lnTo>
                    <a:lnTo>
                      <a:pt x="2380" y="177"/>
                    </a:lnTo>
                    <a:lnTo>
                      <a:pt x="2370" y="178"/>
                    </a:lnTo>
                    <a:lnTo>
                      <a:pt x="2361" y="180"/>
                    </a:lnTo>
                    <a:lnTo>
                      <a:pt x="2353" y="181"/>
                    </a:lnTo>
                    <a:lnTo>
                      <a:pt x="2346" y="183"/>
                    </a:lnTo>
                    <a:lnTo>
                      <a:pt x="2339" y="185"/>
                    </a:lnTo>
                    <a:lnTo>
                      <a:pt x="2333" y="186"/>
                    </a:lnTo>
                    <a:lnTo>
                      <a:pt x="2326" y="188"/>
                    </a:lnTo>
                    <a:lnTo>
                      <a:pt x="2317" y="183"/>
                    </a:lnTo>
                    <a:lnTo>
                      <a:pt x="2311" y="177"/>
                    </a:lnTo>
                    <a:lnTo>
                      <a:pt x="2304" y="170"/>
                    </a:lnTo>
                    <a:lnTo>
                      <a:pt x="2299" y="164"/>
                    </a:lnTo>
                    <a:lnTo>
                      <a:pt x="2294" y="157"/>
                    </a:lnTo>
                    <a:lnTo>
                      <a:pt x="2287" y="151"/>
                    </a:lnTo>
                    <a:lnTo>
                      <a:pt x="2282" y="143"/>
                    </a:lnTo>
                    <a:lnTo>
                      <a:pt x="2275" y="136"/>
                    </a:lnTo>
                    <a:lnTo>
                      <a:pt x="2272" y="120"/>
                    </a:lnTo>
                    <a:lnTo>
                      <a:pt x="2269" y="105"/>
                    </a:lnTo>
                    <a:lnTo>
                      <a:pt x="2264" y="96"/>
                    </a:lnTo>
                    <a:lnTo>
                      <a:pt x="2258" y="89"/>
                    </a:lnTo>
                    <a:lnTo>
                      <a:pt x="2252" y="84"/>
                    </a:lnTo>
                    <a:lnTo>
                      <a:pt x="2245" y="81"/>
                    </a:lnTo>
                    <a:lnTo>
                      <a:pt x="2238" y="81"/>
                    </a:lnTo>
                    <a:lnTo>
                      <a:pt x="2230" y="83"/>
                    </a:lnTo>
                    <a:lnTo>
                      <a:pt x="2210" y="91"/>
                    </a:lnTo>
                    <a:lnTo>
                      <a:pt x="2189" y="102"/>
                    </a:lnTo>
                    <a:lnTo>
                      <a:pt x="2164" y="113"/>
                    </a:lnTo>
                    <a:lnTo>
                      <a:pt x="2137" y="123"/>
                    </a:lnTo>
                    <a:lnTo>
                      <a:pt x="2130" y="123"/>
                    </a:lnTo>
                    <a:lnTo>
                      <a:pt x="2124" y="121"/>
                    </a:lnTo>
                    <a:lnTo>
                      <a:pt x="2117" y="120"/>
                    </a:lnTo>
                    <a:lnTo>
                      <a:pt x="2110" y="120"/>
                    </a:lnTo>
                    <a:lnTo>
                      <a:pt x="2102" y="118"/>
                    </a:lnTo>
                    <a:lnTo>
                      <a:pt x="2095" y="117"/>
                    </a:lnTo>
                    <a:lnTo>
                      <a:pt x="2088" y="115"/>
                    </a:lnTo>
                    <a:lnTo>
                      <a:pt x="2082" y="113"/>
                    </a:lnTo>
                    <a:lnTo>
                      <a:pt x="2061" y="117"/>
                    </a:lnTo>
                    <a:lnTo>
                      <a:pt x="2041" y="118"/>
                    </a:lnTo>
                    <a:lnTo>
                      <a:pt x="2019" y="121"/>
                    </a:lnTo>
                    <a:lnTo>
                      <a:pt x="1999" y="121"/>
                    </a:lnTo>
                    <a:lnTo>
                      <a:pt x="1977" y="121"/>
                    </a:lnTo>
                    <a:lnTo>
                      <a:pt x="1959" y="120"/>
                    </a:lnTo>
                    <a:lnTo>
                      <a:pt x="1939" y="115"/>
                    </a:lnTo>
                    <a:lnTo>
                      <a:pt x="1922" y="107"/>
                    </a:lnTo>
                    <a:lnTo>
                      <a:pt x="1917" y="107"/>
                    </a:lnTo>
                    <a:lnTo>
                      <a:pt x="1910" y="105"/>
                    </a:lnTo>
                    <a:lnTo>
                      <a:pt x="1905" y="104"/>
                    </a:lnTo>
                    <a:lnTo>
                      <a:pt x="1900" y="102"/>
                    </a:lnTo>
                    <a:lnTo>
                      <a:pt x="1895" y="102"/>
                    </a:lnTo>
                    <a:lnTo>
                      <a:pt x="1888" y="100"/>
                    </a:lnTo>
                    <a:lnTo>
                      <a:pt x="1883" y="99"/>
                    </a:lnTo>
                    <a:lnTo>
                      <a:pt x="1878" y="97"/>
                    </a:lnTo>
                    <a:lnTo>
                      <a:pt x="1878" y="91"/>
                    </a:lnTo>
                    <a:lnTo>
                      <a:pt x="1878" y="83"/>
                    </a:lnTo>
                    <a:lnTo>
                      <a:pt x="1880" y="76"/>
                    </a:lnTo>
                    <a:lnTo>
                      <a:pt x="1880" y="68"/>
                    </a:lnTo>
                    <a:lnTo>
                      <a:pt x="1880" y="60"/>
                    </a:lnTo>
                    <a:lnTo>
                      <a:pt x="1880" y="53"/>
                    </a:lnTo>
                    <a:lnTo>
                      <a:pt x="1881" y="45"/>
                    </a:lnTo>
                    <a:lnTo>
                      <a:pt x="1881" y="39"/>
                    </a:lnTo>
                    <a:lnTo>
                      <a:pt x="1863" y="36"/>
                    </a:lnTo>
                    <a:lnTo>
                      <a:pt x="1844" y="31"/>
                    </a:lnTo>
                    <a:lnTo>
                      <a:pt x="1826" y="26"/>
                    </a:lnTo>
                    <a:lnTo>
                      <a:pt x="1809" y="19"/>
                    </a:lnTo>
                    <a:lnTo>
                      <a:pt x="1792" y="13"/>
                    </a:lnTo>
                    <a:lnTo>
                      <a:pt x="1775" y="6"/>
                    </a:lnTo>
                    <a:lnTo>
                      <a:pt x="1758" y="3"/>
                    </a:lnTo>
                    <a:lnTo>
                      <a:pt x="1740" y="0"/>
                    </a:lnTo>
                    <a:lnTo>
                      <a:pt x="1733" y="10"/>
                    </a:lnTo>
                    <a:lnTo>
                      <a:pt x="1728" y="18"/>
                    </a:lnTo>
                    <a:lnTo>
                      <a:pt x="1726" y="24"/>
                    </a:lnTo>
                    <a:lnTo>
                      <a:pt x="1725" y="32"/>
                    </a:lnTo>
                    <a:lnTo>
                      <a:pt x="1725" y="39"/>
                    </a:lnTo>
                    <a:lnTo>
                      <a:pt x="1725" y="45"/>
                    </a:lnTo>
                    <a:lnTo>
                      <a:pt x="1725" y="52"/>
                    </a:lnTo>
                    <a:lnTo>
                      <a:pt x="1726" y="60"/>
                    </a:lnTo>
                    <a:lnTo>
                      <a:pt x="1720" y="57"/>
                    </a:lnTo>
                    <a:lnTo>
                      <a:pt x="1715" y="57"/>
                    </a:lnTo>
                    <a:lnTo>
                      <a:pt x="1710" y="55"/>
                    </a:lnTo>
                    <a:lnTo>
                      <a:pt x="1706" y="53"/>
                    </a:lnTo>
                    <a:lnTo>
                      <a:pt x="1701" y="53"/>
                    </a:lnTo>
                    <a:lnTo>
                      <a:pt x="1698" y="53"/>
                    </a:lnTo>
                    <a:lnTo>
                      <a:pt x="1693" y="53"/>
                    </a:lnTo>
                    <a:lnTo>
                      <a:pt x="1689" y="53"/>
                    </a:lnTo>
                    <a:lnTo>
                      <a:pt x="1674" y="58"/>
                    </a:lnTo>
                    <a:lnTo>
                      <a:pt x="1664" y="63"/>
                    </a:lnTo>
                    <a:lnTo>
                      <a:pt x="1657" y="65"/>
                    </a:lnTo>
                    <a:lnTo>
                      <a:pt x="1652" y="65"/>
                    </a:lnTo>
                    <a:lnTo>
                      <a:pt x="1649" y="65"/>
                    </a:lnTo>
                    <a:lnTo>
                      <a:pt x="1644" y="63"/>
                    </a:lnTo>
                    <a:lnTo>
                      <a:pt x="1635" y="58"/>
                    </a:lnTo>
                    <a:lnTo>
                      <a:pt x="1624" y="53"/>
                    </a:lnTo>
                    <a:lnTo>
                      <a:pt x="1614" y="60"/>
                    </a:lnTo>
                    <a:lnTo>
                      <a:pt x="1600" y="70"/>
                    </a:lnTo>
                    <a:lnTo>
                      <a:pt x="1587" y="83"/>
                    </a:lnTo>
                    <a:lnTo>
                      <a:pt x="1571" y="99"/>
                    </a:lnTo>
                    <a:lnTo>
                      <a:pt x="1556" y="113"/>
                    </a:lnTo>
                    <a:lnTo>
                      <a:pt x="1543" y="130"/>
                    </a:lnTo>
                    <a:lnTo>
                      <a:pt x="1533" y="141"/>
                    </a:lnTo>
                    <a:lnTo>
                      <a:pt x="1526" y="151"/>
                    </a:lnTo>
                    <a:lnTo>
                      <a:pt x="1523" y="149"/>
                    </a:lnTo>
                    <a:lnTo>
                      <a:pt x="1519" y="147"/>
                    </a:lnTo>
                    <a:lnTo>
                      <a:pt x="1516" y="146"/>
                    </a:lnTo>
                    <a:lnTo>
                      <a:pt x="1512" y="146"/>
                    </a:lnTo>
                    <a:lnTo>
                      <a:pt x="1509" y="146"/>
                    </a:lnTo>
                    <a:lnTo>
                      <a:pt x="1506" y="144"/>
                    </a:lnTo>
                    <a:lnTo>
                      <a:pt x="1501" y="144"/>
                    </a:lnTo>
                    <a:lnTo>
                      <a:pt x="1494" y="144"/>
                    </a:lnTo>
                    <a:lnTo>
                      <a:pt x="1479" y="136"/>
                    </a:lnTo>
                    <a:lnTo>
                      <a:pt x="1464" y="128"/>
                    </a:lnTo>
                    <a:lnTo>
                      <a:pt x="1450" y="120"/>
                    </a:lnTo>
                    <a:lnTo>
                      <a:pt x="1435" y="112"/>
                    </a:lnTo>
                    <a:lnTo>
                      <a:pt x="1428" y="110"/>
                    </a:lnTo>
                    <a:lnTo>
                      <a:pt x="1422" y="109"/>
                    </a:lnTo>
                    <a:lnTo>
                      <a:pt x="1415" y="107"/>
                    </a:lnTo>
                    <a:lnTo>
                      <a:pt x="1408" y="107"/>
                    </a:lnTo>
                    <a:lnTo>
                      <a:pt x="1401" y="109"/>
                    </a:lnTo>
                    <a:lnTo>
                      <a:pt x="1395" y="112"/>
                    </a:lnTo>
                    <a:lnTo>
                      <a:pt x="1386" y="115"/>
                    </a:lnTo>
                    <a:lnTo>
                      <a:pt x="1379" y="121"/>
                    </a:lnTo>
                    <a:lnTo>
                      <a:pt x="1361" y="112"/>
                    </a:lnTo>
                    <a:lnTo>
                      <a:pt x="1347" y="104"/>
                    </a:lnTo>
                    <a:lnTo>
                      <a:pt x="1334" y="99"/>
                    </a:lnTo>
                    <a:lnTo>
                      <a:pt x="1324" y="96"/>
                    </a:lnTo>
                    <a:lnTo>
                      <a:pt x="1315" y="96"/>
                    </a:lnTo>
                    <a:lnTo>
                      <a:pt x="1305" y="99"/>
                    </a:lnTo>
                    <a:lnTo>
                      <a:pt x="1295" y="105"/>
                    </a:lnTo>
                    <a:lnTo>
                      <a:pt x="1283" y="115"/>
                    </a:lnTo>
                    <a:lnTo>
                      <a:pt x="1278" y="115"/>
                    </a:lnTo>
                    <a:lnTo>
                      <a:pt x="1275" y="113"/>
                    </a:lnTo>
                    <a:lnTo>
                      <a:pt x="1270" y="112"/>
                    </a:lnTo>
                    <a:lnTo>
                      <a:pt x="1267" y="110"/>
                    </a:lnTo>
                    <a:lnTo>
                      <a:pt x="1265" y="109"/>
                    </a:lnTo>
                    <a:lnTo>
                      <a:pt x="1262" y="107"/>
                    </a:lnTo>
                    <a:lnTo>
                      <a:pt x="1258" y="104"/>
                    </a:lnTo>
                    <a:lnTo>
                      <a:pt x="1253" y="102"/>
                    </a:lnTo>
                    <a:lnTo>
                      <a:pt x="1238" y="104"/>
                    </a:lnTo>
                    <a:lnTo>
                      <a:pt x="1225" y="107"/>
                    </a:lnTo>
                    <a:lnTo>
                      <a:pt x="1216" y="113"/>
                    </a:lnTo>
                    <a:lnTo>
                      <a:pt x="1208" y="120"/>
                    </a:lnTo>
                    <a:lnTo>
                      <a:pt x="1199" y="126"/>
                    </a:lnTo>
                    <a:lnTo>
                      <a:pt x="1189" y="131"/>
                    </a:lnTo>
                    <a:lnTo>
                      <a:pt x="1184" y="133"/>
                    </a:lnTo>
                    <a:lnTo>
                      <a:pt x="1177" y="133"/>
                    </a:lnTo>
                    <a:lnTo>
                      <a:pt x="1171" y="133"/>
                    </a:lnTo>
                    <a:lnTo>
                      <a:pt x="1162" y="131"/>
                    </a:lnTo>
                    <a:lnTo>
                      <a:pt x="1164" y="126"/>
                    </a:lnTo>
                    <a:lnTo>
                      <a:pt x="1164" y="121"/>
                    </a:lnTo>
                    <a:lnTo>
                      <a:pt x="1164" y="115"/>
                    </a:lnTo>
                    <a:lnTo>
                      <a:pt x="1161" y="109"/>
                    </a:lnTo>
                    <a:lnTo>
                      <a:pt x="1154" y="96"/>
                    </a:lnTo>
                    <a:lnTo>
                      <a:pt x="1145" y="83"/>
                    </a:lnTo>
                    <a:lnTo>
                      <a:pt x="1134" y="70"/>
                    </a:lnTo>
                    <a:lnTo>
                      <a:pt x="1123" y="58"/>
                    </a:lnTo>
                    <a:lnTo>
                      <a:pt x="1115" y="47"/>
                    </a:lnTo>
                    <a:lnTo>
                      <a:pt x="1108" y="39"/>
                    </a:lnTo>
                    <a:lnTo>
                      <a:pt x="1100" y="39"/>
                    </a:lnTo>
                    <a:lnTo>
                      <a:pt x="1091" y="39"/>
                    </a:lnTo>
                    <a:lnTo>
                      <a:pt x="1085" y="37"/>
                    </a:lnTo>
                    <a:lnTo>
                      <a:pt x="1078" y="37"/>
                    </a:lnTo>
                    <a:lnTo>
                      <a:pt x="1071" y="36"/>
                    </a:lnTo>
                    <a:lnTo>
                      <a:pt x="1065" y="36"/>
                    </a:lnTo>
                    <a:lnTo>
                      <a:pt x="1058" y="34"/>
                    </a:lnTo>
                    <a:lnTo>
                      <a:pt x="1051" y="31"/>
                    </a:lnTo>
                    <a:lnTo>
                      <a:pt x="1043" y="50"/>
                    </a:lnTo>
                    <a:lnTo>
                      <a:pt x="1036" y="65"/>
                    </a:lnTo>
                    <a:lnTo>
                      <a:pt x="1031" y="75"/>
                    </a:lnTo>
                    <a:lnTo>
                      <a:pt x="1024" y="79"/>
                    </a:lnTo>
                    <a:lnTo>
                      <a:pt x="1016" y="83"/>
                    </a:lnTo>
                    <a:lnTo>
                      <a:pt x="1006" y="83"/>
                    </a:lnTo>
                    <a:lnTo>
                      <a:pt x="992" y="79"/>
                    </a:lnTo>
                    <a:lnTo>
                      <a:pt x="975" y="75"/>
                    </a:lnTo>
                    <a:lnTo>
                      <a:pt x="974" y="78"/>
                    </a:lnTo>
                    <a:lnTo>
                      <a:pt x="974" y="79"/>
                    </a:lnTo>
                    <a:lnTo>
                      <a:pt x="972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9" y="87"/>
                    </a:lnTo>
                    <a:lnTo>
                      <a:pt x="967" y="91"/>
                    </a:lnTo>
                    <a:lnTo>
                      <a:pt x="967" y="92"/>
                    </a:lnTo>
                    <a:lnTo>
                      <a:pt x="965" y="91"/>
                    </a:lnTo>
                    <a:lnTo>
                      <a:pt x="962" y="91"/>
                    </a:lnTo>
                    <a:lnTo>
                      <a:pt x="960" y="89"/>
                    </a:lnTo>
                    <a:lnTo>
                      <a:pt x="958" y="89"/>
                    </a:lnTo>
                    <a:lnTo>
                      <a:pt x="957" y="89"/>
                    </a:lnTo>
                    <a:lnTo>
                      <a:pt x="955" y="89"/>
                    </a:lnTo>
                    <a:lnTo>
                      <a:pt x="955" y="87"/>
                    </a:lnTo>
                    <a:lnTo>
                      <a:pt x="953" y="87"/>
                    </a:lnTo>
                    <a:lnTo>
                      <a:pt x="947" y="94"/>
                    </a:lnTo>
                    <a:lnTo>
                      <a:pt x="942" y="102"/>
                    </a:lnTo>
                    <a:lnTo>
                      <a:pt x="937" y="110"/>
                    </a:lnTo>
                    <a:lnTo>
                      <a:pt x="933" y="120"/>
                    </a:lnTo>
                    <a:lnTo>
                      <a:pt x="928" y="141"/>
                    </a:lnTo>
                    <a:lnTo>
                      <a:pt x="925" y="162"/>
                    </a:lnTo>
                    <a:lnTo>
                      <a:pt x="926" y="173"/>
                    </a:lnTo>
                    <a:lnTo>
                      <a:pt x="926" y="183"/>
                    </a:lnTo>
                    <a:lnTo>
                      <a:pt x="928" y="193"/>
                    </a:lnTo>
                    <a:lnTo>
                      <a:pt x="932" y="202"/>
                    </a:lnTo>
                    <a:lnTo>
                      <a:pt x="935" y="209"/>
                    </a:lnTo>
                    <a:lnTo>
                      <a:pt x="940" y="215"/>
                    </a:lnTo>
                    <a:lnTo>
                      <a:pt x="947" y="220"/>
                    </a:lnTo>
                    <a:lnTo>
                      <a:pt x="953" y="223"/>
                    </a:lnTo>
                    <a:lnTo>
                      <a:pt x="952" y="253"/>
                    </a:lnTo>
                    <a:lnTo>
                      <a:pt x="948" y="287"/>
                    </a:lnTo>
                    <a:lnTo>
                      <a:pt x="942" y="322"/>
                    </a:lnTo>
                    <a:lnTo>
                      <a:pt x="933" y="358"/>
                    </a:lnTo>
                    <a:lnTo>
                      <a:pt x="928" y="374"/>
                    </a:lnTo>
                    <a:lnTo>
                      <a:pt x="921" y="392"/>
                    </a:lnTo>
                    <a:lnTo>
                      <a:pt x="915" y="407"/>
                    </a:lnTo>
                    <a:lnTo>
                      <a:pt x="906" y="421"/>
                    </a:lnTo>
                    <a:lnTo>
                      <a:pt x="898" y="432"/>
                    </a:lnTo>
                    <a:lnTo>
                      <a:pt x="888" y="444"/>
                    </a:lnTo>
                    <a:lnTo>
                      <a:pt x="876" y="452"/>
                    </a:lnTo>
                    <a:lnTo>
                      <a:pt x="866" y="458"/>
                    </a:lnTo>
                    <a:lnTo>
                      <a:pt x="852" y="471"/>
                    </a:lnTo>
                    <a:lnTo>
                      <a:pt x="844" y="484"/>
                    </a:lnTo>
                    <a:lnTo>
                      <a:pt x="839" y="496"/>
                    </a:lnTo>
                    <a:lnTo>
                      <a:pt x="834" y="509"/>
                    </a:lnTo>
                    <a:lnTo>
                      <a:pt x="830" y="520"/>
                    </a:lnTo>
                    <a:lnTo>
                      <a:pt x="829" y="533"/>
                    </a:lnTo>
                    <a:lnTo>
                      <a:pt x="827" y="544"/>
                    </a:lnTo>
                    <a:lnTo>
                      <a:pt x="824" y="557"/>
                    </a:lnTo>
                    <a:lnTo>
                      <a:pt x="815" y="557"/>
                    </a:lnTo>
                    <a:lnTo>
                      <a:pt x="807" y="559"/>
                    </a:lnTo>
                    <a:lnTo>
                      <a:pt x="800" y="560"/>
                    </a:lnTo>
                    <a:lnTo>
                      <a:pt x="793" y="562"/>
                    </a:lnTo>
                    <a:lnTo>
                      <a:pt x="788" y="564"/>
                    </a:lnTo>
                    <a:lnTo>
                      <a:pt x="783" y="565"/>
                    </a:lnTo>
                    <a:lnTo>
                      <a:pt x="778" y="567"/>
                    </a:lnTo>
                    <a:lnTo>
                      <a:pt x="775" y="570"/>
                    </a:lnTo>
                    <a:lnTo>
                      <a:pt x="765" y="575"/>
                    </a:lnTo>
                    <a:lnTo>
                      <a:pt x="760" y="583"/>
                    </a:lnTo>
                    <a:lnTo>
                      <a:pt x="756" y="590"/>
                    </a:lnTo>
                    <a:lnTo>
                      <a:pt x="753" y="598"/>
                    </a:lnTo>
                    <a:lnTo>
                      <a:pt x="750" y="607"/>
                    </a:lnTo>
                    <a:lnTo>
                      <a:pt x="746" y="617"/>
                    </a:lnTo>
                    <a:lnTo>
                      <a:pt x="740" y="627"/>
                    </a:lnTo>
                    <a:lnTo>
                      <a:pt x="731" y="636"/>
                    </a:lnTo>
                    <a:lnTo>
                      <a:pt x="724" y="648"/>
                    </a:lnTo>
                    <a:lnTo>
                      <a:pt x="718" y="659"/>
                    </a:lnTo>
                    <a:lnTo>
                      <a:pt x="709" y="669"/>
                    </a:lnTo>
                    <a:lnTo>
                      <a:pt x="701" y="677"/>
                    </a:lnTo>
                    <a:lnTo>
                      <a:pt x="692" y="685"/>
                    </a:lnTo>
                    <a:lnTo>
                      <a:pt x="684" y="692"/>
                    </a:lnTo>
                    <a:lnTo>
                      <a:pt x="674" y="698"/>
                    </a:lnTo>
                    <a:lnTo>
                      <a:pt x="665" y="703"/>
                    </a:lnTo>
                    <a:lnTo>
                      <a:pt x="664" y="722"/>
                    </a:lnTo>
                    <a:lnTo>
                      <a:pt x="659" y="738"/>
                    </a:lnTo>
                    <a:lnTo>
                      <a:pt x="654" y="753"/>
                    </a:lnTo>
                    <a:lnTo>
                      <a:pt x="647" y="768"/>
                    </a:lnTo>
                    <a:lnTo>
                      <a:pt x="640" y="781"/>
                    </a:lnTo>
                    <a:lnTo>
                      <a:pt x="635" y="795"/>
                    </a:lnTo>
                    <a:lnTo>
                      <a:pt x="632" y="808"/>
                    </a:lnTo>
                    <a:lnTo>
                      <a:pt x="630" y="823"/>
                    </a:lnTo>
                    <a:lnTo>
                      <a:pt x="627" y="831"/>
                    </a:lnTo>
                    <a:lnTo>
                      <a:pt x="627" y="839"/>
                    </a:lnTo>
                    <a:lnTo>
                      <a:pt x="627" y="844"/>
                    </a:lnTo>
                    <a:lnTo>
                      <a:pt x="627" y="850"/>
                    </a:lnTo>
                    <a:lnTo>
                      <a:pt x="628" y="855"/>
                    </a:lnTo>
                    <a:lnTo>
                      <a:pt x="630" y="862"/>
                    </a:lnTo>
                    <a:lnTo>
                      <a:pt x="632" y="866"/>
                    </a:lnTo>
                    <a:lnTo>
                      <a:pt x="633" y="875"/>
                    </a:lnTo>
                    <a:lnTo>
                      <a:pt x="642" y="878"/>
                    </a:lnTo>
                    <a:lnTo>
                      <a:pt x="650" y="883"/>
                    </a:lnTo>
                    <a:lnTo>
                      <a:pt x="659" y="886"/>
                    </a:lnTo>
                    <a:lnTo>
                      <a:pt x="667" y="891"/>
                    </a:lnTo>
                    <a:lnTo>
                      <a:pt x="676" y="894"/>
                    </a:lnTo>
                    <a:lnTo>
                      <a:pt x="684" y="897"/>
                    </a:lnTo>
                    <a:lnTo>
                      <a:pt x="694" y="900"/>
                    </a:lnTo>
                    <a:lnTo>
                      <a:pt x="703" y="902"/>
                    </a:lnTo>
                    <a:lnTo>
                      <a:pt x="706" y="907"/>
                    </a:lnTo>
                    <a:lnTo>
                      <a:pt x="709" y="912"/>
                    </a:lnTo>
                    <a:lnTo>
                      <a:pt x="714" y="915"/>
                    </a:lnTo>
                    <a:lnTo>
                      <a:pt x="719" y="918"/>
                    </a:lnTo>
                    <a:lnTo>
                      <a:pt x="731" y="921"/>
                    </a:lnTo>
                    <a:lnTo>
                      <a:pt x="746" y="923"/>
                    </a:lnTo>
                    <a:lnTo>
                      <a:pt x="760" y="925"/>
                    </a:lnTo>
                    <a:lnTo>
                      <a:pt x="772" y="930"/>
                    </a:lnTo>
                    <a:lnTo>
                      <a:pt x="777" y="933"/>
                    </a:lnTo>
                    <a:lnTo>
                      <a:pt x="780" y="936"/>
                    </a:lnTo>
                    <a:lnTo>
                      <a:pt x="785" y="941"/>
                    </a:lnTo>
                    <a:lnTo>
                      <a:pt x="787" y="947"/>
                    </a:lnTo>
                    <a:lnTo>
                      <a:pt x="788" y="947"/>
                    </a:lnTo>
                    <a:lnTo>
                      <a:pt x="790" y="949"/>
                    </a:lnTo>
                    <a:lnTo>
                      <a:pt x="792" y="951"/>
                    </a:lnTo>
                    <a:lnTo>
                      <a:pt x="793" y="951"/>
                    </a:lnTo>
                    <a:lnTo>
                      <a:pt x="797" y="951"/>
                    </a:lnTo>
                    <a:lnTo>
                      <a:pt x="798" y="952"/>
                    </a:lnTo>
                    <a:lnTo>
                      <a:pt x="804" y="952"/>
                    </a:lnTo>
                    <a:lnTo>
                      <a:pt x="809" y="952"/>
                    </a:lnTo>
                    <a:lnTo>
                      <a:pt x="812" y="959"/>
                    </a:lnTo>
                    <a:lnTo>
                      <a:pt x="817" y="965"/>
                    </a:lnTo>
                    <a:lnTo>
                      <a:pt x="824" y="972"/>
                    </a:lnTo>
                    <a:lnTo>
                      <a:pt x="829" y="978"/>
                    </a:lnTo>
                    <a:lnTo>
                      <a:pt x="837" y="983"/>
                    </a:lnTo>
                    <a:lnTo>
                      <a:pt x="844" y="990"/>
                    </a:lnTo>
                    <a:lnTo>
                      <a:pt x="852" y="993"/>
                    </a:lnTo>
                    <a:lnTo>
                      <a:pt x="859" y="998"/>
                    </a:lnTo>
                    <a:lnTo>
                      <a:pt x="859" y="1001"/>
                    </a:lnTo>
                    <a:lnTo>
                      <a:pt x="859" y="1006"/>
                    </a:lnTo>
                    <a:lnTo>
                      <a:pt x="861" y="1009"/>
                    </a:lnTo>
                    <a:lnTo>
                      <a:pt x="861" y="1012"/>
                    </a:lnTo>
                    <a:lnTo>
                      <a:pt x="861" y="1017"/>
                    </a:lnTo>
                    <a:lnTo>
                      <a:pt x="862" y="1020"/>
                    </a:lnTo>
                    <a:lnTo>
                      <a:pt x="862" y="1025"/>
                    </a:lnTo>
                    <a:lnTo>
                      <a:pt x="862" y="1028"/>
                    </a:lnTo>
                    <a:lnTo>
                      <a:pt x="857" y="1032"/>
                    </a:lnTo>
                    <a:lnTo>
                      <a:pt x="854" y="1035"/>
                    </a:lnTo>
                    <a:lnTo>
                      <a:pt x="849" y="1036"/>
                    </a:lnTo>
                    <a:lnTo>
                      <a:pt x="846" y="1040"/>
                    </a:lnTo>
                    <a:lnTo>
                      <a:pt x="844" y="1043"/>
                    </a:lnTo>
                    <a:lnTo>
                      <a:pt x="841" y="1045"/>
                    </a:lnTo>
                    <a:lnTo>
                      <a:pt x="839" y="1046"/>
                    </a:lnTo>
                    <a:lnTo>
                      <a:pt x="839" y="1046"/>
                    </a:lnTo>
                    <a:lnTo>
                      <a:pt x="837" y="1045"/>
                    </a:lnTo>
                    <a:lnTo>
                      <a:pt x="810" y="1045"/>
                    </a:lnTo>
                    <a:lnTo>
                      <a:pt x="787" y="1045"/>
                    </a:lnTo>
                    <a:lnTo>
                      <a:pt x="768" y="1048"/>
                    </a:lnTo>
                    <a:lnTo>
                      <a:pt x="751" y="1053"/>
                    </a:lnTo>
                    <a:lnTo>
                      <a:pt x="738" y="1058"/>
                    </a:lnTo>
                    <a:lnTo>
                      <a:pt x="728" y="1064"/>
                    </a:lnTo>
                    <a:lnTo>
                      <a:pt x="718" y="1072"/>
                    </a:lnTo>
                    <a:lnTo>
                      <a:pt x="711" y="1082"/>
                    </a:lnTo>
                    <a:lnTo>
                      <a:pt x="701" y="1103"/>
                    </a:lnTo>
                    <a:lnTo>
                      <a:pt x="692" y="1129"/>
                    </a:lnTo>
                    <a:lnTo>
                      <a:pt x="682" y="1160"/>
                    </a:lnTo>
                    <a:lnTo>
                      <a:pt x="669" y="1190"/>
                    </a:lnTo>
                    <a:lnTo>
                      <a:pt x="665" y="1190"/>
                    </a:lnTo>
                    <a:lnTo>
                      <a:pt x="657" y="1190"/>
                    </a:lnTo>
                    <a:lnTo>
                      <a:pt x="645" y="1190"/>
                    </a:lnTo>
                    <a:lnTo>
                      <a:pt x="633" y="1190"/>
                    </a:lnTo>
                    <a:lnTo>
                      <a:pt x="623" y="1190"/>
                    </a:lnTo>
                    <a:lnTo>
                      <a:pt x="613" y="1190"/>
                    </a:lnTo>
                    <a:lnTo>
                      <a:pt x="605" y="1189"/>
                    </a:lnTo>
                    <a:lnTo>
                      <a:pt x="603" y="1189"/>
                    </a:lnTo>
                    <a:lnTo>
                      <a:pt x="601" y="1192"/>
                    </a:lnTo>
                    <a:lnTo>
                      <a:pt x="601" y="1198"/>
                    </a:lnTo>
                    <a:lnTo>
                      <a:pt x="598" y="1207"/>
                    </a:lnTo>
                    <a:lnTo>
                      <a:pt x="596" y="1215"/>
                    </a:lnTo>
                    <a:lnTo>
                      <a:pt x="593" y="1224"/>
                    </a:lnTo>
                    <a:lnTo>
                      <a:pt x="591" y="1232"/>
                    </a:lnTo>
                    <a:lnTo>
                      <a:pt x="590" y="1237"/>
                    </a:lnTo>
                    <a:lnTo>
                      <a:pt x="590" y="1239"/>
                    </a:lnTo>
                    <a:lnTo>
                      <a:pt x="580" y="1252"/>
                    </a:lnTo>
                    <a:lnTo>
                      <a:pt x="569" y="1266"/>
                    </a:lnTo>
                    <a:lnTo>
                      <a:pt x="558" y="1281"/>
                    </a:lnTo>
                    <a:lnTo>
                      <a:pt x="548" y="1296"/>
                    </a:lnTo>
                    <a:lnTo>
                      <a:pt x="537" y="1312"/>
                    </a:lnTo>
                    <a:lnTo>
                      <a:pt x="527" y="1326"/>
                    </a:lnTo>
                    <a:lnTo>
                      <a:pt x="521" y="1339"/>
                    </a:lnTo>
                    <a:lnTo>
                      <a:pt x="516" y="1351"/>
                    </a:lnTo>
                    <a:lnTo>
                      <a:pt x="504" y="1352"/>
                    </a:lnTo>
                    <a:lnTo>
                      <a:pt x="494" y="1352"/>
                    </a:lnTo>
                    <a:lnTo>
                      <a:pt x="482" y="1354"/>
                    </a:lnTo>
                    <a:lnTo>
                      <a:pt x="472" y="1354"/>
                    </a:lnTo>
                    <a:lnTo>
                      <a:pt x="462" y="1356"/>
                    </a:lnTo>
                    <a:lnTo>
                      <a:pt x="452" y="1356"/>
                    </a:lnTo>
                    <a:lnTo>
                      <a:pt x="441" y="1357"/>
                    </a:lnTo>
                    <a:lnTo>
                      <a:pt x="430" y="1357"/>
                    </a:lnTo>
                    <a:lnTo>
                      <a:pt x="430" y="1354"/>
                    </a:lnTo>
                    <a:lnTo>
                      <a:pt x="428" y="1352"/>
                    </a:lnTo>
                    <a:lnTo>
                      <a:pt x="426" y="1349"/>
                    </a:lnTo>
                    <a:lnTo>
                      <a:pt x="426" y="1346"/>
                    </a:lnTo>
                    <a:lnTo>
                      <a:pt x="425" y="1344"/>
                    </a:lnTo>
                    <a:lnTo>
                      <a:pt x="423" y="1341"/>
                    </a:lnTo>
                    <a:lnTo>
                      <a:pt x="423" y="1339"/>
                    </a:lnTo>
                    <a:lnTo>
                      <a:pt x="421" y="1336"/>
                    </a:lnTo>
                    <a:lnTo>
                      <a:pt x="413" y="1336"/>
                    </a:lnTo>
                    <a:lnTo>
                      <a:pt x="406" y="1336"/>
                    </a:lnTo>
                    <a:lnTo>
                      <a:pt x="401" y="1336"/>
                    </a:lnTo>
                    <a:lnTo>
                      <a:pt x="396" y="1336"/>
                    </a:lnTo>
                    <a:lnTo>
                      <a:pt x="391" y="1336"/>
                    </a:lnTo>
                    <a:lnTo>
                      <a:pt x="386" y="1333"/>
                    </a:lnTo>
                    <a:lnTo>
                      <a:pt x="381" y="1330"/>
                    </a:lnTo>
                    <a:lnTo>
                      <a:pt x="376" y="1323"/>
                    </a:lnTo>
                    <a:lnTo>
                      <a:pt x="356" y="1323"/>
                    </a:lnTo>
                    <a:lnTo>
                      <a:pt x="335" y="1322"/>
                    </a:lnTo>
                    <a:lnTo>
                      <a:pt x="315" y="1318"/>
                    </a:lnTo>
                    <a:lnTo>
                      <a:pt x="295" y="1317"/>
                    </a:lnTo>
                    <a:lnTo>
                      <a:pt x="276" y="1313"/>
                    </a:lnTo>
                    <a:lnTo>
                      <a:pt x="256" y="1312"/>
                    </a:lnTo>
                    <a:lnTo>
                      <a:pt x="238" y="1310"/>
                    </a:lnTo>
                    <a:lnTo>
                      <a:pt x="221" y="1309"/>
                    </a:lnTo>
                    <a:lnTo>
                      <a:pt x="218" y="1315"/>
                    </a:lnTo>
                    <a:lnTo>
                      <a:pt x="214" y="1322"/>
                    </a:lnTo>
                    <a:lnTo>
                      <a:pt x="209" y="1328"/>
                    </a:lnTo>
                    <a:lnTo>
                      <a:pt x="202" y="1333"/>
                    </a:lnTo>
                    <a:lnTo>
                      <a:pt x="189" y="1343"/>
                    </a:lnTo>
                    <a:lnTo>
                      <a:pt x="172" y="1351"/>
                    </a:lnTo>
                    <a:lnTo>
                      <a:pt x="155" y="1356"/>
                    </a:lnTo>
                    <a:lnTo>
                      <a:pt x="140" y="1359"/>
                    </a:lnTo>
                    <a:lnTo>
                      <a:pt x="127" y="1362"/>
                    </a:lnTo>
                    <a:lnTo>
                      <a:pt x="115" y="1362"/>
                    </a:lnTo>
                    <a:lnTo>
                      <a:pt x="113" y="1365"/>
                    </a:lnTo>
                    <a:lnTo>
                      <a:pt x="113" y="1367"/>
                    </a:lnTo>
                    <a:lnTo>
                      <a:pt x="111" y="1368"/>
                    </a:lnTo>
                    <a:lnTo>
                      <a:pt x="110" y="1370"/>
                    </a:lnTo>
                    <a:lnTo>
                      <a:pt x="108" y="1372"/>
                    </a:lnTo>
                    <a:lnTo>
                      <a:pt x="108" y="1372"/>
                    </a:lnTo>
                    <a:lnTo>
                      <a:pt x="106" y="1373"/>
                    </a:lnTo>
                    <a:lnTo>
                      <a:pt x="105" y="1375"/>
                    </a:lnTo>
                    <a:lnTo>
                      <a:pt x="103" y="1375"/>
                    </a:lnTo>
                    <a:lnTo>
                      <a:pt x="101" y="1375"/>
                    </a:lnTo>
                    <a:lnTo>
                      <a:pt x="98" y="1375"/>
                    </a:lnTo>
                    <a:lnTo>
                      <a:pt x="96" y="1375"/>
                    </a:lnTo>
                    <a:lnTo>
                      <a:pt x="93" y="1375"/>
                    </a:lnTo>
                    <a:lnTo>
                      <a:pt x="91" y="1375"/>
                    </a:lnTo>
                    <a:lnTo>
                      <a:pt x="90" y="1375"/>
                    </a:lnTo>
                    <a:lnTo>
                      <a:pt x="86" y="1375"/>
                    </a:lnTo>
                    <a:close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33040" y="2198880"/>
                <a:ext cx="4820760" cy="3137040"/>
              </a:xfrm>
              <a:custGeom>
                <a:avLst/>
                <a:gdLst/>
                <a:ahLst/>
                <a:rect l="l" t="t" r="r" b="b"/>
                <a:pathLst>
                  <a:path w="3126" h="2034">
                    <a:moveTo>
                      <a:pt x="86" y="1375"/>
                    </a:moveTo>
                    <a:lnTo>
                      <a:pt x="86" y="1385"/>
                    </a:lnTo>
                    <a:lnTo>
                      <a:pt x="86" y="1393"/>
                    </a:lnTo>
                    <a:lnTo>
                      <a:pt x="86" y="1402"/>
                    </a:lnTo>
                    <a:lnTo>
                      <a:pt x="84" y="1411"/>
                    </a:lnTo>
                    <a:lnTo>
                      <a:pt x="84" y="1420"/>
                    </a:lnTo>
                    <a:lnTo>
                      <a:pt x="84" y="1428"/>
                    </a:lnTo>
                    <a:lnTo>
                      <a:pt x="84" y="1436"/>
                    </a:lnTo>
                    <a:lnTo>
                      <a:pt x="84" y="1446"/>
                    </a:lnTo>
                    <a:lnTo>
                      <a:pt x="73" y="1454"/>
                    </a:lnTo>
                    <a:lnTo>
                      <a:pt x="59" y="1464"/>
                    </a:lnTo>
                    <a:lnTo>
                      <a:pt x="44" y="1477"/>
                    </a:lnTo>
                    <a:lnTo>
                      <a:pt x="29" y="1490"/>
                    </a:lnTo>
                    <a:lnTo>
                      <a:pt x="17" y="1503"/>
                    </a:lnTo>
                    <a:lnTo>
                      <a:pt x="7" y="1516"/>
                    </a:lnTo>
                    <a:lnTo>
                      <a:pt x="4" y="1521"/>
                    </a:lnTo>
                    <a:lnTo>
                      <a:pt x="0" y="1526"/>
                    </a:lnTo>
                    <a:lnTo>
                      <a:pt x="0" y="1530"/>
                    </a:lnTo>
                    <a:lnTo>
                      <a:pt x="2" y="1534"/>
                    </a:lnTo>
                    <a:lnTo>
                      <a:pt x="2" y="1539"/>
                    </a:lnTo>
                    <a:lnTo>
                      <a:pt x="2" y="1543"/>
                    </a:lnTo>
                    <a:lnTo>
                      <a:pt x="2" y="1548"/>
                    </a:lnTo>
                    <a:lnTo>
                      <a:pt x="2" y="1553"/>
                    </a:lnTo>
                    <a:lnTo>
                      <a:pt x="2" y="1556"/>
                    </a:lnTo>
                    <a:lnTo>
                      <a:pt x="2" y="1561"/>
                    </a:lnTo>
                    <a:lnTo>
                      <a:pt x="2" y="1566"/>
                    </a:lnTo>
                    <a:lnTo>
                      <a:pt x="2" y="1571"/>
                    </a:lnTo>
                    <a:lnTo>
                      <a:pt x="17" y="1579"/>
                    </a:lnTo>
                    <a:lnTo>
                      <a:pt x="27" y="1587"/>
                    </a:lnTo>
                    <a:lnTo>
                      <a:pt x="32" y="1595"/>
                    </a:lnTo>
                    <a:lnTo>
                      <a:pt x="37" y="1603"/>
                    </a:lnTo>
                    <a:lnTo>
                      <a:pt x="41" y="1610"/>
                    </a:lnTo>
                    <a:lnTo>
                      <a:pt x="49" y="1615"/>
                    </a:lnTo>
                    <a:lnTo>
                      <a:pt x="63" y="1620"/>
                    </a:lnTo>
                    <a:lnTo>
                      <a:pt x="83" y="1624"/>
                    </a:lnTo>
                    <a:lnTo>
                      <a:pt x="84" y="1629"/>
                    </a:lnTo>
                    <a:lnTo>
                      <a:pt x="88" y="1632"/>
                    </a:lnTo>
                    <a:lnTo>
                      <a:pt x="91" y="1636"/>
                    </a:lnTo>
                    <a:lnTo>
                      <a:pt x="93" y="1637"/>
                    </a:lnTo>
                    <a:lnTo>
                      <a:pt x="98" y="1639"/>
                    </a:lnTo>
                    <a:lnTo>
                      <a:pt x="101" y="1641"/>
                    </a:lnTo>
                    <a:lnTo>
                      <a:pt x="105" y="1641"/>
                    </a:lnTo>
                    <a:lnTo>
                      <a:pt x="110" y="1644"/>
                    </a:lnTo>
                    <a:lnTo>
                      <a:pt x="110" y="1650"/>
                    </a:lnTo>
                    <a:lnTo>
                      <a:pt x="113" y="1657"/>
                    </a:lnTo>
                    <a:lnTo>
                      <a:pt x="116" y="1663"/>
                    </a:lnTo>
                    <a:lnTo>
                      <a:pt x="122" y="1670"/>
                    </a:lnTo>
                    <a:lnTo>
                      <a:pt x="133" y="1684"/>
                    </a:lnTo>
                    <a:lnTo>
                      <a:pt x="148" y="1699"/>
                    </a:lnTo>
                    <a:lnTo>
                      <a:pt x="162" y="1715"/>
                    </a:lnTo>
                    <a:lnTo>
                      <a:pt x="175" y="1731"/>
                    </a:lnTo>
                    <a:lnTo>
                      <a:pt x="180" y="1739"/>
                    </a:lnTo>
                    <a:lnTo>
                      <a:pt x="186" y="1747"/>
                    </a:lnTo>
                    <a:lnTo>
                      <a:pt x="189" y="1756"/>
                    </a:lnTo>
                    <a:lnTo>
                      <a:pt x="191" y="1764"/>
                    </a:lnTo>
                    <a:lnTo>
                      <a:pt x="192" y="1767"/>
                    </a:lnTo>
                    <a:lnTo>
                      <a:pt x="194" y="1768"/>
                    </a:lnTo>
                    <a:lnTo>
                      <a:pt x="196" y="1772"/>
                    </a:lnTo>
                    <a:lnTo>
                      <a:pt x="196" y="1773"/>
                    </a:lnTo>
                    <a:lnTo>
                      <a:pt x="196" y="1777"/>
                    </a:lnTo>
                    <a:lnTo>
                      <a:pt x="197" y="1780"/>
                    </a:lnTo>
                    <a:lnTo>
                      <a:pt x="197" y="1783"/>
                    </a:lnTo>
                    <a:lnTo>
                      <a:pt x="199" y="1788"/>
                    </a:lnTo>
                    <a:lnTo>
                      <a:pt x="201" y="1788"/>
                    </a:lnTo>
                    <a:lnTo>
                      <a:pt x="202" y="1788"/>
                    </a:lnTo>
                    <a:lnTo>
                      <a:pt x="204" y="1788"/>
                    </a:lnTo>
                    <a:lnTo>
                      <a:pt x="207" y="1786"/>
                    </a:lnTo>
                    <a:lnTo>
                      <a:pt x="209" y="1786"/>
                    </a:lnTo>
                    <a:lnTo>
                      <a:pt x="211" y="1786"/>
                    </a:lnTo>
                    <a:lnTo>
                      <a:pt x="212" y="1786"/>
                    </a:lnTo>
                    <a:lnTo>
                      <a:pt x="216" y="1785"/>
                    </a:lnTo>
                    <a:lnTo>
                      <a:pt x="216" y="1790"/>
                    </a:lnTo>
                    <a:lnTo>
                      <a:pt x="216" y="1793"/>
                    </a:lnTo>
                    <a:lnTo>
                      <a:pt x="216" y="1796"/>
                    </a:lnTo>
                    <a:lnTo>
                      <a:pt x="218" y="1799"/>
                    </a:lnTo>
                    <a:lnTo>
                      <a:pt x="218" y="1804"/>
                    </a:lnTo>
                    <a:lnTo>
                      <a:pt x="218" y="1807"/>
                    </a:lnTo>
                    <a:lnTo>
                      <a:pt x="219" y="1811"/>
                    </a:lnTo>
                    <a:lnTo>
                      <a:pt x="219" y="1814"/>
                    </a:lnTo>
                    <a:lnTo>
                      <a:pt x="221" y="1814"/>
                    </a:lnTo>
                    <a:lnTo>
                      <a:pt x="223" y="1814"/>
                    </a:lnTo>
                    <a:lnTo>
                      <a:pt x="226" y="1814"/>
                    </a:lnTo>
                    <a:lnTo>
                      <a:pt x="228" y="1814"/>
                    </a:lnTo>
                    <a:lnTo>
                      <a:pt x="229" y="1814"/>
                    </a:lnTo>
                    <a:lnTo>
                      <a:pt x="231" y="1814"/>
                    </a:lnTo>
                    <a:lnTo>
                      <a:pt x="233" y="1814"/>
                    </a:lnTo>
                    <a:lnTo>
                      <a:pt x="234" y="1814"/>
                    </a:lnTo>
                    <a:lnTo>
                      <a:pt x="239" y="1824"/>
                    </a:lnTo>
                    <a:lnTo>
                      <a:pt x="243" y="1833"/>
                    </a:lnTo>
                    <a:lnTo>
                      <a:pt x="246" y="1843"/>
                    </a:lnTo>
                    <a:lnTo>
                      <a:pt x="248" y="1851"/>
                    </a:lnTo>
                    <a:lnTo>
                      <a:pt x="248" y="1867"/>
                    </a:lnTo>
                    <a:lnTo>
                      <a:pt x="250" y="1880"/>
                    </a:lnTo>
                    <a:lnTo>
                      <a:pt x="253" y="1887"/>
                    </a:lnTo>
                    <a:lnTo>
                      <a:pt x="256" y="1892"/>
                    </a:lnTo>
                    <a:lnTo>
                      <a:pt x="261" y="1896"/>
                    </a:lnTo>
                    <a:lnTo>
                      <a:pt x="268" y="1900"/>
                    </a:lnTo>
                    <a:lnTo>
                      <a:pt x="278" y="1903"/>
                    </a:lnTo>
                    <a:lnTo>
                      <a:pt x="290" y="1905"/>
                    </a:lnTo>
                    <a:lnTo>
                      <a:pt x="307" y="1906"/>
                    </a:lnTo>
                    <a:lnTo>
                      <a:pt x="325" y="1906"/>
                    </a:lnTo>
                    <a:lnTo>
                      <a:pt x="324" y="1924"/>
                    </a:lnTo>
                    <a:lnTo>
                      <a:pt x="322" y="1939"/>
                    </a:lnTo>
                    <a:lnTo>
                      <a:pt x="320" y="1950"/>
                    </a:lnTo>
                    <a:lnTo>
                      <a:pt x="319" y="1961"/>
                    </a:lnTo>
                    <a:lnTo>
                      <a:pt x="314" y="1971"/>
                    </a:lnTo>
                    <a:lnTo>
                      <a:pt x="308" y="1979"/>
                    </a:lnTo>
                    <a:lnTo>
                      <a:pt x="298" y="1989"/>
                    </a:lnTo>
                    <a:lnTo>
                      <a:pt x="285" y="2000"/>
                    </a:lnTo>
                    <a:lnTo>
                      <a:pt x="297" y="2031"/>
                    </a:lnTo>
                    <a:lnTo>
                      <a:pt x="297" y="2031"/>
                    </a:lnTo>
                    <a:lnTo>
                      <a:pt x="297" y="2029"/>
                    </a:lnTo>
                    <a:lnTo>
                      <a:pt x="298" y="2029"/>
                    </a:lnTo>
                    <a:lnTo>
                      <a:pt x="298" y="2029"/>
                    </a:lnTo>
                    <a:lnTo>
                      <a:pt x="300" y="2029"/>
                    </a:lnTo>
                    <a:lnTo>
                      <a:pt x="300" y="2029"/>
                    </a:lnTo>
                    <a:lnTo>
                      <a:pt x="302" y="2028"/>
                    </a:lnTo>
                    <a:lnTo>
                      <a:pt x="302" y="2028"/>
                    </a:lnTo>
                    <a:lnTo>
                      <a:pt x="307" y="2031"/>
                    </a:lnTo>
                    <a:lnTo>
                      <a:pt x="310" y="2034"/>
                    </a:lnTo>
                    <a:lnTo>
                      <a:pt x="315" y="2034"/>
                    </a:lnTo>
                    <a:lnTo>
                      <a:pt x="319" y="2034"/>
                    </a:lnTo>
                    <a:lnTo>
                      <a:pt x="324" y="2032"/>
                    </a:lnTo>
                    <a:lnTo>
                      <a:pt x="329" y="2031"/>
                    </a:lnTo>
                    <a:lnTo>
                      <a:pt x="335" y="2029"/>
                    </a:lnTo>
                    <a:lnTo>
                      <a:pt x="344" y="2029"/>
                    </a:lnTo>
                    <a:lnTo>
                      <a:pt x="347" y="2029"/>
                    </a:lnTo>
                    <a:lnTo>
                      <a:pt x="352" y="2029"/>
                    </a:lnTo>
                    <a:lnTo>
                      <a:pt x="356" y="2029"/>
                    </a:lnTo>
                    <a:lnTo>
                      <a:pt x="357" y="2029"/>
                    </a:lnTo>
                    <a:lnTo>
                      <a:pt x="361" y="2029"/>
                    </a:lnTo>
                    <a:lnTo>
                      <a:pt x="364" y="2029"/>
                    </a:lnTo>
                    <a:lnTo>
                      <a:pt x="367" y="2029"/>
                    </a:lnTo>
                    <a:lnTo>
                      <a:pt x="369" y="2029"/>
                    </a:lnTo>
                    <a:lnTo>
                      <a:pt x="369" y="2029"/>
                    </a:lnTo>
                    <a:lnTo>
                      <a:pt x="371" y="2028"/>
                    </a:lnTo>
                    <a:lnTo>
                      <a:pt x="371" y="2028"/>
                    </a:lnTo>
                    <a:lnTo>
                      <a:pt x="371" y="2026"/>
                    </a:lnTo>
                    <a:lnTo>
                      <a:pt x="371" y="2024"/>
                    </a:lnTo>
                    <a:lnTo>
                      <a:pt x="372" y="2024"/>
                    </a:lnTo>
                    <a:lnTo>
                      <a:pt x="372" y="2023"/>
                    </a:lnTo>
                    <a:lnTo>
                      <a:pt x="374" y="2021"/>
                    </a:lnTo>
                    <a:lnTo>
                      <a:pt x="383" y="2020"/>
                    </a:lnTo>
                    <a:lnTo>
                      <a:pt x="393" y="2018"/>
                    </a:lnTo>
                    <a:lnTo>
                      <a:pt x="403" y="2013"/>
                    </a:lnTo>
                    <a:lnTo>
                      <a:pt x="415" y="2010"/>
                    </a:lnTo>
                    <a:lnTo>
                      <a:pt x="426" y="2007"/>
                    </a:lnTo>
                    <a:lnTo>
                      <a:pt x="438" y="2003"/>
                    </a:lnTo>
                    <a:lnTo>
                      <a:pt x="450" y="2000"/>
                    </a:lnTo>
                    <a:lnTo>
                      <a:pt x="462" y="2000"/>
                    </a:lnTo>
                    <a:lnTo>
                      <a:pt x="468" y="1986"/>
                    </a:lnTo>
                    <a:lnTo>
                      <a:pt x="479" y="1968"/>
                    </a:lnTo>
                    <a:lnTo>
                      <a:pt x="489" y="1945"/>
                    </a:lnTo>
                    <a:lnTo>
                      <a:pt x="502" y="1922"/>
                    </a:lnTo>
                    <a:lnTo>
                      <a:pt x="516" y="1900"/>
                    </a:lnTo>
                    <a:lnTo>
                      <a:pt x="529" y="1879"/>
                    </a:lnTo>
                    <a:lnTo>
                      <a:pt x="536" y="1871"/>
                    </a:lnTo>
                    <a:lnTo>
                      <a:pt x="544" y="1862"/>
                    </a:lnTo>
                    <a:lnTo>
                      <a:pt x="551" y="1856"/>
                    </a:lnTo>
                    <a:lnTo>
                      <a:pt x="558" y="1853"/>
                    </a:lnTo>
                    <a:lnTo>
                      <a:pt x="561" y="1851"/>
                    </a:lnTo>
                    <a:lnTo>
                      <a:pt x="563" y="1851"/>
                    </a:lnTo>
                    <a:lnTo>
                      <a:pt x="564" y="1851"/>
                    </a:lnTo>
                    <a:lnTo>
                      <a:pt x="568" y="1851"/>
                    </a:lnTo>
                    <a:lnTo>
                      <a:pt x="569" y="1851"/>
                    </a:lnTo>
                    <a:lnTo>
                      <a:pt x="571" y="1851"/>
                    </a:lnTo>
                    <a:lnTo>
                      <a:pt x="575" y="1851"/>
                    </a:lnTo>
                    <a:lnTo>
                      <a:pt x="576" y="1849"/>
                    </a:lnTo>
                    <a:lnTo>
                      <a:pt x="583" y="1861"/>
                    </a:lnTo>
                    <a:lnTo>
                      <a:pt x="590" y="1867"/>
                    </a:lnTo>
                    <a:lnTo>
                      <a:pt x="596" y="1874"/>
                    </a:lnTo>
                    <a:lnTo>
                      <a:pt x="603" y="1877"/>
                    </a:lnTo>
                    <a:lnTo>
                      <a:pt x="610" y="1880"/>
                    </a:lnTo>
                    <a:lnTo>
                      <a:pt x="618" y="1880"/>
                    </a:lnTo>
                    <a:lnTo>
                      <a:pt x="627" y="1880"/>
                    </a:lnTo>
                    <a:lnTo>
                      <a:pt x="635" y="1879"/>
                    </a:lnTo>
                    <a:lnTo>
                      <a:pt x="639" y="1887"/>
                    </a:lnTo>
                    <a:lnTo>
                      <a:pt x="642" y="1895"/>
                    </a:lnTo>
                    <a:lnTo>
                      <a:pt x="647" y="1901"/>
                    </a:lnTo>
                    <a:lnTo>
                      <a:pt x="654" y="1908"/>
                    </a:lnTo>
                    <a:lnTo>
                      <a:pt x="659" y="1914"/>
                    </a:lnTo>
                    <a:lnTo>
                      <a:pt x="667" y="1917"/>
                    </a:lnTo>
                    <a:lnTo>
                      <a:pt x="676" y="1921"/>
                    </a:lnTo>
                    <a:lnTo>
                      <a:pt x="686" y="1921"/>
                    </a:lnTo>
                    <a:lnTo>
                      <a:pt x="689" y="1927"/>
                    </a:lnTo>
                    <a:lnTo>
                      <a:pt x="694" y="1930"/>
                    </a:lnTo>
                    <a:lnTo>
                      <a:pt x="697" y="1935"/>
                    </a:lnTo>
                    <a:lnTo>
                      <a:pt x="703" y="1937"/>
                    </a:lnTo>
                    <a:lnTo>
                      <a:pt x="709" y="1940"/>
                    </a:lnTo>
                    <a:lnTo>
                      <a:pt x="716" y="1943"/>
                    </a:lnTo>
                    <a:lnTo>
                      <a:pt x="723" y="1947"/>
                    </a:lnTo>
                    <a:lnTo>
                      <a:pt x="729" y="1950"/>
                    </a:lnTo>
                    <a:lnTo>
                      <a:pt x="735" y="1958"/>
                    </a:lnTo>
                    <a:lnTo>
                      <a:pt x="741" y="1968"/>
                    </a:lnTo>
                    <a:lnTo>
                      <a:pt x="746" y="1979"/>
                    </a:lnTo>
                    <a:lnTo>
                      <a:pt x="753" y="1990"/>
                    </a:lnTo>
                    <a:lnTo>
                      <a:pt x="758" y="2000"/>
                    </a:lnTo>
                    <a:lnTo>
                      <a:pt x="765" y="2008"/>
                    </a:lnTo>
                    <a:lnTo>
                      <a:pt x="770" y="2015"/>
                    </a:lnTo>
                    <a:lnTo>
                      <a:pt x="777" y="2018"/>
                    </a:lnTo>
                    <a:lnTo>
                      <a:pt x="804" y="2021"/>
                    </a:lnTo>
                    <a:lnTo>
                      <a:pt x="804" y="2020"/>
                    </a:lnTo>
                    <a:lnTo>
                      <a:pt x="804" y="2016"/>
                    </a:lnTo>
                    <a:lnTo>
                      <a:pt x="804" y="2015"/>
                    </a:lnTo>
                    <a:lnTo>
                      <a:pt x="805" y="2013"/>
                    </a:lnTo>
                    <a:lnTo>
                      <a:pt x="807" y="2011"/>
                    </a:lnTo>
                    <a:lnTo>
                      <a:pt x="810" y="2008"/>
                    </a:lnTo>
                    <a:lnTo>
                      <a:pt x="814" y="2007"/>
                    </a:lnTo>
                    <a:lnTo>
                      <a:pt x="820" y="2005"/>
                    </a:lnTo>
                    <a:lnTo>
                      <a:pt x="820" y="2002"/>
                    </a:lnTo>
                    <a:lnTo>
                      <a:pt x="822" y="1997"/>
                    </a:lnTo>
                    <a:lnTo>
                      <a:pt x="824" y="1994"/>
                    </a:lnTo>
                    <a:lnTo>
                      <a:pt x="825" y="1989"/>
                    </a:lnTo>
                    <a:lnTo>
                      <a:pt x="829" y="1984"/>
                    </a:lnTo>
                    <a:lnTo>
                      <a:pt x="830" y="1979"/>
                    </a:lnTo>
                    <a:lnTo>
                      <a:pt x="830" y="1973"/>
                    </a:lnTo>
                    <a:lnTo>
                      <a:pt x="832" y="1966"/>
                    </a:lnTo>
                    <a:lnTo>
                      <a:pt x="825" y="1963"/>
                    </a:lnTo>
                    <a:lnTo>
                      <a:pt x="827" y="1956"/>
                    </a:lnTo>
                    <a:lnTo>
                      <a:pt x="832" y="1948"/>
                    </a:lnTo>
                    <a:lnTo>
                      <a:pt x="837" y="1937"/>
                    </a:lnTo>
                    <a:lnTo>
                      <a:pt x="846" y="1926"/>
                    </a:lnTo>
                    <a:lnTo>
                      <a:pt x="852" y="1913"/>
                    </a:lnTo>
                    <a:lnTo>
                      <a:pt x="857" y="1901"/>
                    </a:lnTo>
                    <a:lnTo>
                      <a:pt x="861" y="1890"/>
                    </a:lnTo>
                    <a:lnTo>
                      <a:pt x="861" y="1880"/>
                    </a:lnTo>
                    <a:lnTo>
                      <a:pt x="873" y="1885"/>
                    </a:lnTo>
                    <a:lnTo>
                      <a:pt x="886" y="1892"/>
                    </a:lnTo>
                    <a:lnTo>
                      <a:pt x="900" y="1898"/>
                    </a:lnTo>
                    <a:lnTo>
                      <a:pt x="915" y="1905"/>
                    </a:lnTo>
                    <a:lnTo>
                      <a:pt x="928" y="1911"/>
                    </a:lnTo>
                    <a:lnTo>
                      <a:pt x="943" y="1916"/>
                    </a:lnTo>
                    <a:lnTo>
                      <a:pt x="957" y="1919"/>
                    </a:lnTo>
                    <a:lnTo>
                      <a:pt x="969" y="1921"/>
                    </a:lnTo>
                    <a:lnTo>
                      <a:pt x="969" y="1908"/>
                    </a:lnTo>
                    <a:lnTo>
                      <a:pt x="972" y="1896"/>
                    </a:lnTo>
                    <a:lnTo>
                      <a:pt x="977" y="1883"/>
                    </a:lnTo>
                    <a:lnTo>
                      <a:pt x="984" y="1872"/>
                    </a:lnTo>
                    <a:lnTo>
                      <a:pt x="992" y="1861"/>
                    </a:lnTo>
                    <a:lnTo>
                      <a:pt x="1001" y="1849"/>
                    </a:lnTo>
                    <a:lnTo>
                      <a:pt x="1011" y="1840"/>
                    </a:lnTo>
                    <a:lnTo>
                      <a:pt x="1022" y="1830"/>
                    </a:lnTo>
                    <a:lnTo>
                      <a:pt x="1043" y="1814"/>
                    </a:lnTo>
                    <a:lnTo>
                      <a:pt x="1061" y="1801"/>
                    </a:lnTo>
                    <a:lnTo>
                      <a:pt x="1075" y="1793"/>
                    </a:lnTo>
                    <a:lnTo>
                      <a:pt x="1080" y="1790"/>
                    </a:lnTo>
                    <a:lnTo>
                      <a:pt x="1135" y="1768"/>
                    </a:lnTo>
                    <a:lnTo>
                      <a:pt x="1135" y="1767"/>
                    </a:lnTo>
                    <a:lnTo>
                      <a:pt x="1135" y="1764"/>
                    </a:lnTo>
                    <a:lnTo>
                      <a:pt x="1137" y="1762"/>
                    </a:lnTo>
                    <a:lnTo>
                      <a:pt x="1137" y="1759"/>
                    </a:lnTo>
                    <a:lnTo>
                      <a:pt x="1139" y="1756"/>
                    </a:lnTo>
                    <a:lnTo>
                      <a:pt x="1140" y="1754"/>
                    </a:lnTo>
                    <a:lnTo>
                      <a:pt x="1140" y="1751"/>
                    </a:lnTo>
                    <a:lnTo>
                      <a:pt x="1142" y="1747"/>
                    </a:lnTo>
                    <a:lnTo>
                      <a:pt x="1139" y="1746"/>
                    </a:lnTo>
                    <a:lnTo>
                      <a:pt x="1129" y="1738"/>
                    </a:lnTo>
                    <a:lnTo>
                      <a:pt x="1115" y="1726"/>
                    </a:lnTo>
                    <a:lnTo>
                      <a:pt x="1098" y="1712"/>
                    </a:lnTo>
                    <a:lnTo>
                      <a:pt x="1080" y="1696"/>
                    </a:lnTo>
                    <a:lnTo>
                      <a:pt x="1060" y="1681"/>
                    </a:lnTo>
                    <a:lnTo>
                      <a:pt x="1039" y="1670"/>
                    </a:lnTo>
                    <a:lnTo>
                      <a:pt x="1019" y="1662"/>
                    </a:lnTo>
                    <a:lnTo>
                      <a:pt x="1014" y="1657"/>
                    </a:lnTo>
                    <a:lnTo>
                      <a:pt x="1009" y="1652"/>
                    </a:lnTo>
                    <a:lnTo>
                      <a:pt x="1004" y="1649"/>
                    </a:lnTo>
                    <a:lnTo>
                      <a:pt x="999" y="1645"/>
                    </a:lnTo>
                    <a:lnTo>
                      <a:pt x="992" y="1642"/>
                    </a:lnTo>
                    <a:lnTo>
                      <a:pt x="987" y="1639"/>
                    </a:lnTo>
                    <a:lnTo>
                      <a:pt x="982" y="1639"/>
                    </a:lnTo>
                    <a:lnTo>
                      <a:pt x="977" y="1637"/>
                    </a:lnTo>
                    <a:lnTo>
                      <a:pt x="979" y="1632"/>
                    </a:lnTo>
                    <a:lnTo>
                      <a:pt x="982" y="1626"/>
                    </a:lnTo>
                    <a:lnTo>
                      <a:pt x="987" y="1618"/>
                    </a:lnTo>
                    <a:lnTo>
                      <a:pt x="992" y="1611"/>
                    </a:lnTo>
                    <a:lnTo>
                      <a:pt x="999" y="1602"/>
                    </a:lnTo>
                    <a:lnTo>
                      <a:pt x="1006" y="1594"/>
                    </a:lnTo>
                    <a:lnTo>
                      <a:pt x="1011" y="1584"/>
                    </a:lnTo>
                    <a:lnTo>
                      <a:pt x="1017" y="1574"/>
                    </a:lnTo>
                    <a:lnTo>
                      <a:pt x="1021" y="1574"/>
                    </a:lnTo>
                    <a:lnTo>
                      <a:pt x="1024" y="1574"/>
                    </a:lnTo>
                    <a:lnTo>
                      <a:pt x="1028" y="1574"/>
                    </a:lnTo>
                    <a:lnTo>
                      <a:pt x="1031" y="1576"/>
                    </a:lnTo>
                    <a:lnTo>
                      <a:pt x="1034" y="1576"/>
                    </a:lnTo>
                    <a:lnTo>
                      <a:pt x="1038" y="1576"/>
                    </a:lnTo>
                    <a:lnTo>
                      <a:pt x="1041" y="1577"/>
                    </a:lnTo>
                    <a:lnTo>
                      <a:pt x="1046" y="1577"/>
                    </a:lnTo>
                    <a:lnTo>
                      <a:pt x="1051" y="1579"/>
                    </a:lnTo>
                    <a:lnTo>
                      <a:pt x="1058" y="1579"/>
                    </a:lnTo>
                    <a:lnTo>
                      <a:pt x="1066" y="1579"/>
                    </a:lnTo>
                    <a:lnTo>
                      <a:pt x="1075" y="1579"/>
                    </a:lnTo>
                    <a:lnTo>
                      <a:pt x="1083" y="1579"/>
                    </a:lnTo>
                    <a:lnTo>
                      <a:pt x="1093" y="1579"/>
                    </a:lnTo>
                    <a:lnTo>
                      <a:pt x="1102" y="1579"/>
                    </a:lnTo>
                    <a:lnTo>
                      <a:pt x="1110" y="1579"/>
                    </a:lnTo>
                    <a:lnTo>
                      <a:pt x="1112" y="1577"/>
                    </a:lnTo>
                    <a:lnTo>
                      <a:pt x="1113" y="1574"/>
                    </a:lnTo>
                    <a:lnTo>
                      <a:pt x="1115" y="1571"/>
                    </a:lnTo>
                    <a:lnTo>
                      <a:pt x="1117" y="1568"/>
                    </a:lnTo>
                    <a:lnTo>
                      <a:pt x="1118" y="1563"/>
                    </a:lnTo>
                    <a:lnTo>
                      <a:pt x="1120" y="1560"/>
                    </a:lnTo>
                    <a:lnTo>
                      <a:pt x="1122" y="1553"/>
                    </a:lnTo>
                    <a:lnTo>
                      <a:pt x="1123" y="1548"/>
                    </a:lnTo>
                    <a:lnTo>
                      <a:pt x="1139" y="1542"/>
                    </a:lnTo>
                    <a:lnTo>
                      <a:pt x="1147" y="1535"/>
                    </a:lnTo>
                    <a:lnTo>
                      <a:pt x="1152" y="1530"/>
                    </a:lnTo>
                    <a:lnTo>
                      <a:pt x="1154" y="1522"/>
                    </a:lnTo>
                    <a:lnTo>
                      <a:pt x="1155" y="1514"/>
                    </a:lnTo>
                    <a:lnTo>
                      <a:pt x="1157" y="1505"/>
                    </a:lnTo>
                    <a:lnTo>
                      <a:pt x="1162" y="1492"/>
                    </a:lnTo>
                    <a:lnTo>
                      <a:pt x="1171" y="1477"/>
                    </a:lnTo>
                    <a:lnTo>
                      <a:pt x="1174" y="1475"/>
                    </a:lnTo>
                    <a:lnTo>
                      <a:pt x="1176" y="1474"/>
                    </a:lnTo>
                    <a:lnTo>
                      <a:pt x="1179" y="1471"/>
                    </a:lnTo>
                    <a:lnTo>
                      <a:pt x="1181" y="1469"/>
                    </a:lnTo>
                    <a:lnTo>
                      <a:pt x="1182" y="1466"/>
                    </a:lnTo>
                    <a:lnTo>
                      <a:pt x="1186" y="1462"/>
                    </a:lnTo>
                    <a:lnTo>
                      <a:pt x="1187" y="1459"/>
                    </a:lnTo>
                    <a:lnTo>
                      <a:pt x="1189" y="1456"/>
                    </a:lnTo>
                    <a:lnTo>
                      <a:pt x="1193" y="1448"/>
                    </a:lnTo>
                    <a:lnTo>
                      <a:pt x="1198" y="1438"/>
                    </a:lnTo>
                    <a:lnTo>
                      <a:pt x="1201" y="1428"/>
                    </a:lnTo>
                    <a:lnTo>
                      <a:pt x="1203" y="1417"/>
                    </a:lnTo>
                    <a:lnTo>
                      <a:pt x="1206" y="1407"/>
                    </a:lnTo>
                    <a:lnTo>
                      <a:pt x="1208" y="1396"/>
                    </a:lnTo>
                    <a:lnTo>
                      <a:pt x="1209" y="1385"/>
                    </a:lnTo>
                    <a:lnTo>
                      <a:pt x="1211" y="1375"/>
                    </a:lnTo>
                    <a:lnTo>
                      <a:pt x="1213" y="1375"/>
                    </a:lnTo>
                    <a:lnTo>
                      <a:pt x="1214" y="1375"/>
                    </a:lnTo>
                    <a:lnTo>
                      <a:pt x="1216" y="1373"/>
                    </a:lnTo>
                    <a:lnTo>
                      <a:pt x="1218" y="1373"/>
                    </a:lnTo>
                    <a:lnTo>
                      <a:pt x="1219" y="1373"/>
                    </a:lnTo>
                    <a:lnTo>
                      <a:pt x="1221" y="1373"/>
                    </a:lnTo>
                    <a:lnTo>
                      <a:pt x="1223" y="1372"/>
                    </a:lnTo>
                    <a:lnTo>
                      <a:pt x="1225" y="1372"/>
                    </a:lnTo>
                    <a:lnTo>
                      <a:pt x="1228" y="1372"/>
                    </a:lnTo>
                    <a:lnTo>
                      <a:pt x="1231" y="1373"/>
                    </a:lnTo>
                    <a:lnTo>
                      <a:pt x="1235" y="1375"/>
                    </a:lnTo>
                    <a:lnTo>
                      <a:pt x="1238" y="1375"/>
                    </a:lnTo>
                    <a:lnTo>
                      <a:pt x="1243" y="1377"/>
                    </a:lnTo>
                    <a:lnTo>
                      <a:pt x="1248" y="1377"/>
                    </a:lnTo>
                    <a:lnTo>
                      <a:pt x="1255" y="1375"/>
                    </a:lnTo>
                    <a:lnTo>
                      <a:pt x="1262" y="1373"/>
                    </a:lnTo>
                    <a:lnTo>
                      <a:pt x="1295" y="1381"/>
                    </a:lnTo>
                    <a:lnTo>
                      <a:pt x="1329" y="1391"/>
                    </a:lnTo>
                    <a:lnTo>
                      <a:pt x="1363" y="1399"/>
                    </a:lnTo>
                    <a:lnTo>
                      <a:pt x="1395" y="1407"/>
                    </a:lnTo>
                    <a:lnTo>
                      <a:pt x="1428" y="1417"/>
                    </a:lnTo>
                    <a:lnTo>
                      <a:pt x="1462" y="1427"/>
                    </a:lnTo>
                    <a:lnTo>
                      <a:pt x="1494" y="1436"/>
                    </a:lnTo>
                    <a:lnTo>
                      <a:pt x="1528" y="1448"/>
                    </a:lnTo>
                    <a:lnTo>
                      <a:pt x="1533" y="1461"/>
                    </a:lnTo>
                    <a:lnTo>
                      <a:pt x="1539" y="1472"/>
                    </a:lnTo>
                    <a:lnTo>
                      <a:pt x="1550" y="1480"/>
                    </a:lnTo>
                    <a:lnTo>
                      <a:pt x="1560" y="1487"/>
                    </a:lnTo>
                    <a:lnTo>
                      <a:pt x="1573" y="1492"/>
                    </a:lnTo>
                    <a:lnTo>
                      <a:pt x="1587" y="1496"/>
                    </a:lnTo>
                    <a:lnTo>
                      <a:pt x="1602" y="1498"/>
                    </a:lnTo>
                    <a:lnTo>
                      <a:pt x="1617" y="1501"/>
                    </a:lnTo>
                    <a:lnTo>
                      <a:pt x="1649" y="1505"/>
                    </a:lnTo>
                    <a:lnTo>
                      <a:pt x="1679" y="1509"/>
                    </a:lnTo>
                    <a:lnTo>
                      <a:pt x="1694" y="1514"/>
                    </a:lnTo>
                    <a:lnTo>
                      <a:pt x="1708" y="1519"/>
                    </a:lnTo>
                    <a:lnTo>
                      <a:pt x="1720" y="1526"/>
                    </a:lnTo>
                    <a:lnTo>
                      <a:pt x="1731" y="1534"/>
                    </a:lnTo>
                    <a:lnTo>
                      <a:pt x="1730" y="1540"/>
                    </a:lnTo>
                    <a:lnTo>
                      <a:pt x="1726" y="1545"/>
                    </a:lnTo>
                    <a:lnTo>
                      <a:pt x="1725" y="1548"/>
                    </a:lnTo>
                    <a:lnTo>
                      <a:pt x="1721" y="1553"/>
                    </a:lnTo>
                    <a:lnTo>
                      <a:pt x="1718" y="1558"/>
                    </a:lnTo>
                    <a:lnTo>
                      <a:pt x="1716" y="1561"/>
                    </a:lnTo>
                    <a:lnTo>
                      <a:pt x="1713" y="1566"/>
                    </a:lnTo>
                    <a:lnTo>
                      <a:pt x="1711" y="1571"/>
                    </a:lnTo>
                    <a:lnTo>
                      <a:pt x="1731" y="1571"/>
                    </a:lnTo>
                    <a:lnTo>
                      <a:pt x="1750" y="1571"/>
                    </a:lnTo>
                    <a:lnTo>
                      <a:pt x="1767" y="1571"/>
                    </a:lnTo>
                    <a:lnTo>
                      <a:pt x="1782" y="1571"/>
                    </a:lnTo>
                    <a:lnTo>
                      <a:pt x="1797" y="1568"/>
                    </a:lnTo>
                    <a:lnTo>
                      <a:pt x="1812" y="1563"/>
                    </a:lnTo>
                    <a:lnTo>
                      <a:pt x="1819" y="1558"/>
                    </a:lnTo>
                    <a:lnTo>
                      <a:pt x="1824" y="1551"/>
                    </a:lnTo>
                    <a:lnTo>
                      <a:pt x="1831" y="1545"/>
                    </a:lnTo>
                    <a:lnTo>
                      <a:pt x="1836" y="1537"/>
                    </a:lnTo>
                    <a:lnTo>
                      <a:pt x="1841" y="1535"/>
                    </a:lnTo>
                    <a:lnTo>
                      <a:pt x="1848" y="1535"/>
                    </a:lnTo>
                    <a:lnTo>
                      <a:pt x="1853" y="1535"/>
                    </a:lnTo>
                    <a:lnTo>
                      <a:pt x="1858" y="1535"/>
                    </a:lnTo>
                    <a:lnTo>
                      <a:pt x="1863" y="1534"/>
                    </a:lnTo>
                    <a:lnTo>
                      <a:pt x="1868" y="1534"/>
                    </a:lnTo>
                    <a:lnTo>
                      <a:pt x="1875" y="1534"/>
                    </a:lnTo>
                    <a:lnTo>
                      <a:pt x="1880" y="1534"/>
                    </a:lnTo>
                    <a:lnTo>
                      <a:pt x="1880" y="1532"/>
                    </a:lnTo>
                    <a:lnTo>
                      <a:pt x="1881" y="1532"/>
                    </a:lnTo>
                    <a:lnTo>
                      <a:pt x="1881" y="1530"/>
                    </a:lnTo>
                    <a:lnTo>
                      <a:pt x="1881" y="1530"/>
                    </a:lnTo>
                    <a:lnTo>
                      <a:pt x="1881" y="1529"/>
                    </a:lnTo>
                    <a:lnTo>
                      <a:pt x="1883" y="1529"/>
                    </a:lnTo>
                    <a:lnTo>
                      <a:pt x="1883" y="1527"/>
                    </a:lnTo>
                    <a:lnTo>
                      <a:pt x="1883" y="1527"/>
                    </a:lnTo>
                    <a:lnTo>
                      <a:pt x="1881" y="1519"/>
                    </a:lnTo>
                    <a:lnTo>
                      <a:pt x="1880" y="1513"/>
                    </a:lnTo>
                    <a:lnTo>
                      <a:pt x="1878" y="1505"/>
                    </a:lnTo>
                    <a:lnTo>
                      <a:pt x="1878" y="1496"/>
                    </a:lnTo>
                    <a:lnTo>
                      <a:pt x="1880" y="1488"/>
                    </a:lnTo>
                    <a:lnTo>
                      <a:pt x="1881" y="1480"/>
                    </a:lnTo>
                    <a:lnTo>
                      <a:pt x="1885" y="1472"/>
                    </a:lnTo>
                    <a:lnTo>
                      <a:pt x="1888" y="1466"/>
                    </a:lnTo>
                    <a:lnTo>
                      <a:pt x="1893" y="1459"/>
                    </a:lnTo>
                    <a:lnTo>
                      <a:pt x="1900" y="1454"/>
                    </a:lnTo>
                    <a:lnTo>
                      <a:pt x="1907" y="1449"/>
                    </a:lnTo>
                    <a:lnTo>
                      <a:pt x="1913" y="1445"/>
                    </a:lnTo>
                    <a:lnTo>
                      <a:pt x="1922" y="1443"/>
                    </a:lnTo>
                    <a:lnTo>
                      <a:pt x="1930" y="1441"/>
                    </a:lnTo>
                    <a:lnTo>
                      <a:pt x="1940" y="1441"/>
                    </a:lnTo>
                    <a:lnTo>
                      <a:pt x="1952" y="1445"/>
                    </a:lnTo>
                    <a:lnTo>
                      <a:pt x="1967" y="1445"/>
                    </a:lnTo>
                    <a:lnTo>
                      <a:pt x="1969" y="1438"/>
                    </a:lnTo>
                    <a:lnTo>
                      <a:pt x="1974" y="1430"/>
                    </a:lnTo>
                    <a:lnTo>
                      <a:pt x="1979" y="1422"/>
                    </a:lnTo>
                    <a:lnTo>
                      <a:pt x="1984" y="1414"/>
                    </a:lnTo>
                    <a:lnTo>
                      <a:pt x="1989" y="1404"/>
                    </a:lnTo>
                    <a:lnTo>
                      <a:pt x="1996" y="1394"/>
                    </a:lnTo>
                    <a:lnTo>
                      <a:pt x="2001" y="1385"/>
                    </a:lnTo>
                    <a:lnTo>
                      <a:pt x="2006" y="1375"/>
                    </a:lnTo>
                    <a:lnTo>
                      <a:pt x="2003" y="1359"/>
                    </a:lnTo>
                    <a:lnTo>
                      <a:pt x="1997" y="1343"/>
                    </a:lnTo>
                    <a:lnTo>
                      <a:pt x="1991" y="1326"/>
                    </a:lnTo>
                    <a:lnTo>
                      <a:pt x="1984" y="1310"/>
                    </a:lnTo>
                    <a:lnTo>
                      <a:pt x="1977" y="1294"/>
                    </a:lnTo>
                    <a:lnTo>
                      <a:pt x="1971" y="1278"/>
                    </a:lnTo>
                    <a:lnTo>
                      <a:pt x="1967" y="1258"/>
                    </a:lnTo>
                    <a:lnTo>
                      <a:pt x="1965" y="1239"/>
                    </a:lnTo>
                    <a:lnTo>
                      <a:pt x="1971" y="1237"/>
                    </a:lnTo>
                    <a:lnTo>
                      <a:pt x="1974" y="1237"/>
                    </a:lnTo>
                    <a:lnTo>
                      <a:pt x="1979" y="1237"/>
                    </a:lnTo>
                    <a:lnTo>
                      <a:pt x="1984" y="1237"/>
                    </a:lnTo>
                    <a:lnTo>
                      <a:pt x="1991" y="1236"/>
                    </a:lnTo>
                    <a:lnTo>
                      <a:pt x="1996" y="1232"/>
                    </a:lnTo>
                    <a:lnTo>
                      <a:pt x="2003" y="1228"/>
                    </a:lnTo>
                    <a:lnTo>
                      <a:pt x="2009" y="1221"/>
                    </a:lnTo>
                    <a:lnTo>
                      <a:pt x="2018" y="1221"/>
                    </a:lnTo>
                    <a:lnTo>
                      <a:pt x="2028" y="1221"/>
                    </a:lnTo>
                    <a:lnTo>
                      <a:pt x="2036" y="1223"/>
                    </a:lnTo>
                    <a:lnTo>
                      <a:pt x="2045" y="1223"/>
                    </a:lnTo>
                    <a:lnTo>
                      <a:pt x="2055" y="1224"/>
                    </a:lnTo>
                    <a:lnTo>
                      <a:pt x="2063" y="1226"/>
                    </a:lnTo>
                    <a:lnTo>
                      <a:pt x="2073" y="1229"/>
                    </a:lnTo>
                    <a:lnTo>
                      <a:pt x="2083" y="1232"/>
                    </a:lnTo>
                    <a:lnTo>
                      <a:pt x="2132" y="1190"/>
                    </a:lnTo>
                    <a:lnTo>
                      <a:pt x="2151" y="1190"/>
                    </a:lnTo>
                    <a:lnTo>
                      <a:pt x="2166" y="1189"/>
                    </a:lnTo>
                    <a:lnTo>
                      <a:pt x="2181" y="1187"/>
                    </a:lnTo>
                    <a:lnTo>
                      <a:pt x="2193" y="1184"/>
                    </a:lnTo>
                    <a:lnTo>
                      <a:pt x="2206" y="1179"/>
                    </a:lnTo>
                    <a:lnTo>
                      <a:pt x="2218" y="1173"/>
                    </a:lnTo>
                    <a:lnTo>
                      <a:pt x="2233" y="1164"/>
                    </a:lnTo>
                    <a:lnTo>
                      <a:pt x="2248" y="1153"/>
                    </a:lnTo>
                    <a:lnTo>
                      <a:pt x="2253" y="1151"/>
                    </a:lnTo>
                    <a:lnTo>
                      <a:pt x="2258" y="1151"/>
                    </a:lnTo>
                    <a:lnTo>
                      <a:pt x="2264" y="1150"/>
                    </a:lnTo>
                    <a:lnTo>
                      <a:pt x="2270" y="1150"/>
                    </a:lnTo>
                    <a:lnTo>
                      <a:pt x="2275" y="1148"/>
                    </a:lnTo>
                    <a:lnTo>
                      <a:pt x="2282" y="1147"/>
                    </a:lnTo>
                    <a:lnTo>
                      <a:pt x="2289" y="1145"/>
                    </a:lnTo>
                    <a:lnTo>
                      <a:pt x="2294" y="1142"/>
                    </a:lnTo>
                    <a:lnTo>
                      <a:pt x="2294" y="1137"/>
                    </a:lnTo>
                    <a:lnTo>
                      <a:pt x="2296" y="1132"/>
                    </a:lnTo>
                    <a:lnTo>
                      <a:pt x="2296" y="1129"/>
                    </a:lnTo>
                    <a:lnTo>
                      <a:pt x="2296" y="1124"/>
                    </a:lnTo>
                    <a:lnTo>
                      <a:pt x="2297" y="1122"/>
                    </a:lnTo>
                    <a:lnTo>
                      <a:pt x="2299" y="1119"/>
                    </a:lnTo>
                    <a:lnTo>
                      <a:pt x="2301" y="1116"/>
                    </a:lnTo>
                    <a:lnTo>
                      <a:pt x="2301" y="1114"/>
                    </a:lnTo>
                    <a:lnTo>
                      <a:pt x="2304" y="1111"/>
                    </a:lnTo>
                    <a:lnTo>
                      <a:pt x="2307" y="1108"/>
                    </a:lnTo>
                    <a:lnTo>
                      <a:pt x="2311" y="1105"/>
                    </a:lnTo>
                    <a:lnTo>
                      <a:pt x="2316" y="1101"/>
                    </a:lnTo>
                    <a:lnTo>
                      <a:pt x="2319" y="1100"/>
                    </a:lnTo>
                    <a:lnTo>
                      <a:pt x="2324" y="1096"/>
                    </a:lnTo>
                    <a:lnTo>
                      <a:pt x="2329" y="1092"/>
                    </a:lnTo>
                    <a:lnTo>
                      <a:pt x="2334" y="1088"/>
                    </a:lnTo>
                    <a:lnTo>
                      <a:pt x="2343" y="1093"/>
                    </a:lnTo>
                    <a:lnTo>
                      <a:pt x="2351" y="1096"/>
                    </a:lnTo>
                    <a:lnTo>
                      <a:pt x="2358" y="1098"/>
                    </a:lnTo>
                    <a:lnTo>
                      <a:pt x="2363" y="1098"/>
                    </a:lnTo>
                    <a:lnTo>
                      <a:pt x="2373" y="1095"/>
                    </a:lnTo>
                    <a:lnTo>
                      <a:pt x="2381" y="1088"/>
                    </a:lnTo>
                    <a:lnTo>
                      <a:pt x="2391" y="1080"/>
                    </a:lnTo>
                    <a:lnTo>
                      <a:pt x="2403" y="1070"/>
                    </a:lnTo>
                    <a:lnTo>
                      <a:pt x="2410" y="1067"/>
                    </a:lnTo>
                    <a:lnTo>
                      <a:pt x="2417" y="1064"/>
                    </a:lnTo>
                    <a:lnTo>
                      <a:pt x="2425" y="1062"/>
                    </a:lnTo>
                    <a:lnTo>
                      <a:pt x="2435" y="1061"/>
                    </a:lnTo>
                    <a:lnTo>
                      <a:pt x="2437" y="1059"/>
                    </a:lnTo>
                    <a:lnTo>
                      <a:pt x="2440" y="1054"/>
                    </a:lnTo>
                    <a:lnTo>
                      <a:pt x="2445" y="1051"/>
                    </a:lnTo>
                    <a:lnTo>
                      <a:pt x="2450" y="1046"/>
                    </a:lnTo>
                    <a:lnTo>
                      <a:pt x="2455" y="1041"/>
                    </a:lnTo>
                    <a:lnTo>
                      <a:pt x="2462" y="1036"/>
                    </a:lnTo>
                    <a:lnTo>
                      <a:pt x="2469" y="1032"/>
                    </a:lnTo>
                    <a:lnTo>
                      <a:pt x="2476" y="1030"/>
                    </a:lnTo>
                    <a:lnTo>
                      <a:pt x="2489" y="1027"/>
                    </a:lnTo>
                    <a:lnTo>
                      <a:pt x="2501" y="1020"/>
                    </a:lnTo>
                    <a:lnTo>
                      <a:pt x="2511" y="1014"/>
                    </a:lnTo>
                    <a:lnTo>
                      <a:pt x="2518" y="1006"/>
                    </a:lnTo>
                    <a:lnTo>
                      <a:pt x="2525" y="996"/>
                    </a:lnTo>
                    <a:lnTo>
                      <a:pt x="2530" y="985"/>
                    </a:lnTo>
                    <a:lnTo>
                      <a:pt x="2533" y="972"/>
                    </a:lnTo>
                    <a:lnTo>
                      <a:pt x="2536" y="959"/>
                    </a:lnTo>
                    <a:lnTo>
                      <a:pt x="2543" y="931"/>
                    </a:lnTo>
                    <a:lnTo>
                      <a:pt x="2548" y="904"/>
                    </a:lnTo>
                    <a:lnTo>
                      <a:pt x="2553" y="891"/>
                    </a:lnTo>
                    <a:lnTo>
                      <a:pt x="2557" y="878"/>
                    </a:lnTo>
                    <a:lnTo>
                      <a:pt x="2563" y="865"/>
                    </a:lnTo>
                    <a:lnTo>
                      <a:pt x="2570" y="852"/>
                    </a:lnTo>
                    <a:lnTo>
                      <a:pt x="2577" y="850"/>
                    </a:lnTo>
                    <a:lnTo>
                      <a:pt x="2583" y="847"/>
                    </a:lnTo>
                    <a:lnTo>
                      <a:pt x="2590" y="842"/>
                    </a:lnTo>
                    <a:lnTo>
                      <a:pt x="2597" y="837"/>
                    </a:lnTo>
                    <a:lnTo>
                      <a:pt x="2602" y="829"/>
                    </a:lnTo>
                    <a:lnTo>
                      <a:pt x="2609" y="823"/>
                    </a:lnTo>
                    <a:lnTo>
                      <a:pt x="2617" y="813"/>
                    </a:lnTo>
                    <a:lnTo>
                      <a:pt x="2626" y="805"/>
                    </a:lnTo>
                    <a:lnTo>
                      <a:pt x="2642" y="805"/>
                    </a:lnTo>
                    <a:lnTo>
                      <a:pt x="2661" y="805"/>
                    </a:lnTo>
                    <a:lnTo>
                      <a:pt x="2679" y="802"/>
                    </a:lnTo>
                    <a:lnTo>
                      <a:pt x="2698" y="797"/>
                    </a:lnTo>
                    <a:lnTo>
                      <a:pt x="2716" y="794"/>
                    </a:lnTo>
                    <a:lnTo>
                      <a:pt x="2735" y="790"/>
                    </a:lnTo>
                    <a:lnTo>
                      <a:pt x="2754" y="787"/>
                    </a:lnTo>
                    <a:lnTo>
                      <a:pt x="2772" y="789"/>
                    </a:lnTo>
                    <a:lnTo>
                      <a:pt x="2782" y="784"/>
                    </a:lnTo>
                    <a:lnTo>
                      <a:pt x="2796" y="777"/>
                    </a:lnTo>
                    <a:lnTo>
                      <a:pt x="2809" y="773"/>
                    </a:lnTo>
                    <a:lnTo>
                      <a:pt x="2823" y="769"/>
                    </a:lnTo>
                    <a:lnTo>
                      <a:pt x="2829" y="769"/>
                    </a:lnTo>
                    <a:lnTo>
                      <a:pt x="2836" y="769"/>
                    </a:lnTo>
                    <a:lnTo>
                      <a:pt x="2841" y="771"/>
                    </a:lnTo>
                    <a:lnTo>
                      <a:pt x="2846" y="774"/>
                    </a:lnTo>
                    <a:lnTo>
                      <a:pt x="2850" y="779"/>
                    </a:lnTo>
                    <a:lnTo>
                      <a:pt x="2853" y="784"/>
                    </a:lnTo>
                    <a:lnTo>
                      <a:pt x="2855" y="792"/>
                    </a:lnTo>
                    <a:lnTo>
                      <a:pt x="2855" y="800"/>
                    </a:lnTo>
                    <a:lnTo>
                      <a:pt x="2866" y="802"/>
                    </a:lnTo>
                    <a:lnTo>
                      <a:pt x="2876" y="802"/>
                    </a:lnTo>
                    <a:lnTo>
                      <a:pt x="2888" y="802"/>
                    </a:lnTo>
                    <a:lnTo>
                      <a:pt x="2900" y="802"/>
                    </a:lnTo>
                    <a:lnTo>
                      <a:pt x="2910" y="803"/>
                    </a:lnTo>
                    <a:lnTo>
                      <a:pt x="2922" y="803"/>
                    </a:lnTo>
                    <a:lnTo>
                      <a:pt x="2934" y="803"/>
                    </a:lnTo>
                    <a:lnTo>
                      <a:pt x="2946" y="803"/>
                    </a:lnTo>
                    <a:lnTo>
                      <a:pt x="2957" y="810"/>
                    </a:lnTo>
                    <a:lnTo>
                      <a:pt x="2969" y="811"/>
                    </a:lnTo>
                    <a:lnTo>
                      <a:pt x="2979" y="811"/>
                    </a:lnTo>
                    <a:lnTo>
                      <a:pt x="2988" y="808"/>
                    </a:lnTo>
                    <a:lnTo>
                      <a:pt x="2996" y="803"/>
                    </a:lnTo>
                    <a:lnTo>
                      <a:pt x="3003" y="795"/>
                    </a:lnTo>
                    <a:lnTo>
                      <a:pt x="3010" y="785"/>
                    </a:lnTo>
                    <a:lnTo>
                      <a:pt x="3015" y="776"/>
                    </a:lnTo>
                    <a:lnTo>
                      <a:pt x="3020" y="763"/>
                    </a:lnTo>
                    <a:lnTo>
                      <a:pt x="3023" y="751"/>
                    </a:lnTo>
                    <a:lnTo>
                      <a:pt x="3025" y="738"/>
                    </a:lnTo>
                    <a:lnTo>
                      <a:pt x="3026" y="726"/>
                    </a:lnTo>
                    <a:lnTo>
                      <a:pt x="3028" y="700"/>
                    </a:lnTo>
                    <a:lnTo>
                      <a:pt x="3025" y="677"/>
                    </a:lnTo>
                    <a:lnTo>
                      <a:pt x="3021" y="670"/>
                    </a:lnTo>
                    <a:lnTo>
                      <a:pt x="3020" y="662"/>
                    </a:lnTo>
                    <a:lnTo>
                      <a:pt x="3020" y="656"/>
                    </a:lnTo>
                    <a:lnTo>
                      <a:pt x="3021" y="649"/>
                    </a:lnTo>
                    <a:lnTo>
                      <a:pt x="3030" y="636"/>
                    </a:lnTo>
                    <a:lnTo>
                      <a:pt x="3043" y="624"/>
                    </a:lnTo>
                    <a:lnTo>
                      <a:pt x="3057" y="612"/>
                    </a:lnTo>
                    <a:lnTo>
                      <a:pt x="3068" y="599"/>
                    </a:lnTo>
                    <a:lnTo>
                      <a:pt x="3075" y="593"/>
                    </a:lnTo>
                    <a:lnTo>
                      <a:pt x="3079" y="586"/>
                    </a:lnTo>
                    <a:lnTo>
                      <a:pt x="3082" y="580"/>
                    </a:lnTo>
                    <a:lnTo>
                      <a:pt x="3082" y="572"/>
                    </a:lnTo>
                    <a:lnTo>
                      <a:pt x="3080" y="570"/>
                    </a:lnTo>
                    <a:lnTo>
                      <a:pt x="3077" y="568"/>
                    </a:lnTo>
                    <a:lnTo>
                      <a:pt x="3075" y="567"/>
                    </a:lnTo>
                    <a:lnTo>
                      <a:pt x="3072" y="564"/>
                    </a:lnTo>
                    <a:lnTo>
                      <a:pt x="3070" y="562"/>
                    </a:lnTo>
                    <a:lnTo>
                      <a:pt x="3067" y="560"/>
                    </a:lnTo>
                    <a:lnTo>
                      <a:pt x="3065" y="557"/>
                    </a:lnTo>
                    <a:lnTo>
                      <a:pt x="3062" y="555"/>
                    </a:lnTo>
                    <a:lnTo>
                      <a:pt x="3063" y="549"/>
                    </a:lnTo>
                    <a:lnTo>
                      <a:pt x="3063" y="541"/>
                    </a:lnTo>
                    <a:lnTo>
                      <a:pt x="3065" y="533"/>
                    </a:lnTo>
                    <a:lnTo>
                      <a:pt x="3067" y="523"/>
                    </a:lnTo>
                    <a:lnTo>
                      <a:pt x="3067" y="515"/>
                    </a:lnTo>
                    <a:lnTo>
                      <a:pt x="3067" y="505"/>
                    </a:lnTo>
                    <a:lnTo>
                      <a:pt x="3065" y="497"/>
                    </a:lnTo>
                    <a:lnTo>
                      <a:pt x="3062" y="489"/>
                    </a:lnTo>
                    <a:lnTo>
                      <a:pt x="3062" y="481"/>
                    </a:lnTo>
                    <a:lnTo>
                      <a:pt x="3062" y="475"/>
                    </a:lnTo>
                    <a:lnTo>
                      <a:pt x="3063" y="468"/>
                    </a:lnTo>
                    <a:lnTo>
                      <a:pt x="3065" y="463"/>
                    </a:lnTo>
                    <a:lnTo>
                      <a:pt x="3072" y="457"/>
                    </a:lnTo>
                    <a:lnTo>
                      <a:pt x="3080" y="450"/>
                    </a:lnTo>
                    <a:lnTo>
                      <a:pt x="3089" y="444"/>
                    </a:lnTo>
                    <a:lnTo>
                      <a:pt x="3099" y="436"/>
                    </a:lnTo>
                    <a:lnTo>
                      <a:pt x="3107" y="424"/>
                    </a:lnTo>
                    <a:lnTo>
                      <a:pt x="3116" y="408"/>
                    </a:lnTo>
                    <a:lnTo>
                      <a:pt x="3126" y="394"/>
                    </a:lnTo>
                    <a:lnTo>
                      <a:pt x="3122" y="387"/>
                    </a:lnTo>
                    <a:lnTo>
                      <a:pt x="3121" y="381"/>
                    </a:lnTo>
                    <a:lnTo>
                      <a:pt x="3117" y="374"/>
                    </a:lnTo>
                    <a:lnTo>
                      <a:pt x="3116" y="369"/>
                    </a:lnTo>
                    <a:lnTo>
                      <a:pt x="3112" y="363"/>
                    </a:lnTo>
                    <a:lnTo>
                      <a:pt x="3109" y="358"/>
                    </a:lnTo>
                    <a:lnTo>
                      <a:pt x="3107" y="351"/>
                    </a:lnTo>
                    <a:lnTo>
                      <a:pt x="3105" y="343"/>
                    </a:lnTo>
                    <a:lnTo>
                      <a:pt x="3094" y="345"/>
                    </a:lnTo>
                    <a:lnTo>
                      <a:pt x="3084" y="345"/>
                    </a:lnTo>
                    <a:lnTo>
                      <a:pt x="3075" y="345"/>
                    </a:lnTo>
                    <a:lnTo>
                      <a:pt x="3067" y="345"/>
                    </a:lnTo>
                    <a:lnTo>
                      <a:pt x="3058" y="343"/>
                    </a:lnTo>
                    <a:lnTo>
                      <a:pt x="3052" y="342"/>
                    </a:lnTo>
                    <a:lnTo>
                      <a:pt x="3043" y="340"/>
                    </a:lnTo>
                    <a:lnTo>
                      <a:pt x="3033" y="338"/>
                    </a:lnTo>
                    <a:lnTo>
                      <a:pt x="3023" y="340"/>
                    </a:lnTo>
                    <a:lnTo>
                      <a:pt x="3015" y="343"/>
                    </a:lnTo>
                    <a:lnTo>
                      <a:pt x="3004" y="343"/>
                    </a:lnTo>
                    <a:lnTo>
                      <a:pt x="2994" y="343"/>
                    </a:lnTo>
                    <a:lnTo>
                      <a:pt x="2972" y="342"/>
                    </a:lnTo>
                    <a:lnTo>
                      <a:pt x="2952" y="337"/>
                    </a:lnTo>
                    <a:lnTo>
                      <a:pt x="2932" y="330"/>
                    </a:lnTo>
                    <a:lnTo>
                      <a:pt x="2910" y="321"/>
                    </a:lnTo>
                    <a:lnTo>
                      <a:pt x="2888" y="311"/>
                    </a:lnTo>
                    <a:lnTo>
                      <a:pt x="2866" y="300"/>
                    </a:lnTo>
                    <a:lnTo>
                      <a:pt x="2824" y="274"/>
                    </a:lnTo>
                    <a:lnTo>
                      <a:pt x="2782" y="251"/>
                    </a:lnTo>
                    <a:lnTo>
                      <a:pt x="2762" y="240"/>
                    </a:lnTo>
                    <a:lnTo>
                      <a:pt x="2742" y="232"/>
                    </a:lnTo>
                    <a:lnTo>
                      <a:pt x="2722" y="225"/>
                    </a:lnTo>
                    <a:lnTo>
                      <a:pt x="2701" y="220"/>
                    </a:lnTo>
                    <a:lnTo>
                      <a:pt x="2686" y="219"/>
                    </a:lnTo>
                    <a:lnTo>
                      <a:pt x="2673" y="215"/>
                    </a:lnTo>
                    <a:lnTo>
                      <a:pt x="2658" y="212"/>
                    </a:lnTo>
                    <a:lnTo>
                      <a:pt x="2644" y="209"/>
                    </a:lnTo>
                    <a:lnTo>
                      <a:pt x="2632" y="206"/>
                    </a:lnTo>
                    <a:lnTo>
                      <a:pt x="2621" y="204"/>
                    </a:lnTo>
                    <a:lnTo>
                      <a:pt x="2609" y="204"/>
                    </a:lnTo>
                    <a:lnTo>
                      <a:pt x="2599" y="207"/>
                    </a:lnTo>
                    <a:lnTo>
                      <a:pt x="2589" y="220"/>
                    </a:lnTo>
                    <a:lnTo>
                      <a:pt x="2582" y="228"/>
                    </a:lnTo>
                    <a:lnTo>
                      <a:pt x="2575" y="235"/>
                    </a:lnTo>
                    <a:lnTo>
                      <a:pt x="2568" y="240"/>
                    </a:lnTo>
                    <a:lnTo>
                      <a:pt x="2562" y="241"/>
                    </a:lnTo>
                    <a:lnTo>
                      <a:pt x="2555" y="243"/>
                    </a:lnTo>
                    <a:lnTo>
                      <a:pt x="2545" y="243"/>
                    </a:lnTo>
                    <a:lnTo>
                      <a:pt x="2533" y="245"/>
                    </a:lnTo>
                    <a:lnTo>
                      <a:pt x="2528" y="236"/>
                    </a:lnTo>
                    <a:lnTo>
                      <a:pt x="2526" y="228"/>
                    </a:lnTo>
                    <a:lnTo>
                      <a:pt x="2525" y="219"/>
                    </a:lnTo>
                    <a:lnTo>
                      <a:pt x="2523" y="207"/>
                    </a:lnTo>
                    <a:lnTo>
                      <a:pt x="2519" y="198"/>
                    </a:lnTo>
                    <a:lnTo>
                      <a:pt x="2514" y="188"/>
                    </a:lnTo>
                    <a:lnTo>
                      <a:pt x="2511" y="183"/>
                    </a:lnTo>
                    <a:lnTo>
                      <a:pt x="2504" y="178"/>
                    </a:lnTo>
                    <a:lnTo>
                      <a:pt x="2499" y="173"/>
                    </a:lnTo>
                    <a:lnTo>
                      <a:pt x="2491" y="170"/>
                    </a:lnTo>
                    <a:lnTo>
                      <a:pt x="2474" y="168"/>
                    </a:lnTo>
                    <a:lnTo>
                      <a:pt x="2459" y="165"/>
                    </a:lnTo>
                    <a:lnTo>
                      <a:pt x="2447" y="162"/>
                    </a:lnTo>
                    <a:lnTo>
                      <a:pt x="2435" y="159"/>
                    </a:lnTo>
                    <a:lnTo>
                      <a:pt x="2425" y="157"/>
                    </a:lnTo>
                    <a:lnTo>
                      <a:pt x="2415" y="160"/>
                    </a:lnTo>
                    <a:lnTo>
                      <a:pt x="2403" y="165"/>
                    </a:lnTo>
                    <a:lnTo>
                      <a:pt x="2388" y="175"/>
                    </a:lnTo>
                    <a:lnTo>
                      <a:pt x="2380" y="177"/>
                    </a:lnTo>
                    <a:lnTo>
                      <a:pt x="2370" y="178"/>
                    </a:lnTo>
                    <a:lnTo>
                      <a:pt x="2361" y="180"/>
                    </a:lnTo>
                    <a:lnTo>
                      <a:pt x="2353" y="181"/>
                    </a:lnTo>
                    <a:lnTo>
                      <a:pt x="2346" y="183"/>
                    </a:lnTo>
                    <a:lnTo>
                      <a:pt x="2339" y="185"/>
                    </a:lnTo>
                    <a:lnTo>
                      <a:pt x="2333" y="186"/>
                    </a:lnTo>
                    <a:lnTo>
                      <a:pt x="2326" y="188"/>
                    </a:lnTo>
                    <a:lnTo>
                      <a:pt x="2317" y="183"/>
                    </a:lnTo>
                    <a:lnTo>
                      <a:pt x="2311" y="177"/>
                    </a:lnTo>
                    <a:lnTo>
                      <a:pt x="2304" y="170"/>
                    </a:lnTo>
                    <a:lnTo>
                      <a:pt x="2299" y="164"/>
                    </a:lnTo>
                    <a:lnTo>
                      <a:pt x="2294" y="157"/>
                    </a:lnTo>
                    <a:lnTo>
                      <a:pt x="2287" y="151"/>
                    </a:lnTo>
                    <a:lnTo>
                      <a:pt x="2282" y="143"/>
                    </a:lnTo>
                    <a:lnTo>
                      <a:pt x="2275" y="136"/>
                    </a:lnTo>
                    <a:lnTo>
                      <a:pt x="2272" y="120"/>
                    </a:lnTo>
                    <a:lnTo>
                      <a:pt x="2269" y="105"/>
                    </a:lnTo>
                    <a:lnTo>
                      <a:pt x="2264" y="96"/>
                    </a:lnTo>
                    <a:lnTo>
                      <a:pt x="2258" y="89"/>
                    </a:lnTo>
                    <a:lnTo>
                      <a:pt x="2252" y="84"/>
                    </a:lnTo>
                    <a:lnTo>
                      <a:pt x="2245" y="81"/>
                    </a:lnTo>
                    <a:lnTo>
                      <a:pt x="2238" y="81"/>
                    </a:lnTo>
                    <a:lnTo>
                      <a:pt x="2230" y="83"/>
                    </a:lnTo>
                    <a:lnTo>
                      <a:pt x="2210" y="91"/>
                    </a:lnTo>
                    <a:lnTo>
                      <a:pt x="2189" y="102"/>
                    </a:lnTo>
                    <a:lnTo>
                      <a:pt x="2164" y="113"/>
                    </a:lnTo>
                    <a:lnTo>
                      <a:pt x="2137" y="123"/>
                    </a:lnTo>
                    <a:lnTo>
                      <a:pt x="2130" y="123"/>
                    </a:lnTo>
                    <a:lnTo>
                      <a:pt x="2124" y="121"/>
                    </a:lnTo>
                    <a:lnTo>
                      <a:pt x="2117" y="120"/>
                    </a:lnTo>
                    <a:lnTo>
                      <a:pt x="2110" y="120"/>
                    </a:lnTo>
                    <a:lnTo>
                      <a:pt x="2102" y="118"/>
                    </a:lnTo>
                    <a:lnTo>
                      <a:pt x="2095" y="117"/>
                    </a:lnTo>
                    <a:lnTo>
                      <a:pt x="2088" y="115"/>
                    </a:lnTo>
                    <a:lnTo>
                      <a:pt x="2082" y="113"/>
                    </a:lnTo>
                    <a:lnTo>
                      <a:pt x="2061" y="117"/>
                    </a:lnTo>
                    <a:lnTo>
                      <a:pt x="2041" y="118"/>
                    </a:lnTo>
                    <a:lnTo>
                      <a:pt x="2019" y="121"/>
                    </a:lnTo>
                    <a:lnTo>
                      <a:pt x="1999" y="121"/>
                    </a:lnTo>
                    <a:lnTo>
                      <a:pt x="1977" y="121"/>
                    </a:lnTo>
                    <a:lnTo>
                      <a:pt x="1959" y="120"/>
                    </a:lnTo>
                    <a:lnTo>
                      <a:pt x="1939" y="115"/>
                    </a:lnTo>
                    <a:lnTo>
                      <a:pt x="1922" y="107"/>
                    </a:lnTo>
                    <a:lnTo>
                      <a:pt x="1917" y="107"/>
                    </a:lnTo>
                    <a:lnTo>
                      <a:pt x="1910" y="105"/>
                    </a:lnTo>
                    <a:lnTo>
                      <a:pt x="1905" y="104"/>
                    </a:lnTo>
                    <a:lnTo>
                      <a:pt x="1900" y="102"/>
                    </a:lnTo>
                    <a:lnTo>
                      <a:pt x="1895" y="102"/>
                    </a:lnTo>
                    <a:lnTo>
                      <a:pt x="1888" y="100"/>
                    </a:lnTo>
                    <a:lnTo>
                      <a:pt x="1883" y="99"/>
                    </a:lnTo>
                    <a:lnTo>
                      <a:pt x="1878" y="97"/>
                    </a:lnTo>
                    <a:lnTo>
                      <a:pt x="1878" y="91"/>
                    </a:lnTo>
                    <a:lnTo>
                      <a:pt x="1878" y="83"/>
                    </a:lnTo>
                    <a:lnTo>
                      <a:pt x="1880" y="76"/>
                    </a:lnTo>
                    <a:lnTo>
                      <a:pt x="1880" y="68"/>
                    </a:lnTo>
                    <a:lnTo>
                      <a:pt x="1880" y="60"/>
                    </a:lnTo>
                    <a:lnTo>
                      <a:pt x="1880" y="53"/>
                    </a:lnTo>
                    <a:lnTo>
                      <a:pt x="1881" y="45"/>
                    </a:lnTo>
                    <a:lnTo>
                      <a:pt x="1881" y="39"/>
                    </a:lnTo>
                    <a:lnTo>
                      <a:pt x="1863" y="36"/>
                    </a:lnTo>
                    <a:lnTo>
                      <a:pt x="1844" y="31"/>
                    </a:lnTo>
                    <a:lnTo>
                      <a:pt x="1826" y="26"/>
                    </a:lnTo>
                    <a:lnTo>
                      <a:pt x="1809" y="19"/>
                    </a:lnTo>
                    <a:lnTo>
                      <a:pt x="1792" y="13"/>
                    </a:lnTo>
                    <a:lnTo>
                      <a:pt x="1775" y="6"/>
                    </a:lnTo>
                    <a:lnTo>
                      <a:pt x="1758" y="3"/>
                    </a:lnTo>
                    <a:lnTo>
                      <a:pt x="1740" y="0"/>
                    </a:lnTo>
                    <a:lnTo>
                      <a:pt x="1733" y="10"/>
                    </a:lnTo>
                    <a:lnTo>
                      <a:pt x="1728" y="18"/>
                    </a:lnTo>
                    <a:lnTo>
                      <a:pt x="1726" y="24"/>
                    </a:lnTo>
                    <a:lnTo>
                      <a:pt x="1725" y="32"/>
                    </a:lnTo>
                    <a:lnTo>
                      <a:pt x="1725" y="39"/>
                    </a:lnTo>
                    <a:lnTo>
                      <a:pt x="1725" y="45"/>
                    </a:lnTo>
                    <a:lnTo>
                      <a:pt x="1725" y="52"/>
                    </a:lnTo>
                    <a:lnTo>
                      <a:pt x="1726" y="60"/>
                    </a:lnTo>
                    <a:lnTo>
                      <a:pt x="1720" y="57"/>
                    </a:lnTo>
                    <a:lnTo>
                      <a:pt x="1715" y="57"/>
                    </a:lnTo>
                    <a:lnTo>
                      <a:pt x="1710" y="55"/>
                    </a:lnTo>
                    <a:lnTo>
                      <a:pt x="1706" y="53"/>
                    </a:lnTo>
                    <a:lnTo>
                      <a:pt x="1701" y="53"/>
                    </a:lnTo>
                    <a:lnTo>
                      <a:pt x="1698" y="53"/>
                    </a:lnTo>
                    <a:lnTo>
                      <a:pt x="1693" y="53"/>
                    </a:lnTo>
                    <a:lnTo>
                      <a:pt x="1689" y="53"/>
                    </a:lnTo>
                    <a:lnTo>
                      <a:pt x="1674" y="58"/>
                    </a:lnTo>
                    <a:lnTo>
                      <a:pt x="1664" y="63"/>
                    </a:lnTo>
                    <a:lnTo>
                      <a:pt x="1657" y="65"/>
                    </a:lnTo>
                    <a:lnTo>
                      <a:pt x="1652" y="65"/>
                    </a:lnTo>
                    <a:lnTo>
                      <a:pt x="1649" y="65"/>
                    </a:lnTo>
                    <a:lnTo>
                      <a:pt x="1644" y="63"/>
                    </a:lnTo>
                    <a:lnTo>
                      <a:pt x="1635" y="58"/>
                    </a:lnTo>
                    <a:lnTo>
                      <a:pt x="1624" y="53"/>
                    </a:lnTo>
                    <a:lnTo>
                      <a:pt x="1614" y="60"/>
                    </a:lnTo>
                    <a:lnTo>
                      <a:pt x="1600" y="70"/>
                    </a:lnTo>
                    <a:lnTo>
                      <a:pt x="1587" y="83"/>
                    </a:lnTo>
                    <a:lnTo>
                      <a:pt x="1571" y="99"/>
                    </a:lnTo>
                    <a:lnTo>
                      <a:pt x="1556" y="113"/>
                    </a:lnTo>
                    <a:lnTo>
                      <a:pt x="1543" y="130"/>
                    </a:lnTo>
                    <a:lnTo>
                      <a:pt x="1533" y="141"/>
                    </a:lnTo>
                    <a:lnTo>
                      <a:pt x="1526" y="151"/>
                    </a:lnTo>
                    <a:lnTo>
                      <a:pt x="1523" y="149"/>
                    </a:lnTo>
                    <a:lnTo>
                      <a:pt x="1519" y="147"/>
                    </a:lnTo>
                    <a:lnTo>
                      <a:pt x="1516" y="146"/>
                    </a:lnTo>
                    <a:lnTo>
                      <a:pt x="1512" y="146"/>
                    </a:lnTo>
                    <a:lnTo>
                      <a:pt x="1509" y="146"/>
                    </a:lnTo>
                    <a:lnTo>
                      <a:pt x="1506" y="144"/>
                    </a:lnTo>
                    <a:lnTo>
                      <a:pt x="1501" y="144"/>
                    </a:lnTo>
                    <a:lnTo>
                      <a:pt x="1494" y="144"/>
                    </a:lnTo>
                    <a:lnTo>
                      <a:pt x="1479" y="136"/>
                    </a:lnTo>
                    <a:lnTo>
                      <a:pt x="1464" y="128"/>
                    </a:lnTo>
                    <a:lnTo>
                      <a:pt x="1450" y="120"/>
                    </a:lnTo>
                    <a:lnTo>
                      <a:pt x="1435" y="112"/>
                    </a:lnTo>
                    <a:lnTo>
                      <a:pt x="1428" y="110"/>
                    </a:lnTo>
                    <a:lnTo>
                      <a:pt x="1422" y="109"/>
                    </a:lnTo>
                    <a:lnTo>
                      <a:pt x="1415" y="107"/>
                    </a:lnTo>
                    <a:lnTo>
                      <a:pt x="1408" y="107"/>
                    </a:lnTo>
                    <a:lnTo>
                      <a:pt x="1401" y="109"/>
                    </a:lnTo>
                    <a:lnTo>
                      <a:pt x="1395" y="112"/>
                    </a:lnTo>
                    <a:lnTo>
                      <a:pt x="1386" y="115"/>
                    </a:lnTo>
                    <a:lnTo>
                      <a:pt x="1379" y="121"/>
                    </a:lnTo>
                    <a:lnTo>
                      <a:pt x="1361" y="112"/>
                    </a:lnTo>
                    <a:lnTo>
                      <a:pt x="1347" y="104"/>
                    </a:lnTo>
                    <a:lnTo>
                      <a:pt x="1334" y="99"/>
                    </a:lnTo>
                    <a:lnTo>
                      <a:pt x="1324" y="96"/>
                    </a:lnTo>
                    <a:lnTo>
                      <a:pt x="1315" y="96"/>
                    </a:lnTo>
                    <a:lnTo>
                      <a:pt x="1305" y="99"/>
                    </a:lnTo>
                    <a:lnTo>
                      <a:pt x="1295" y="105"/>
                    </a:lnTo>
                    <a:lnTo>
                      <a:pt x="1283" y="115"/>
                    </a:lnTo>
                    <a:lnTo>
                      <a:pt x="1278" y="115"/>
                    </a:lnTo>
                    <a:lnTo>
                      <a:pt x="1275" y="113"/>
                    </a:lnTo>
                    <a:lnTo>
                      <a:pt x="1270" y="112"/>
                    </a:lnTo>
                    <a:lnTo>
                      <a:pt x="1267" y="110"/>
                    </a:lnTo>
                    <a:lnTo>
                      <a:pt x="1265" y="109"/>
                    </a:lnTo>
                    <a:lnTo>
                      <a:pt x="1262" y="107"/>
                    </a:lnTo>
                    <a:lnTo>
                      <a:pt x="1258" y="104"/>
                    </a:lnTo>
                    <a:lnTo>
                      <a:pt x="1253" y="102"/>
                    </a:lnTo>
                    <a:lnTo>
                      <a:pt x="1238" y="104"/>
                    </a:lnTo>
                    <a:lnTo>
                      <a:pt x="1225" y="107"/>
                    </a:lnTo>
                    <a:lnTo>
                      <a:pt x="1216" y="113"/>
                    </a:lnTo>
                    <a:lnTo>
                      <a:pt x="1208" y="120"/>
                    </a:lnTo>
                    <a:lnTo>
                      <a:pt x="1199" y="126"/>
                    </a:lnTo>
                    <a:lnTo>
                      <a:pt x="1189" y="131"/>
                    </a:lnTo>
                    <a:lnTo>
                      <a:pt x="1184" y="133"/>
                    </a:lnTo>
                    <a:lnTo>
                      <a:pt x="1177" y="133"/>
                    </a:lnTo>
                    <a:lnTo>
                      <a:pt x="1171" y="133"/>
                    </a:lnTo>
                    <a:lnTo>
                      <a:pt x="1162" y="131"/>
                    </a:lnTo>
                    <a:lnTo>
                      <a:pt x="1164" y="126"/>
                    </a:lnTo>
                    <a:lnTo>
                      <a:pt x="1164" y="121"/>
                    </a:lnTo>
                    <a:lnTo>
                      <a:pt x="1164" y="115"/>
                    </a:lnTo>
                    <a:lnTo>
                      <a:pt x="1161" y="109"/>
                    </a:lnTo>
                    <a:lnTo>
                      <a:pt x="1154" y="96"/>
                    </a:lnTo>
                    <a:lnTo>
                      <a:pt x="1145" y="83"/>
                    </a:lnTo>
                    <a:lnTo>
                      <a:pt x="1134" y="70"/>
                    </a:lnTo>
                    <a:lnTo>
                      <a:pt x="1123" y="58"/>
                    </a:lnTo>
                    <a:lnTo>
                      <a:pt x="1115" y="47"/>
                    </a:lnTo>
                    <a:lnTo>
                      <a:pt x="1108" y="39"/>
                    </a:lnTo>
                    <a:lnTo>
                      <a:pt x="1100" y="39"/>
                    </a:lnTo>
                    <a:lnTo>
                      <a:pt x="1091" y="39"/>
                    </a:lnTo>
                    <a:lnTo>
                      <a:pt x="1085" y="37"/>
                    </a:lnTo>
                    <a:lnTo>
                      <a:pt x="1078" y="37"/>
                    </a:lnTo>
                    <a:lnTo>
                      <a:pt x="1071" y="36"/>
                    </a:lnTo>
                    <a:lnTo>
                      <a:pt x="1065" y="36"/>
                    </a:lnTo>
                    <a:lnTo>
                      <a:pt x="1058" y="34"/>
                    </a:lnTo>
                    <a:lnTo>
                      <a:pt x="1051" y="31"/>
                    </a:lnTo>
                    <a:lnTo>
                      <a:pt x="1043" y="50"/>
                    </a:lnTo>
                    <a:lnTo>
                      <a:pt x="1036" y="65"/>
                    </a:lnTo>
                    <a:lnTo>
                      <a:pt x="1031" y="75"/>
                    </a:lnTo>
                    <a:lnTo>
                      <a:pt x="1024" y="79"/>
                    </a:lnTo>
                    <a:lnTo>
                      <a:pt x="1016" y="83"/>
                    </a:lnTo>
                    <a:lnTo>
                      <a:pt x="1006" y="83"/>
                    </a:lnTo>
                    <a:lnTo>
                      <a:pt x="992" y="79"/>
                    </a:lnTo>
                    <a:lnTo>
                      <a:pt x="975" y="75"/>
                    </a:lnTo>
                    <a:lnTo>
                      <a:pt x="974" y="78"/>
                    </a:lnTo>
                    <a:lnTo>
                      <a:pt x="974" y="79"/>
                    </a:lnTo>
                    <a:lnTo>
                      <a:pt x="972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9" y="87"/>
                    </a:lnTo>
                    <a:lnTo>
                      <a:pt x="967" y="91"/>
                    </a:lnTo>
                    <a:lnTo>
                      <a:pt x="967" y="92"/>
                    </a:lnTo>
                    <a:lnTo>
                      <a:pt x="965" y="91"/>
                    </a:lnTo>
                    <a:lnTo>
                      <a:pt x="962" y="91"/>
                    </a:lnTo>
                    <a:lnTo>
                      <a:pt x="960" y="89"/>
                    </a:lnTo>
                    <a:lnTo>
                      <a:pt x="958" y="89"/>
                    </a:lnTo>
                    <a:lnTo>
                      <a:pt x="957" y="89"/>
                    </a:lnTo>
                    <a:lnTo>
                      <a:pt x="955" y="89"/>
                    </a:lnTo>
                    <a:lnTo>
                      <a:pt x="955" y="87"/>
                    </a:lnTo>
                    <a:lnTo>
                      <a:pt x="953" y="87"/>
                    </a:lnTo>
                    <a:lnTo>
                      <a:pt x="947" y="94"/>
                    </a:lnTo>
                    <a:lnTo>
                      <a:pt x="942" y="102"/>
                    </a:lnTo>
                    <a:lnTo>
                      <a:pt x="937" y="110"/>
                    </a:lnTo>
                    <a:lnTo>
                      <a:pt x="933" y="120"/>
                    </a:lnTo>
                    <a:lnTo>
                      <a:pt x="928" y="141"/>
                    </a:lnTo>
                    <a:lnTo>
                      <a:pt x="925" y="162"/>
                    </a:lnTo>
                    <a:lnTo>
                      <a:pt x="926" y="173"/>
                    </a:lnTo>
                    <a:lnTo>
                      <a:pt x="926" y="183"/>
                    </a:lnTo>
                    <a:lnTo>
                      <a:pt x="928" y="193"/>
                    </a:lnTo>
                    <a:lnTo>
                      <a:pt x="932" y="202"/>
                    </a:lnTo>
                    <a:lnTo>
                      <a:pt x="935" y="209"/>
                    </a:lnTo>
                    <a:lnTo>
                      <a:pt x="940" y="215"/>
                    </a:lnTo>
                    <a:lnTo>
                      <a:pt x="947" y="220"/>
                    </a:lnTo>
                    <a:lnTo>
                      <a:pt x="953" y="223"/>
                    </a:lnTo>
                    <a:lnTo>
                      <a:pt x="952" y="253"/>
                    </a:lnTo>
                    <a:lnTo>
                      <a:pt x="948" y="287"/>
                    </a:lnTo>
                    <a:lnTo>
                      <a:pt x="942" y="322"/>
                    </a:lnTo>
                    <a:lnTo>
                      <a:pt x="933" y="358"/>
                    </a:lnTo>
                    <a:lnTo>
                      <a:pt x="928" y="374"/>
                    </a:lnTo>
                    <a:lnTo>
                      <a:pt x="921" y="392"/>
                    </a:lnTo>
                    <a:lnTo>
                      <a:pt x="915" y="407"/>
                    </a:lnTo>
                    <a:lnTo>
                      <a:pt x="906" y="421"/>
                    </a:lnTo>
                    <a:lnTo>
                      <a:pt x="898" y="432"/>
                    </a:lnTo>
                    <a:lnTo>
                      <a:pt x="888" y="444"/>
                    </a:lnTo>
                    <a:lnTo>
                      <a:pt x="876" y="452"/>
                    </a:lnTo>
                    <a:lnTo>
                      <a:pt x="866" y="458"/>
                    </a:lnTo>
                    <a:lnTo>
                      <a:pt x="852" y="471"/>
                    </a:lnTo>
                    <a:lnTo>
                      <a:pt x="844" y="484"/>
                    </a:lnTo>
                    <a:lnTo>
                      <a:pt x="839" y="496"/>
                    </a:lnTo>
                    <a:lnTo>
                      <a:pt x="834" y="509"/>
                    </a:lnTo>
                    <a:lnTo>
                      <a:pt x="830" y="520"/>
                    </a:lnTo>
                    <a:lnTo>
                      <a:pt x="829" y="533"/>
                    </a:lnTo>
                    <a:lnTo>
                      <a:pt x="827" y="544"/>
                    </a:lnTo>
                    <a:lnTo>
                      <a:pt x="824" y="557"/>
                    </a:lnTo>
                    <a:lnTo>
                      <a:pt x="815" y="557"/>
                    </a:lnTo>
                    <a:lnTo>
                      <a:pt x="807" y="559"/>
                    </a:lnTo>
                    <a:lnTo>
                      <a:pt x="800" y="560"/>
                    </a:lnTo>
                    <a:lnTo>
                      <a:pt x="793" y="562"/>
                    </a:lnTo>
                    <a:lnTo>
                      <a:pt x="788" y="564"/>
                    </a:lnTo>
                    <a:lnTo>
                      <a:pt x="783" y="565"/>
                    </a:lnTo>
                    <a:lnTo>
                      <a:pt x="778" y="567"/>
                    </a:lnTo>
                    <a:lnTo>
                      <a:pt x="775" y="570"/>
                    </a:lnTo>
                    <a:lnTo>
                      <a:pt x="765" y="575"/>
                    </a:lnTo>
                    <a:lnTo>
                      <a:pt x="760" y="583"/>
                    </a:lnTo>
                    <a:lnTo>
                      <a:pt x="756" y="590"/>
                    </a:lnTo>
                    <a:lnTo>
                      <a:pt x="753" y="598"/>
                    </a:lnTo>
                    <a:lnTo>
                      <a:pt x="750" y="607"/>
                    </a:lnTo>
                    <a:lnTo>
                      <a:pt x="746" y="617"/>
                    </a:lnTo>
                    <a:lnTo>
                      <a:pt x="740" y="627"/>
                    </a:lnTo>
                    <a:lnTo>
                      <a:pt x="731" y="636"/>
                    </a:lnTo>
                    <a:lnTo>
                      <a:pt x="724" y="648"/>
                    </a:lnTo>
                    <a:lnTo>
                      <a:pt x="718" y="659"/>
                    </a:lnTo>
                    <a:lnTo>
                      <a:pt x="709" y="669"/>
                    </a:lnTo>
                    <a:lnTo>
                      <a:pt x="701" y="677"/>
                    </a:lnTo>
                    <a:lnTo>
                      <a:pt x="692" y="685"/>
                    </a:lnTo>
                    <a:lnTo>
                      <a:pt x="684" y="692"/>
                    </a:lnTo>
                    <a:lnTo>
                      <a:pt x="674" y="698"/>
                    </a:lnTo>
                    <a:lnTo>
                      <a:pt x="665" y="703"/>
                    </a:lnTo>
                    <a:lnTo>
                      <a:pt x="664" y="722"/>
                    </a:lnTo>
                    <a:lnTo>
                      <a:pt x="659" y="738"/>
                    </a:lnTo>
                    <a:lnTo>
                      <a:pt x="654" y="753"/>
                    </a:lnTo>
                    <a:lnTo>
                      <a:pt x="647" y="768"/>
                    </a:lnTo>
                    <a:lnTo>
                      <a:pt x="640" y="781"/>
                    </a:lnTo>
                    <a:lnTo>
                      <a:pt x="635" y="795"/>
                    </a:lnTo>
                    <a:lnTo>
                      <a:pt x="632" y="808"/>
                    </a:lnTo>
                    <a:lnTo>
                      <a:pt x="630" y="823"/>
                    </a:lnTo>
                    <a:lnTo>
                      <a:pt x="627" y="831"/>
                    </a:lnTo>
                    <a:lnTo>
                      <a:pt x="627" y="839"/>
                    </a:lnTo>
                    <a:lnTo>
                      <a:pt x="627" y="844"/>
                    </a:lnTo>
                    <a:lnTo>
                      <a:pt x="627" y="850"/>
                    </a:lnTo>
                    <a:lnTo>
                      <a:pt x="628" y="855"/>
                    </a:lnTo>
                    <a:lnTo>
                      <a:pt x="630" y="862"/>
                    </a:lnTo>
                    <a:lnTo>
                      <a:pt x="632" y="866"/>
                    </a:lnTo>
                    <a:lnTo>
                      <a:pt x="633" y="875"/>
                    </a:lnTo>
                    <a:lnTo>
                      <a:pt x="642" y="878"/>
                    </a:lnTo>
                    <a:lnTo>
                      <a:pt x="650" y="883"/>
                    </a:lnTo>
                    <a:lnTo>
                      <a:pt x="659" y="886"/>
                    </a:lnTo>
                    <a:lnTo>
                      <a:pt x="667" y="891"/>
                    </a:lnTo>
                    <a:lnTo>
                      <a:pt x="676" y="894"/>
                    </a:lnTo>
                    <a:lnTo>
                      <a:pt x="684" y="897"/>
                    </a:lnTo>
                    <a:lnTo>
                      <a:pt x="694" y="900"/>
                    </a:lnTo>
                    <a:lnTo>
                      <a:pt x="703" y="902"/>
                    </a:lnTo>
                    <a:lnTo>
                      <a:pt x="706" y="907"/>
                    </a:lnTo>
                    <a:lnTo>
                      <a:pt x="709" y="912"/>
                    </a:lnTo>
                    <a:lnTo>
                      <a:pt x="714" y="915"/>
                    </a:lnTo>
                    <a:lnTo>
                      <a:pt x="719" y="918"/>
                    </a:lnTo>
                    <a:lnTo>
                      <a:pt x="731" y="921"/>
                    </a:lnTo>
                    <a:lnTo>
                      <a:pt x="746" y="923"/>
                    </a:lnTo>
                    <a:lnTo>
                      <a:pt x="760" y="925"/>
                    </a:lnTo>
                    <a:lnTo>
                      <a:pt x="772" y="930"/>
                    </a:lnTo>
                    <a:lnTo>
                      <a:pt x="777" y="933"/>
                    </a:lnTo>
                    <a:lnTo>
                      <a:pt x="780" y="936"/>
                    </a:lnTo>
                    <a:lnTo>
                      <a:pt x="785" y="941"/>
                    </a:lnTo>
                    <a:lnTo>
                      <a:pt x="787" y="947"/>
                    </a:lnTo>
                    <a:lnTo>
                      <a:pt x="788" y="947"/>
                    </a:lnTo>
                    <a:lnTo>
                      <a:pt x="790" y="949"/>
                    </a:lnTo>
                    <a:lnTo>
                      <a:pt x="792" y="951"/>
                    </a:lnTo>
                    <a:lnTo>
                      <a:pt x="793" y="951"/>
                    </a:lnTo>
                    <a:lnTo>
                      <a:pt x="797" y="951"/>
                    </a:lnTo>
                    <a:lnTo>
                      <a:pt x="798" y="952"/>
                    </a:lnTo>
                    <a:lnTo>
                      <a:pt x="804" y="952"/>
                    </a:lnTo>
                    <a:lnTo>
                      <a:pt x="809" y="952"/>
                    </a:lnTo>
                    <a:lnTo>
                      <a:pt x="812" y="959"/>
                    </a:lnTo>
                    <a:lnTo>
                      <a:pt x="817" y="965"/>
                    </a:lnTo>
                    <a:lnTo>
                      <a:pt x="824" y="972"/>
                    </a:lnTo>
                    <a:lnTo>
                      <a:pt x="829" y="978"/>
                    </a:lnTo>
                    <a:lnTo>
                      <a:pt x="837" y="983"/>
                    </a:lnTo>
                    <a:lnTo>
                      <a:pt x="844" y="990"/>
                    </a:lnTo>
                    <a:lnTo>
                      <a:pt x="852" y="993"/>
                    </a:lnTo>
                    <a:lnTo>
                      <a:pt x="859" y="998"/>
                    </a:lnTo>
                    <a:lnTo>
                      <a:pt x="859" y="1001"/>
                    </a:lnTo>
                    <a:lnTo>
                      <a:pt x="859" y="1006"/>
                    </a:lnTo>
                    <a:lnTo>
                      <a:pt x="861" y="1009"/>
                    </a:lnTo>
                    <a:lnTo>
                      <a:pt x="861" y="1012"/>
                    </a:lnTo>
                    <a:lnTo>
                      <a:pt x="861" y="1017"/>
                    </a:lnTo>
                    <a:lnTo>
                      <a:pt x="862" y="1020"/>
                    </a:lnTo>
                    <a:lnTo>
                      <a:pt x="862" y="1025"/>
                    </a:lnTo>
                    <a:lnTo>
                      <a:pt x="862" y="1028"/>
                    </a:lnTo>
                    <a:lnTo>
                      <a:pt x="857" y="1032"/>
                    </a:lnTo>
                    <a:lnTo>
                      <a:pt x="854" y="1035"/>
                    </a:lnTo>
                    <a:lnTo>
                      <a:pt x="849" y="1036"/>
                    </a:lnTo>
                    <a:lnTo>
                      <a:pt x="846" y="1040"/>
                    </a:lnTo>
                    <a:lnTo>
                      <a:pt x="844" y="1043"/>
                    </a:lnTo>
                    <a:lnTo>
                      <a:pt x="841" y="1045"/>
                    </a:lnTo>
                    <a:lnTo>
                      <a:pt x="839" y="1046"/>
                    </a:lnTo>
                    <a:lnTo>
                      <a:pt x="839" y="1046"/>
                    </a:lnTo>
                    <a:lnTo>
                      <a:pt x="837" y="1045"/>
                    </a:lnTo>
                    <a:lnTo>
                      <a:pt x="810" y="1045"/>
                    </a:lnTo>
                    <a:lnTo>
                      <a:pt x="787" y="1045"/>
                    </a:lnTo>
                    <a:lnTo>
                      <a:pt x="768" y="1048"/>
                    </a:lnTo>
                    <a:lnTo>
                      <a:pt x="751" y="1053"/>
                    </a:lnTo>
                    <a:lnTo>
                      <a:pt x="738" y="1058"/>
                    </a:lnTo>
                    <a:lnTo>
                      <a:pt x="728" y="1064"/>
                    </a:lnTo>
                    <a:lnTo>
                      <a:pt x="718" y="1072"/>
                    </a:lnTo>
                    <a:lnTo>
                      <a:pt x="711" y="1082"/>
                    </a:lnTo>
                    <a:lnTo>
                      <a:pt x="701" y="1103"/>
                    </a:lnTo>
                    <a:lnTo>
                      <a:pt x="692" y="1129"/>
                    </a:lnTo>
                    <a:lnTo>
                      <a:pt x="682" y="1160"/>
                    </a:lnTo>
                    <a:lnTo>
                      <a:pt x="669" y="1190"/>
                    </a:lnTo>
                    <a:lnTo>
                      <a:pt x="665" y="1190"/>
                    </a:lnTo>
                    <a:lnTo>
                      <a:pt x="657" y="1190"/>
                    </a:lnTo>
                    <a:lnTo>
                      <a:pt x="645" y="1190"/>
                    </a:lnTo>
                    <a:lnTo>
                      <a:pt x="633" y="1190"/>
                    </a:lnTo>
                    <a:lnTo>
                      <a:pt x="623" y="1190"/>
                    </a:lnTo>
                    <a:lnTo>
                      <a:pt x="613" y="1190"/>
                    </a:lnTo>
                    <a:lnTo>
                      <a:pt x="605" y="1189"/>
                    </a:lnTo>
                    <a:lnTo>
                      <a:pt x="603" y="1189"/>
                    </a:lnTo>
                    <a:lnTo>
                      <a:pt x="601" y="1192"/>
                    </a:lnTo>
                    <a:lnTo>
                      <a:pt x="601" y="1198"/>
                    </a:lnTo>
                    <a:lnTo>
                      <a:pt x="598" y="1207"/>
                    </a:lnTo>
                    <a:lnTo>
                      <a:pt x="596" y="1215"/>
                    </a:lnTo>
                    <a:lnTo>
                      <a:pt x="593" y="1224"/>
                    </a:lnTo>
                    <a:lnTo>
                      <a:pt x="591" y="1232"/>
                    </a:lnTo>
                    <a:lnTo>
                      <a:pt x="590" y="1237"/>
                    </a:lnTo>
                    <a:lnTo>
                      <a:pt x="590" y="1239"/>
                    </a:lnTo>
                    <a:lnTo>
                      <a:pt x="580" y="1252"/>
                    </a:lnTo>
                    <a:lnTo>
                      <a:pt x="569" y="1266"/>
                    </a:lnTo>
                    <a:lnTo>
                      <a:pt x="558" y="1281"/>
                    </a:lnTo>
                    <a:lnTo>
                      <a:pt x="548" y="1296"/>
                    </a:lnTo>
                    <a:lnTo>
                      <a:pt x="537" y="1312"/>
                    </a:lnTo>
                    <a:lnTo>
                      <a:pt x="527" y="1326"/>
                    </a:lnTo>
                    <a:lnTo>
                      <a:pt x="521" y="1339"/>
                    </a:lnTo>
                    <a:lnTo>
                      <a:pt x="516" y="1351"/>
                    </a:lnTo>
                    <a:lnTo>
                      <a:pt x="504" y="1352"/>
                    </a:lnTo>
                    <a:lnTo>
                      <a:pt x="494" y="1352"/>
                    </a:lnTo>
                    <a:lnTo>
                      <a:pt x="482" y="1354"/>
                    </a:lnTo>
                    <a:lnTo>
                      <a:pt x="472" y="1354"/>
                    </a:lnTo>
                    <a:lnTo>
                      <a:pt x="462" y="1356"/>
                    </a:lnTo>
                    <a:lnTo>
                      <a:pt x="452" y="1356"/>
                    </a:lnTo>
                    <a:lnTo>
                      <a:pt x="441" y="1357"/>
                    </a:lnTo>
                    <a:lnTo>
                      <a:pt x="430" y="1357"/>
                    </a:lnTo>
                    <a:lnTo>
                      <a:pt x="430" y="1354"/>
                    </a:lnTo>
                    <a:lnTo>
                      <a:pt x="428" y="1352"/>
                    </a:lnTo>
                    <a:lnTo>
                      <a:pt x="426" y="1349"/>
                    </a:lnTo>
                    <a:lnTo>
                      <a:pt x="426" y="1346"/>
                    </a:lnTo>
                    <a:lnTo>
                      <a:pt x="425" y="1344"/>
                    </a:lnTo>
                    <a:lnTo>
                      <a:pt x="423" y="1341"/>
                    </a:lnTo>
                    <a:lnTo>
                      <a:pt x="423" y="1339"/>
                    </a:lnTo>
                    <a:lnTo>
                      <a:pt x="421" y="1336"/>
                    </a:lnTo>
                    <a:lnTo>
                      <a:pt x="413" y="1336"/>
                    </a:lnTo>
                    <a:lnTo>
                      <a:pt x="406" y="1336"/>
                    </a:lnTo>
                    <a:lnTo>
                      <a:pt x="401" y="1336"/>
                    </a:lnTo>
                    <a:lnTo>
                      <a:pt x="396" y="1336"/>
                    </a:lnTo>
                    <a:lnTo>
                      <a:pt x="391" y="1336"/>
                    </a:lnTo>
                    <a:lnTo>
                      <a:pt x="386" y="1333"/>
                    </a:lnTo>
                    <a:lnTo>
                      <a:pt x="381" y="1330"/>
                    </a:lnTo>
                    <a:lnTo>
                      <a:pt x="376" y="1323"/>
                    </a:lnTo>
                    <a:lnTo>
                      <a:pt x="356" y="1323"/>
                    </a:lnTo>
                    <a:lnTo>
                      <a:pt x="335" y="1322"/>
                    </a:lnTo>
                    <a:lnTo>
                      <a:pt x="315" y="1318"/>
                    </a:lnTo>
                    <a:lnTo>
                      <a:pt x="295" y="1317"/>
                    </a:lnTo>
                    <a:lnTo>
                      <a:pt x="276" y="1313"/>
                    </a:lnTo>
                    <a:lnTo>
                      <a:pt x="256" y="1312"/>
                    </a:lnTo>
                    <a:lnTo>
                      <a:pt x="238" y="1310"/>
                    </a:lnTo>
                    <a:lnTo>
                      <a:pt x="221" y="1309"/>
                    </a:lnTo>
                    <a:lnTo>
                      <a:pt x="218" y="1315"/>
                    </a:lnTo>
                    <a:lnTo>
                      <a:pt x="214" y="1322"/>
                    </a:lnTo>
                    <a:lnTo>
                      <a:pt x="209" y="1328"/>
                    </a:lnTo>
                    <a:lnTo>
                      <a:pt x="202" y="1333"/>
                    </a:lnTo>
                    <a:lnTo>
                      <a:pt x="189" y="1343"/>
                    </a:lnTo>
                    <a:lnTo>
                      <a:pt x="172" y="1351"/>
                    </a:lnTo>
                    <a:lnTo>
                      <a:pt x="155" y="1356"/>
                    </a:lnTo>
                    <a:lnTo>
                      <a:pt x="140" y="1359"/>
                    </a:lnTo>
                    <a:lnTo>
                      <a:pt x="127" y="1362"/>
                    </a:lnTo>
                    <a:lnTo>
                      <a:pt x="115" y="1362"/>
                    </a:lnTo>
                    <a:lnTo>
                      <a:pt x="113" y="1365"/>
                    </a:lnTo>
                    <a:lnTo>
                      <a:pt x="113" y="1367"/>
                    </a:lnTo>
                    <a:lnTo>
                      <a:pt x="111" y="1368"/>
                    </a:lnTo>
                    <a:lnTo>
                      <a:pt x="110" y="1370"/>
                    </a:lnTo>
                    <a:lnTo>
                      <a:pt x="108" y="1372"/>
                    </a:lnTo>
                    <a:lnTo>
                      <a:pt x="108" y="1372"/>
                    </a:lnTo>
                    <a:lnTo>
                      <a:pt x="106" y="1373"/>
                    </a:lnTo>
                    <a:lnTo>
                      <a:pt x="105" y="1375"/>
                    </a:lnTo>
                    <a:lnTo>
                      <a:pt x="103" y="1375"/>
                    </a:lnTo>
                    <a:lnTo>
                      <a:pt x="101" y="1375"/>
                    </a:lnTo>
                    <a:lnTo>
                      <a:pt x="98" y="1375"/>
                    </a:lnTo>
                    <a:lnTo>
                      <a:pt x="96" y="1375"/>
                    </a:lnTo>
                    <a:lnTo>
                      <a:pt x="93" y="1375"/>
                    </a:lnTo>
                    <a:lnTo>
                      <a:pt x="91" y="1375"/>
                    </a:lnTo>
                    <a:lnTo>
                      <a:pt x="90" y="1375"/>
                    </a:lnTo>
                    <a:lnTo>
                      <a:pt x="86" y="13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72480" y="3113640"/>
                <a:ext cx="349920" cy="184680"/>
              </a:xfrm>
              <a:custGeom>
                <a:avLst/>
                <a:gdLst/>
                <a:ahLst/>
                <a:rect l="l" t="t" r="r" b="b"/>
                <a:pathLst>
                  <a:path w="227" h="120">
                    <a:moveTo>
                      <a:pt x="227" y="48"/>
                    </a:moveTo>
                    <a:lnTo>
                      <a:pt x="215" y="43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7" y="16"/>
                    </a:lnTo>
                    <a:lnTo>
                      <a:pt x="163" y="8"/>
                    </a:lnTo>
                    <a:lnTo>
                      <a:pt x="150" y="3"/>
                    </a:lnTo>
                    <a:lnTo>
                      <a:pt x="143" y="1"/>
                    </a:lnTo>
                    <a:lnTo>
                      <a:pt x="138" y="0"/>
                    </a:lnTo>
                    <a:lnTo>
                      <a:pt x="131" y="1"/>
                    </a:lnTo>
                    <a:lnTo>
                      <a:pt x="126" y="3"/>
                    </a:lnTo>
                    <a:lnTo>
                      <a:pt x="113" y="5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9" y="16"/>
                    </a:lnTo>
                    <a:lnTo>
                      <a:pt x="61" y="21"/>
                    </a:lnTo>
                    <a:lnTo>
                      <a:pt x="52" y="27"/>
                    </a:lnTo>
                    <a:lnTo>
                      <a:pt x="45" y="34"/>
                    </a:lnTo>
                    <a:lnTo>
                      <a:pt x="39" y="42"/>
                    </a:lnTo>
                    <a:lnTo>
                      <a:pt x="34" y="50"/>
                    </a:lnTo>
                    <a:lnTo>
                      <a:pt x="29" y="58"/>
                    </a:lnTo>
                    <a:lnTo>
                      <a:pt x="25" y="68"/>
                    </a:lnTo>
                    <a:lnTo>
                      <a:pt x="20" y="86"/>
                    </a:lnTo>
                    <a:lnTo>
                      <a:pt x="18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12" y="110"/>
                    </a:lnTo>
                    <a:lnTo>
                      <a:pt x="10" y="111"/>
                    </a:lnTo>
                    <a:lnTo>
                      <a:pt x="7" y="113"/>
                    </a:lnTo>
                    <a:lnTo>
                      <a:pt x="5" y="115"/>
                    </a:lnTo>
                    <a:lnTo>
                      <a:pt x="2" y="116"/>
                    </a:lnTo>
                    <a:lnTo>
                      <a:pt x="0" y="1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7600" y="2970360"/>
                <a:ext cx="715320" cy="977760"/>
              </a:xfrm>
              <a:custGeom>
                <a:avLst/>
                <a:gdLst/>
                <a:ahLst/>
                <a:rect l="l" t="t" r="r" b="b"/>
                <a:pathLst>
                  <a:path w="464" h="634">
                    <a:moveTo>
                      <a:pt x="251" y="601"/>
                    </a:moveTo>
                    <a:lnTo>
                      <a:pt x="247" y="601"/>
                    </a:lnTo>
                    <a:lnTo>
                      <a:pt x="241" y="605"/>
                    </a:lnTo>
                    <a:lnTo>
                      <a:pt x="232" y="608"/>
                    </a:lnTo>
                    <a:lnTo>
                      <a:pt x="222" y="613"/>
                    </a:lnTo>
                    <a:lnTo>
                      <a:pt x="210" y="617"/>
                    </a:lnTo>
                    <a:lnTo>
                      <a:pt x="200" y="622"/>
                    </a:lnTo>
                    <a:lnTo>
                      <a:pt x="188" y="629"/>
                    </a:lnTo>
                    <a:lnTo>
                      <a:pt x="178" y="634"/>
                    </a:lnTo>
                    <a:lnTo>
                      <a:pt x="165" y="619"/>
                    </a:lnTo>
                    <a:lnTo>
                      <a:pt x="151" y="603"/>
                    </a:lnTo>
                    <a:lnTo>
                      <a:pt x="139" y="585"/>
                    </a:lnTo>
                    <a:lnTo>
                      <a:pt x="128" y="569"/>
                    </a:lnTo>
                    <a:lnTo>
                      <a:pt x="116" y="551"/>
                    </a:lnTo>
                    <a:lnTo>
                      <a:pt x="104" y="533"/>
                    </a:lnTo>
                    <a:lnTo>
                      <a:pt x="91" y="515"/>
                    </a:lnTo>
                    <a:lnTo>
                      <a:pt x="77" y="499"/>
                    </a:lnTo>
                    <a:lnTo>
                      <a:pt x="74" y="490"/>
                    </a:lnTo>
                    <a:lnTo>
                      <a:pt x="70" y="483"/>
                    </a:lnTo>
                    <a:lnTo>
                      <a:pt x="70" y="478"/>
                    </a:lnTo>
                    <a:lnTo>
                      <a:pt x="74" y="473"/>
                    </a:lnTo>
                    <a:lnTo>
                      <a:pt x="77" y="468"/>
                    </a:lnTo>
                    <a:lnTo>
                      <a:pt x="82" y="464"/>
                    </a:lnTo>
                    <a:lnTo>
                      <a:pt x="91" y="457"/>
                    </a:lnTo>
                    <a:lnTo>
                      <a:pt x="101" y="447"/>
                    </a:lnTo>
                    <a:lnTo>
                      <a:pt x="99" y="444"/>
                    </a:lnTo>
                    <a:lnTo>
                      <a:pt x="99" y="439"/>
                    </a:lnTo>
                    <a:lnTo>
                      <a:pt x="97" y="434"/>
                    </a:lnTo>
                    <a:lnTo>
                      <a:pt x="97" y="430"/>
                    </a:lnTo>
                    <a:lnTo>
                      <a:pt x="96" y="425"/>
                    </a:lnTo>
                    <a:lnTo>
                      <a:pt x="96" y="421"/>
                    </a:lnTo>
                    <a:lnTo>
                      <a:pt x="94" y="417"/>
                    </a:lnTo>
                    <a:lnTo>
                      <a:pt x="94" y="412"/>
                    </a:lnTo>
                    <a:lnTo>
                      <a:pt x="84" y="409"/>
                    </a:lnTo>
                    <a:lnTo>
                      <a:pt x="74" y="407"/>
                    </a:lnTo>
                    <a:lnTo>
                      <a:pt x="64" y="404"/>
                    </a:lnTo>
                    <a:lnTo>
                      <a:pt x="55" y="400"/>
                    </a:lnTo>
                    <a:lnTo>
                      <a:pt x="45" y="399"/>
                    </a:lnTo>
                    <a:lnTo>
                      <a:pt x="35" y="396"/>
                    </a:lnTo>
                    <a:lnTo>
                      <a:pt x="27" y="392"/>
                    </a:lnTo>
                    <a:lnTo>
                      <a:pt x="17" y="391"/>
                    </a:lnTo>
                    <a:lnTo>
                      <a:pt x="15" y="376"/>
                    </a:lnTo>
                    <a:lnTo>
                      <a:pt x="13" y="363"/>
                    </a:lnTo>
                    <a:lnTo>
                      <a:pt x="10" y="350"/>
                    </a:lnTo>
                    <a:lnTo>
                      <a:pt x="6" y="337"/>
                    </a:lnTo>
                    <a:lnTo>
                      <a:pt x="5" y="323"/>
                    </a:lnTo>
                    <a:lnTo>
                      <a:pt x="1" y="310"/>
                    </a:lnTo>
                    <a:lnTo>
                      <a:pt x="0" y="295"/>
                    </a:lnTo>
                    <a:lnTo>
                      <a:pt x="0" y="281"/>
                    </a:lnTo>
                    <a:lnTo>
                      <a:pt x="11" y="258"/>
                    </a:lnTo>
                    <a:lnTo>
                      <a:pt x="22" y="237"/>
                    </a:lnTo>
                    <a:lnTo>
                      <a:pt x="30" y="217"/>
                    </a:lnTo>
                    <a:lnTo>
                      <a:pt x="42" y="198"/>
                    </a:lnTo>
                    <a:lnTo>
                      <a:pt x="49" y="190"/>
                    </a:lnTo>
                    <a:lnTo>
                      <a:pt x="57" y="182"/>
                    </a:lnTo>
                    <a:lnTo>
                      <a:pt x="65" y="174"/>
                    </a:lnTo>
                    <a:lnTo>
                      <a:pt x="74" y="166"/>
                    </a:lnTo>
                    <a:lnTo>
                      <a:pt x="86" y="159"/>
                    </a:lnTo>
                    <a:lnTo>
                      <a:pt x="99" y="154"/>
                    </a:lnTo>
                    <a:lnTo>
                      <a:pt x="113" y="149"/>
                    </a:lnTo>
                    <a:lnTo>
                      <a:pt x="129" y="145"/>
                    </a:lnTo>
                    <a:lnTo>
                      <a:pt x="134" y="141"/>
                    </a:lnTo>
                    <a:lnTo>
                      <a:pt x="138" y="138"/>
                    </a:lnTo>
                    <a:lnTo>
                      <a:pt x="139" y="135"/>
                    </a:lnTo>
                    <a:lnTo>
                      <a:pt x="141" y="132"/>
                    </a:lnTo>
                    <a:lnTo>
                      <a:pt x="143" y="122"/>
                    </a:lnTo>
                    <a:lnTo>
                      <a:pt x="145" y="111"/>
                    </a:lnTo>
                    <a:lnTo>
                      <a:pt x="145" y="98"/>
                    </a:lnTo>
                    <a:lnTo>
                      <a:pt x="146" y="85"/>
                    </a:lnTo>
                    <a:lnTo>
                      <a:pt x="150" y="72"/>
                    </a:lnTo>
                    <a:lnTo>
                      <a:pt x="156" y="59"/>
                    </a:lnTo>
                    <a:lnTo>
                      <a:pt x="158" y="59"/>
                    </a:lnTo>
                    <a:lnTo>
                      <a:pt x="158" y="59"/>
                    </a:lnTo>
                    <a:lnTo>
                      <a:pt x="160" y="59"/>
                    </a:lnTo>
                    <a:lnTo>
                      <a:pt x="161" y="59"/>
                    </a:lnTo>
                    <a:lnTo>
                      <a:pt x="161" y="59"/>
                    </a:lnTo>
                    <a:lnTo>
                      <a:pt x="163" y="59"/>
                    </a:lnTo>
                    <a:lnTo>
                      <a:pt x="165" y="59"/>
                    </a:lnTo>
                    <a:lnTo>
                      <a:pt x="165" y="59"/>
                    </a:lnTo>
                    <a:lnTo>
                      <a:pt x="168" y="62"/>
                    </a:lnTo>
                    <a:lnTo>
                      <a:pt x="171" y="67"/>
                    </a:lnTo>
                    <a:lnTo>
                      <a:pt x="175" y="70"/>
                    </a:lnTo>
                    <a:lnTo>
                      <a:pt x="178" y="75"/>
                    </a:lnTo>
                    <a:lnTo>
                      <a:pt x="180" y="78"/>
                    </a:lnTo>
                    <a:lnTo>
                      <a:pt x="183" y="83"/>
                    </a:lnTo>
                    <a:lnTo>
                      <a:pt x="187" y="86"/>
                    </a:lnTo>
                    <a:lnTo>
                      <a:pt x="190" y="90"/>
                    </a:lnTo>
                    <a:lnTo>
                      <a:pt x="197" y="91"/>
                    </a:lnTo>
                    <a:lnTo>
                      <a:pt x="203" y="90"/>
                    </a:lnTo>
                    <a:lnTo>
                      <a:pt x="212" y="85"/>
                    </a:lnTo>
                    <a:lnTo>
                      <a:pt x="220" y="78"/>
                    </a:lnTo>
                    <a:lnTo>
                      <a:pt x="237" y="62"/>
                    </a:lnTo>
                    <a:lnTo>
                      <a:pt x="256" y="41"/>
                    </a:lnTo>
                    <a:lnTo>
                      <a:pt x="266" y="31"/>
                    </a:lnTo>
                    <a:lnTo>
                      <a:pt x="276" y="21"/>
                    </a:lnTo>
                    <a:lnTo>
                      <a:pt x="286" y="13"/>
                    </a:lnTo>
                    <a:lnTo>
                      <a:pt x="296" y="7"/>
                    </a:lnTo>
                    <a:lnTo>
                      <a:pt x="306" y="2"/>
                    </a:lnTo>
                    <a:lnTo>
                      <a:pt x="316" y="0"/>
                    </a:lnTo>
                    <a:lnTo>
                      <a:pt x="328" y="2"/>
                    </a:lnTo>
                    <a:lnTo>
                      <a:pt x="338" y="7"/>
                    </a:lnTo>
                    <a:lnTo>
                      <a:pt x="353" y="10"/>
                    </a:lnTo>
                    <a:lnTo>
                      <a:pt x="370" y="13"/>
                    </a:lnTo>
                    <a:lnTo>
                      <a:pt x="389" y="18"/>
                    </a:lnTo>
                    <a:lnTo>
                      <a:pt x="407" y="25"/>
                    </a:lnTo>
                    <a:lnTo>
                      <a:pt x="426" y="33"/>
                    </a:lnTo>
                    <a:lnTo>
                      <a:pt x="443" y="43"/>
                    </a:lnTo>
                    <a:lnTo>
                      <a:pt x="449" y="47"/>
                    </a:lnTo>
                    <a:lnTo>
                      <a:pt x="456" y="54"/>
                    </a:lnTo>
                    <a:lnTo>
                      <a:pt x="461" y="60"/>
                    </a:lnTo>
                    <a:lnTo>
                      <a:pt x="464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71840" y="2786400"/>
                <a:ext cx="355680" cy="291240"/>
              </a:xfrm>
              <a:custGeom>
                <a:avLst/>
                <a:gdLst/>
                <a:ahLst/>
                <a:rect l="l" t="t" r="r" b="b"/>
                <a:pathLst>
                  <a:path w="231" h="189">
                    <a:moveTo>
                      <a:pt x="231" y="189"/>
                    </a:moveTo>
                    <a:lnTo>
                      <a:pt x="228" y="183"/>
                    </a:lnTo>
                    <a:lnTo>
                      <a:pt x="226" y="176"/>
                    </a:lnTo>
                    <a:lnTo>
                      <a:pt x="222" y="168"/>
                    </a:lnTo>
                    <a:lnTo>
                      <a:pt x="219" y="158"/>
                    </a:lnTo>
                    <a:lnTo>
                      <a:pt x="214" y="149"/>
                    </a:lnTo>
                    <a:lnTo>
                      <a:pt x="211" y="140"/>
                    </a:lnTo>
                    <a:lnTo>
                      <a:pt x="206" y="134"/>
                    </a:lnTo>
                    <a:lnTo>
                      <a:pt x="202" y="129"/>
                    </a:lnTo>
                    <a:lnTo>
                      <a:pt x="184" y="131"/>
                    </a:lnTo>
                    <a:lnTo>
                      <a:pt x="160" y="131"/>
                    </a:lnTo>
                    <a:lnTo>
                      <a:pt x="135" y="129"/>
                    </a:lnTo>
                    <a:lnTo>
                      <a:pt x="110" y="124"/>
                    </a:lnTo>
                    <a:lnTo>
                      <a:pt x="84" y="118"/>
                    </a:lnTo>
                    <a:lnTo>
                      <a:pt x="63" y="110"/>
                    </a:lnTo>
                    <a:lnTo>
                      <a:pt x="52" y="105"/>
                    </a:lnTo>
                    <a:lnTo>
                      <a:pt x="44" y="100"/>
                    </a:lnTo>
                    <a:lnTo>
                      <a:pt x="39" y="95"/>
                    </a:lnTo>
                    <a:lnTo>
                      <a:pt x="34" y="89"/>
                    </a:lnTo>
                    <a:lnTo>
                      <a:pt x="25" y="89"/>
                    </a:lnTo>
                    <a:lnTo>
                      <a:pt x="19" y="87"/>
                    </a:lnTo>
                    <a:lnTo>
                      <a:pt x="12" y="84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2" y="69"/>
                    </a:lnTo>
                    <a:lnTo>
                      <a:pt x="0" y="63"/>
                    </a:lnTo>
                    <a:lnTo>
                      <a:pt x="0" y="56"/>
                    </a:lnTo>
                    <a:lnTo>
                      <a:pt x="0" y="42"/>
                    </a:lnTo>
                    <a:lnTo>
                      <a:pt x="0" y="27"/>
                    </a:lnTo>
                    <a:lnTo>
                      <a:pt x="2" y="1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28640" y="4110120"/>
                <a:ext cx="114120" cy="17244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0" y="112"/>
                    </a:moveTo>
                    <a:lnTo>
                      <a:pt x="5" y="100"/>
                    </a:lnTo>
                    <a:lnTo>
                      <a:pt x="11" y="87"/>
                    </a:lnTo>
                    <a:lnTo>
                      <a:pt x="21" y="73"/>
                    </a:lnTo>
                    <a:lnTo>
                      <a:pt x="32" y="57"/>
                    </a:lnTo>
                    <a:lnTo>
                      <a:pt x="42" y="42"/>
                    </a:lnTo>
                    <a:lnTo>
                      <a:pt x="53" y="27"/>
                    </a:lnTo>
                    <a:lnTo>
                      <a:pt x="64" y="13"/>
                    </a:lnTo>
                    <a:lnTo>
                      <a:pt x="7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12240" y="4936680"/>
                <a:ext cx="348480" cy="379440"/>
              </a:xfrm>
              <a:custGeom>
                <a:avLst/>
                <a:gdLst/>
                <a:ahLst/>
                <a:rect l="l" t="t" r="r" b="b"/>
                <a:pathLst>
                  <a:path w="226" h="246">
                    <a:moveTo>
                      <a:pt x="226" y="105"/>
                    </a:moveTo>
                    <a:lnTo>
                      <a:pt x="226" y="115"/>
                    </a:lnTo>
                    <a:lnTo>
                      <a:pt x="222" y="126"/>
                    </a:lnTo>
                    <a:lnTo>
                      <a:pt x="217" y="138"/>
                    </a:lnTo>
                    <a:lnTo>
                      <a:pt x="211" y="151"/>
                    </a:lnTo>
                    <a:lnTo>
                      <a:pt x="202" y="162"/>
                    </a:lnTo>
                    <a:lnTo>
                      <a:pt x="197" y="173"/>
                    </a:lnTo>
                    <a:lnTo>
                      <a:pt x="192" y="181"/>
                    </a:lnTo>
                    <a:lnTo>
                      <a:pt x="190" y="188"/>
                    </a:lnTo>
                    <a:lnTo>
                      <a:pt x="197" y="191"/>
                    </a:lnTo>
                    <a:lnTo>
                      <a:pt x="195" y="198"/>
                    </a:lnTo>
                    <a:lnTo>
                      <a:pt x="195" y="204"/>
                    </a:lnTo>
                    <a:lnTo>
                      <a:pt x="194" y="209"/>
                    </a:lnTo>
                    <a:lnTo>
                      <a:pt x="190" y="214"/>
                    </a:lnTo>
                    <a:lnTo>
                      <a:pt x="189" y="219"/>
                    </a:lnTo>
                    <a:lnTo>
                      <a:pt x="187" y="222"/>
                    </a:lnTo>
                    <a:lnTo>
                      <a:pt x="185" y="227"/>
                    </a:lnTo>
                    <a:lnTo>
                      <a:pt x="185" y="230"/>
                    </a:lnTo>
                    <a:lnTo>
                      <a:pt x="179" y="232"/>
                    </a:lnTo>
                    <a:lnTo>
                      <a:pt x="175" y="233"/>
                    </a:lnTo>
                    <a:lnTo>
                      <a:pt x="172" y="236"/>
                    </a:lnTo>
                    <a:lnTo>
                      <a:pt x="170" y="238"/>
                    </a:lnTo>
                    <a:lnTo>
                      <a:pt x="169" y="240"/>
                    </a:lnTo>
                    <a:lnTo>
                      <a:pt x="169" y="241"/>
                    </a:lnTo>
                    <a:lnTo>
                      <a:pt x="169" y="245"/>
                    </a:lnTo>
                    <a:lnTo>
                      <a:pt x="169" y="246"/>
                    </a:lnTo>
                    <a:lnTo>
                      <a:pt x="142" y="243"/>
                    </a:lnTo>
                    <a:lnTo>
                      <a:pt x="135" y="240"/>
                    </a:lnTo>
                    <a:lnTo>
                      <a:pt x="130" y="233"/>
                    </a:lnTo>
                    <a:lnTo>
                      <a:pt x="123" y="225"/>
                    </a:lnTo>
                    <a:lnTo>
                      <a:pt x="118" y="215"/>
                    </a:lnTo>
                    <a:lnTo>
                      <a:pt x="111" y="204"/>
                    </a:lnTo>
                    <a:lnTo>
                      <a:pt x="106" y="193"/>
                    </a:lnTo>
                    <a:lnTo>
                      <a:pt x="100" y="183"/>
                    </a:lnTo>
                    <a:lnTo>
                      <a:pt x="94" y="175"/>
                    </a:lnTo>
                    <a:lnTo>
                      <a:pt x="88" y="172"/>
                    </a:lnTo>
                    <a:lnTo>
                      <a:pt x="81" y="168"/>
                    </a:lnTo>
                    <a:lnTo>
                      <a:pt x="74" y="165"/>
                    </a:lnTo>
                    <a:lnTo>
                      <a:pt x="68" y="162"/>
                    </a:lnTo>
                    <a:lnTo>
                      <a:pt x="62" y="160"/>
                    </a:lnTo>
                    <a:lnTo>
                      <a:pt x="59" y="155"/>
                    </a:lnTo>
                    <a:lnTo>
                      <a:pt x="54" y="152"/>
                    </a:lnTo>
                    <a:lnTo>
                      <a:pt x="51" y="146"/>
                    </a:lnTo>
                    <a:lnTo>
                      <a:pt x="41" y="146"/>
                    </a:lnTo>
                    <a:lnTo>
                      <a:pt x="32" y="142"/>
                    </a:lnTo>
                    <a:lnTo>
                      <a:pt x="24" y="139"/>
                    </a:lnTo>
                    <a:lnTo>
                      <a:pt x="19" y="133"/>
                    </a:lnTo>
                    <a:lnTo>
                      <a:pt x="12" y="126"/>
                    </a:lnTo>
                    <a:lnTo>
                      <a:pt x="7" y="120"/>
                    </a:lnTo>
                    <a:lnTo>
                      <a:pt x="4" y="112"/>
                    </a:lnTo>
                    <a:lnTo>
                      <a:pt x="0" y="104"/>
                    </a:lnTo>
                    <a:lnTo>
                      <a:pt x="4" y="104"/>
                    </a:lnTo>
                    <a:lnTo>
                      <a:pt x="9" y="102"/>
                    </a:lnTo>
                    <a:lnTo>
                      <a:pt x="12" y="102"/>
                    </a:lnTo>
                    <a:lnTo>
                      <a:pt x="15" y="100"/>
                    </a:lnTo>
                    <a:lnTo>
                      <a:pt x="20" y="99"/>
                    </a:lnTo>
                    <a:lnTo>
                      <a:pt x="24" y="99"/>
                    </a:lnTo>
                    <a:lnTo>
                      <a:pt x="29" y="97"/>
                    </a:lnTo>
                    <a:lnTo>
                      <a:pt x="34" y="96"/>
                    </a:lnTo>
                    <a:lnTo>
                      <a:pt x="37" y="87"/>
                    </a:lnTo>
                    <a:lnTo>
                      <a:pt x="44" y="78"/>
                    </a:lnTo>
                    <a:lnTo>
                      <a:pt x="52" y="66"/>
                    </a:lnTo>
                    <a:lnTo>
                      <a:pt x="62" y="55"/>
                    </a:lnTo>
                    <a:lnTo>
                      <a:pt x="74" y="44"/>
                    </a:lnTo>
                    <a:lnTo>
                      <a:pt x="86" y="34"/>
                    </a:lnTo>
                    <a:lnTo>
                      <a:pt x="98" y="28"/>
                    </a:lnTo>
                    <a:lnTo>
                      <a:pt x="111" y="23"/>
                    </a:lnTo>
                    <a:lnTo>
                      <a:pt x="116" y="23"/>
                    </a:lnTo>
                    <a:lnTo>
                      <a:pt x="120" y="23"/>
                    </a:lnTo>
                    <a:lnTo>
                      <a:pt x="125" y="21"/>
                    </a:lnTo>
                    <a:lnTo>
                      <a:pt x="128" y="21"/>
                    </a:lnTo>
                    <a:lnTo>
                      <a:pt x="131" y="21"/>
                    </a:lnTo>
                    <a:lnTo>
                      <a:pt x="135" y="19"/>
                    </a:lnTo>
                    <a:lnTo>
                      <a:pt x="138" y="19"/>
                    </a:lnTo>
                    <a:lnTo>
                      <a:pt x="142" y="18"/>
                    </a:lnTo>
                    <a:lnTo>
                      <a:pt x="143" y="13"/>
                    </a:lnTo>
                    <a:lnTo>
                      <a:pt x="145" y="10"/>
                    </a:lnTo>
                    <a:lnTo>
                      <a:pt x="148" y="6"/>
                    </a:lnTo>
                    <a:lnTo>
                      <a:pt x="150" y="5"/>
                    </a:lnTo>
                    <a:lnTo>
                      <a:pt x="153" y="2"/>
                    </a:lnTo>
                    <a:lnTo>
                      <a:pt x="158" y="2"/>
                    </a:lnTo>
                    <a:lnTo>
                      <a:pt x="162" y="0"/>
                    </a:lnTo>
                    <a:lnTo>
                      <a:pt x="16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72520" y="4314960"/>
                <a:ext cx="649440" cy="846720"/>
              </a:xfrm>
              <a:custGeom>
                <a:avLst/>
                <a:gdLst/>
                <a:ahLst/>
                <a:rect l="l" t="t" r="r" b="b"/>
                <a:pathLst>
                  <a:path w="421" h="549">
                    <a:moveTo>
                      <a:pt x="171" y="265"/>
                    </a:moveTo>
                    <a:lnTo>
                      <a:pt x="153" y="282"/>
                    </a:lnTo>
                    <a:lnTo>
                      <a:pt x="129" y="298"/>
                    </a:lnTo>
                    <a:lnTo>
                      <a:pt x="104" y="314"/>
                    </a:lnTo>
                    <a:lnTo>
                      <a:pt x="77" y="330"/>
                    </a:lnTo>
                    <a:lnTo>
                      <a:pt x="50" y="346"/>
                    </a:lnTo>
                    <a:lnTo>
                      <a:pt x="26" y="364"/>
                    </a:lnTo>
                    <a:lnTo>
                      <a:pt x="18" y="374"/>
                    </a:lnTo>
                    <a:lnTo>
                      <a:pt x="10" y="384"/>
                    </a:lnTo>
                    <a:lnTo>
                      <a:pt x="3" y="393"/>
                    </a:lnTo>
                    <a:lnTo>
                      <a:pt x="0" y="403"/>
                    </a:lnTo>
                    <a:lnTo>
                      <a:pt x="10" y="411"/>
                    </a:lnTo>
                    <a:lnTo>
                      <a:pt x="16" y="419"/>
                    </a:lnTo>
                    <a:lnTo>
                      <a:pt x="20" y="426"/>
                    </a:lnTo>
                    <a:lnTo>
                      <a:pt x="21" y="432"/>
                    </a:lnTo>
                    <a:lnTo>
                      <a:pt x="21" y="439"/>
                    </a:lnTo>
                    <a:lnTo>
                      <a:pt x="20" y="447"/>
                    </a:lnTo>
                    <a:lnTo>
                      <a:pt x="18" y="455"/>
                    </a:lnTo>
                    <a:lnTo>
                      <a:pt x="18" y="463"/>
                    </a:lnTo>
                    <a:lnTo>
                      <a:pt x="20" y="465"/>
                    </a:lnTo>
                    <a:lnTo>
                      <a:pt x="21" y="466"/>
                    </a:lnTo>
                    <a:lnTo>
                      <a:pt x="23" y="466"/>
                    </a:lnTo>
                    <a:lnTo>
                      <a:pt x="26" y="468"/>
                    </a:lnTo>
                    <a:lnTo>
                      <a:pt x="28" y="469"/>
                    </a:lnTo>
                    <a:lnTo>
                      <a:pt x="30" y="469"/>
                    </a:lnTo>
                    <a:lnTo>
                      <a:pt x="32" y="471"/>
                    </a:lnTo>
                    <a:lnTo>
                      <a:pt x="33" y="471"/>
                    </a:lnTo>
                    <a:lnTo>
                      <a:pt x="33" y="474"/>
                    </a:lnTo>
                    <a:lnTo>
                      <a:pt x="33" y="477"/>
                    </a:lnTo>
                    <a:lnTo>
                      <a:pt x="33" y="481"/>
                    </a:lnTo>
                    <a:lnTo>
                      <a:pt x="33" y="482"/>
                    </a:lnTo>
                    <a:lnTo>
                      <a:pt x="33" y="486"/>
                    </a:lnTo>
                    <a:lnTo>
                      <a:pt x="33" y="489"/>
                    </a:lnTo>
                    <a:lnTo>
                      <a:pt x="33" y="492"/>
                    </a:lnTo>
                    <a:lnTo>
                      <a:pt x="33" y="495"/>
                    </a:lnTo>
                    <a:lnTo>
                      <a:pt x="38" y="495"/>
                    </a:lnTo>
                    <a:lnTo>
                      <a:pt x="43" y="495"/>
                    </a:lnTo>
                    <a:lnTo>
                      <a:pt x="47" y="497"/>
                    </a:lnTo>
                    <a:lnTo>
                      <a:pt x="50" y="499"/>
                    </a:lnTo>
                    <a:lnTo>
                      <a:pt x="53" y="500"/>
                    </a:lnTo>
                    <a:lnTo>
                      <a:pt x="55" y="502"/>
                    </a:lnTo>
                    <a:lnTo>
                      <a:pt x="57" y="505"/>
                    </a:lnTo>
                    <a:lnTo>
                      <a:pt x="57" y="508"/>
                    </a:lnTo>
                    <a:lnTo>
                      <a:pt x="69" y="513"/>
                    </a:lnTo>
                    <a:lnTo>
                      <a:pt x="82" y="520"/>
                    </a:lnTo>
                    <a:lnTo>
                      <a:pt x="96" y="526"/>
                    </a:lnTo>
                    <a:lnTo>
                      <a:pt x="111" y="533"/>
                    </a:lnTo>
                    <a:lnTo>
                      <a:pt x="124" y="539"/>
                    </a:lnTo>
                    <a:lnTo>
                      <a:pt x="139" y="544"/>
                    </a:lnTo>
                    <a:lnTo>
                      <a:pt x="153" y="547"/>
                    </a:lnTo>
                    <a:lnTo>
                      <a:pt x="165" y="549"/>
                    </a:lnTo>
                    <a:lnTo>
                      <a:pt x="165" y="536"/>
                    </a:lnTo>
                    <a:lnTo>
                      <a:pt x="168" y="524"/>
                    </a:lnTo>
                    <a:lnTo>
                      <a:pt x="173" y="511"/>
                    </a:lnTo>
                    <a:lnTo>
                      <a:pt x="180" y="500"/>
                    </a:lnTo>
                    <a:lnTo>
                      <a:pt x="188" y="489"/>
                    </a:lnTo>
                    <a:lnTo>
                      <a:pt x="197" y="477"/>
                    </a:lnTo>
                    <a:lnTo>
                      <a:pt x="207" y="468"/>
                    </a:lnTo>
                    <a:lnTo>
                      <a:pt x="218" y="458"/>
                    </a:lnTo>
                    <a:lnTo>
                      <a:pt x="239" y="442"/>
                    </a:lnTo>
                    <a:lnTo>
                      <a:pt x="257" y="429"/>
                    </a:lnTo>
                    <a:lnTo>
                      <a:pt x="271" y="421"/>
                    </a:lnTo>
                    <a:lnTo>
                      <a:pt x="276" y="418"/>
                    </a:lnTo>
                    <a:lnTo>
                      <a:pt x="331" y="396"/>
                    </a:lnTo>
                    <a:lnTo>
                      <a:pt x="331" y="395"/>
                    </a:lnTo>
                    <a:lnTo>
                      <a:pt x="331" y="392"/>
                    </a:lnTo>
                    <a:lnTo>
                      <a:pt x="333" y="390"/>
                    </a:lnTo>
                    <a:lnTo>
                      <a:pt x="333" y="387"/>
                    </a:lnTo>
                    <a:lnTo>
                      <a:pt x="335" y="384"/>
                    </a:lnTo>
                    <a:lnTo>
                      <a:pt x="336" y="382"/>
                    </a:lnTo>
                    <a:lnTo>
                      <a:pt x="336" y="379"/>
                    </a:lnTo>
                    <a:lnTo>
                      <a:pt x="338" y="375"/>
                    </a:lnTo>
                    <a:lnTo>
                      <a:pt x="335" y="374"/>
                    </a:lnTo>
                    <a:lnTo>
                      <a:pt x="325" y="366"/>
                    </a:lnTo>
                    <a:lnTo>
                      <a:pt x="311" y="354"/>
                    </a:lnTo>
                    <a:lnTo>
                      <a:pt x="294" y="340"/>
                    </a:lnTo>
                    <a:lnTo>
                      <a:pt x="276" y="324"/>
                    </a:lnTo>
                    <a:lnTo>
                      <a:pt x="256" y="309"/>
                    </a:lnTo>
                    <a:lnTo>
                      <a:pt x="235" y="298"/>
                    </a:lnTo>
                    <a:lnTo>
                      <a:pt x="215" y="290"/>
                    </a:lnTo>
                    <a:lnTo>
                      <a:pt x="210" y="285"/>
                    </a:lnTo>
                    <a:lnTo>
                      <a:pt x="205" y="280"/>
                    </a:lnTo>
                    <a:lnTo>
                      <a:pt x="200" y="277"/>
                    </a:lnTo>
                    <a:lnTo>
                      <a:pt x="195" y="273"/>
                    </a:lnTo>
                    <a:lnTo>
                      <a:pt x="188" y="270"/>
                    </a:lnTo>
                    <a:lnTo>
                      <a:pt x="183" y="267"/>
                    </a:lnTo>
                    <a:lnTo>
                      <a:pt x="178" y="267"/>
                    </a:lnTo>
                    <a:lnTo>
                      <a:pt x="173" y="265"/>
                    </a:lnTo>
                    <a:lnTo>
                      <a:pt x="175" y="260"/>
                    </a:lnTo>
                    <a:lnTo>
                      <a:pt x="178" y="254"/>
                    </a:lnTo>
                    <a:lnTo>
                      <a:pt x="183" y="246"/>
                    </a:lnTo>
                    <a:lnTo>
                      <a:pt x="188" y="239"/>
                    </a:lnTo>
                    <a:lnTo>
                      <a:pt x="195" y="230"/>
                    </a:lnTo>
                    <a:lnTo>
                      <a:pt x="202" y="222"/>
                    </a:lnTo>
                    <a:lnTo>
                      <a:pt x="207" y="212"/>
                    </a:lnTo>
                    <a:lnTo>
                      <a:pt x="213" y="202"/>
                    </a:lnTo>
                    <a:lnTo>
                      <a:pt x="217" y="202"/>
                    </a:lnTo>
                    <a:lnTo>
                      <a:pt x="220" y="202"/>
                    </a:lnTo>
                    <a:lnTo>
                      <a:pt x="224" y="202"/>
                    </a:lnTo>
                    <a:lnTo>
                      <a:pt x="227" y="204"/>
                    </a:lnTo>
                    <a:lnTo>
                      <a:pt x="230" y="204"/>
                    </a:lnTo>
                    <a:lnTo>
                      <a:pt x="234" y="204"/>
                    </a:lnTo>
                    <a:lnTo>
                      <a:pt x="237" y="205"/>
                    </a:lnTo>
                    <a:lnTo>
                      <a:pt x="242" y="205"/>
                    </a:lnTo>
                    <a:lnTo>
                      <a:pt x="247" y="207"/>
                    </a:lnTo>
                    <a:lnTo>
                      <a:pt x="254" y="207"/>
                    </a:lnTo>
                    <a:lnTo>
                      <a:pt x="262" y="207"/>
                    </a:lnTo>
                    <a:lnTo>
                      <a:pt x="271" y="207"/>
                    </a:lnTo>
                    <a:lnTo>
                      <a:pt x="279" y="207"/>
                    </a:lnTo>
                    <a:lnTo>
                      <a:pt x="289" y="207"/>
                    </a:lnTo>
                    <a:lnTo>
                      <a:pt x="298" y="207"/>
                    </a:lnTo>
                    <a:lnTo>
                      <a:pt x="306" y="207"/>
                    </a:lnTo>
                    <a:lnTo>
                      <a:pt x="308" y="205"/>
                    </a:lnTo>
                    <a:lnTo>
                      <a:pt x="309" y="202"/>
                    </a:lnTo>
                    <a:lnTo>
                      <a:pt x="311" y="199"/>
                    </a:lnTo>
                    <a:lnTo>
                      <a:pt x="313" y="196"/>
                    </a:lnTo>
                    <a:lnTo>
                      <a:pt x="314" y="191"/>
                    </a:lnTo>
                    <a:lnTo>
                      <a:pt x="316" y="188"/>
                    </a:lnTo>
                    <a:lnTo>
                      <a:pt x="318" y="181"/>
                    </a:lnTo>
                    <a:lnTo>
                      <a:pt x="319" y="176"/>
                    </a:lnTo>
                    <a:lnTo>
                      <a:pt x="335" y="170"/>
                    </a:lnTo>
                    <a:lnTo>
                      <a:pt x="343" y="163"/>
                    </a:lnTo>
                    <a:lnTo>
                      <a:pt x="348" y="158"/>
                    </a:lnTo>
                    <a:lnTo>
                      <a:pt x="350" y="150"/>
                    </a:lnTo>
                    <a:lnTo>
                      <a:pt x="351" y="142"/>
                    </a:lnTo>
                    <a:lnTo>
                      <a:pt x="353" y="133"/>
                    </a:lnTo>
                    <a:lnTo>
                      <a:pt x="358" y="120"/>
                    </a:lnTo>
                    <a:lnTo>
                      <a:pt x="367" y="105"/>
                    </a:lnTo>
                    <a:lnTo>
                      <a:pt x="375" y="97"/>
                    </a:lnTo>
                    <a:lnTo>
                      <a:pt x="383" y="87"/>
                    </a:lnTo>
                    <a:lnTo>
                      <a:pt x="389" y="76"/>
                    </a:lnTo>
                    <a:lnTo>
                      <a:pt x="394" y="61"/>
                    </a:lnTo>
                    <a:lnTo>
                      <a:pt x="399" y="47"/>
                    </a:lnTo>
                    <a:lnTo>
                      <a:pt x="402" y="32"/>
                    </a:lnTo>
                    <a:lnTo>
                      <a:pt x="405" y="18"/>
                    </a:lnTo>
                    <a:lnTo>
                      <a:pt x="407" y="3"/>
                    </a:lnTo>
                    <a:lnTo>
                      <a:pt x="409" y="3"/>
                    </a:lnTo>
                    <a:lnTo>
                      <a:pt x="410" y="3"/>
                    </a:lnTo>
                    <a:lnTo>
                      <a:pt x="412" y="1"/>
                    </a:lnTo>
                    <a:lnTo>
                      <a:pt x="414" y="1"/>
                    </a:lnTo>
                    <a:lnTo>
                      <a:pt x="415" y="1"/>
                    </a:lnTo>
                    <a:lnTo>
                      <a:pt x="417" y="1"/>
                    </a:lnTo>
                    <a:lnTo>
                      <a:pt x="419" y="0"/>
                    </a:lnTo>
                    <a:lnTo>
                      <a:pt x="42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72600" y="5051160"/>
                <a:ext cx="539640" cy="284760"/>
              </a:xfrm>
              <a:custGeom>
                <a:avLst/>
                <a:gdLst/>
                <a:ahLst/>
                <a:rect l="l" t="t" r="r" b="b"/>
                <a:pathLst>
                  <a:path w="350" h="185">
                    <a:moveTo>
                      <a:pt x="40" y="57"/>
                    </a:moveTo>
                    <a:lnTo>
                      <a:pt x="39" y="75"/>
                    </a:lnTo>
                    <a:lnTo>
                      <a:pt x="37" y="90"/>
                    </a:lnTo>
                    <a:lnTo>
                      <a:pt x="35" y="101"/>
                    </a:lnTo>
                    <a:lnTo>
                      <a:pt x="32" y="112"/>
                    </a:lnTo>
                    <a:lnTo>
                      <a:pt x="29" y="122"/>
                    </a:lnTo>
                    <a:lnTo>
                      <a:pt x="23" y="130"/>
                    </a:lnTo>
                    <a:lnTo>
                      <a:pt x="13" y="140"/>
                    </a:lnTo>
                    <a:lnTo>
                      <a:pt x="0" y="151"/>
                    </a:lnTo>
                    <a:lnTo>
                      <a:pt x="12" y="182"/>
                    </a:lnTo>
                    <a:lnTo>
                      <a:pt x="12" y="182"/>
                    </a:lnTo>
                    <a:lnTo>
                      <a:pt x="12" y="180"/>
                    </a:lnTo>
                    <a:lnTo>
                      <a:pt x="13" y="180"/>
                    </a:lnTo>
                    <a:lnTo>
                      <a:pt x="13" y="180"/>
                    </a:lnTo>
                    <a:lnTo>
                      <a:pt x="15" y="180"/>
                    </a:lnTo>
                    <a:lnTo>
                      <a:pt x="15" y="180"/>
                    </a:lnTo>
                    <a:lnTo>
                      <a:pt x="17" y="179"/>
                    </a:lnTo>
                    <a:lnTo>
                      <a:pt x="17" y="179"/>
                    </a:lnTo>
                    <a:lnTo>
                      <a:pt x="22" y="182"/>
                    </a:lnTo>
                    <a:lnTo>
                      <a:pt x="25" y="185"/>
                    </a:lnTo>
                    <a:lnTo>
                      <a:pt x="30" y="185"/>
                    </a:lnTo>
                    <a:lnTo>
                      <a:pt x="34" y="185"/>
                    </a:lnTo>
                    <a:lnTo>
                      <a:pt x="39" y="183"/>
                    </a:lnTo>
                    <a:lnTo>
                      <a:pt x="44" y="182"/>
                    </a:lnTo>
                    <a:lnTo>
                      <a:pt x="50" y="180"/>
                    </a:lnTo>
                    <a:lnTo>
                      <a:pt x="59" y="180"/>
                    </a:lnTo>
                    <a:lnTo>
                      <a:pt x="62" y="180"/>
                    </a:lnTo>
                    <a:lnTo>
                      <a:pt x="67" y="180"/>
                    </a:lnTo>
                    <a:lnTo>
                      <a:pt x="71" y="180"/>
                    </a:lnTo>
                    <a:lnTo>
                      <a:pt x="72" y="180"/>
                    </a:lnTo>
                    <a:lnTo>
                      <a:pt x="76" y="180"/>
                    </a:lnTo>
                    <a:lnTo>
                      <a:pt x="79" y="180"/>
                    </a:lnTo>
                    <a:lnTo>
                      <a:pt x="82" y="180"/>
                    </a:lnTo>
                    <a:lnTo>
                      <a:pt x="84" y="180"/>
                    </a:lnTo>
                    <a:lnTo>
                      <a:pt x="84" y="180"/>
                    </a:lnTo>
                    <a:lnTo>
                      <a:pt x="86" y="179"/>
                    </a:lnTo>
                    <a:lnTo>
                      <a:pt x="86" y="179"/>
                    </a:lnTo>
                    <a:lnTo>
                      <a:pt x="86" y="177"/>
                    </a:lnTo>
                    <a:lnTo>
                      <a:pt x="86" y="175"/>
                    </a:lnTo>
                    <a:lnTo>
                      <a:pt x="87" y="175"/>
                    </a:lnTo>
                    <a:lnTo>
                      <a:pt x="87" y="174"/>
                    </a:lnTo>
                    <a:lnTo>
                      <a:pt x="89" y="172"/>
                    </a:lnTo>
                    <a:lnTo>
                      <a:pt x="98" y="171"/>
                    </a:lnTo>
                    <a:lnTo>
                      <a:pt x="108" y="169"/>
                    </a:lnTo>
                    <a:lnTo>
                      <a:pt x="118" y="164"/>
                    </a:lnTo>
                    <a:lnTo>
                      <a:pt x="130" y="161"/>
                    </a:lnTo>
                    <a:lnTo>
                      <a:pt x="141" y="158"/>
                    </a:lnTo>
                    <a:lnTo>
                      <a:pt x="153" y="154"/>
                    </a:lnTo>
                    <a:lnTo>
                      <a:pt x="165" y="151"/>
                    </a:lnTo>
                    <a:lnTo>
                      <a:pt x="177" y="151"/>
                    </a:lnTo>
                    <a:lnTo>
                      <a:pt x="183" y="137"/>
                    </a:lnTo>
                    <a:lnTo>
                      <a:pt x="194" y="119"/>
                    </a:lnTo>
                    <a:lnTo>
                      <a:pt x="204" y="96"/>
                    </a:lnTo>
                    <a:lnTo>
                      <a:pt x="217" y="73"/>
                    </a:lnTo>
                    <a:lnTo>
                      <a:pt x="231" y="51"/>
                    </a:lnTo>
                    <a:lnTo>
                      <a:pt x="244" y="30"/>
                    </a:lnTo>
                    <a:lnTo>
                      <a:pt x="251" y="22"/>
                    </a:lnTo>
                    <a:lnTo>
                      <a:pt x="259" y="13"/>
                    </a:lnTo>
                    <a:lnTo>
                      <a:pt x="266" y="7"/>
                    </a:lnTo>
                    <a:lnTo>
                      <a:pt x="273" y="4"/>
                    </a:lnTo>
                    <a:lnTo>
                      <a:pt x="276" y="2"/>
                    </a:lnTo>
                    <a:lnTo>
                      <a:pt x="278" y="2"/>
                    </a:lnTo>
                    <a:lnTo>
                      <a:pt x="279" y="2"/>
                    </a:lnTo>
                    <a:lnTo>
                      <a:pt x="283" y="2"/>
                    </a:lnTo>
                    <a:lnTo>
                      <a:pt x="284" y="2"/>
                    </a:lnTo>
                    <a:lnTo>
                      <a:pt x="286" y="2"/>
                    </a:lnTo>
                    <a:lnTo>
                      <a:pt x="290" y="2"/>
                    </a:lnTo>
                    <a:lnTo>
                      <a:pt x="291" y="0"/>
                    </a:lnTo>
                    <a:lnTo>
                      <a:pt x="298" y="12"/>
                    </a:lnTo>
                    <a:lnTo>
                      <a:pt x="305" y="18"/>
                    </a:lnTo>
                    <a:lnTo>
                      <a:pt x="311" y="25"/>
                    </a:lnTo>
                    <a:lnTo>
                      <a:pt x="318" y="28"/>
                    </a:lnTo>
                    <a:lnTo>
                      <a:pt x="325" y="31"/>
                    </a:lnTo>
                    <a:lnTo>
                      <a:pt x="333" y="31"/>
                    </a:lnTo>
                    <a:lnTo>
                      <a:pt x="342" y="31"/>
                    </a:lnTo>
                    <a:lnTo>
                      <a:pt x="350" y="3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3040" y="4319640"/>
                <a:ext cx="906840" cy="819000"/>
              </a:xfrm>
              <a:custGeom>
                <a:avLst/>
                <a:gdLst/>
                <a:ahLst/>
                <a:rect l="l" t="t" r="r" b="b"/>
                <a:pathLst>
                  <a:path w="588" h="531">
                    <a:moveTo>
                      <a:pt x="86" y="0"/>
                    </a:moveTo>
                    <a:lnTo>
                      <a:pt x="86" y="10"/>
                    </a:lnTo>
                    <a:lnTo>
                      <a:pt x="86" y="18"/>
                    </a:lnTo>
                    <a:lnTo>
                      <a:pt x="86" y="27"/>
                    </a:lnTo>
                    <a:lnTo>
                      <a:pt x="84" y="36"/>
                    </a:lnTo>
                    <a:lnTo>
                      <a:pt x="84" y="45"/>
                    </a:lnTo>
                    <a:lnTo>
                      <a:pt x="84" y="53"/>
                    </a:lnTo>
                    <a:lnTo>
                      <a:pt x="84" y="61"/>
                    </a:lnTo>
                    <a:lnTo>
                      <a:pt x="84" y="71"/>
                    </a:lnTo>
                    <a:lnTo>
                      <a:pt x="73" y="79"/>
                    </a:lnTo>
                    <a:lnTo>
                      <a:pt x="59" y="89"/>
                    </a:lnTo>
                    <a:lnTo>
                      <a:pt x="44" y="102"/>
                    </a:lnTo>
                    <a:lnTo>
                      <a:pt x="29" y="115"/>
                    </a:lnTo>
                    <a:lnTo>
                      <a:pt x="17" y="128"/>
                    </a:lnTo>
                    <a:lnTo>
                      <a:pt x="7" y="141"/>
                    </a:lnTo>
                    <a:lnTo>
                      <a:pt x="4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9"/>
                    </a:lnTo>
                    <a:lnTo>
                      <a:pt x="2" y="164"/>
                    </a:lnTo>
                    <a:lnTo>
                      <a:pt x="2" y="168"/>
                    </a:lnTo>
                    <a:lnTo>
                      <a:pt x="2" y="173"/>
                    </a:lnTo>
                    <a:lnTo>
                      <a:pt x="2" y="178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1"/>
                    </a:lnTo>
                    <a:lnTo>
                      <a:pt x="2" y="196"/>
                    </a:lnTo>
                    <a:lnTo>
                      <a:pt x="17" y="204"/>
                    </a:lnTo>
                    <a:lnTo>
                      <a:pt x="27" y="212"/>
                    </a:lnTo>
                    <a:lnTo>
                      <a:pt x="32" y="220"/>
                    </a:lnTo>
                    <a:lnTo>
                      <a:pt x="37" y="228"/>
                    </a:lnTo>
                    <a:lnTo>
                      <a:pt x="41" y="235"/>
                    </a:lnTo>
                    <a:lnTo>
                      <a:pt x="49" y="240"/>
                    </a:lnTo>
                    <a:lnTo>
                      <a:pt x="63" y="245"/>
                    </a:lnTo>
                    <a:lnTo>
                      <a:pt x="83" y="249"/>
                    </a:lnTo>
                    <a:lnTo>
                      <a:pt x="84" y="254"/>
                    </a:lnTo>
                    <a:lnTo>
                      <a:pt x="88" y="257"/>
                    </a:lnTo>
                    <a:lnTo>
                      <a:pt x="91" y="261"/>
                    </a:lnTo>
                    <a:lnTo>
                      <a:pt x="93" y="262"/>
                    </a:lnTo>
                    <a:lnTo>
                      <a:pt x="98" y="264"/>
                    </a:lnTo>
                    <a:lnTo>
                      <a:pt x="101" y="266"/>
                    </a:lnTo>
                    <a:lnTo>
                      <a:pt x="105" y="266"/>
                    </a:lnTo>
                    <a:lnTo>
                      <a:pt x="110" y="269"/>
                    </a:lnTo>
                    <a:lnTo>
                      <a:pt x="110" y="275"/>
                    </a:lnTo>
                    <a:lnTo>
                      <a:pt x="113" y="282"/>
                    </a:lnTo>
                    <a:lnTo>
                      <a:pt x="116" y="288"/>
                    </a:lnTo>
                    <a:lnTo>
                      <a:pt x="122" y="295"/>
                    </a:lnTo>
                    <a:lnTo>
                      <a:pt x="133" y="309"/>
                    </a:lnTo>
                    <a:lnTo>
                      <a:pt x="148" y="324"/>
                    </a:lnTo>
                    <a:lnTo>
                      <a:pt x="162" y="340"/>
                    </a:lnTo>
                    <a:lnTo>
                      <a:pt x="175" y="356"/>
                    </a:lnTo>
                    <a:lnTo>
                      <a:pt x="180" y="364"/>
                    </a:lnTo>
                    <a:lnTo>
                      <a:pt x="186" y="372"/>
                    </a:lnTo>
                    <a:lnTo>
                      <a:pt x="189" y="381"/>
                    </a:lnTo>
                    <a:lnTo>
                      <a:pt x="191" y="389"/>
                    </a:lnTo>
                    <a:lnTo>
                      <a:pt x="192" y="392"/>
                    </a:lnTo>
                    <a:lnTo>
                      <a:pt x="194" y="393"/>
                    </a:lnTo>
                    <a:lnTo>
                      <a:pt x="196" y="397"/>
                    </a:lnTo>
                    <a:lnTo>
                      <a:pt x="196" y="398"/>
                    </a:lnTo>
                    <a:lnTo>
                      <a:pt x="196" y="402"/>
                    </a:lnTo>
                    <a:lnTo>
                      <a:pt x="197" y="405"/>
                    </a:lnTo>
                    <a:lnTo>
                      <a:pt x="197" y="408"/>
                    </a:lnTo>
                    <a:lnTo>
                      <a:pt x="199" y="413"/>
                    </a:lnTo>
                    <a:lnTo>
                      <a:pt x="201" y="413"/>
                    </a:lnTo>
                    <a:lnTo>
                      <a:pt x="202" y="413"/>
                    </a:lnTo>
                    <a:lnTo>
                      <a:pt x="204" y="413"/>
                    </a:lnTo>
                    <a:lnTo>
                      <a:pt x="207" y="411"/>
                    </a:lnTo>
                    <a:lnTo>
                      <a:pt x="209" y="411"/>
                    </a:lnTo>
                    <a:lnTo>
                      <a:pt x="211" y="411"/>
                    </a:lnTo>
                    <a:lnTo>
                      <a:pt x="212" y="411"/>
                    </a:lnTo>
                    <a:lnTo>
                      <a:pt x="216" y="410"/>
                    </a:lnTo>
                    <a:lnTo>
                      <a:pt x="216" y="415"/>
                    </a:lnTo>
                    <a:lnTo>
                      <a:pt x="216" y="418"/>
                    </a:lnTo>
                    <a:lnTo>
                      <a:pt x="216" y="421"/>
                    </a:lnTo>
                    <a:lnTo>
                      <a:pt x="218" y="424"/>
                    </a:lnTo>
                    <a:lnTo>
                      <a:pt x="218" y="429"/>
                    </a:lnTo>
                    <a:lnTo>
                      <a:pt x="218" y="432"/>
                    </a:lnTo>
                    <a:lnTo>
                      <a:pt x="219" y="436"/>
                    </a:lnTo>
                    <a:lnTo>
                      <a:pt x="219" y="439"/>
                    </a:lnTo>
                    <a:lnTo>
                      <a:pt x="221" y="439"/>
                    </a:lnTo>
                    <a:lnTo>
                      <a:pt x="223" y="439"/>
                    </a:lnTo>
                    <a:lnTo>
                      <a:pt x="226" y="439"/>
                    </a:lnTo>
                    <a:lnTo>
                      <a:pt x="228" y="439"/>
                    </a:lnTo>
                    <a:lnTo>
                      <a:pt x="229" y="439"/>
                    </a:lnTo>
                    <a:lnTo>
                      <a:pt x="231" y="439"/>
                    </a:lnTo>
                    <a:lnTo>
                      <a:pt x="233" y="439"/>
                    </a:lnTo>
                    <a:lnTo>
                      <a:pt x="234" y="439"/>
                    </a:lnTo>
                    <a:lnTo>
                      <a:pt x="239" y="449"/>
                    </a:lnTo>
                    <a:lnTo>
                      <a:pt x="243" y="458"/>
                    </a:lnTo>
                    <a:lnTo>
                      <a:pt x="246" y="468"/>
                    </a:lnTo>
                    <a:lnTo>
                      <a:pt x="248" y="476"/>
                    </a:lnTo>
                    <a:lnTo>
                      <a:pt x="248" y="492"/>
                    </a:lnTo>
                    <a:lnTo>
                      <a:pt x="250" y="505"/>
                    </a:lnTo>
                    <a:lnTo>
                      <a:pt x="253" y="512"/>
                    </a:lnTo>
                    <a:lnTo>
                      <a:pt x="256" y="517"/>
                    </a:lnTo>
                    <a:lnTo>
                      <a:pt x="261" y="521"/>
                    </a:lnTo>
                    <a:lnTo>
                      <a:pt x="268" y="525"/>
                    </a:lnTo>
                    <a:lnTo>
                      <a:pt x="278" y="528"/>
                    </a:lnTo>
                    <a:lnTo>
                      <a:pt x="292" y="530"/>
                    </a:lnTo>
                    <a:lnTo>
                      <a:pt x="307" y="531"/>
                    </a:lnTo>
                    <a:lnTo>
                      <a:pt x="327" y="531"/>
                    </a:lnTo>
                    <a:lnTo>
                      <a:pt x="332" y="512"/>
                    </a:lnTo>
                    <a:lnTo>
                      <a:pt x="337" y="494"/>
                    </a:lnTo>
                    <a:lnTo>
                      <a:pt x="344" y="474"/>
                    </a:lnTo>
                    <a:lnTo>
                      <a:pt x="352" y="455"/>
                    </a:lnTo>
                    <a:lnTo>
                      <a:pt x="362" y="436"/>
                    </a:lnTo>
                    <a:lnTo>
                      <a:pt x="372" y="418"/>
                    </a:lnTo>
                    <a:lnTo>
                      <a:pt x="386" y="400"/>
                    </a:lnTo>
                    <a:lnTo>
                      <a:pt x="403" y="382"/>
                    </a:lnTo>
                    <a:lnTo>
                      <a:pt x="416" y="382"/>
                    </a:lnTo>
                    <a:lnTo>
                      <a:pt x="426" y="381"/>
                    </a:lnTo>
                    <a:lnTo>
                      <a:pt x="435" y="377"/>
                    </a:lnTo>
                    <a:lnTo>
                      <a:pt x="441" y="376"/>
                    </a:lnTo>
                    <a:lnTo>
                      <a:pt x="453" y="368"/>
                    </a:lnTo>
                    <a:lnTo>
                      <a:pt x="462" y="358"/>
                    </a:lnTo>
                    <a:lnTo>
                      <a:pt x="470" y="347"/>
                    </a:lnTo>
                    <a:lnTo>
                      <a:pt x="480" y="335"/>
                    </a:lnTo>
                    <a:lnTo>
                      <a:pt x="487" y="329"/>
                    </a:lnTo>
                    <a:lnTo>
                      <a:pt x="495" y="322"/>
                    </a:lnTo>
                    <a:lnTo>
                      <a:pt x="505" y="316"/>
                    </a:lnTo>
                    <a:lnTo>
                      <a:pt x="516" y="309"/>
                    </a:lnTo>
                    <a:lnTo>
                      <a:pt x="522" y="301"/>
                    </a:lnTo>
                    <a:lnTo>
                      <a:pt x="529" y="295"/>
                    </a:lnTo>
                    <a:lnTo>
                      <a:pt x="534" y="290"/>
                    </a:lnTo>
                    <a:lnTo>
                      <a:pt x="543" y="283"/>
                    </a:lnTo>
                    <a:lnTo>
                      <a:pt x="549" y="279"/>
                    </a:lnTo>
                    <a:lnTo>
                      <a:pt x="556" y="274"/>
                    </a:lnTo>
                    <a:lnTo>
                      <a:pt x="563" y="269"/>
                    </a:lnTo>
                    <a:lnTo>
                      <a:pt x="569" y="262"/>
                    </a:lnTo>
                    <a:lnTo>
                      <a:pt x="578" y="270"/>
                    </a:lnTo>
                    <a:lnTo>
                      <a:pt x="583" y="280"/>
                    </a:lnTo>
                    <a:lnTo>
                      <a:pt x="586" y="293"/>
                    </a:lnTo>
                    <a:lnTo>
                      <a:pt x="588" y="308"/>
                    </a:lnTo>
                    <a:lnTo>
                      <a:pt x="588" y="322"/>
                    </a:lnTo>
                    <a:lnTo>
                      <a:pt x="588" y="338"/>
                    </a:lnTo>
                    <a:lnTo>
                      <a:pt x="585" y="355"/>
                    </a:lnTo>
                    <a:lnTo>
                      <a:pt x="581" y="372"/>
                    </a:lnTo>
                    <a:lnTo>
                      <a:pt x="573" y="405"/>
                    </a:lnTo>
                    <a:lnTo>
                      <a:pt x="566" y="436"/>
                    </a:lnTo>
                    <a:lnTo>
                      <a:pt x="559" y="460"/>
                    </a:lnTo>
                    <a:lnTo>
                      <a:pt x="559" y="4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0600" y="4282560"/>
                <a:ext cx="243720" cy="441360"/>
              </a:xfrm>
              <a:custGeom>
                <a:avLst/>
                <a:gdLst/>
                <a:ahLst/>
                <a:rect l="l" t="t" r="r" b="b"/>
                <a:pathLst>
                  <a:path w="158" h="286">
                    <a:moveTo>
                      <a:pt x="44" y="0"/>
                    </a:moveTo>
                    <a:lnTo>
                      <a:pt x="45" y="6"/>
                    </a:lnTo>
                    <a:lnTo>
                      <a:pt x="45" y="13"/>
                    </a:lnTo>
                    <a:lnTo>
                      <a:pt x="45" y="19"/>
                    </a:lnTo>
                    <a:lnTo>
                      <a:pt x="44" y="24"/>
                    </a:lnTo>
                    <a:lnTo>
                      <a:pt x="39" y="35"/>
                    </a:lnTo>
                    <a:lnTo>
                      <a:pt x="32" y="47"/>
                    </a:lnTo>
                    <a:lnTo>
                      <a:pt x="25" y="56"/>
                    </a:lnTo>
                    <a:lnTo>
                      <a:pt x="17" y="64"/>
                    </a:lnTo>
                    <a:lnTo>
                      <a:pt x="8" y="71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5" y="81"/>
                    </a:lnTo>
                    <a:lnTo>
                      <a:pt x="8" y="82"/>
                    </a:lnTo>
                    <a:lnTo>
                      <a:pt x="13" y="84"/>
                    </a:lnTo>
                    <a:lnTo>
                      <a:pt x="18" y="87"/>
                    </a:lnTo>
                    <a:lnTo>
                      <a:pt x="23" y="89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2" y="113"/>
                    </a:lnTo>
                    <a:lnTo>
                      <a:pt x="30" y="126"/>
                    </a:lnTo>
                    <a:lnTo>
                      <a:pt x="30" y="136"/>
                    </a:lnTo>
                    <a:lnTo>
                      <a:pt x="32" y="144"/>
                    </a:lnTo>
                    <a:lnTo>
                      <a:pt x="33" y="152"/>
                    </a:lnTo>
                    <a:lnTo>
                      <a:pt x="37" y="160"/>
                    </a:lnTo>
                    <a:lnTo>
                      <a:pt x="44" y="170"/>
                    </a:lnTo>
                    <a:lnTo>
                      <a:pt x="54" y="183"/>
                    </a:lnTo>
                    <a:lnTo>
                      <a:pt x="65" y="183"/>
                    </a:lnTo>
                    <a:lnTo>
                      <a:pt x="79" y="181"/>
                    </a:lnTo>
                    <a:lnTo>
                      <a:pt x="92" y="178"/>
                    </a:lnTo>
                    <a:lnTo>
                      <a:pt x="108" y="176"/>
                    </a:lnTo>
                    <a:lnTo>
                      <a:pt x="121" y="176"/>
                    </a:lnTo>
                    <a:lnTo>
                      <a:pt x="133" y="176"/>
                    </a:lnTo>
                    <a:lnTo>
                      <a:pt x="146" y="181"/>
                    </a:lnTo>
                    <a:lnTo>
                      <a:pt x="158" y="188"/>
                    </a:lnTo>
                    <a:lnTo>
                      <a:pt x="155" y="189"/>
                    </a:lnTo>
                    <a:lnTo>
                      <a:pt x="153" y="191"/>
                    </a:lnTo>
                    <a:lnTo>
                      <a:pt x="151" y="192"/>
                    </a:lnTo>
                    <a:lnTo>
                      <a:pt x="150" y="194"/>
                    </a:lnTo>
                    <a:lnTo>
                      <a:pt x="148" y="196"/>
                    </a:lnTo>
                    <a:lnTo>
                      <a:pt x="146" y="197"/>
                    </a:lnTo>
                    <a:lnTo>
                      <a:pt x="145" y="199"/>
                    </a:lnTo>
                    <a:lnTo>
                      <a:pt x="143" y="200"/>
                    </a:lnTo>
                    <a:lnTo>
                      <a:pt x="138" y="212"/>
                    </a:lnTo>
                    <a:lnTo>
                      <a:pt x="131" y="222"/>
                    </a:lnTo>
                    <a:lnTo>
                      <a:pt x="126" y="233"/>
                    </a:lnTo>
                    <a:lnTo>
                      <a:pt x="121" y="244"/>
                    </a:lnTo>
                    <a:lnTo>
                      <a:pt x="114" y="254"/>
                    </a:lnTo>
                    <a:lnTo>
                      <a:pt x="109" y="265"/>
                    </a:lnTo>
                    <a:lnTo>
                      <a:pt x="103" y="275"/>
                    </a:lnTo>
                    <a:lnTo>
                      <a:pt x="97" y="2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04320" y="4387680"/>
                <a:ext cx="857520" cy="185040"/>
              </a:xfrm>
              <a:custGeom>
                <a:avLst/>
                <a:gdLst/>
                <a:ahLst/>
                <a:rect l="l" t="t" r="r" b="b"/>
                <a:pathLst>
                  <a:path w="556" h="120">
                    <a:moveTo>
                      <a:pt x="556" y="35"/>
                    </a:moveTo>
                    <a:lnTo>
                      <a:pt x="539" y="27"/>
                    </a:lnTo>
                    <a:lnTo>
                      <a:pt x="522" y="21"/>
                    </a:lnTo>
                    <a:lnTo>
                      <a:pt x="504" y="14"/>
                    </a:lnTo>
                    <a:lnTo>
                      <a:pt x="485" y="9"/>
                    </a:lnTo>
                    <a:lnTo>
                      <a:pt x="450" y="3"/>
                    </a:lnTo>
                    <a:lnTo>
                      <a:pt x="413" y="0"/>
                    </a:lnTo>
                    <a:lnTo>
                      <a:pt x="376" y="0"/>
                    </a:lnTo>
                    <a:lnTo>
                      <a:pt x="339" y="0"/>
                    </a:lnTo>
                    <a:lnTo>
                      <a:pt x="303" y="1"/>
                    </a:lnTo>
                    <a:lnTo>
                      <a:pt x="266" y="1"/>
                    </a:lnTo>
                    <a:lnTo>
                      <a:pt x="259" y="1"/>
                    </a:lnTo>
                    <a:lnTo>
                      <a:pt x="253" y="1"/>
                    </a:lnTo>
                    <a:lnTo>
                      <a:pt x="244" y="3"/>
                    </a:lnTo>
                    <a:lnTo>
                      <a:pt x="236" y="5"/>
                    </a:lnTo>
                    <a:lnTo>
                      <a:pt x="219" y="11"/>
                    </a:lnTo>
                    <a:lnTo>
                      <a:pt x="200" y="19"/>
                    </a:lnTo>
                    <a:lnTo>
                      <a:pt x="184" y="27"/>
                    </a:lnTo>
                    <a:lnTo>
                      <a:pt x="168" y="37"/>
                    </a:lnTo>
                    <a:lnTo>
                      <a:pt x="157" y="45"/>
                    </a:lnTo>
                    <a:lnTo>
                      <a:pt x="150" y="50"/>
                    </a:lnTo>
                    <a:lnTo>
                      <a:pt x="136" y="50"/>
                    </a:lnTo>
                    <a:lnTo>
                      <a:pt x="125" y="50"/>
                    </a:lnTo>
                    <a:lnTo>
                      <a:pt x="113" y="50"/>
                    </a:lnTo>
                    <a:lnTo>
                      <a:pt x="101" y="50"/>
                    </a:lnTo>
                    <a:lnTo>
                      <a:pt x="88" y="50"/>
                    </a:lnTo>
                    <a:lnTo>
                      <a:pt x="76" y="50"/>
                    </a:lnTo>
                    <a:lnTo>
                      <a:pt x="64" y="50"/>
                    </a:lnTo>
                    <a:lnTo>
                      <a:pt x="52" y="50"/>
                    </a:lnTo>
                    <a:lnTo>
                      <a:pt x="49" y="63"/>
                    </a:lnTo>
                    <a:lnTo>
                      <a:pt x="42" y="73"/>
                    </a:lnTo>
                    <a:lnTo>
                      <a:pt x="37" y="82"/>
                    </a:lnTo>
                    <a:lnTo>
                      <a:pt x="29" y="90"/>
                    </a:lnTo>
                    <a:lnTo>
                      <a:pt x="22" y="98"/>
                    </a:lnTo>
                    <a:lnTo>
                      <a:pt x="14" y="107"/>
                    </a:lnTo>
                    <a:lnTo>
                      <a:pt x="7" y="113"/>
                    </a:lnTo>
                    <a:lnTo>
                      <a:pt x="0" y="1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40880" y="2198880"/>
                <a:ext cx="975960" cy="289800"/>
              </a:xfrm>
              <a:custGeom>
                <a:avLst/>
                <a:gdLst/>
                <a:ahLst/>
                <a:rect l="l" t="t" r="r" b="b"/>
                <a:pathLst>
                  <a:path w="633" h="188">
                    <a:moveTo>
                      <a:pt x="633" y="188"/>
                    </a:moveTo>
                    <a:lnTo>
                      <a:pt x="626" y="183"/>
                    </a:lnTo>
                    <a:lnTo>
                      <a:pt x="620" y="177"/>
                    </a:lnTo>
                    <a:lnTo>
                      <a:pt x="613" y="170"/>
                    </a:lnTo>
                    <a:lnTo>
                      <a:pt x="608" y="164"/>
                    </a:lnTo>
                    <a:lnTo>
                      <a:pt x="603" y="157"/>
                    </a:lnTo>
                    <a:lnTo>
                      <a:pt x="596" y="151"/>
                    </a:lnTo>
                    <a:lnTo>
                      <a:pt x="591" y="143"/>
                    </a:lnTo>
                    <a:lnTo>
                      <a:pt x="584" y="136"/>
                    </a:lnTo>
                    <a:lnTo>
                      <a:pt x="581" y="120"/>
                    </a:lnTo>
                    <a:lnTo>
                      <a:pt x="578" y="105"/>
                    </a:lnTo>
                    <a:lnTo>
                      <a:pt x="573" y="96"/>
                    </a:lnTo>
                    <a:lnTo>
                      <a:pt x="567" y="89"/>
                    </a:lnTo>
                    <a:lnTo>
                      <a:pt x="561" y="84"/>
                    </a:lnTo>
                    <a:lnTo>
                      <a:pt x="554" y="81"/>
                    </a:lnTo>
                    <a:lnTo>
                      <a:pt x="547" y="81"/>
                    </a:lnTo>
                    <a:lnTo>
                      <a:pt x="539" y="83"/>
                    </a:lnTo>
                    <a:lnTo>
                      <a:pt x="519" y="91"/>
                    </a:lnTo>
                    <a:lnTo>
                      <a:pt x="498" y="102"/>
                    </a:lnTo>
                    <a:lnTo>
                      <a:pt x="473" y="113"/>
                    </a:lnTo>
                    <a:lnTo>
                      <a:pt x="446" y="123"/>
                    </a:lnTo>
                    <a:lnTo>
                      <a:pt x="439" y="123"/>
                    </a:lnTo>
                    <a:lnTo>
                      <a:pt x="433" y="121"/>
                    </a:lnTo>
                    <a:lnTo>
                      <a:pt x="426" y="120"/>
                    </a:lnTo>
                    <a:lnTo>
                      <a:pt x="419" y="120"/>
                    </a:lnTo>
                    <a:lnTo>
                      <a:pt x="411" y="118"/>
                    </a:lnTo>
                    <a:lnTo>
                      <a:pt x="404" y="117"/>
                    </a:lnTo>
                    <a:lnTo>
                      <a:pt x="397" y="115"/>
                    </a:lnTo>
                    <a:lnTo>
                      <a:pt x="391" y="113"/>
                    </a:lnTo>
                    <a:lnTo>
                      <a:pt x="370" y="117"/>
                    </a:lnTo>
                    <a:lnTo>
                      <a:pt x="350" y="118"/>
                    </a:lnTo>
                    <a:lnTo>
                      <a:pt x="328" y="121"/>
                    </a:lnTo>
                    <a:lnTo>
                      <a:pt x="308" y="121"/>
                    </a:lnTo>
                    <a:lnTo>
                      <a:pt x="286" y="121"/>
                    </a:lnTo>
                    <a:lnTo>
                      <a:pt x="268" y="120"/>
                    </a:lnTo>
                    <a:lnTo>
                      <a:pt x="248" y="115"/>
                    </a:lnTo>
                    <a:lnTo>
                      <a:pt x="231" y="107"/>
                    </a:lnTo>
                    <a:lnTo>
                      <a:pt x="226" y="107"/>
                    </a:lnTo>
                    <a:lnTo>
                      <a:pt x="219" y="105"/>
                    </a:lnTo>
                    <a:lnTo>
                      <a:pt x="214" y="104"/>
                    </a:lnTo>
                    <a:lnTo>
                      <a:pt x="209" y="102"/>
                    </a:lnTo>
                    <a:lnTo>
                      <a:pt x="204" y="102"/>
                    </a:lnTo>
                    <a:lnTo>
                      <a:pt x="197" y="100"/>
                    </a:lnTo>
                    <a:lnTo>
                      <a:pt x="192" y="99"/>
                    </a:lnTo>
                    <a:lnTo>
                      <a:pt x="187" y="97"/>
                    </a:lnTo>
                    <a:lnTo>
                      <a:pt x="187" y="91"/>
                    </a:lnTo>
                    <a:lnTo>
                      <a:pt x="187" y="83"/>
                    </a:lnTo>
                    <a:lnTo>
                      <a:pt x="189" y="76"/>
                    </a:lnTo>
                    <a:lnTo>
                      <a:pt x="189" y="68"/>
                    </a:lnTo>
                    <a:lnTo>
                      <a:pt x="189" y="60"/>
                    </a:lnTo>
                    <a:lnTo>
                      <a:pt x="189" y="53"/>
                    </a:lnTo>
                    <a:lnTo>
                      <a:pt x="190" y="45"/>
                    </a:lnTo>
                    <a:lnTo>
                      <a:pt x="190" y="39"/>
                    </a:lnTo>
                    <a:lnTo>
                      <a:pt x="172" y="36"/>
                    </a:lnTo>
                    <a:lnTo>
                      <a:pt x="153" y="31"/>
                    </a:lnTo>
                    <a:lnTo>
                      <a:pt x="135" y="26"/>
                    </a:lnTo>
                    <a:lnTo>
                      <a:pt x="118" y="19"/>
                    </a:lnTo>
                    <a:lnTo>
                      <a:pt x="101" y="13"/>
                    </a:lnTo>
                    <a:lnTo>
                      <a:pt x="84" y="6"/>
                    </a:lnTo>
                    <a:lnTo>
                      <a:pt x="67" y="3"/>
                    </a:lnTo>
                    <a:lnTo>
                      <a:pt x="49" y="0"/>
                    </a:lnTo>
                    <a:lnTo>
                      <a:pt x="42" y="10"/>
                    </a:lnTo>
                    <a:lnTo>
                      <a:pt x="37" y="18"/>
                    </a:lnTo>
                    <a:lnTo>
                      <a:pt x="35" y="24"/>
                    </a:lnTo>
                    <a:lnTo>
                      <a:pt x="34" y="32"/>
                    </a:lnTo>
                    <a:lnTo>
                      <a:pt x="34" y="39"/>
                    </a:lnTo>
                    <a:lnTo>
                      <a:pt x="34" y="45"/>
                    </a:lnTo>
                    <a:lnTo>
                      <a:pt x="34" y="52"/>
                    </a:lnTo>
                    <a:lnTo>
                      <a:pt x="35" y="60"/>
                    </a:lnTo>
                    <a:lnTo>
                      <a:pt x="29" y="57"/>
                    </a:lnTo>
                    <a:lnTo>
                      <a:pt x="24" y="57"/>
                    </a:lnTo>
                    <a:lnTo>
                      <a:pt x="19" y="55"/>
                    </a:lnTo>
                    <a:lnTo>
                      <a:pt x="15" y="53"/>
                    </a:lnTo>
                    <a:lnTo>
                      <a:pt x="10" y="53"/>
                    </a:lnTo>
                    <a:lnTo>
                      <a:pt x="7" y="53"/>
                    </a:lnTo>
                    <a:lnTo>
                      <a:pt x="3" y="53"/>
                    </a:lnTo>
                    <a:lnTo>
                      <a:pt x="0" y="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51560" y="2441160"/>
                <a:ext cx="2802240" cy="1476000"/>
              </a:xfrm>
              <a:custGeom>
                <a:avLst/>
                <a:gdLst/>
                <a:ahLst/>
                <a:rect l="l" t="t" r="r" b="b"/>
                <a:pathLst>
                  <a:path w="1817" h="957">
                    <a:moveTo>
                      <a:pt x="837" y="763"/>
                    </a:moveTo>
                    <a:lnTo>
                      <a:pt x="835" y="758"/>
                    </a:lnTo>
                    <a:lnTo>
                      <a:pt x="835" y="755"/>
                    </a:lnTo>
                    <a:lnTo>
                      <a:pt x="838" y="750"/>
                    </a:lnTo>
                    <a:lnTo>
                      <a:pt x="843" y="747"/>
                    </a:lnTo>
                    <a:lnTo>
                      <a:pt x="850" y="742"/>
                    </a:lnTo>
                    <a:lnTo>
                      <a:pt x="860" y="739"/>
                    </a:lnTo>
                    <a:lnTo>
                      <a:pt x="874" y="734"/>
                    </a:lnTo>
                    <a:lnTo>
                      <a:pt x="889" y="730"/>
                    </a:lnTo>
                    <a:lnTo>
                      <a:pt x="894" y="721"/>
                    </a:lnTo>
                    <a:lnTo>
                      <a:pt x="899" y="713"/>
                    </a:lnTo>
                    <a:lnTo>
                      <a:pt x="901" y="705"/>
                    </a:lnTo>
                    <a:lnTo>
                      <a:pt x="902" y="698"/>
                    </a:lnTo>
                    <a:lnTo>
                      <a:pt x="901" y="687"/>
                    </a:lnTo>
                    <a:lnTo>
                      <a:pt x="897" y="677"/>
                    </a:lnTo>
                    <a:lnTo>
                      <a:pt x="892" y="667"/>
                    </a:lnTo>
                    <a:lnTo>
                      <a:pt x="887" y="656"/>
                    </a:lnTo>
                    <a:lnTo>
                      <a:pt x="882" y="643"/>
                    </a:lnTo>
                    <a:lnTo>
                      <a:pt x="880" y="625"/>
                    </a:lnTo>
                    <a:lnTo>
                      <a:pt x="887" y="606"/>
                    </a:lnTo>
                    <a:lnTo>
                      <a:pt x="892" y="586"/>
                    </a:lnTo>
                    <a:lnTo>
                      <a:pt x="896" y="565"/>
                    </a:lnTo>
                    <a:lnTo>
                      <a:pt x="899" y="546"/>
                    </a:lnTo>
                    <a:lnTo>
                      <a:pt x="902" y="504"/>
                    </a:lnTo>
                    <a:lnTo>
                      <a:pt x="904" y="462"/>
                    </a:lnTo>
                    <a:lnTo>
                      <a:pt x="906" y="420"/>
                    </a:lnTo>
                    <a:lnTo>
                      <a:pt x="909" y="377"/>
                    </a:lnTo>
                    <a:lnTo>
                      <a:pt x="914" y="335"/>
                    </a:lnTo>
                    <a:lnTo>
                      <a:pt x="923" y="292"/>
                    </a:lnTo>
                    <a:lnTo>
                      <a:pt x="906" y="266"/>
                    </a:lnTo>
                    <a:lnTo>
                      <a:pt x="909" y="262"/>
                    </a:lnTo>
                    <a:lnTo>
                      <a:pt x="912" y="261"/>
                    </a:lnTo>
                    <a:lnTo>
                      <a:pt x="916" y="258"/>
                    </a:lnTo>
                    <a:lnTo>
                      <a:pt x="919" y="254"/>
                    </a:lnTo>
                    <a:lnTo>
                      <a:pt x="924" y="251"/>
                    </a:lnTo>
                    <a:lnTo>
                      <a:pt x="928" y="248"/>
                    </a:lnTo>
                    <a:lnTo>
                      <a:pt x="931" y="245"/>
                    </a:lnTo>
                    <a:lnTo>
                      <a:pt x="934" y="243"/>
                    </a:lnTo>
                    <a:lnTo>
                      <a:pt x="933" y="241"/>
                    </a:lnTo>
                    <a:lnTo>
                      <a:pt x="929" y="240"/>
                    </a:lnTo>
                    <a:lnTo>
                      <a:pt x="928" y="240"/>
                    </a:lnTo>
                    <a:lnTo>
                      <a:pt x="924" y="238"/>
                    </a:lnTo>
                    <a:lnTo>
                      <a:pt x="923" y="237"/>
                    </a:lnTo>
                    <a:lnTo>
                      <a:pt x="921" y="235"/>
                    </a:lnTo>
                    <a:lnTo>
                      <a:pt x="917" y="235"/>
                    </a:lnTo>
                    <a:lnTo>
                      <a:pt x="916" y="233"/>
                    </a:lnTo>
                    <a:lnTo>
                      <a:pt x="914" y="225"/>
                    </a:lnTo>
                    <a:lnTo>
                      <a:pt x="912" y="217"/>
                    </a:lnTo>
                    <a:lnTo>
                      <a:pt x="911" y="212"/>
                    </a:lnTo>
                    <a:lnTo>
                      <a:pt x="909" y="207"/>
                    </a:lnTo>
                    <a:lnTo>
                      <a:pt x="906" y="203"/>
                    </a:lnTo>
                    <a:lnTo>
                      <a:pt x="902" y="198"/>
                    </a:lnTo>
                    <a:lnTo>
                      <a:pt x="896" y="194"/>
                    </a:lnTo>
                    <a:lnTo>
                      <a:pt x="889" y="191"/>
                    </a:lnTo>
                    <a:lnTo>
                      <a:pt x="889" y="188"/>
                    </a:lnTo>
                    <a:lnTo>
                      <a:pt x="889" y="185"/>
                    </a:lnTo>
                    <a:lnTo>
                      <a:pt x="891" y="181"/>
                    </a:lnTo>
                    <a:lnTo>
                      <a:pt x="891" y="177"/>
                    </a:lnTo>
                    <a:lnTo>
                      <a:pt x="892" y="173"/>
                    </a:lnTo>
                    <a:lnTo>
                      <a:pt x="896" y="169"/>
                    </a:lnTo>
                    <a:lnTo>
                      <a:pt x="897" y="164"/>
                    </a:lnTo>
                    <a:lnTo>
                      <a:pt x="901" y="157"/>
                    </a:lnTo>
                    <a:lnTo>
                      <a:pt x="904" y="157"/>
                    </a:lnTo>
                    <a:lnTo>
                      <a:pt x="907" y="157"/>
                    </a:lnTo>
                    <a:lnTo>
                      <a:pt x="911" y="156"/>
                    </a:lnTo>
                    <a:lnTo>
                      <a:pt x="912" y="156"/>
                    </a:lnTo>
                    <a:lnTo>
                      <a:pt x="916" y="156"/>
                    </a:lnTo>
                    <a:lnTo>
                      <a:pt x="921" y="156"/>
                    </a:lnTo>
                    <a:lnTo>
                      <a:pt x="924" y="154"/>
                    </a:lnTo>
                    <a:lnTo>
                      <a:pt x="928" y="154"/>
                    </a:lnTo>
                    <a:lnTo>
                      <a:pt x="943" y="147"/>
                    </a:lnTo>
                    <a:lnTo>
                      <a:pt x="955" y="144"/>
                    </a:lnTo>
                    <a:lnTo>
                      <a:pt x="961" y="141"/>
                    </a:lnTo>
                    <a:lnTo>
                      <a:pt x="965" y="138"/>
                    </a:lnTo>
                    <a:lnTo>
                      <a:pt x="968" y="133"/>
                    </a:lnTo>
                    <a:lnTo>
                      <a:pt x="971" y="125"/>
                    </a:lnTo>
                    <a:lnTo>
                      <a:pt x="976" y="112"/>
                    </a:lnTo>
                    <a:lnTo>
                      <a:pt x="985" y="94"/>
                    </a:lnTo>
                    <a:lnTo>
                      <a:pt x="997" y="91"/>
                    </a:lnTo>
                    <a:lnTo>
                      <a:pt x="1005" y="88"/>
                    </a:lnTo>
                    <a:lnTo>
                      <a:pt x="1012" y="84"/>
                    </a:lnTo>
                    <a:lnTo>
                      <a:pt x="1017" y="79"/>
                    </a:lnTo>
                    <a:lnTo>
                      <a:pt x="1019" y="71"/>
                    </a:lnTo>
                    <a:lnTo>
                      <a:pt x="1020" y="62"/>
                    </a:lnTo>
                    <a:lnTo>
                      <a:pt x="1020" y="49"/>
                    </a:lnTo>
                    <a:lnTo>
                      <a:pt x="1019" y="31"/>
                    </a:lnTo>
                    <a:lnTo>
                      <a:pt x="1024" y="29"/>
                    </a:lnTo>
                    <a:lnTo>
                      <a:pt x="1030" y="28"/>
                    </a:lnTo>
                    <a:lnTo>
                      <a:pt x="1037" y="26"/>
                    </a:lnTo>
                    <a:lnTo>
                      <a:pt x="1044" y="24"/>
                    </a:lnTo>
                    <a:lnTo>
                      <a:pt x="1052" y="23"/>
                    </a:lnTo>
                    <a:lnTo>
                      <a:pt x="1061" y="21"/>
                    </a:lnTo>
                    <a:lnTo>
                      <a:pt x="1071" y="20"/>
                    </a:lnTo>
                    <a:lnTo>
                      <a:pt x="1079" y="18"/>
                    </a:lnTo>
                    <a:lnTo>
                      <a:pt x="1094" y="8"/>
                    </a:lnTo>
                    <a:lnTo>
                      <a:pt x="1106" y="3"/>
                    </a:lnTo>
                    <a:lnTo>
                      <a:pt x="1116" y="0"/>
                    </a:lnTo>
                    <a:lnTo>
                      <a:pt x="1126" y="2"/>
                    </a:lnTo>
                    <a:lnTo>
                      <a:pt x="1138" y="5"/>
                    </a:lnTo>
                    <a:lnTo>
                      <a:pt x="1150" y="8"/>
                    </a:lnTo>
                    <a:lnTo>
                      <a:pt x="1165" y="11"/>
                    </a:lnTo>
                    <a:lnTo>
                      <a:pt x="1182" y="13"/>
                    </a:lnTo>
                    <a:lnTo>
                      <a:pt x="1190" y="16"/>
                    </a:lnTo>
                    <a:lnTo>
                      <a:pt x="1195" y="21"/>
                    </a:lnTo>
                    <a:lnTo>
                      <a:pt x="1202" y="26"/>
                    </a:lnTo>
                    <a:lnTo>
                      <a:pt x="1205" y="31"/>
                    </a:lnTo>
                    <a:lnTo>
                      <a:pt x="1210" y="41"/>
                    </a:lnTo>
                    <a:lnTo>
                      <a:pt x="1214" y="50"/>
                    </a:lnTo>
                    <a:lnTo>
                      <a:pt x="1216" y="62"/>
                    </a:lnTo>
                    <a:lnTo>
                      <a:pt x="1217" y="71"/>
                    </a:lnTo>
                    <a:lnTo>
                      <a:pt x="1219" y="79"/>
                    </a:lnTo>
                    <a:lnTo>
                      <a:pt x="1224" y="88"/>
                    </a:lnTo>
                    <a:lnTo>
                      <a:pt x="1236" y="86"/>
                    </a:lnTo>
                    <a:lnTo>
                      <a:pt x="1246" y="86"/>
                    </a:lnTo>
                    <a:lnTo>
                      <a:pt x="1253" y="84"/>
                    </a:lnTo>
                    <a:lnTo>
                      <a:pt x="1259" y="83"/>
                    </a:lnTo>
                    <a:lnTo>
                      <a:pt x="1266" y="78"/>
                    </a:lnTo>
                    <a:lnTo>
                      <a:pt x="1273" y="71"/>
                    </a:lnTo>
                    <a:lnTo>
                      <a:pt x="1280" y="63"/>
                    </a:lnTo>
                    <a:lnTo>
                      <a:pt x="1290" y="50"/>
                    </a:lnTo>
                    <a:lnTo>
                      <a:pt x="1300" y="47"/>
                    </a:lnTo>
                    <a:lnTo>
                      <a:pt x="1312" y="47"/>
                    </a:lnTo>
                    <a:lnTo>
                      <a:pt x="1323" y="49"/>
                    </a:lnTo>
                    <a:lnTo>
                      <a:pt x="1335" y="52"/>
                    </a:lnTo>
                    <a:lnTo>
                      <a:pt x="1349" y="55"/>
                    </a:lnTo>
                    <a:lnTo>
                      <a:pt x="1364" y="58"/>
                    </a:lnTo>
                    <a:lnTo>
                      <a:pt x="1377" y="62"/>
                    </a:lnTo>
                    <a:lnTo>
                      <a:pt x="1392" y="63"/>
                    </a:lnTo>
                    <a:lnTo>
                      <a:pt x="1413" y="68"/>
                    </a:lnTo>
                    <a:lnTo>
                      <a:pt x="1433" y="75"/>
                    </a:lnTo>
                    <a:lnTo>
                      <a:pt x="1453" y="83"/>
                    </a:lnTo>
                    <a:lnTo>
                      <a:pt x="1473" y="94"/>
                    </a:lnTo>
                    <a:lnTo>
                      <a:pt x="1515" y="117"/>
                    </a:lnTo>
                    <a:lnTo>
                      <a:pt x="1557" y="143"/>
                    </a:lnTo>
                    <a:lnTo>
                      <a:pt x="1579" y="154"/>
                    </a:lnTo>
                    <a:lnTo>
                      <a:pt x="1601" y="164"/>
                    </a:lnTo>
                    <a:lnTo>
                      <a:pt x="1623" y="173"/>
                    </a:lnTo>
                    <a:lnTo>
                      <a:pt x="1643" y="180"/>
                    </a:lnTo>
                    <a:lnTo>
                      <a:pt x="1663" y="185"/>
                    </a:lnTo>
                    <a:lnTo>
                      <a:pt x="1685" y="186"/>
                    </a:lnTo>
                    <a:lnTo>
                      <a:pt x="1695" y="186"/>
                    </a:lnTo>
                    <a:lnTo>
                      <a:pt x="1706" y="186"/>
                    </a:lnTo>
                    <a:lnTo>
                      <a:pt x="1714" y="183"/>
                    </a:lnTo>
                    <a:lnTo>
                      <a:pt x="1724" y="181"/>
                    </a:lnTo>
                    <a:lnTo>
                      <a:pt x="1734" y="183"/>
                    </a:lnTo>
                    <a:lnTo>
                      <a:pt x="1743" y="185"/>
                    </a:lnTo>
                    <a:lnTo>
                      <a:pt x="1749" y="186"/>
                    </a:lnTo>
                    <a:lnTo>
                      <a:pt x="1758" y="188"/>
                    </a:lnTo>
                    <a:lnTo>
                      <a:pt x="1766" y="188"/>
                    </a:lnTo>
                    <a:lnTo>
                      <a:pt x="1775" y="188"/>
                    </a:lnTo>
                    <a:lnTo>
                      <a:pt x="1785" y="188"/>
                    </a:lnTo>
                    <a:lnTo>
                      <a:pt x="1796" y="186"/>
                    </a:lnTo>
                    <a:lnTo>
                      <a:pt x="1798" y="194"/>
                    </a:lnTo>
                    <a:lnTo>
                      <a:pt x="1800" y="201"/>
                    </a:lnTo>
                    <a:lnTo>
                      <a:pt x="1803" y="206"/>
                    </a:lnTo>
                    <a:lnTo>
                      <a:pt x="1807" y="212"/>
                    </a:lnTo>
                    <a:lnTo>
                      <a:pt x="1808" y="217"/>
                    </a:lnTo>
                    <a:lnTo>
                      <a:pt x="1812" y="224"/>
                    </a:lnTo>
                    <a:lnTo>
                      <a:pt x="1813" y="230"/>
                    </a:lnTo>
                    <a:lnTo>
                      <a:pt x="1817" y="237"/>
                    </a:lnTo>
                    <a:lnTo>
                      <a:pt x="1807" y="251"/>
                    </a:lnTo>
                    <a:lnTo>
                      <a:pt x="1798" y="267"/>
                    </a:lnTo>
                    <a:lnTo>
                      <a:pt x="1790" y="279"/>
                    </a:lnTo>
                    <a:lnTo>
                      <a:pt x="1780" y="287"/>
                    </a:lnTo>
                    <a:lnTo>
                      <a:pt x="1771" y="293"/>
                    </a:lnTo>
                    <a:lnTo>
                      <a:pt x="1763" y="300"/>
                    </a:lnTo>
                    <a:lnTo>
                      <a:pt x="1756" y="306"/>
                    </a:lnTo>
                    <a:lnTo>
                      <a:pt x="1754" y="311"/>
                    </a:lnTo>
                    <a:lnTo>
                      <a:pt x="1753" y="318"/>
                    </a:lnTo>
                    <a:lnTo>
                      <a:pt x="1753" y="324"/>
                    </a:lnTo>
                    <a:lnTo>
                      <a:pt x="1753" y="332"/>
                    </a:lnTo>
                    <a:lnTo>
                      <a:pt x="1756" y="340"/>
                    </a:lnTo>
                    <a:lnTo>
                      <a:pt x="1758" y="348"/>
                    </a:lnTo>
                    <a:lnTo>
                      <a:pt x="1758" y="358"/>
                    </a:lnTo>
                    <a:lnTo>
                      <a:pt x="1758" y="366"/>
                    </a:lnTo>
                    <a:lnTo>
                      <a:pt x="1756" y="376"/>
                    </a:lnTo>
                    <a:lnTo>
                      <a:pt x="1754" y="384"/>
                    </a:lnTo>
                    <a:lnTo>
                      <a:pt x="1754" y="392"/>
                    </a:lnTo>
                    <a:lnTo>
                      <a:pt x="1753" y="398"/>
                    </a:lnTo>
                    <a:lnTo>
                      <a:pt x="1756" y="400"/>
                    </a:lnTo>
                    <a:lnTo>
                      <a:pt x="1758" y="403"/>
                    </a:lnTo>
                    <a:lnTo>
                      <a:pt x="1761" y="405"/>
                    </a:lnTo>
                    <a:lnTo>
                      <a:pt x="1763" y="407"/>
                    </a:lnTo>
                    <a:lnTo>
                      <a:pt x="1766" y="410"/>
                    </a:lnTo>
                    <a:lnTo>
                      <a:pt x="1768" y="411"/>
                    </a:lnTo>
                    <a:lnTo>
                      <a:pt x="1771" y="413"/>
                    </a:lnTo>
                    <a:lnTo>
                      <a:pt x="1773" y="415"/>
                    </a:lnTo>
                    <a:lnTo>
                      <a:pt x="1773" y="423"/>
                    </a:lnTo>
                    <a:lnTo>
                      <a:pt x="1770" y="429"/>
                    </a:lnTo>
                    <a:lnTo>
                      <a:pt x="1766" y="436"/>
                    </a:lnTo>
                    <a:lnTo>
                      <a:pt x="1759" y="442"/>
                    </a:lnTo>
                    <a:lnTo>
                      <a:pt x="1748" y="455"/>
                    </a:lnTo>
                    <a:lnTo>
                      <a:pt x="1734" y="467"/>
                    </a:lnTo>
                    <a:lnTo>
                      <a:pt x="1721" y="479"/>
                    </a:lnTo>
                    <a:lnTo>
                      <a:pt x="1712" y="492"/>
                    </a:lnTo>
                    <a:lnTo>
                      <a:pt x="1711" y="499"/>
                    </a:lnTo>
                    <a:lnTo>
                      <a:pt x="1711" y="505"/>
                    </a:lnTo>
                    <a:lnTo>
                      <a:pt x="1712" y="513"/>
                    </a:lnTo>
                    <a:lnTo>
                      <a:pt x="1716" y="520"/>
                    </a:lnTo>
                    <a:lnTo>
                      <a:pt x="1719" y="543"/>
                    </a:lnTo>
                    <a:lnTo>
                      <a:pt x="1717" y="569"/>
                    </a:lnTo>
                    <a:lnTo>
                      <a:pt x="1716" y="581"/>
                    </a:lnTo>
                    <a:lnTo>
                      <a:pt x="1714" y="594"/>
                    </a:lnTo>
                    <a:lnTo>
                      <a:pt x="1711" y="606"/>
                    </a:lnTo>
                    <a:lnTo>
                      <a:pt x="1706" y="619"/>
                    </a:lnTo>
                    <a:lnTo>
                      <a:pt x="1701" y="628"/>
                    </a:lnTo>
                    <a:lnTo>
                      <a:pt x="1694" y="638"/>
                    </a:lnTo>
                    <a:lnTo>
                      <a:pt x="1687" y="646"/>
                    </a:lnTo>
                    <a:lnTo>
                      <a:pt x="1679" y="651"/>
                    </a:lnTo>
                    <a:lnTo>
                      <a:pt x="1670" y="654"/>
                    </a:lnTo>
                    <a:lnTo>
                      <a:pt x="1660" y="654"/>
                    </a:lnTo>
                    <a:lnTo>
                      <a:pt x="1648" y="653"/>
                    </a:lnTo>
                    <a:lnTo>
                      <a:pt x="1637" y="646"/>
                    </a:lnTo>
                    <a:lnTo>
                      <a:pt x="1625" y="646"/>
                    </a:lnTo>
                    <a:lnTo>
                      <a:pt x="1613" y="646"/>
                    </a:lnTo>
                    <a:lnTo>
                      <a:pt x="1601" y="646"/>
                    </a:lnTo>
                    <a:lnTo>
                      <a:pt x="1591" y="645"/>
                    </a:lnTo>
                    <a:lnTo>
                      <a:pt x="1579" y="645"/>
                    </a:lnTo>
                    <a:lnTo>
                      <a:pt x="1567" y="645"/>
                    </a:lnTo>
                    <a:lnTo>
                      <a:pt x="1557" y="645"/>
                    </a:lnTo>
                    <a:lnTo>
                      <a:pt x="1546" y="643"/>
                    </a:lnTo>
                    <a:lnTo>
                      <a:pt x="1546" y="635"/>
                    </a:lnTo>
                    <a:lnTo>
                      <a:pt x="1544" y="627"/>
                    </a:lnTo>
                    <a:lnTo>
                      <a:pt x="1541" y="622"/>
                    </a:lnTo>
                    <a:lnTo>
                      <a:pt x="1537" y="617"/>
                    </a:lnTo>
                    <a:lnTo>
                      <a:pt x="1532" y="614"/>
                    </a:lnTo>
                    <a:lnTo>
                      <a:pt x="1527" y="612"/>
                    </a:lnTo>
                    <a:lnTo>
                      <a:pt x="1520" y="612"/>
                    </a:lnTo>
                    <a:lnTo>
                      <a:pt x="1514" y="612"/>
                    </a:lnTo>
                    <a:lnTo>
                      <a:pt x="1500" y="616"/>
                    </a:lnTo>
                    <a:lnTo>
                      <a:pt x="1487" y="620"/>
                    </a:lnTo>
                    <a:lnTo>
                      <a:pt x="1473" y="627"/>
                    </a:lnTo>
                    <a:lnTo>
                      <a:pt x="1463" y="632"/>
                    </a:lnTo>
                    <a:lnTo>
                      <a:pt x="1445" y="630"/>
                    </a:lnTo>
                    <a:lnTo>
                      <a:pt x="1426" y="633"/>
                    </a:lnTo>
                    <a:lnTo>
                      <a:pt x="1407" y="637"/>
                    </a:lnTo>
                    <a:lnTo>
                      <a:pt x="1389" y="640"/>
                    </a:lnTo>
                    <a:lnTo>
                      <a:pt x="1370" y="645"/>
                    </a:lnTo>
                    <a:lnTo>
                      <a:pt x="1352" y="648"/>
                    </a:lnTo>
                    <a:lnTo>
                      <a:pt x="1333" y="648"/>
                    </a:lnTo>
                    <a:lnTo>
                      <a:pt x="1317" y="648"/>
                    </a:lnTo>
                    <a:lnTo>
                      <a:pt x="1308" y="656"/>
                    </a:lnTo>
                    <a:lnTo>
                      <a:pt x="1300" y="666"/>
                    </a:lnTo>
                    <a:lnTo>
                      <a:pt x="1293" y="672"/>
                    </a:lnTo>
                    <a:lnTo>
                      <a:pt x="1288" y="680"/>
                    </a:lnTo>
                    <a:lnTo>
                      <a:pt x="1281" y="685"/>
                    </a:lnTo>
                    <a:lnTo>
                      <a:pt x="1274" y="690"/>
                    </a:lnTo>
                    <a:lnTo>
                      <a:pt x="1268" y="693"/>
                    </a:lnTo>
                    <a:lnTo>
                      <a:pt x="1261" y="695"/>
                    </a:lnTo>
                    <a:lnTo>
                      <a:pt x="1254" y="708"/>
                    </a:lnTo>
                    <a:lnTo>
                      <a:pt x="1248" y="721"/>
                    </a:lnTo>
                    <a:lnTo>
                      <a:pt x="1244" y="734"/>
                    </a:lnTo>
                    <a:lnTo>
                      <a:pt x="1239" y="747"/>
                    </a:lnTo>
                    <a:lnTo>
                      <a:pt x="1234" y="774"/>
                    </a:lnTo>
                    <a:lnTo>
                      <a:pt x="1227" y="802"/>
                    </a:lnTo>
                    <a:lnTo>
                      <a:pt x="1224" y="815"/>
                    </a:lnTo>
                    <a:lnTo>
                      <a:pt x="1221" y="828"/>
                    </a:lnTo>
                    <a:lnTo>
                      <a:pt x="1216" y="839"/>
                    </a:lnTo>
                    <a:lnTo>
                      <a:pt x="1209" y="849"/>
                    </a:lnTo>
                    <a:lnTo>
                      <a:pt x="1202" y="857"/>
                    </a:lnTo>
                    <a:lnTo>
                      <a:pt x="1192" y="863"/>
                    </a:lnTo>
                    <a:lnTo>
                      <a:pt x="1180" y="870"/>
                    </a:lnTo>
                    <a:lnTo>
                      <a:pt x="1167" y="873"/>
                    </a:lnTo>
                    <a:lnTo>
                      <a:pt x="1160" y="875"/>
                    </a:lnTo>
                    <a:lnTo>
                      <a:pt x="1153" y="879"/>
                    </a:lnTo>
                    <a:lnTo>
                      <a:pt x="1146" y="884"/>
                    </a:lnTo>
                    <a:lnTo>
                      <a:pt x="1141" y="889"/>
                    </a:lnTo>
                    <a:lnTo>
                      <a:pt x="1136" y="894"/>
                    </a:lnTo>
                    <a:lnTo>
                      <a:pt x="1131" y="897"/>
                    </a:lnTo>
                    <a:lnTo>
                      <a:pt x="1128" y="902"/>
                    </a:lnTo>
                    <a:lnTo>
                      <a:pt x="1126" y="904"/>
                    </a:lnTo>
                    <a:lnTo>
                      <a:pt x="1116" y="905"/>
                    </a:lnTo>
                    <a:lnTo>
                      <a:pt x="1108" y="907"/>
                    </a:lnTo>
                    <a:lnTo>
                      <a:pt x="1101" y="910"/>
                    </a:lnTo>
                    <a:lnTo>
                      <a:pt x="1094" y="913"/>
                    </a:lnTo>
                    <a:lnTo>
                      <a:pt x="1082" y="923"/>
                    </a:lnTo>
                    <a:lnTo>
                      <a:pt x="1072" y="931"/>
                    </a:lnTo>
                    <a:lnTo>
                      <a:pt x="1064" y="938"/>
                    </a:lnTo>
                    <a:lnTo>
                      <a:pt x="1054" y="941"/>
                    </a:lnTo>
                    <a:lnTo>
                      <a:pt x="1049" y="941"/>
                    </a:lnTo>
                    <a:lnTo>
                      <a:pt x="1042" y="939"/>
                    </a:lnTo>
                    <a:lnTo>
                      <a:pt x="1034" y="936"/>
                    </a:lnTo>
                    <a:lnTo>
                      <a:pt x="1025" y="931"/>
                    </a:lnTo>
                    <a:lnTo>
                      <a:pt x="1020" y="935"/>
                    </a:lnTo>
                    <a:lnTo>
                      <a:pt x="1015" y="939"/>
                    </a:lnTo>
                    <a:lnTo>
                      <a:pt x="1010" y="943"/>
                    </a:lnTo>
                    <a:lnTo>
                      <a:pt x="1007" y="944"/>
                    </a:lnTo>
                    <a:lnTo>
                      <a:pt x="1002" y="948"/>
                    </a:lnTo>
                    <a:lnTo>
                      <a:pt x="998" y="951"/>
                    </a:lnTo>
                    <a:lnTo>
                      <a:pt x="995" y="954"/>
                    </a:lnTo>
                    <a:lnTo>
                      <a:pt x="992" y="957"/>
                    </a:lnTo>
                    <a:lnTo>
                      <a:pt x="983" y="949"/>
                    </a:lnTo>
                    <a:lnTo>
                      <a:pt x="975" y="939"/>
                    </a:lnTo>
                    <a:lnTo>
                      <a:pt x="968" y="930"/>
                    </a:lnTo>
                    <a:lnTo>
                      <a:pt x="961" y="918"/>
                    </a:lnTo>
                    <a:lnTo>
                      <a:pt x="953" y="896"/>
                    </a:lnTo>
                    <a:lnTo>
                      <a:pt x="944" y="873"/>
                    </a:lnTo>
                    <a:lnTo>
                      <a:pt x="938" y="849"/>
                    </a:lnTo>
                    <a:lnTo>
                      <a:pt x="929" y="828"/>
                    </a:lnTo>
                    <a:lnTo>
                      <a:pt x="923" y="816"/>
                    </a:lnTo>
                    <a:lnTo>
                      <a:pt x="917" y="807"/>
                    </a:lnTo>
                    <a:lnTo>
                      <a:pt x="909" y="799"/>
                    </a:lnTo>
                    <a:lnTo>
                      <a:pt x="899" y="790"/>
                    </a:lnTo>
                    <a:lnTo>
                      <a:pt x="889" y="789"/>
                    </a:lnTo>
                    <a:lnTo>
                      <a:pt x="879" y="786"/>
                    </a:lnTo>
                    <a:lnTo>
                      <a:pt x="869" y="782"/>
                    </a:lnTo>
                    <a:lnTo>
                      <a:pt x="860" y="779"/>
                    </a:lnTo>
                    <a:lnTo>
                      <a:pt x="852" y="776"/>
                    </a:lnTo>
                    <a:lnTo>
                      <a:pt x="845" y="771"/>
                    </a:lnTo>
                    <a:lnTo>
                      <a:pt x="840" y="768"/>
                    </a:lnTo>
                    <a:lnTo>
                      <a:pt x="835" y="763"/>
                    </a:lnTo>
                    <a:lnTo>
                      <a:pt x="830" y="764"/>
                    </a:lnTo>
                    <a:lnTo>
                      <a:pt x="821" y="764"/>
                    </a:lnTo>
                    <a:lnTo>
                      <a:pt x="813" y="761"/>
                    </a:lnTo>
                    <a:lnTo>
                      <a:pt x="801" y="756"/>
                    </a:lnTo>
                    <a:lnTo>
                      <a:pt x="776" y="742"/>
                    </a:lnTo>
                    <a:lnTo>
                      <a:pt x="746" y="722"/>
                    </a:lnTo>
                    <a:lnTo>
                      <a:pt x="717" y="703"/>
                    </a:lnTo>
                    <a:lnTo>
                      <a:pt x="690" y="685"/>
                    </a:lnTo>
                    <a:lnTo>
                      <a:pt x="667" y="672"/>
                    </a:lnTo>
                    <a:lnTo>
                      <a:pt x="650" y="666"/>
                    </a:lnTo>
                    <a:lnTo>
                      <a:pt x="650" y="669"/>
                    </a:lnTo>
                    <a:lnTo>
                      <a:pt x="648" y="672"/>
                    </a:lnTo>
                    <a:lnTo>
                      <a:pt x="646" y="677"/>
                    </a:lnTo>
                    <a:lnTo>
                      <a:pt x="645" y="680"/>
                    </a:lnTo>
                    <a:lnTo>
                      <a:pt x="643" y="684"/>
                    </a:lnTo>
                    <a:lnTo>
                      <a:pt x="643" y="687"/>
                    </a:lnTo>
                    <a:lnTo>
                      <a:pt x="641" y="692"/>
                    </a:lnTo>
                    <a:lnTo>
                      <a:pt x="640" y="695"/>
                    </a:lnTo>
                    <a:lnTo>
                      <a:pt x="633" y="696"/>
                    </a:lnTo>
                    <a:lnTo>
                      <a:pt x="626" y="700"/>
                    </a:lnTo>
                    <a:lnTo>
                      <a:pt x="621" y="701"/>
                    </a:lnTo>
                    <a:lnTo>
                      <a:pt x="616" y="705"/>
                    </a:lnTo>
                    <a:lnTo>
                      <a:pt x="613" y="708"/>
                    </a:lnTo>
                    <a:lnTo>
                      <a:pt x="609" y="709"/>
                    </a:lnTo>
                    <a:lnTo>
                      <a:pt x="606" y="713"/>
                    </a:lnTo>
                    <a:lnTo>
                      <a:pt x="604" y="716"/>
                    </a:lnTo>
                    <a:lnTo>
                      <a:pt x="589" y="719"/>
                    </a:lnTo>
                    <a:lnTo>
                      <a:pt x="576" y="721"/>
                    </a:lnTo>
                    <a:lnTo>
                      <a:pt x="562" y="722"/>
                    </a:lnTo>
                    <a:lnTo>
                      <a:pt x="550" y="724"/>
                    </a:lnTo>
                    <a:lnTo>
                      <a:pt x="539" y="726"/>
                    </a:lnTo>
                    <a:lnTo>
                      <a:pt x="527" y="727"/>
                    </a:lnTo>
                    <a:lnTo>
                      <a:pt x="515" y="729"/>
                    </a:lnTo>
                    <a:lnTo>
                      <a:pt x="505" y="732"/>
                    </a:lnTo>
                    <a:lnTo>
                      <a:pt x="503" y="730"/>
                    </a:lnTo>
                    <a:lnTo>
                      <a:pt x="502" y="729"/>
                    </a:lnTo>
                    <a:lnTo>
                      <a:pt x="502" y="727"/>
                    </a:lnTo>
                    <a:lnTo>
                      <a:pt x="500" y="726"/>
                    </a:lnTo>
                    <a:lnTo>
                      <a:pt x="498" y="724"/>
                    </a:lnTo>
                    <a:lnTo>
                      <a:pt x="498" y="722"/>
                    </a:lnTo>
                    <a:lnTo>
                      <a:pt x="496" y="722"/>
                    </a:lnTo>
                    <a:lnTo>
                      <a:pt x="495" y="721"/>
                    </a:lnTo>
                    <a:lnTo>
                      <a:pt x="485" y="721"/>
                    </a:lnTo>
                    <a:lnTo>
                      <a:pt x="475" y="719"/>
                    </a:lnTo>
                    <a:lnTo>
                      <a:pt x="466" y="719"/>
                    </a:lnTo>
                    <a:lnTo>
                      <a:pt x="458" y="719"/>
                    </a:lnTo>
                    <a:lnTo>
                      <a:pt x="451" y="718"/>
                    </a:lnTo>
                    <a:lnTo>
                      <a:pt x="443" y="718"/>
                    </a:lnTo>
                    <a:lnTo>
                      <a:pt x="436" y="716"/>
                    </a:lnTo>
                    <a:lnTo>
                      <a:pt x="429" y="714"/>
                    </a:lnTo>
                    <a:lnTo>
                      <a:pt x="419" y="718"/>
                    </a:lnTo>
                    <a:lnTo>
                      <a:pt x="407" y="718"/>
                    </a:lnTo>
                    <a:lnTo>
                      <a:pt x="394" y="716"/>
                    </a:lnTo>
                    <a:lnTo>
                      <a:pt x="380" y="713"/>
                    </a:lnTo>
                    <a:lnTo>
                      <a:pt x="347" y="701"/>
                    </a:lnTo>
                    <a:lnTo>
                      <a:pt x="313" y="687"/>
                    </a:lnTo>
                    <a:lnTo>
                      <a:pt x="278" y="671"/>
                    </a:lnTo>
                    <a:lnTo>
                      <a:pt x="246" y="654"/>
                    </a:lnTo>
                    <a:lnTo>
                      <a:pt x="219" y="643"/>
                    </a:lnTo>
                    <a:lnTo>
                      <a:pt x="198" y="637"/>
                    </a:lnTo>
                    <a:lnTo>
                      <a:pt x="197" y="630"/>
                    </a:lnTo>
                    <a:lnTo>
                      <a:pt x="193" y="625"/>
                    </a:lnTo>
                    <a:lnTo>
                      <a:pt x="190" y="620"/>
                    </a:lnTo>
                    <a:lnTo>
                      <a:pt x="187" y="617"/>
                    </a:lnTo>
                    <a:lnTo>
                      <a:pt x="183" y="614"/>
                    </a:lnTo>
                    <a:lnTo>
                      <a:pt x="178" y="611"/>
                    </a:lnTo>
                    <a:lnTo>
                      <a:pt x="175" y="609"/>
                    </a:lnTo>
                    <a:lnTo>
                      <a:pt x="170" y="606"/>
                    </a:lnTo>
                    <a:lnTo>
                      <a:pt x="161" y="617"/>
                    </a:lnTo>
                    <a:lnTo>
                      <a:pt x="153" y="624"/>
                    </a:lnTo>
                    <a:lnTo>
                      <a:pt x="146" y="628"/>
                    </a:lnTo>
                    <a:lnTo>
                      <a:pt x="141" y="630"/>
                    </a:lnTo>
                    <a:lnTo>
                      <a:pt x="134" y="628"/>
                    </a:lnTo>
                    <a:lnTo>
                      <a:pt x="128" y="624"/>
                    </a:lnTo>
                    <a:lnTo>
                      <a:pt x="121" y="616"/>
                    </a:lnTo>
                    <a:lnTo>
                      <a:pt x="114" y="606"/>
                    </a:lnTo>
                    <a:lnTo>
                      <a:pt x="99" y="606"/>
                    </a:lnTo>
                    <a:lnTo>
                      <a:pt x="84" y="607"/>
                    </a:lnTo>
                    <a:lnTo>
                      <a:pt x="69" y="607"/>
                    </a:lnTo>
                    <a:lnTo>
                      <a:pt x="54" y="607"/>
                    </a:lnTo>
                    <a:lnTo>
                      <a:pt x="40" y="606"/>
                    </a:lnTo>
                    <a:lnTo>
                      <a:pt x="27" y="606"/>
                    </a:lnTo>
                    <a:lnTo>
                      <a:pt x="13" y="606"/>
                    </a:lnTo>
                    <a:lnTo>
                      <a:pt x="0" y="60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5280" y="3770640"/>
                <a:ext cx="1826280" cy="851400"/>
              </a:xfrm>
              <a:custGeom>
                <a:avLst/>
                <a:gdLst/>
                <a:ahLst/>
                <a:rect l="l" t="t" r="r" b="b"/>
                <a:pathLst>
                  <a:path w="1184" h="552">
                    <a:moveTo>
                      <a:pt x="1015" y="171"/>
                    </a:moveTo>
                    <a:lnTo>
                      <a:pt x="966" y="213"/>
                    </a:lnTo>
                    <a:lnTo>
                      <a:pt x="956" y="210"/>
                    </a:lnTo>
                    <a:lnTo>
                      <a:pt x="946" y="207"/>
                    </a:lnTo>
                    <a:lnTo>
                      <a:pt x="938" y="205"/>
                    </a:lnTo>
                    <a:lnTo>
                      <a:pt x="928" y="204"/>
                    </a:lnTo>
                    <a:lnTo>
                      <a:pt x="919" y="204"/>
                    </a:lnTo>
                    <a:lnTo>
                      <a:pt x="911" y="202"/>
                    </a:lnTo>
                    <a:lnTo>
                      <a:pt x="901" y="202"/>
                    </a:lnTo>
                    <a:lnTo>
                      <a:pt x="892" y="202"/>
                    </a:lnTo>
                    <a:lnTo>
                      <a:pt x="886" y="209"/>
                    </a:lnTo>
                    <a:lnTo>
                      <a:pt x="879" y="213"/>
                    </a:lnTo>
                    <a:lnTo>
                      <a:pt x="874" y="217"/>
                    </a:lnTo>
                    <a:lnTo>
                      <a:pt x="867" y="218"/>
                    </a:lnTo>
                    <a:lnTo>
                      <a:pt x="862" y="218"/>
                    </a:lnTo>
                    <a:lnTo>
                      <a:pt x="857" y="218"/>
                    </a:lnTo>
                    <a:lnTo>
                      <a:pt x="854" y="218"/>
                    </a:lnTo>
                    <a:lnTo>
                      <a:pt x="848" y="220"/>
                    </a:lnTo>
                    <a:lnTo>
                      <a:pt x="850" y="239"/>
                    </a:lnTo>
                    <a:lnTo>
                      <a:pt x="854" y="259"/>
                    </a:lnTo>
                    <a:lnTo>
                      <a:pt x="860" y="275"/>
                    </a:lnTo>
                    <a:lnTo>
                      <a:pt x="867" y="291"/>
                    </a:lnTo>
                    <a:lnTo>
                      <a:pt x="874" y="307"/>
                    </a:lnTo>
                    <a:lnTo>
                      <a:pt x="880" y="324"/>
                    </a:lnTo>
                    <a:lnTo>
                      <a:pt x="886" y="340"/>
                    </a:lnTo>
                    <a:lnTo>
                      <a:pt x="889" y="356"/>
                    </a:lnTo>
                    <a:lnTo>
                      <a:pt x="884" y="366"/>
                    </a:lnTo>
                    <a:lnTo>
                      <a:pt x="879" y="375"/>
                    </a:lnTo>
                    <a:lnTo>
                      <a:pt x="872" y="385"/>
                    </a:lnTo>
                    <a:lnTo>
                      <a:pt x="867" y="395"/>
                    </a:lnTo>
                    <a:lnTo>
                      <a:pt x="862" y="403"/>
                    </a:lnTo>
                    <a:lnTo>
                      <a:pt x="857" y="411"/>
                    </a:lnTo>
                    <a:lnTo>
                      <a:pt x="852" y="419"/>
                    </a:lnTo>
                    <a:lnTo>
                      <a:pt x="850" y="426"/>
                    </a:lnTo>
                    <a:lnTo>
                      <a:pt x="835" y="426"/>
                    </a:lnTo>
                    <a:lnTo>
                      <a:pt x="823" y="422"/>
                    </a:lnTo>
                    <a:lnTo>
                      <a:pt x="813" y="422"/>
                    </a:lnTo>
                    <a:lnTo>
                      <a:pt x="805" y="424"/>
                    </a:lnTo>
                    <a:lnTo>
                      <a:pt x="796" y="426"/>
                    </a:lnTo>
                    <a:lnTo>
                      <a:pt x="790" y="430"/>
                    </a:lnTo>
                    <a:lnTo>
                      <a:pt x="783" y="435"/>
                    </a:lnTo>
                    <a:lnTo>
                      <a:pt x="776" y="440"/>
                    </a:lnTo>
                    <a:lnTo>
                      <a:pt x="771" y="447"/>
                    </a:lnTo>
                    <a:lnTo>
                      <a:pt x="768" y="453"/>
                    </a:lnTo>
                    <a:lnTo>
                      <a:pt x="764" y="461"/>
                    </a:lnTo>
                    <a:lnTo>
                      <a:pt x="763" y="469"/>
                    </a:lnTo>
                    <a:lnTo>
                      <a:pt x="761" y="477"/>
                    </a:lnTo>
                    <a:lnTo>
                      <a:pt x="761" y="486"/>
                    </a:lnTo>
                    <a:lnTo>
                      <a:pt x="763" y="494"/>
                    </a:lnTo>
                    <a:lnTo>
                      <a:pt x="764" y="500"/>
                    </a:lnTo>
                    <a:lnTo>
                      <a:pt x="766" y="508"/>
                    </a:lnTo>
                    <a:lnTo>
                      <a:pt x="766" y="508"/>
                    </a:lnTo>
                    <a:lnTo>
                      <a:pt x="766" y="510"/>
                    </a:lnTo>
                    <a:lnTo>
                      <a:pt x="764" y="510"/>
                    </a:lnTo>
                    <a:lnTo>
                      <a:pt x="764" y="511"/>
                    </a:lnTo>
                    <a:lnTo>
                      <a:pt x="764" y="511"/>
                    </a:lnTo>
                    <a:lnTo>
                      <a:pt x="764" y="513"/>
                    </a:lnTo>
                    <a:lnTo>
                      <a:pt x="763" y="513"/>
                    </a:lnTo>
                    <a:lnTo>
                      <a:pt x="763" y="515"/>
                    </a:lnTo>
                    <a:lnTo>
                      <a:pt x="758" y="515"/>
                    </a:lnTo>
                    <a:lnTo>
                      <a:pt x="751" y="515"/>
                    </a:lnTo>
                    <a:lnTo>
                      <a:pt x="746" y="515"/>
                    </a:lnTo>
                    <a:lnTo>
                      <a:pt x="741" y="516"/>
                    </a:lnTo>
                    <a:lnTo>
                      <a:pt x="736" y="516"/>
                    </a:lnTo>
                    <a:lnTo>
                      <a:pt x="731" y="516"/>
                    </a:lnTo>
                    <a:lnTo>
                      <a:pt x="724" y="516"/>
                    </a:lnTo>
                    <a:lnTo>
                      <a:pt x="719" y="518"/>
                    </a:lnTo>
                    <a:lnTo>
                      <a:pt x="714" y="526"/>
                    </a:lnTo>
                    <a:lnTo>
                      <a:pt x="707" y="532"/>
                    </a:lnTo>
                    <a:lnTo>
                      <a:pt x="702" y="539"/>
                    </a:lnTo>
                    <a:lnTo>
                      <a:pt x="695" y="544"/>
                    </a:lnTo>
                    <a:lnTo>
                      <a:pt x="680" y="549"/>
                    </a:lnTo>
                    <a:lnTo>
                      <a:pt x="665" y="552"/>
                    </a:lnTo>
                    <a:lnTo>
                      <a:pt x="650" y="552"/>
                    </a:lnTo>
                    <a:lnTo>
                      <a:pt x="633" y="552"/>
                    </a:lnTo>
                    <a:lnTo>
                      <a:pt x="614" y="552"/>
                    </a:lnTo>
                    <a:lnTo>
                      <a:pt x="594" y="552"/>
                    </a:lnTo>
                    <a:lnTo>
                      <a:pt x="596" y="547"/>
                    </a:lnTo>
                    <a:lnTo>
                      <a:pt x="599" y="542"/>
                    </a:lnTo>
                    <a:lnTo>
                      <a:pt x="601" y="539"/>
                    </a:lnTo>
                    <a:lnTo>
                      <a:pt x="604" y="534"/>
                    </a:lnTo>
                    <a:lnTo>
                      <a:pt x="608" y="529"/>
                    </a:lnTo>
                    <a:lnTo>
                      <a:pt x="609" y="526"/>
                    </a:lnTo>
                    <a:lnTo>
                      <a:pt x="613" y="521"/>
                    </a:lnTo>
                    <a:lnTo>
                      <a:pt x="614" y="515"/>
                    </a:lnTo>
                    <a:lnTo>
                      <a:pt x="603" y="507"/>
                    </a:lnTo>
                    <a:lnTo>
                      <a:pt x="591" y="500"/>
                    </a:lnTo>
                    <a:lnTo>
                      <a:pt x="577" y="495"/>
                    </a:lnTo>
                    <a:lnTo>
                      <a:pt x="562" y="490"/>
                    </a:lnTo>
                    <a:lnTo>
                      <a:pt x="532" y="486"/>
                    </a:lnTo>
                    <a:lnTo>
                      <a:pt x="500" y="482"/>
                    </a:lnTo>
                    <a:lnTo>
                      <a:pt x="485" y="479"/>
                    </a:lnTo>
                    <a:lnTo>
                      <a:pt x="470" y="477"/>
                    </a:lnTo>
                    <a:lnTo>
                      <a:pt x="456" y="473"/>
                    </a:lnTo>
                    <a:lnTo>
                      <a:pt x="443" y="468"/>
                    </a:lnTo>
                    <a:lnTo>
                      <a:pt x="433" y="461"/>
                    </a:lnTo>
                    <a:lnTo>
                      <a:pt x="422" y="453"/>
                    </a:lnTo>
                    <a:lnTo>
                      <a:pt x="416" y="442"/>
                    </a:lnTo>
                    <a:lnTo>
                      <a:pt x="411" y="429"/>
                    </a:lnTo>
                    <a:lnTo>
                      <a:pt x="377" y="417"/>
                    </a:lnTo>
                    <a:lnTo>
                      <a:pt x="345" y="408"/>
                    </a:lnTo>
                    <a:lnTo>
                      <a:pt x="311" y="398"/>
                    </a:lnTo>
                    <a:lnTo>
                      <a:pt x="278" y="388"/>
                    </a:lnTo>
                    <a:lnTo>
                      <a:pt x="246" y="380"/>
                    </a:lnTo>
                    <a:lnTo>
                      <a:pt x="212" y="372"/>
                    </a:lnTo>
                    <a:lnTo>
                      <a:pt x="178" y="362"/>
                    </a:lnTo>
                    <a:lnTo>
                      <a:pt x="145" y="354"/>
                    </a:lnTo>
                    <a:lnTo>
                      <a:pt x="138" y="356"/>
                    </a:lnTo>
                    <a:lnTo>
                      <a:pt x="131" y="358"/>
                    </a:lnTo>
                    <a:lnTo>
                      <a:pt x="126" y="358"/>
                    </a:lnTo>
                    <a:lnTo>
                      <a:pt x="121" y="356"/>
                    </a:lnTo>
                    <a:lnTo>
                      <a:pt x="118" y="356"/>
                    </a:lnTo>
                    <a:lnTo>
                      <a:pt x="114" y="354"/>
                    </a:lnTo>
                    <a:lnTo>
                      <a:pt x="111" y="353"/>
                    </a:lnTo>
                    <a:lnTo>
                      <a:pt x="108" y="353"/>
                    </a:lnTo>
                    <a:lnTo>
                      <a:pt x="108" y="351"/>
                    </a:lnTo>
                    <a:lnTo>
                      <a:pt x="106" y="349"/>
                    </a:lnTo>
                    <a:lnTo>
                      <a:pt x="106" y="346"/>
                    </a:lnTo>
                    <a:lnTo>
                      <a:pt x="106" y="345"/>
                    </a:lnTo>
                    <a:lnTo>
                      <a:pt x="106" y="343"/>
                    </a:lnTo>
                    <a:lnTo>
                      <a:pt x="104" y="340"/>
                    </a:lnTo>
                    <a:lnTo>
                      <a:pt x="104" y="338"/>
                    </a:lnTo>
                    <a:lnTo>
                      <a:pt x="104" y="337"/>
                    </a:lnTo>
                    <a:lnTo>
                      <a:pt x="94" y="338"/>
                    </a:lnTo>
                    <a:lnTo>
                      <a:pt x="84" y="338"/>
                    </a:lnTo>
                    <a:lnTo>
                      <a:pt x="74" y="337"/>
                    </a:lnTo>
                    <a:lnTo>
                      <a:pt x="64" y="333"/>
                    </a:lnTo>
                    <a:lnTo>
                      <a:pt x="55" y="330"/>
                    </a:lnTo>
                    <a:lnTo>
                      <a:pt x="47" y="325"/>
                    </a:lnTo>
                    <a:lnTo>
                      <a:pt x="38" y="319"/>
                    </a:lnTo>
                    <a:lnTo>
                      <a:pt x="30" y="312"/>
                    </a:lnTo>
                    <a:lnTo>
                      <a:pt x="18" y="298"/>
                    </a:lnTo>
                    <a:lnTo>
                      <a:pt x="8" y="280"/>
                    </a:lnTo>
                    <a:lnTo>
                      <a:pt x="3" y="270"/>
                    </a:lnTo>
                    <a:lnTo>
                      <a:pt x="1" y="262"/>
                    </a:lnTo>
                    <a:lnTo>
                      <a:pt x="0" y="252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3"/>
                    </a:lnTo>
                    <a:lnTo>
                      <a:pt x="0" y="241"/>
                    </a:lnTo>
                    <a:lnTo>
                      <a:pt x="1" y="241"/>
                    </a:lnTo>
                    <a:lnTo>
                      <a:pt x="1" y="241"/>
                    </a:lnTo>
                    <a:lnTo>
                      <a:pt x="3" y="241"/>
                    </a:lnTo>
                    <a:lnTo>
                      <a:pt x="3" y="239"/>
                    </a:lnTo>
                    <a:lnTo>
                      <a:pt x="5" y="239"/>
                    </a:lnTo>
                    <a:lnTo>
                      <a:pt x="8" y="223"/>
                    </a:lnTo>
                    <a:lnTo>
                      <a:pt x="13" y="204"/>
                    </a:lnTo>
                    <a:lnTo>
                      <a:pt x="22" y="186"/>
                    </a:lnTo>
                    <a:lnTo>
                      <a:pt x="32" y="166"/>
                    </a:lnTo>
                    <a:lnTo>
                      <a:pt x="44" y="149"/>
                    </a:lnTo>
                    <a:lnTo>
                      <a:pt x="57" y="132"/>
                    </a:lnTo>
                    <a:lnTo>
                      <a:pt x="65" y="126"/>
                    </a:lnTo>
                    <a:lnTo>
                      <a:pt x="76" y="118"/>
                    </a:lnTo>
                    <a:lnTo>
                      <a:pt x="84" y="113"/>
                    </a:lnTo>
                    <a:lnTo>
                      <a:pt x="94" y="107"/>
                    </a:lnTo>
                    <a:lnTo>
                      <a:pt x="94" y="107"/>
                    </a:lnTo>
                    <a:lnTo>
                      <a:pt x="94" y="105"/>
                    </a:lnTo>
                    <a:lnTo>
                      <a:pt x="94" y="103"/>
                    </a:lnTo>
                    <a:lnTo>
                      <a:pt x="94" y="100"/>
                    </a:lnTo>
                    <a:lnTo>
                      <a:pt x="94" y="98"/>
                    </a:lnTo>
                    <a:lnTo>
                      <a:pt x="94" y="97"/>
                    </a:lnTo>
                    <a:lnTo>
                      <a:pt x="94" y="95"/>
                    </a:lnTo>
                    <a:lnTo>
                      <a:pt x="94" y="94"/>
                    </a:lnTo>
                    <a:lnTo>
                      <a:pt x="91" y="94"/>
                    </a:lnTo>
                    <a:lnTo>
                      <a:pt x="89" y="94"/>
                    </a:lnTo>
                    <a:lnTo>
                      <a:pt x="87" y="94"/>
                    </a:lnTo>
                    <a:lnTo>
                      <a:pt x="84" y="94"/>
                    </a:lnTo>
                    <a:lnTo>
                      <a:pt x="82" y="92"/>
                    </a:lnTo>
                    <a:lnTo>
                      <a:pt x="81" y="92"/>
                    </a:lnTo>
                    <a:lnTo>
                      <a:pt x="79" y="92"/>
                    </a:lnTo>
                    <a:lnTo>
                      <a:pt x="77" y="92"/>
                    </a:lnTo>
                    <a:lnTo>
                      <a:pt x="77" y="87"/>
                    </a:lnTo>
                    <a:lnTo>
                      <a:pt x="79" y="82"/>
                    </a:lnTo>
                    <a:lnTo>
                      <a:pt x="79" y="77"/>
                    </a:lnTo>
                    <a:lnTo>
                      <a:pt x="81" y="73"/>
                    </a:lnTo>
                    <a:lnTo>
                      <a:pt x="81" y="68"/>
                    </a:lnTo>
                    <a:lnTo>
                      <a:pt x="82" y="63"/>
                    </a:lnTo>
                    <a:lnTo>
                      <a:pt x="84" y="58"/>
                    </a:lnTo>
                    <a:lnTo>
                      <a:pt x="84" y="53"/>
                    </a:lnTo>
                    <a:lnTo>
                      <a:pt x="108" y="47"/>
                    </a:lnTo>
                    <a:lnTo>
                      <a:pt x="133" y="43"/>
                    </a:lnTo>
                    <a:lnTo>
                      <a:pt x="156" y="42"/>
                    </a:lnTo>
                    <a:lnTo>
                      <a:pt x="180" y="42"/>
                    </a:lnTo>
                    <a:lnTo>
                      <a:pt x="205" y="42"/>
                    </a:lnTo>
                    <a:lnTo>
                      <a:pt x="229" y="42"/>
                    </a:lnTo>
                    <a:lnTo>
                      <a:pt x="254" y="40"/>
                    </a:lnTo>
                    <a:lnTo>
                      <a:pt x="278" y="37"/>
                    </a:lnTo>
                    <a:lnTo>
                      <a:pt x="278" y="32"/>
                    </a:lnTo>
                    <a:lnTo>
                      <a:pt x="279" y="29"/>
                    </a:lnTo>
                    <a:lnTo>
                      <a:pt x="279" y="24"/>
                    </a:lnTo>
                    <a:lnTo>
                      <a:pt x="281" y="21"/>
                    </a:lnTo>
                    <a:lnTo>
                      <a:pt x="281" y="16"/>
                    </a:lnTo>
                    <a:lnTo>
                      <a:pt x="283" y="11"/>
                    </a:lnTo>
                    <a:lnTo>
                      <a:pt x="284" y="6"/>
                    </a:lnTo>
                    <a:lnTo>
                      <a:pt x="288" y="0"/>
                    </a:lnTo>
                    <a:lnTo>
                      <a:pt x="298" y="1"/>
                    </a:lnTo>
                    <a:lnTo>
                      <a:pt x="310" y="5"/>
                    </a:lnTo>
                    <a:lnTo>
                      <a:pt x="320" y="9"/>
                    </a:lnTo>
                    <a:lnTo>
                      <a:pt x="330" y="14"/>
                    </a:lnTo>
                    <a:lnTo>
                      <a:pt x="340" y="21"/>
                    </a:lnTo>
                    <a:lnTo>
                      <a:pt x="350" y="29"/>
                    </a:lnTo>
                    <a:lnTo>
                      <a:pt x="358" y="37"/>
                    </a:lnTo>
                    <a:lnTo>
                      <a:pt x="365" y="45"/>
                    </a:lnTo>
                    <a:lnTo>
                      <a:pt x="384" y="50"/>
                    </a:lnTo>
                    <a:lnTo>
                      <a:pt x="407" y="58"/>
                    </a:lnTo>
                    <a:lnTo>
                      <a:pt x="433" y="66"/>
                    </a:lnTo>
                    <a:lnTo>
                      <a:pt x="461" y="73"/>
                    </a:lnTo>
                    <a:lnTo>
                      <a:pt x="475" y="76"/>
                    </a:lnTo>
                    <a:lnTo>
                      <a:pt x="488" y="79"/>
                    </a:lnTo>
                    <a:lnTo>
                      <a:pt x="503" y="79"/>
                    </a:lnTo>
                    <a:lnTo>
                      <a:pt x="515" y="79"/>
                    </a:lnTo>
                    <a:lnTo>
                      <a:pt x="529" y="79"/>
                    </a:lnTo>
                    <a:lnTo>
                      <a:pt x="539" y="76"/>
                    </a:lnTo>
                    <a:lnTo>
                      <a:pt x="549" y="71"/>
                    </a:lnTo>
                    <a:lnTo>
                      <a:pt x="557" y="64"/>
                    </a:lnTo>
                    <a:lnTo>
                      <a:pt x="566" y="60"/>
                    </a:lnTo>
                    <a:lnTo>
                      <a:pt x="574" y="58"/>
                    </a:lnTo>
                    <a:lnTo>
                      <a:pt x="584" y="56"/>
                    </a:lnTo>
                    <a:lnTo>
                      <a:pt x="593" y="56"/>
                    </a:lnTo>
                    <a:lnTo>
                      <a:pt x="611" y="58"/>
                    </a:lnTo>
                    <a:lnTo>
                      <a:pt x="631" y="64"/>
                    </a:lnTo>
                    <a:lnTo>
                      <a:pt x="650" y="71"/>
                    </a:lnTo>
                    <a:lnTo>
                      <a:pt x="670" y="79"/>
                    </a:lnTo>
                    <a:lnTo>
                      <a:pt x="690" y="87"/>
                    </a:lnTo>
                    <a:lnTo>
                      <a:pt x="710" y="92"/>
                    </a:lnTo>
                    <a:lnTo>
                      <a:pt x="720" y="110"/>
                    </a:lnTo>
                    <a:lnTo>
                      <a:pt x="729" y="123"/>
                    </a:lnTo>
                    <a:lnTo>
                      <a:pt x="736" y="132"/>
                    </a:lnTo>
                    <a:lnTo>
                      <a:pt x="741" y="141"/>
                    </a:lnTo>
                    <a:lnTo>
                      <a:pt x="749" y="144"/>
                    </a:lnTo>
                    <a:lnTo>
                      <a:pt x="761" y="147"/>
                    </a:lnTo>
                    <a:lnTo>
                      <a:pt x="774" y="147"/>
                    </a:lnTo>
                    <a:lnTo>
                      <a:pt x="796" y="147"/>
                    </a:lnTo>
                    <a:lnTo>
                      <a:pt x="803" y="152"/>
                    </a:lnTo>
                    <a:lnTo>
                      <a:pt x="813" y="155"/>
                    </a:lnTo>
                    <a:lnTo>
                      <a:pt x="823" y="157"/>
                    </a:lnTo>
                    <a:lnTo>
                      <a:pt x="837" y="160"/>
                    </a:lnTo>
                    <a:lnTo>
                      <a:pt x="867" y="163"/>
                    </a:lnTo>
                    <a:lnTo>
                      <a:pt x="899" y="166"/>
                    </a:lnTo>
                    <a:lnTo>
                      <a:pt x="933" y="168"/>
                    </a:lnTo>
                    <a:lnTo>
                      <a:pt x="965" y="170"/>
                    </a:lnTo>
                    <a:lnTo>
                      <a:pt x="993" y="171"/>
                    </a:lnTo>
                    <a:lnTo>
                      <a:pt x="1015" y="171"/>
                    </a:lnTo>
                    <a:lnTo>
                      <a:pt x="1034" y="171"/>
                    </a:lnTo>
                    <a:lnTo>
                      <a:pt x="1049" y="170"/>
                    </a:lnTo>
                    <a:lnTo>
                      <a:pt x="1064" y="168"/>
                    </a:lnTo>
                    <a:lnTo>
                      <a:pt x="1076" y="165"/>
                    </a:lnTo>
                    <a:lnTo>
                      <a:pt x="1089" y="160"/>
                    </a:lnTo>
                    <a:lnTo>
                      <a:pt x="1101" y="154"/>
                    </a:lnTo>
                    <a:lnTo>
                      <a:pt x="1116" y="145"/>
                    </a:lnTo>
                    <a:lnTo>
                      <a:pt x="1131" y="134"/>
                    </a:lnTo>
                    <a:lnTo>
                      <a:pt x="1136" y="132"/>
                    </a:lnTo>
                    <a:lnTo>
                      <a:pt x="1141" y="132"/>
                    </a:lnTo>
                    <a:lnTo>
                      <a:pt x="1147" y="131"/>
                    </a:lnTo>
                    <a:lnTo>
                      <a:pt x="1153" y="131"/>
                    </a:lnTo>
                    <a:lnTo>
                      <a:pt x="1158" y="129"/>
                    </a:lnTo>
                    <a:lnTo>
                      <a:pt x="1165" y="128"/>
                    </a:lnTo>
                    <a:lnTo>
                      <a:pt x="1172" y="126"/>
                    </a:lnTo>
                    <a:lnTo>
                      <a:pt x="1177" y="123"/>
                    </a:lnTo>
                    <a:lnTo>
                      <a:pt x="1177" y="118"/>
                    </a:lnTo>
                    <a:lnTo>
                      <a:pt x="1179" y="113"/>
                    </a:lnTo>
                    <a:lnTo>
                      <a:pt x="1179" y="110"/>
                    </a:lnTo>
                    <a:lnTo>
                      <a:pt x="1179" y="105"/>
                    </a:lnTo>
                    <a:lnTo>
                      <a:pt x="1180" y="103"/>
                    </a:lnTo>
                    <a:lnTo>
                      <a:pt x="1182" y="100"/>
                    </a:lnTo>
                    <a:lnTo>
                      <a:pt x="1184" y="97"/>
                    </a:lnTo>
                    <a:lnTo>
                      <a:pt x="1184" y="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01120" y="3739680"/>
                <a:ext cx="536400" cy="277560"/>
              </a:xfrm>
              <a:custGeom>
                <a:avLst/>
                <a:gdLst/>
                <a:ahLst/>
                <a:rect l="l" t="t" r="r" b="b"/>
                <a:pathLst>
                  <a:path w="348" h="180">
                    <a:moveTo>
                      <a:pt x="0" y="180"/>
                    </a:moveTo>
                    <a:lnTo>
                      <a:pt x="1" y="167"/>
                    </a:lnTo>
                    <a:lnTo>
                      <a:pt x="6" y="154"/>
                    </a:lnTo>
                    <a:lnTo>
                      <a:pt x="12" y="140"/>
                    </a:lnTo>
                    <a:lnTo>
                      <a:pt x="18" y="125"/>
                    </a:lnTo>
                    <a:lnTo>
                      <a:pt x="23" y="110"/>
                    </a:lnTo>
                    <a:lnTo>
                      <a:pt x="30" y="94"/>
                    </a:lnTo>
                    <a:lnTo>
                      <a:pt x="33" y="78"/>
                    </a:lnTo>
                    <a:lnTo>
                      <a:pt x="35" y="60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8" y="59"/>
                    </a:lnTo>
                    <a:lnTo>
                      <a:pt x="27" y="57"/>
                    </a:lnTo>
                    <a:lnTo>
                      <a:pt x="23" y="57"/>
                    </a:lnTo>
                    <a:lnTo>
                      <a:pt x="22" y="57"/>
                    </a:lnTo>
                    <a:lnTo>
                      <a:pt x="20" y="55"/>
                    </a:lnTo>
                    <a:lnTo>
                      <a:pt x="18" y="55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7" y="46"/>
                    </a:lnTo>
                    <a:lnTo>
                      <a:pt x="17" y="42"/>
                    </a:lnTo>
                    <a:lnTo>
                      <a:pt x="17" y="41"/>
                    </a:lnTo>
                    <a:lnTo>
                      <a:pt x="17" y="37"/>
                    </a:lnTo>
                    <a:lnTo>
                      <a:pt x="17" y="34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8"/>
                    </a:lnTo>
                    <a:lnTo>
                      <a:pt x="27" y="25"/>
                    </a:lnTo>
                    <a:lnTo>
                      <a:pt x="30" y="21"/>
                    </a:lnTo>
                    <a:lnTo>
                      <a:pt x="33" y="18"/>
                    </a:lnTo>
                    <a:lnTo>
                      <a:pt x="35" y="13"/>
                    </a:lnTo>
                    <a:lnTo>
                      <a:pt x="38" y="8"/>
                    </a:lnTo>
                    <a:lnTo>
                      <a:pt x="40" y="2"/>
                    </a:lnTo>
                    <a:lnTo>
                      <a:pt x="64" y="0"/>
                    </a:lnTo>
                    <a:lnTo>
                      <a:pt x="87" y="2"/>
                    </a:lnTo>
                    <a:lnTo>
                      <a:pt x="108" y="5"/>
                    </a:lnTo>
                    <a:lnTo>
                      <a:pt x="129" y="10"/>
                    </a:lnTo>
                    <a:lnTo>
                      <a:pt x="150" y="13"/>
                    </a:lnTo>
                    <a:lnTo>
                      <a:pt x="173" y="16"/>
                    </a:lnTo>
                    <a:lnTo>
                      <a:pt x="197" y="16"/>
                    </a:lnTo>
                    <a:lnTo>
                      <a:pt x="224" y="15"/>
                    </a:lnTo>
                    <a:lnTo>
                      <a:pt x="237" y="18"/>
                    </a:lnTo>
                    <a:lnTo>
                      <a:pt x="254" y="21"/>
                    </a:lnTo>
                    <a:lnTo>
                      <a:pt x="273" y="25"/>
                    </a:lnTo>
                    <a:lnTo>
                      <a:pt x="291" y="29"/>
                    </a:lnTo>
                    <a:lnTo>
                      <a:pt x="310" y="34"/>
                    </a:lnTo>
                    <a:lnTo>
                      <a:pt x="325" y="41"/>
                    </a:lnTo>
                    <a:lnTo>
                      <a:pt x="333" y="46"/>
                    </a:lnTo>
                    <a:lnTo>
                      <a:pt x="340" y="50"/>
                    </a:lnTo>
                    <a:lnTo>
                      <a:pt x="345" y="55"/>
                    </a:lnTo>
                    <a:lnTo>
                      <a:pt x="348" y="6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6720" y="3130560"/>
                <a:ext cx="227880" cy="632160"/>
              </a:xfrm>
              <a:custGeom>
                <a:avLst/>
                <a:gdLst/>
                <a:ahLst/>
                <a:rect l="l" t="t" r="r" b="b"/>
                <a:pathLst>
                  <a:path w="148" h="410">
                    <a:moveTo>
                      <a:pt x="0" y="410"/>
                    </a:moveTo>
                    <a:lnTo>
                      <a:pt x="1" y="407"/>
                    </a:lnTo>
                    <a:lnTo>
                      <a:pt x="3" y="403"/>
                    </a:lnTo>
                    <a:lnTo>
                      <a:pt x="3" y="400"/>
                    </a:lnTo>
                    <a:lnTo>
                      <a:pt x="5" y="397"/>
                    </a:lnTo>
                    <a:lnTo>
                      <a:pt x="6" y="395"/>
                    </a:lnTo>
                    <a:lnTo>
                      <a:pt x="6" y="392"/>
                    </a:lnTo>
                    <a:lnTo>
                      <a:pt x="8" y="389"/>
                    </a:lnTo>
                    <a:lnTo>
                      <a:pt x="10" y="386"/>
                    </a:lnTo>
                    <a:lnTo>
                      <a:pt x="18" y="386"/>
                    </a:lnTo>
                    <a:lnTo>
                      <a:pt x="27" y="386"/>
                    </a:lnTo>
                    <a:lnTo>
                      <a:pt x="35" y="387"/>
                    </a:lnTo>
                    <a:lnTo>
                      <a:pt x="42" y="389"/>
                    </a:lnTo>
                    <a:lnTo>
                      <a:pt x="49" y="392"/>
                    </a:lnTo>
                    <a:lnTo>
                      <a:pt x="57" y="394"/>
                    </a:lnTo>
                    <a:lnTo>
                      <a:pt x="64" y="394"/>
                    </a:lnTo>
                    <a:lnTo>
                      <a:pt x="72" y="395"/>
                    </a:lnTo>
                    <a:lnTo>
                      <a:pt x="75" y="384"/>
                    </a:lnTo>
                    <a:lnTo>
                      <a:pt x="77" y="371"/>
                    </a:lnTo>
                    <a:lnTo>
                      <a:pt x="79" y="356"/>
                    </a:lnTo>
                    <a:lnTo>
                      <a:pt x="81" y="340"/>
                    </a:lnTo>
                    <a:lnTo>
                      <a:pt x="81" y="326"/>
                    </a:lnTo>
                    <a:lnTo>
                      <a:pt x="81" y="309"/>
                    </a:lnTo>
                    <a:lnTo>
                      <a:pt x="81" y="293"/>
                    </a:lnTo>
                    <a:lnTo>
                      <a:pt x="81" y="279"/>
                    </a:lnTo>
                    <a:lnTo>
                      <a:pt x="86" y="277"/>
                    </a:lnTo>
                    <a:lnTo>
                      <a:pt x="92" y="277"/>
                    </a:lnTo>
                    <a:lnTo>
                      <a:pt x="97" y="277"/>
                    </a:lnTo>
                    <a:lnTo>
                      <a:pt x="104" y="277"/>
                    </a:lnTo>
                    <a:lnTo>
                      <a:pt x="109" y="277"/>
                    </a:lnTo>
                    <a:lnTo>
                      <a:pt x="116" y="277"/>
                    </a:lnTo>
                    <a:lnTo>
                      <a:pt x="124" y="279"/>
                    </a:lnTo>
                    <a:lnTo>
                      <a:pt x="131" y="280"/>
                    </a:lnTo>
                    <a:lnTo>
                      <a:pt x="133" y="272"/>
                    </a:lnTo>
                    <a:lnTo>
                      <a:pt x="134" y="262"/>
                    </a:lnTo>
                    <a:lnTo>
                      <a:pt x="136" y="254"/>
                    </a:lnTo>
                    <a:lnTo>
                      <a:pt x="139" y="245"/>
                    </a:lnTo>
                    <a:lnTo>
                      <a:pt x="143" y="233"/>
                    </a:lnTo>
                    <a:lnTo>
                      <a:pt x="146" y="224"/>
                    </a:lnTo>
                    <a:lnTo>
                      <a:pt x="148" y="212"/>
                    </a:lnTo>
                    <a:lnTo>
                      <a:pt x="148" y="201"/>
                    </a:lnTo>
                    <a:lnTo>
                      <a:pt x="141" y="196"/>
                    </a:lnTo>
                    <a:lnTo>
                      <a:pt x="136" y="191"/>
                    </a:lnTo>
                    <a:lnTo>
                      <a:pt x="133" y="188"/>
                    </a:lnTo>
                    <a:lnTo>
                      <a:pt x="129" y="185"/>
                    </a:lnTo>
                    <a:lnTo>
                      <a:pt x="129" y="180"/>
                    </a:lnTo>
                    <a:lnTo>
                      <a:pt x="129" y="175"/>
                    </a:lnTo>
                    <a:lnTo>
                      <a:pt x="129" y="167"/>
                    </a:lnTo>
                    <a:lnTo>
                      <a:pt x="133" y="156"/>
                    </a:lnTo>
                    <a:lnTo>
                      <a:pt x="129" y="147"/>
                    </a:lnTo>
                    <a:lnTo>
                      <a:pt x="126" y="141"/>
                    </a:lnTo>
                    <a:lnTo>
                      <a:pt x="123" y="136"/>
                    </a:lnTo>
                    <a:lnTo>
                      <a:pt x="118" y="131"/>
                    </a:lnTo>
                    <a:lnTo>
                      <a:pt x="106" y="125"/>
                    </a:lnTo>
                    <a:lnTo>
                      <a:pt x="94" y="118"/>
                    </a:lnTo>
                    <a:lnTo>
                      <a:pt x="82" y="112"/>
                    </a:lnTo>
                    <a:lnTo>
                      <a:pt x="70" y="102"/>
                    </a:lnTo>
                    <a:lnTo>
                      <a:pt x="65" y="94"/>
                    </a:lnTo>
                    <a:lnTo>
                      <a:pt x="60" y="86"/>
                    </a:lnTo>
                    <a:lnTo>
                      <a:pt x="57" y="76"/>
                    </a:lnTo>
                    <a:lnTo>
                      <a:pt x="55" y="65"/>
                    </a:lnTo>
                    <a:lnTo>
                      <a:pt x="45" y="57"/>
                    </a:lnTo>
                    <a:lnTo>
                      <a:pt x="40" y="50"/>
                    </a:lnTo>
                    <a:lnTo>
                      <a:pt x="35" y="42"/>
                    </a:lnTo>
                    <a:lnTo>
                      <a:pt x="33" y="34"/>
                    </a:lnTo>
                    <a:lnTo>
                      <a:pt x="33" y="26"/>
                    </a:lnTo>
                    <a:lnTo>
                      <a:pt x="35" y="18"/>
                    </a:lnTo>
                    <a:lnTo>
                      <a:pt x="38" y="8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24760" y="2280960"/>
                <a:ext cx="979200" cy="813960"/>
              </a:xfrm>
              <a:custGeom>
                <a:avLst/>
                <a:gdLst/>
                <a:ahLst/>
                <a:rect l="l" t="t" r="r" b="b"/>
                <a:pathLst>
                  <a:path w="635" h="528">
                    <a:moveTo>
                      <a:pt x="635" y="528"/>
                    </a:moveTo>
                    <a:lnTo>
                      <a:pt x="625" y="522"/>
                    </a:lnTo>
                    <a:lnTo>
                      <a:pt x="615" y="515"/>
                    </a:lnTo>
                    <a:lnTo>
                      <a:pt x="605" y="507"/>
                    </a:lnTo>
                    <a:lnTo>
                      <a:pt x="595" y="499"/>
                    </a:lnTo>
                    <a:lnTo>
                      <a:pt x="585" y="491"/>
                    </a:lnTo>
                    <a:lnTo>
                      <a:pt x="574" y="483"/>
                    </a:lnTo>
                    <a:lnTo>
                      <a:pt x="564" y="477"/>
                    </a:lnTo>
                    <a:lnTo>
                      <a:pt x="554" y="468"/>
                    </a:lnTo>
                    <a:lnTo>
                      <a:pt x="541" y="456"/>
                    </a:lnTo>
                    <a:lnTo>
                      <a:pt x="534" y="446"/>
                    </a:lnTo>
                    <a:lnTo>
                      <a:pt x="534" y="441"/>
                    </a:lnTo>
                    <a:lnTo>
                      <a:pt x="534" y="438"/>
                    </a:lnTo>
                    <a:lnTo>
                      <a:pt x="534" y="433"/>
                    </a:lnTo>
                    <a:lnTo>
                      <a:pt x="536" y="430"/>
                    </a:lnTo>
                    <a:lnTo>
                      <a:pt x="539" y="422"/>
                    </a:lnTo>
                    <a:lnTo>
                      <a:pt x="544" y="413"/>
                    </a:lnTo>
                    <a:lnTo>
                      <a:pt x="548" y="404"/>
                    </a:lnTo>
                    <a:lnTo>
                      <a:pt x="549" y="392"/>
                    </a:lnTo>
                    <a:lnTo>
                      <a:pt x="544" y="389"/>
                    </a:lnTo>
                    <a:lnTo>
                      <a:pt x="541" y="386"/>
                    </a:lnTo>
                    <a:lnTo>
                      <a:pt x="539" y="384"/>
                    </a:lnTo>
                    <a:lnTo>
                      <a:pt x="539" y="381"/>
                    </a:lnTo>
                    <a:lnTo>
                      <a:pt x="541" y="375"/>
                    </a:lnTo>
                    <a:lnTo>
                      <a:pt x="544" y="368"/>
                    </a:lnTo>
                    <a:lnTo>
                      <a:pt x="549" y="363"/>
                    </a:lnTo>
                    <a:lnTo>
                      <a:pt x="556" y="357"/>
                    </a:lnTo>
                    <a:lnTo>
                      <a:pt x="563" y="352"/>
                    </a:lnTo>
                    <a:lnTo>
                      <a:pt x="568" y="349"/>
                    </a:lnTo>
                    <a:lnTo>
                      <a:pt x="568" y="345"/>
                    </a:lnTo>
                    <a:lnTo>
                      <a:pt x="568" y="342"/>
                    </a:lnTo>
                    <a:lnTo>
                      <a:pt x="568" y="339"/>
                    </a:lnTo>
                    <a:lnTo>
                      <a:pt x="569" y="337"/>
                    </a:lnTo>
                    <a:lnTo>
                      <a:pt x="569" y="334"/>
                    </a:lnTo>
                    <a:lnTo>
                      <a:pt x="569" y="331"/>
                    </a:lnTo>
                    <a:lnTo>
                      <a:pt x="569" y="328"/>
                    </a:lnTo>
                    <a:lnTo>
                      <a:pt x="569" y="324"/>
                    </a:lnTo>
                    <a:lnTo>
                      <a:pt x="576" y="318"/>
                    </a:lnTo>
                    <a:lnTo>
                      <a:pt x="581" y="310"/>
                    </a:lnTo>
                    <a:lnTo>
                      <a:pt x="581" y="302"/>
                    </a:lnTo>
                    <a:lnTo>
                      <a:pt x="579" y="292"/>
                    </a:lnTo>
                    <a:lnTo>
                      <a:pt x="576" y="282"/>
                    </a:lnTo>
                    <a:lnTo>
                      <a:pt x="571" y="273"/>
                    </a:lnTo>
                    <a:lnTo>
                      <a:pt x="563" y="263"/>
                    </a:lnTo>
                    <a:lnTo>
                      <a:pt x="554" y="253"/>
                    </a:lnTo>
                    <a:lnTo>
                      <a:pt x="556" y="242"/>
                    </a:lnTo>
                    <a:lnTo>
                      <a:pt x="561" y="232"/>
                    </a:lnTo>
                    <a:lnTo>
                      <a:pt x="564" y="224"/>
                    </a:lnTo>
                    <a:lnTo>
                      <a:pt x="568" y="216"/>
                    </a:lnTo>
                    <a:lnTo>
                      <a:pt x="569" y="211"/>
                    </a:lnTo>
                    <a:lnTo>
                      <a:pt x="569" y="208"/>
                    </a:lnTo>
                    <a:lnTo>
                      <a:pt x="568" y="203"/>
                    </a:lnTo>
                    <a:lnTo>
                      <a:pt x="564" y="198"/>
                    </a:lnTo>
                    <a:lnTo>
                      <a:pt x="556" y="188"/>
                    </a:lnTo>
                    <a:lnTo>
                      <a:pt x="539" y="177"/>
                    </a:lnTo>
                    <a:lnTo>
                      <a:pt x="534" y="167"/>
                    </a:lnTo>
                    <a:lnTo>
                      <a:pt x="526" y="154"/>
                    </a:lnTo>
                    <a:lnTo>
                      <a:pt x="517" y="141"/>
                    </a:lnTo>
                    <a:lnTo>
                      <a:pt x="507" y="127"/>
                    </a:lnTo>
                    <a:lnTo>
                      <a:pt x="497" y="114"/>
                    </a:lnTo>
                    <a:lnTo>
                      <a:pt x="487" y="102"/>
                    </a:lnTo>
                    <a:lnTo>
                      <a:pt x="477" y="93"/>
                    </a:lnTo>
                    <a:lnTo>
                      <a:pt x="467" y="88"/>
                    </a:lnTo>
                    <a:lnTo>
                      <a:pt x="468" y="83"/>
                    </a:lnTo>
                    <a:lnTo>
                      <a:pt x="470" y="78"/>
                    </a:lnTo>
                    <a:lnTo>
                      <a:pt x="472" y="73"/>
                    </a:lnTo>
                    <a:lnTo>
                      <a:pt x="473" y="68"/>
                    </a:lnTo>
                    <a:lnTo>
                      <a:pt x="475" y="64"/>
                    </a:lnTo>
                    <a:lnTo>
                      <a:pt x="477" y="59"/>
                    </a:lnTo>
                    <a:lnTo>
                      <a:pt x="478" y="54"/>
                    </a:lnTo>
                    <a:lnTo>
                      <a:pt x="478" y="49"/>
                    </a:lnTo>
                    <a:lnTo>
                      <a:pt x="484" y="46"/>
                    </a:lnTo>
                    <a:lnTo>
                      <a:pt x="490" y="43"/>
                    </a:lnTo>
                    <a:lnTo>
                      <a:pt x="497" y="38"/>
                    </a:lnTo>
                    <a:lnTo>
                      <a:pt x="505" y="33"/>
                    </a:lnTo>
                    <a:lnTo>
                      <a:pt x="512" y="26"/>
                    </a:lnTo>
                    <a:lnTo>
                      <a:pt x="519" y="18"/>
                    </a:lnTo>
                    <a:lnTo>
                      <a:pt x="524" y="10"/>
                    </a:lnTo>
                    <a:lnTo>
                      <a:pt x="527" y="0"/>
                    </a:lnTo>
                    <a:lnTo>
                      <a:pt x="512" y="5"/>
                    </a:lnTo>
                    <a:lnTo>
                      <a:pt x="500" y="10"/>
                    </a:lnTo>
                    <a:lnTo>
                      <a:pt x="495" y="12"/>
                    </a:lnTo>
                    <a:lnTo>
                      <a:pt x="490" y="12"/>
                    </a:lnTo>
                    <a:lnTo>
                      <a:pt x="487" y="12"/>
                    </a:lnTo>
                    <a:lnTo>
                      <a:pt x="482" y="10"/>
                    </a:lnTo>
                    <a:lnTo>
                      <a:pt x="473" y="5"/>
                    </a:lnTo>
                    <a:lnTo>
                      <a:pt x="462" y="0"/>
                    </a:lnTo>
                    <a:lnTo>
                      <a:pt x="452" y="7"/>
                    </a:lnTo>
                    <a:lnTo>
                      <a:pt x="438" y="17"/>
                    </a:lnTo>
                    <a:lnTo>
                      <a:pt x="425" y="30"/>
                    </a:lnTo>
                    <a:lnTo>
                      <a:pt x="409" y="46"/>
                    </a:lnTo>
                    <a:lnTo>
                      <a:pt x="394" y="60"/>
                    </a:lnTo>
                    <a:lnTo>
                      <a:pt x="381" y="77"/>
                    </a:lnTo>
                    <a:lnTo>
                      <a:pt x="371" y="88"/>
                    </a:lnTo>
                    <a:lnTo>
                      <a:pt x="364" y="98"/>
                    </a:lnTo>
                    <a:lnTo>
                      <a:pt x="361" y="96"/>
                    </a:lnTo>
                    <a:lnTo>
                      <a:pt x="357" y="94"/>
                    </a:lnTo>
                    <a:lnTo>
                      <a:pt x="354" y="93"/>
                    </a:lnTo>
                    <a:lnTo>
                      <a:pt x="350" y="93"/>
                    </a:lnTo>
                    <a:lnTo>
                      <a:pt x="347" y="93"/>
                    </a:lnTo>
                    <a:lnTo>
                      <a:pt x="344" y="91"/>
                    </a:lnTo>
                    <a:lnTo>
                      <a:pt x="339" y="91"/>
                    </a:lnTo>
                    <a:lnTo>
                      <a:pt x="332" y="91"/>
                    </a:lnTo>
                    <a:lnTo>
                      <a:pt x="317" y="83"/>
                    </a:lnTo>
                    <a:lnTo>
                      <a:pt x="302" y="75"/>
                    </a:lnTo>
                    <a:lnTo>
                      <a:pt x="288" y="67"/>
                    </a:lnTo>
                    <a:lnTo>
                      <a:pt x="273" y="59"/>
                    </a:lnTo>
                    <a:lnTo>
                      <a:pt x="266" y="57"/>
                    </a:lnTo>
                    <a:lnTo>
                      <a:pt x="260" y="56"/>
                    </a:lnTo>
                    <a:lnTo>
                      <a:pt x="253" y="54"/>
                    </a:lnTo>
                    <a:lnTo>
                      <a:pt x="246" y="54"/>
                    </a:lnTo>
                    <a:lnTo>
                      <a:pt x="239" y="56"/>
                    </a:lnTo>
                    <a:lnTo>
                      <a:pt x="233" y="59"/>
                    </a:lnTo>
                    <a:lnTo>
                      <a:pt x="224" y="62"/>
                    </a:lnTo>
                    <a:lnTo>
                      <a:pt x="217" y="68"/>
                    </a:lnTo>
                    <a:lnTo>
                      <a:pt x="199" y="59"/>
                    </a:lnTo>
                    <a:lnTo>
                      <a:pt x="185" y="51"/>
                    </a:lnTo>
                    <a:lnTo>
                      <a:pt x="172" y="46"/>
                    </a:lnTo>
                    <a:lnTo>
                      <a:pt x="162" y="43"/>
                    </a:lnTo>
                    <a:lnTo>
                      <a:pt x="153" y="43"/>
                    </a:lnTo>
                    <a:lnTo>
                      <a:pt x="143" y="46"/>
                    </a:lnTo>
                    <a:lnTo>
                      <a:pt x="133" y="52"/>
                    </a:lnTo>
                    <a:lnTo>
                      <a:pt x="121" y="62"/>
                    </a:lnTo>
                    <a:lnTo>
                      <a:pt x="116" y="62"/>
                    </a:lnTo>
                    <a:lnTo>
                      <a:pt x="113" y="60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3" y="56"/>
                    </a:lnTo>
                    <a:lnTo>
                      <a:pt x="100" y="54"/>
                    </a:lnTo>
                    <a:lnTo>
                      <a:pt x="96" y="51"/>
                    </a:lnTo>
                    <a:lnTo>
                      <a:pt x="91" y="49"/>
                    </a:lnTo>
                    <a:lnTo>
                      <a:pt x="76" y="51"/>
                    </a:lnTo>
                    <a:lnTo>
                      <a:pt x="63" y="54"/>
                    </a:lnTo>
                    <a:lnTo>
                      <a:pt x="54" y="60"/>
                    </a:lnTo>
                    <a:lnTo>
                      <a:pt x="46" y="67"/>
                    </a:lnTo>
                    <a:lnTo>
                      <a:pt x="37" y="73"/>
                    </a:lnTo>
                    <a:lnTo>
                      <a:pt x="27" y="78"/>
                    </a:lnTo>
                    <a:lnTo>
                      <a:pt x="22" y="80"/>
                    </a:lnTo>
                    <a:lnTo>
                      <a:pt x="15" y="80"/>
                    </a:lnTo>
                    <a:lnTo>
                      <a:pt x="9" y="80"/>
                    </a:lnTo>
                    <a:lnTo>
                      <a:pt x="0" y="7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71400" y="2111040"/>
                <a:ext cx="311400" cy="543960"/>
              </a:xfrm>
              <a:custGeom>
                <a:avLst/>
                <a:gdLst/>
                <a:ahLst/>
                <a:rect l="l" t="t" r="r" b="b"/>
                <a:pathLst>
                  <a:path w="202" h="353">
                    <a:moveTo>
                      <a:pt x="0" y="12"/>
                    </a:moveTo>
                    <a:lnTo>
                      <a:pt x="6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7" y="2"/>
                    </a:lnTo>
                    <a:lnTo>
                      <a:pt x="82" y="5"/>
                    </a:lnTo>
                    <a:lnTo>
                      <a:pt x="101" y="7"/>
                    </a:lnTo>
                    <a:lnTo>
                      <a:pt x="122" y="12"/>
                    </a:lnTo>
                    <a:lnTo>
                      <a:pt x="143" y="17"/>
                    </a:lnTo>
                    <a:lnTo>
                      <a:pt x="163" y="23"/>
                    </a:lnTo>
                    <a:lnTo>
                      <a:pt x="180" y="33"/>
                    </a:lnTo>
                    <a:lnTo>
                      <a:pt x="188" y="38"/>
                    </a:lnTo>
                    <a:lnTo>
                      <a:pt x="193" y="42"/>
                    </a:lnTo>
                    <a:lnTo>
                      <a:pt x="198" y="49"/>
                    </a:lnTo>
                    <a:lnTo>
                      <a:pt x="202" y="55"/>
                    </a:lnTo>
                    <a:lnTo>
                      <a:pt x="200" y="65"/>
                    </a:lnTo>
                    <a:lnTo>
                      <a:pt x="198" y="75"/>
                    </a:lnTo>
                    <a:lnTo>
                      <a:pt x="197" y="85"/>
                    </a:lnTo>
                    <a:lnTo>
                      <a:pt x="195" y="94"/>
                    </a:lnTo>
                    <a:lnTo>
                      <a:pt x="193" y="104"/>
                    </a:lnTo>
                    <a:lnTo>
                      <a:pt x="192" y="114"/>
                    </a:lnTo>
                    <a:lnTo>
                      <a:pt x="190" y="122"/>
                    </a:lnTo>
                    <a:lnTo>
                      <a:pt x="188" y="132"/>
                    </a:lnTo>
                    <a:lnTo>
                      <a:pt x="171" y="138"/>
                    </a:lnTo>
                    <a:lnTo>
                      <a:pt x="160" y="144"/>
                    </a:lnTo>
                    <a:lnTo>
                      <a:pt x="149" y="149"/>
                    </a:lnTo>
                    <a:lnTo>
                      <a:pt x="143" y="156"/>
                    </a:lnTo>
                    <a:lnTo>
                      <a:pt x="139" y="162"/>
                    </a:lnTo>
                    <a:lnTo>
                      <a:pt x="136" y="170"/>
                    </a:lnTo>
                    <a:lnTo>
                      <a:pt x="133" y="182"/>
                    </a:lnTo>
                    <a:lnTo>
                      <a:pt x="133" y="193"/>
                    </a:lnTo>
                    <a:lnTo>
                      <a:pt x="129" y="195"/>
                    </a:lnTo>
                    <a:lnTo>
                      <a:pt x="126" y="196"/>
                    </a:lnTo>
                    <a:lnTo>
                      <a:pt x="122" y="198"/>
                    </a:lnTo>
                    <a:lnTo>
                      <a:pt x="121" y="200"/>
                    </a:lnTo>
                    <a:lnTo>
                      <a:pt x="117" y="201"/>
                    </a:lnTo>
                    <a:lnTo>
                      <a:pt x="114" y="203"/>
                    </a:lnTo>
                    <a:lnTo>
                      <a:pt x="111" y="204"/>
                    </a:lnTo>
                    <a:lnTo>
                      <a:pt x="109" y="206"/>
                    </a:lnTo>
                    <a:lnTo>
                      <a:pt x="109" y="209"/>
                    </a:lnTo>
                    <a:lnTo>
                      <a:pt x="109" y="212"/>
                    </a:lnTo>
                    <a:lnTo>
                      <a:pt x="109" y="214"/>
                    </a:lnTo>
                    <a:lnTo>
                      <a:pt x="109" y="217"/>
                    </a:lnTo>
                    <a:lnTo>
                      <a:pt x="109" y="221"/>
                    </a:lnTo>
                    <a:lnTo>
                      <a:pt x="109" y="222"/>
                    </a:lnTo>
                    <a:lnTo>
                      <a:pt x="109" y="225"/>
                    </a:lnTo>
                    <a:lnTo>
                      <a:pt x="109" y="229"/>
                    </a:lnTo>
                    <a:lnTo>
                      <a:pt x="109" y="229"/>
                    </a:lnTo>
                    <a:lnTo>
                      <a:pt x="111" y="230"/>
                    </a:lnTo>
                    <a:lnTo>
                      <a:pt x="112" y="230"/>
                    </a:lnTo>
                    <a:lnTo>
                      <a:pt x="114" y="232"/>
                    </a:lnTo>
                    <a:lnTo>
                      <a:pt x="116" y="232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19" y="235"/>
                    </a:lnTo>
                    <a:lnTo>
                      <a:pt x="119" y="240"/>
                    </a:lnTo>
                    <a:lnTo>
                      <a:pt x="119" y="245"/>
                    </a:lnTo>
                    <a:lnTo>
                      <a:pt x="119" y="248"/>
                    </a:lnTo>
                    <a:lnTo>
                      <a:pt x="119" y="253"/>
                    </a:lnTo>
                    <a:lnTo>
                      <a:pt x="119" y="258"/>
                    </a:lnTo>
                    <a:lnTo>
                      <a:pt x="119" y="263"/>
                    </a:lnTo>
                    <a:lnTo>
                      <a:pt x="119" y="266"/>
                    </a:lnTo>
                    <a:lnTo>
                      <a:pt x="119" y="271"/>
                    </a:lnTo>
                    <a:lnTo>
                      <a:pt x="104" y="280"/>
                    </a:lnTo>
                    <a:lnTo>
                      <a:pt x="92" y="287"/>
                    </a:lnTo>
                    <a:lnTo>
                      <a:pt x="85" y="290"/>
                    </a:lnTo>
                    <a:lnTo>
                      <a:pt x="80" y="295"/>
                    </a:lnTo>
                    <a:lnTo>
                      <a:pt x="77" y="300"/>
                    </a:lnTo>
                    <a:lnTo>
                      <a:pt x="75" y="306"/>
                    </a:lnTo>
                    <a:lnTo>
                      <a:pt x="74" y="318"/>
                    </a:lnTo>
                    <a:lnTo>
                      <a:pt x="74" y="336"/>
                    </a:lnTo>
                    <a:lnTo>
                      <a:pt x="72" y="337"/>
                    </a:lnTo>
                    <a:lnTo>
                      <a:pt x="70" y="340"/>
                    </a:lnTo>
                    <a:lnTo>
                      <a:pt x="69" y="342"/>
                    </a:lnTo>
                    <a:lnTo>
                      <a:pt x="67" y="345"/>
                    </a:lnTo>
                    <a:lnTo>
                      <a:pt x="65" y="347"/>
                    </a:lnTo>
                    <a:lnTo>
                      <a:pt x="64" y="349"/>
                    </a:lnTo>
                    <a:lnTo>
                      <a:pt x="64" y="352"/>
                    </a:lnTo>
                    <a:lnTo>
                      <a:pt x="62" y="3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56640" y="2248200"/>
                <a:ext cx="1579320" cy="1213920"/>
              </a:xfrm>
              <a:custGeom>
                <a:avLst/>
                <a:gdLst/>
                <a:ahLst/>
                <a:rect l="l" t="t" r="r" b="b"/>
                <a:pathLst>
                  <a:path w="1024" h="787">
                    <a:moveTo>
                      <a:pt x="909" y="787"/>
                    </a:moveTo>
                    <a:lnTo>
                      <a:pt x="911" y="773"/>
                    </a:lnTo>
                    <a:lnTo>
                      <a:pt x="912" y="758"/>
                    </a:lnTo>
                    <a:lnTo>
                      <a:pt x="916" y="744"/>
                    </a:lnTo>
                    <a:lnTo>
                      <a:pt x="918" y="729"/>
                    </a:lnTo>
                    <a:lnTo>
                      <a:pt x="919" y="713"/>
                    </a:lnTo>
                    <a:lnTo>
                      <a:pt x="923" y="698"/>
                    </a:lnTo>
                    <a:lnTo>
                      <a:pt x="924" y="684"/>
                    </a:lnTo>
                    <a:lnTo>
                      <a:pt x="928" y="669"/>
                    </a:lnTo>
                    <a:lnTo>
                      <a:pt x="934" y="668"/>
                    </a:lnTo>
                    <a:lnTo>
                      <a:pt x="943" y="666"/>
                    </a:lnTo>
                    <a:lnTo>
                      <a:pt x="950" y="664"/>
                    </a:lnTo>
                    <a:lnTo>
                      <a:pt x="958" y="663"/>
                    </a:lnTo>
                    <a:lnTo>
                      <a:pt x="966" y="661"/>
                    </a:lnTo>
                    <a:lnTo>
                      <a:pt x="975" y="658"/>
                    </a:lnTo>
                    <a:lnTo>
                      <a:pt x="985" y="656"/>
                    </a:lnTo>
                    <a:lnTo>
                      <a:pt x="995" y="655"/>
                    </a:lnTo>
                    <a:lnTo>
                      <a:pt x="1003" y="650"/>
                    </a:lnTo>
                    <a:lnTo>
                      <a:pt x="1012" y="642"/>
                    </a:lnTo>
                    <a:lnTo>
                      <a:pt x="1017" y="634"/>
                    </a:lnTo>
                    <a:lnTo>
                      <a:pt x="1022" y="624"/>
                    </a:lnTo>
                    <a:lnTo>
                      <a:pt x="1024" y="614"/>
                    </a:lnTo>
                    <a:lnTo>
                      <a:pt x="1024" y="603"/>
                    </a:lnTo>
                    <a:lnTo>
                      <a:pt x="1022" y="593"/>
                    </a:lnTo>
                    <a:lnTo>
                      <a:pt x="1020" y="583"/>
                    </a:lnTo>
                    <a:lnTo>
                      <a:pt x="1017" y="574"/>
                    </a:lnTo>
                    <a:lnTo>
                      <a:pt x="1010" y="566"/>
                    </a:lnTo>
                    <a:lnTo>
                      <a:pt x="1003" y="559"/>
                    </a:lnTo>
                    <a:lnTo>
                      <a:pt x="997" y="556"/>
                    </a:lnTo>
                    <a:lnTo>
                      <a:pt x="987" y="553"/>
                    </a:lnTo>
                    <a:lnTo>
                      <a:pt x="976" y="554"/>
                    </a:lnTo>
                    <a:lnTo>
                      <a:pt x="966" y="558"/>
                    </a:lnTo>
                    <a:lnTo>
                      <a:pt x="953" y="564"/>
                    </a:lnTo>
                    <a:lnTo>
                      <a:pt x="939" y="566"/>
                    </a:lnTo>
                    <a:lnTo>
                      <a:pt x="928" y="566"/>
                    </a:lnTo>
                    <a:lnTo>
                      <a:pt x="918" y="564"/>
                    </a:lnTo>
                    <a:lnTo>
                      <a:pt x="907" y="564"/>
                    </a:lnTo>
                    <a:lnTo>
                      <a:pt x="897" y="562"/>
                    </a:lnTo>
                    <a:lnTo>
                      <a:pt x="889" y="559"/>
                    </a:lnTo>
                    <a:lnTo>
                      <a:pt x="879" y="554"/>
                    </a:lnTo>
                    <a:lnTo>
                      <a:pt x="870" y="548"/>
                    </a:lnTo>
                    <a:lnTo>
                      <a:pt x="862" y="548"/>
                    </a:lnTo>
                    <a:lnTo>
                      <a:pt x="857" y="549"/>
                    </a:lnTo>
                    <a:lnTo>
                      <a:pt x="852" y="551"/>
                    </a:lnTo>
                    <a:lnTo>
                      <a:pt x="850" y="554"/>
                    </a:lnTo>
                    <a:lnTo>
                      <a:pt x="848" y="556"/>
                    </a:lnTo>
                    <a:lnTo>
                      <a:pt x="847" y="561"/>
                    </a:lnTo>
                    <a:lnTo>
                      <a:pt x="845" y="564"/>
                    </a:lnTo>
                    <a:lnTo>
                      <a:pt x="843" y="567"/>
                    </a:lnTo>
                    <a:lnTo>
                      <a:pt x="828" y="570"/>
                    </a:lnTo>
                    <a:lnTo>
                      <a:pt x="815" y="572"/>
                    </a:lnTo>
                    <a:lnTo>
                      <a:pt x="801" y="570"/>
                    </a:lnTo>
                    <a:lnTo>
                      <a:pt x="790" y="569"/>
                    </a:lnTo>
                    <a:lnTo>
                      <a:pt x="778" y="566"/>
                    </a:lnTo>
                    <a:lnTo>
                      <a:pt x="766" y="561"/>
                    </a:lnTo>
                    <a:lnTo>
                      <a:pt x="754" y="556"/>
                    </a:lnTo>
                    <a:lnTo>
                      <a:pt x="744" y="549"/>
                    </a:lnTo>
                    <a:lnTo>
                      <a:pt x="734" y="556"/>
                    </a:lnTo>
                    <a:lnTo>
                      <a:pt x="724" y="561"/>
                    </a:lnTo>
                    <a:lnTo>
                      <a:pt x="714" y="564"/>
                    </a:lnTo>
                    <a:lnTo>
                      <a:pt x="704" y="566"/>
                    </a:lnTo>
                    <a:lnTo>
                      <a:pt x="694" y="566"/>
                    </a:lnTo>
                    <a:lnTo>
                      <a:pt x="683" y="564"/>
                    </a:lnTo>
                    <a:lnTo>
                      <a:pt x="672" y="561"/>
                    </a:lnTo>
                    <a:lnTo>
                      <a:pt x="662" y="558"/>
                    </a:lnTo>
                    <a:lnTo>
                      <a:pt x="643" y="549"/>
                    </a:lnTo>
                    <a:lnTo>
                      <a:pt x="625" y="541"/>
                    </a:lnTo>
                    <a:lnTo>
                      <a:pt x="608" y="533"/>
                    </a:lnTo>
                    <a:lnTo>
                      <a:pt x="593" y="528"/>
                    </a:lnTo>
                    <a:lnTo>
                      <a:pt x="559" y="525"/>
                    </a:lnTo>
                    <a:lnTo>
                      <a:pt x="559" y="522"/>
                    </a:lnTo>
                    <a:lnTo>
                      <a:pt x="559" y="520"/>
                    </a:lnTo>
                    <a:lnTo>
                      <a:pt x="559" y="517"/>
                    </a:lnTo>
                    <a:lnTo>
                      <a:pt x="559" y="514"/>
                    </a:lnTo>
                    <a:lnTo>
                      <a:pt x="559" y="511"/>
                    </a:lnTo>
                    <a:lnTo>
                      <a:pt x="559" y="507"/>
                    </a:lnTo>
                    <a:lnTo>
                      <a:pt x="559" y="504"/>
                    </a:lnTo>
                    <a:lnTo>
                      <a:pt x="561" y="501"/>
                    </a:lnTo>
                    <a:lnTo>
                      <a:pt x="547" y="502"/>
                    </a:lnTo>
                    <a:lnTo>
                      <a:pt x="534" y="504"/>
                    </a:lnTo>
                    <a:lnTo>
                      <a:pt x="520" y="509"/>
                    </a:lnTo>
                    <a:lnTo>
                      <a:pt x="505" y="514"/>
                    </a:lnTo>
                    <a:lnTo>
                      <a:pt x="476" y="527"/>
                    </a:lnTo>
                    <a:lnTo>
                      <a:pt x="448" y="541"/>
                    </a:lnTo>
                    <a:lnTo>
                      <a:pt x="419" y="554"/>
                    </a:lnTo>
                    <a:lnTo>
                      <a:pt x="390" y="566"/>
                    </a:lnTo>
                    <a:lnTo>
                      <a:pt x="377" y="570"/>
                    </a:lnTo>
                    <a:lnTo>
                      <a:pt x="363" y="574"/>
                    </a:lnTo>
                    <a:lnTo>
                      <a:pt x="352" y="575"/>
                    </a:lnTo>
                    <a:lnTo>
                      <a:pt x="340" y="574"/>
                    </a:lnTo>
                    <a:lnTo>
                      <a:pt x="338" y="574"/>
                    </a:lnTo>
                    <a:lnTo>
                      <a:pt x="338" y="572"/>
                    </a:lnTo>
                    <a:lnTo>
                      <a:pt x="338" y="570"/>
                    </a:lnTo>
                    <a:lnTo>
                      <a:pt x="338" y="570"/>
                    </a:lnTo>
                    <a:lnTo>
                      <a:pt x="338" y="569"/>
                    </a:lnTo>
                    <a:lnTo>
                      <a:pt x="337" y="567"/>
                    </a:lnTo>
                    <a:lnTo>
                      <a:pt x="337" y="567"/>
                    </a:lnTo>
                    <a:lnTo>
                      <a:pt x="337" y="566"/>
                    </a:lnTo>
                    <a:lnTo>
                      <a:pt x="316" y="564"/>
                    </a:lnTo>
                    <a:lnTo>
                      <a:pt x="301" y="561"/>
                    </a:lnTo>
                    <a:lnTo>
                      <a:pt x="289" y="556"/>
                    </a:lnTo>
                    <a:lnTo>
                      <a:pt x="279" y="549"/>
                    </a:lnTo>
                    <a:lnTo>
                      <a:pt x="269" y="541"/>
                    </a:lnTo>
                    <a:lnTo>
                      <a:pt x="259" y="535"/>
                    </a:lnTo>
                    <a:lnTo>
                      <a:pt x="246" y="527"/>
                    </a:lnTo>
                    <a:lnTo>
                      <a:pt x="230" y="522"/>
                    </a:lnTo>
                    <a:lnTo>
                      <a:pt x="225" y="525"/>
                    </a:lnTo>
                    <a:lnTo>
                      <a:pt x="217" y="533"/>
                    </a:lnTo>
                    <a:lnTo>
                      <a:pt x="205" y="541"/>
                    </a:lnTo>
                    <a:lnTo>
                      <a:pt x="195" y="551"/>
                    </a:lnTo>
                    <a:lnTo>
                      <a:pt x="185" y="559"/>
                    </a:lnTo>
                    <a:lnTo>
                      <a:pt x="175" y="566"/>
                    </a:lnTo>
                    <a:lnTo>
                      <a:pt x="168" y="570"/>
                    </a:lnTo>
                    <a:lnTo>
                      <a:pt x="165" y="572"/>
                    </a:lnTo>
                    <a:lnTo>
                      <a:pt x="160" y="567"/>
                    </a:lnTo>
                    <a:lnTo>
                      <a:pt x="156" y="566"/>
                    </a:lnTo>
                    <a:lnTo>
                      <a:pt x="153" y="562"/>
                    </a:lnTo>
                    <a:lnTo>
                      <a:pt x="151" y="559"/>
                    </a:lnTo>
                    <a:lnTo>
                      <a:pt x="151" y="558"/>
                    </a:lnTo>
                    <a:lnTo>
                      <a:pt x="150" y="554"/>
                    </a:lnTo>
                    <a:lnTo>
                      <a:pt x="150" y="551"/>
                    </a:lnTo>
                    <a:lnTo>
                      <a:pt x="148" y="546"/>
                    </a:lnTo>
                    <a:lnTo>
                      <a:pt x="136" y="536"/>
                    </a:lnTo>
                    <a:lnTo>
                      <a:pt x="128" y="528"/>
                    </a:lnTo>
                    <a:lnTo>
                      <a:pt x="124" y="519"/>
                    </a:lnTo>
                    <a:lnTo>
                      <a:pt x="123" y="507"/>
                    </a:lnTo>
                    <a:lnTo>
                      <a:pt x="123" y="498"/>
                    </a:lnTo>
                    <a:lnTo>
                      <a:pt x="124" y="486"/>
                    </a:lnTo>
                    <a:lnTo>
                      <a:pt x="129" y="473"/>
                    </a:lnTo>
                    <a:lnTo>
                      <a:pt x="133" y="462"/>
                    </a:lnTo>
                    <a:lnTo>
                      <a:pt x="145" y="436"/>
                    </a:lnTo>
                    <a:lnTo>
                      <a:pt x="153" y="410"/>
                    </a:lnTo>
                    <a:lnTo>
                      <a:pt x="156" y="396"/>
                    </a:lnTo>
                    <a:lnTo>
                      <a:pt x="156" y="381"/>
                    </a:lnTo>
                    <a:lnTo>
                      <a:pt x="156" y="366"/>
                    </a:lnTo>
                    <a:lnTo>
                      <a:pt x="151" y="350"/>
                    </a:lnTo>
                    <a:lnTo>
                      <a:pt x="145" y="350"/>
                    </a:lnTo>
                    <a:lnTo>
                      <a:pt x="140" y="350"/>
                    </a:lnTo>
                    <a:lnTo>
                      <a:pt x="133" y="350"/>
                    </a:lnTo>
                    <a:lnTo>
                      <a:pt x="126" y="350"/>
                    </a:lnTo>
                    <a:lnTo>
                      <a:pt x="119" y="350"/>
                    </a:lnTo>
                    <a:lnTo>
                      <a:pt x="114" y="350"/>
                    </a:lnTo>
                    <a:lnTo>
                      <a:pt x="108" y="350"/>
                    </a:lnTo>
                    <a:lnTo>
                      <a:pt x="102" y="350"/>
                    </a:lnTo>
                    <a:lnTo>
                      <a:pt x="101" y="339"/>
                    </a:lnTo>
                    <a:lnTo>
                      <a:pt x="101" y="328"/>
                    </a:lnTo>
                    <a:lnTo>
                      <a:pt x="99" y="318"/>
                    </a:lnTo>
                    <a:lnTo>
                      <a:pt x="99" y="310"/>
                    </a:lnTo>
                    <a:lnTo>
                      <a:pt x="101" y="298"/>
                    </a:lnTo>
                    <a:lnTo>
                      <a:pt x="102" y="289"/>
                    </a:lnTo>
                    <a:lnTo>
                      <a:pt x="104" y="276"/>
                    </a:lnTo>
                    <a:lnTo>
                      <a:pt x="109" y="261"/>
                    </a:lnTo>
                    <a:lnTo>
                      <a:pt x="106" y="260"/>
                    </a:lnTo>
                    <a:lnTo>
                      <a:pt x="101" y="260"/>
                    </a:lnTo>
                    <a:lnTo>
                      <a:pt x="97" y="258"/>
                    </a:lnTo>
                    <a:lnTo>
                      <a:pt x="94" y="258"/>
                    </a:lnTo>
                    <a:lnTo>
                      <a:pt x="89" y="258"/>
                    </a:lnTo>
                    <a:lnTo>
                      <a:pt x="86" y="258"/>
                    </a:lnTo>
                    <a:lnTo>
                      <a:pt x="82" y="256"/>
                    </a:lnTo>
                    <a:lnTo>
                      <a:pt x="77" y="256"/>
                    </a:lnTo>
                    <a:lnTo>
                      <a:pt x="60" y="256"/>
                    </a:lnTo>
                    <a:lnTo>
                      <a:pt x="45" y="255"/>
                    </a:lnTo>
                    <a:lnTo>
                      <a:pt x="32" y="253"/>
                    </a:lnTo>
                    <a:lnTo>
                      <a:pt x="22" y="248"/>
                    </a:lnTo>
                    <a:lnTo>
                      <a:pt x="18" y="245"/>
                    </a:lnTo>
                    <a:lnTo>
                      <a:pt x="15" y="240"/>
                    </a:lnTo>
                    <a:lnTo>
                      <a:pt x="12" y="235"/>
                    </a:lnTo>
                    <a:lnTo>
                      <a:pt x="10" y="229"/>
                    </a:lnTo>
                    <a:lnTo>
                      <a:pt x="7" y="213"/>
                    </a:lnTo>
                    <a:lnTo>
                      <a:pt x="5" y="191"/>
                    </a:lnTo>
                    <a:lnTo>
                      <a:pt x="20" y="182"/>
                    </a:lnTo>
                    <a:lnTo>
                      <a:pt x="33" y="170"/>
                    </a:lnTo>
                    <a:lnTo>
                      <a:pt x="45" y="159"/>
                    </a:lnTo>
                    <a:lnTo>
                      <a:pt x="57" y="146"/>
                    </a:lnTo>
                    <a:lnTo>
                      <a:pt x="69" y="135"/>
                    </a:lnTo>
                    <a:lnTo>
                      <a:pt x="81" y="123"/>
                    </a:lnTo>
                    <a:lnTo>
                      <a:pt x="94" y="112"/>
                    </a:lnTo>
                    <a:lnTo>
                      <a:pt x="109" y="99"/>
                    </a:lnTo>
                    <a:lnTo>
                      <a:pt x="111" y="94"/>
                    </a:lnTo>
                    <a:lnTo>
                      <a:pt x="111" y="89"/>
                    </a:lnTo>
                    <a:lnTo>
                      <a:pt x="109" y="83"/>
                    </a:lnTo>
                    <a:lnTo>
                      <a:pt x="108" y="77"/>
                    </a:lnTo>
                    <a:lnTo>
                      <a:pt x="101" y="64"/>
                    </a:lnTo>
                    <a:lnTo>
                      <a:pt x="92" y="51"/>
                    </a:lnTo>
                    <a:lnTo>
                      <a:pt x="81" y="38"/>
                    </a:lnTo>
                    <a:lnTo>
                      <a:pt x="70" y="26"/>
                    </a:lnTo>
                    <a:lnTo>
                      <a:pt x="62" y="15"/>
                    </a:lnTo>
                    <a:lnTo>
                      <a:pt x="55" y="7"/>
                    </a:lnTo>
                    <a:lnTo>
                      <a:pt x="47" y="7"/>
                    </a:lnTo>
                    <a:lnTo>
                      <a:pt x="38" y="7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18" y="5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90440" y="2965680"/>
                <a:ext cx="265320" cy="252720"/>
              </a:xfrm>
              <a:custGeom>
                <a:avLst/>
                <a:gdLst/>
                <a:ahLst/>
                <a:rect l="l" t="t" r="r" b="b"/>
                <a:pathLst>
                  <a:path w="172" h="164">
                    <a:moveTo>
                      <a:pt x="0" y="0"/>
                    </a:moveTo>
                    <a:lnTo>
                      <a:pt x="10" y="7"/>
                    </a:lnTo>
                    <a:lnTo>
                      <a:pt x="20" y="12"/>
                    </a:lnTo>
                    <a:lnTo>
                      <a:pt x="29" y="15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7" y="24"/>
                    </a:lnTo>
                    <a:lnTo>
                      <a:pt x="67" y="28"/>
                    </a:lnTo>
                    <a:lnTo>
                      <a:pt x="77" y="33"/>
                    </a:lnTo>
                    <a:lnTo>
                      <a:pt x="79" y="41"/>
                    </a:lnTo>
                    <a:lnTo>
                      <a:pt x="83" y="46"/>
                    </a:lnTo>
                    <a:lnTo>
                      <a:pt x="86" y="50"/>
                    </a:lnTo>
                    <a:lnTo>
                      <a:pt x="91" y="54"/>
                    </a:lnTo>
                    <a:lnTo>
                      <a:pt x="94" y="57"/>
                    </a:lnTo>
                    <a:lnTo>
                      <a:pt x="99" y="62"/>
                    </a:lnTo>
                    <a:lnTo>
                      <a:pt x="103" y="65"/>
                    </a:lnTo>
                    <a:lnTo>
                      <a:pt x="106" y="71"/>
                    </a:lnTo>
                    <a:lnTo>
                      <a:pt x="109" y="71"/>
                    </a:lnTo>
                    <a:lnTo>
                      <a:pt x="115" y="71"/>
                    </a:lnTo>
                    <a:lnTo>
                      <a:pt x="118" y="71"/>
                    </a:lnTo>
                    <a:lnTo>
                      <a:pt x="123" y="71"/>
                    </a:lnTo>
                    <a:lnTo>
                      <a:pt x="128" y="71"/>
                    </a:lnTo>
                    <a:lnTo>
                      <a:pt x="131" y="71"/>
                    </a:lnTo>
                    <a:lnTo>
                      <a:pt x="136" y="71"/>
                    </a:lnTo>
                    <a:lnTo>
                      <a:pt x="141" y="71"/>
                    </a:lnTo>
                    <a:lnTo>
                      <a:pt x="145" y="81"/>
                    </a:lnTo>
                    <a:lnTo>
                      <a:pt x="148" y="93"/>
                    </a:lnTo>
                    <a:lnTo>
                      <a:pt x="152" y="104"/>
                    </a:lnTo>
                    <a:lnTo>
                      <a:pt x="157" y="115"/>
                    </a:lnTo>
                    <a:lnTo>
                      <a:pt x="160" y="128"/>
                    </a:lnTo>
                    <a:lnTo>
                      <a:pt x="165" y="139"/>
                    </a:lnTo>
                    <a:lnTo>
                      <a:pt x="168" y="152"/>
                    </a:lnTo>
                    <a:lnTo>
                      <a:pt x="172" y="16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25120" y="2997720"/>
                <a:ext cx="184680" cy="22824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120" y="144"/>
                    </a:moveTo>
                    <a:lnTo>
                      <a:pt x="115" y="144"/>
                    </a:lnTo>
                    <a:lnTo>
                      <a:pt x="110" y="144"/>
                    </a:lnTo>
                    <a:lnTo>
                      <a:pt x="106" y="146"/>
                    </a:lnTo>
                    <a:lnTo>
                      <a:pt x="101" y="146"/>
                    </a:lnTo>
                    <a:lnTo>
                      <a:pt x="96" y="146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3" y="148"/>
                    </a:lnTo>
                    <a:lnTo>
                      <a:pt x="83" y="141"/>
                    </a:lnTo>
                    <a:lnTo>
                      <a:pt x="81" y="135"/>
                    </a:lnTo>
                    <a:lnTo>
                      <a:pt x="79" y="127"/>
                    </a:lnTo>
                    <a:lnTo>
                      <a:pt x="78" y="120"/>
                    </a:lnTo>
                    <a:lnTo>
                      <a:pt x="76" y="114"/>
                    </a:lnTo>
                    <a:lnTo>
                      <a:pt x="73" y="106"/>
                    </a:lnTo>
                    <a:lnTo>
                      <a:pt x="71" y="97"/>
                    </a:lnTo>
                    <a:lnTo>
                      <a:pt x="71" y="89"/>
                    </a:lnTo>
                    <a:lnTo>
                      <a:pt x="66" y="91"/>
                    </a:lnTo>
                    <a:lnTo>
                      <a:pt x="63" y="91"/>
                    </a:lnTo>
                    <a:lnTo>
                      <a:pt x="59" y="91"/>
                    </a:lnTo>
                    <a:lnTo>
                      <a:pt x="56" y="93"/>
                    </a:lnTo>
                    <a:lnTo>
                      <a:pt x="51" y="93"/>
                    </a:lnTo>
                    <a:lnTo>
                      <a:pt x="47" y="93"/>
                    </a:lnTo>
                    <a:lnTo>
                      <a:pt x="44" y="93"/>
                    </a:lnTo>
                    <a:lnTo>
                      <a:pt x="41" y="94"/>
                    </a:lnTo>
                    <a:lnTo>
                      <a:pt x="39" y="89"/>
                    </a:lnTo>
                    <a:lnTo>
                      <a:pt x="39" y="84"/>
                    </a:lnTo>
                    <a:lnTo>
                      <a:pt x="39" y="81"/>
                    </a:lnTo>
                    <a:lnTo>
                      <a:pt x="41" y="78"/>
                    </a:lnTo>
                    <a:lnTo>
                      <a:pt x="41" y="73"/>
                    </a:lnTo>
                    <a:lnTo>
                      <a:pt x="42" y="68"/>
                    </a:lnTo>
                    <a:lnTo>
                      <a:pt x="42" y="62"/>
                    </a:lnTo>
                    <a:lnTo>
                      <a:pt x="42" y="54"/>
                    </a:lnTo>
                    <a:lnTo>
                      <a:pt x="31" y="50"/>
                    </a:lnTo>
                    <a:lnTo>
                      <a:pt x="20" y="47"/>
                    </a:lnTo>
                    <a:lnTo>
                      <a:pt x="12" y="42"/>
                    </a:lnTo>
                    <a:lnTo>
                      <a:pt x="5" y="37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10160" y="3218400"/>
                <a:ext cx="365400" cy="93960"/>
              </a:xfrm>
              <a:custGeom>
                <a:avLst/>
                <a:gdLst/>
                <a:ahLst/>
                <a:rect l="l" t="t" r="r" b="b"/>
                <a:pathLst>
                  <a:path w="237" h="61">
                    <a:moveTo>
                      <a:pt x="224" y="0"/>
                    </a:moveTo>
                    <a:lnTo>
                      <a:pt x="225" y="9"/>
                    </a:lnTo>
                    <a:lnTo>
                      <a:pt x="225" y="16"/>
                    </a:lnTo>
                    <a:lnTo>
                      <a:pt x="227" y="22"/>
                    </a:lnTo>
                    <a:lnTo>
                      <a:pt x="227" y="27"/>
                    </a:lnTo>
                    <a:lnTo>
                      <a:pt x="229" y="31"/>
                    </a:lnTo>
                    <a:lnTo>
                      <a:pt x="231" y="35"/>
                    </a:lnTo>
                    <a:lnTo>
                      <a:pt x="232" y="40"/>
                    </a:lnTo>
                    <a:lnTo>
                      <a:pt x="237" y="47"/>
                    </a:lnTo>
                    <a:lnTo>
                      <a:pt x="231" y="52"/>
                    </a:lnTo>
                    <a:lnTo>
                      <a:pt x="225" y="56"/>
                    </a:lnTo>
                    <a:lnTo>
                      <a:pt x="219" y="58"/>
                    </a:lnTo>
                    <a:lnTo>
                      <a:pt x="212" y="60"/>
                    </a:lnTo>
                    <a:lnTo>
                      <a:pt x="199" y="60"/>
                    </a:lnTo>
                    <a:lnTo>
                      <a:pt x="183" y="60"/>
                    </a:lnTo>
                    <a:lnTo>
                      <a:pt x="170" y="58"/>
                    </a:lnTo>
                    <a:lnTo>
                      <a:pt x="155" y="56"/>
                    </a:lnTo>
                    <a:lnTo>
                      <a:pt x="143" y="56"/>
                    </a:lnTo>
                    <a:lnTo>
                      <a:pt x="131" y="61"/>
                    </a:lnTo>
                    <a:lnTo>
                      <a:pt x="129" y="61"/>
                    </a:lnTo>
                    <a:lnTo>
                      <a:pt x="129" y="61"/>
                    </a:lnTo>
                    <a:lnTo>
                      <a:pt x="128" y="61"/>
                    </a:lnTo>
                    <a:lnTo>
                      <a:pt x="126" y="61"/>
                    </a:lnTo>
                    <a:lnTo>
                      <a:pt x="124" y="61"/>
                    </a:lnTo>
                    <a:lnTo>
                      <a:pt x="124" y="61"/>
                    </a:lnTo>
                    <a:lnTo>
                      <a:pt x="123" y="61"/>
                    </a:lnTo>
                    <a:lnTo>
                      <a:pt x="121" y="61"/>
                    </a:lnTo>
                    <a:lnTo>
                      <a:pt x="111" y="50"/>
                    </a:lnTo>
                    <a:lnTo>
                      <a:pt x="99" y="43"/>
                    </a:lnTo>
                    <a:lnTo>
                      <a:pt x="87" y="39"/>
                    </a:lnTo>
                    <a:lnTo>
                      <a:pt x="77" y="35"/>
                    </a:lnTo>
                    <a:lnTo>
                      <a:pt x="65" y="32"/>
                    </a:lnTo>
                    <a:lnTo>
                      <a:pt x="55" y="27"/>
                    </a:lnTo>
                    <a:lnTo>
                      <a:pt x="52" y="24"/>
                    </a:lnTo>
                    <a:lnTo>
                      <a:pt x="47" y="19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10160" y="3219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77680" y="3662640"/>
                <a:ext cx="422280" cy="567360"/>
              </a:xfrm>
              <a:custGeom>
                <a:avLst/>
                <a:gdLst/>
                <a:ahLst/>
                <a:rect l="l" t="t" r="r" b="b"/>
                <a:pathLst>
                  <a:path w="274" h="368">
                    <a:moveTo>
                      <a:pt x="5" y="368"/>
                    </a:moveTo>
                    <a:lnTo>
                      <a:pt x="3" y="360"/>
                    </a:lnTo>
                    <a:lnTo>
                      <a:pt x="2" y="353"/>
                    </a:lnTo>
                    <a:lnTo>
                      <a:pt x="2" y="345"/>
                    </a:lnTo>
                    <a:lnTo>
                      <a:pt x="0" y="337"/>
                    </a:lnTo>
                    <a:lnTo>
                      <a:pt x="0" y="329"/>
                    </a:lnTo>
                    <a:lnTo>
                      <a:pt x="0" y="321"/>
                    </a:lnTo>
                    <a:lnTo>
                      <a:pt x="0" y="314"/>
                    </a:lnTo>
                    <a:lnTo>
                      <a:pt x="2" y="308"/>
                    </a:lnTo>
                    <a:lnTo>
                      <a:pt x="12" y="308"/>
                    </a:lnTo>
                    <a:lnTo>
                      <a:pt x="24" y="306"/>
                    </a:lnTo>
                    <a:lnTo>
                      <a:pt x="35" y="304"/>
                    </a:lnTo>
                    <a:lnTo>
                      <a:pt x="47" y="301"/>
                    </a:lnTo>
                    <a:lnTo>
                      <a:pt x="59" y="300"/>
                    </a:lnTo>
                    <a:lnTo>
                      <a:pt x="71" y="296"/>
                    </a:lnTo>
                    <a:lnTo>
                      <a:pt x="82" y="293"/>
                    </a:lnTo>
                    <a:lnTo>
                      <a:pt x="96" y="292"/>
                    </a:lnTo>
                    <a:lnTo>
                      <a:pt x="98" y="283"/>
                    </a:lnTo>
                    <a:lnTo>
                      <a:pt x="99" y="275"/>
                    </a:lnTo>
                    <a:lnTo>
                      <a:pt x="103" y="264"/>
                    </a:lnTo>
                    <a:lnTo>
                      <a:pt x="104" y="254"/>
                    </a:lnTo>
                    <a:lnTo>
                      <a:pt x="108" y="243"/>
                    </a:lnTo>
                    <a:lnTo>
                      <a:pt x="113" y="232"/>
                    </a:lnTo>
                    <a:lnTo>
                      <a:pt x="116" y="222"/>
                    </a:lnTo>
                    <a:lnTo>
                      <a:pt x="119" y="212"/>
                    </a:lnTo>
                    <a:lnTo>
                      <a:pt x="123" y="212"/>
                    </a:lnTo>
                    <a:lnTo>
                      <a:pt x="125" y="212"/>
                    </a:lnTo>
                    <a:lnTo>
                      <a:pt x="126" y="212"/>
                    </a:lnTo>
                    <a:lnTo>
                      <a:pt x="130" y="212"/>
                    </a:lnTo>
                    <a:lnTo>
                      <a:pt x="131" y="212"/>
                    </a:lnTo>
                    <a:lnTo>
                      <a:pt x="135" y="212"/>
                    </a:lnTo>
                    <a:lnTo>
                      <a:pt x="136" y="211"/>
                    </a:lnTo>
                    <a:lnTo>
                      <a:pt x="138" y="211"/>
                    </a:lnTo>
                    <a:lnTo>
                      <a:pt x="138" y="209"/>
                    </a:lnTo>
                    <a:lnTo>
                      <a:pt x="140" y="209"/>
                    </a:lnTo>
                    <a:lnTo>
                      <a:pt x="140" y="207"/>
                    </a:lnTo>
                    <a:lnTo>
                      <a:pt x="140" y="206"/>
                    </a:lnTo>
                    <a:lnTo>
                      <a:pt x="141" y="204"/>
                    </a:lnTo>
                    <a:lnTo>
                      <a:pt x="141" y="202"/>
                    </a:lnTo>
                    <a:lnTo>
                      <a:pt x="141" y="201"/>
                    </a:lnTo>
                    <a:lnTo>
                      <a:pt x="143" y="199"/>
                    </a:lnTo>
                    <a:lnTo>
                      <a:pt x="146" y="201"/>
                    </a:lnTo>
                    <a:lnTo>
                      <a:pt x="150" y="201"/>
                    </a:lnTo>
                    <a:lnTo>
                      <a:pt x="157" y="201"/>
                    </a:lnTo>
                    <a:lnTo>
                      <a:pt x="163" y="201"/>
                    </a:lnTo>
                    <a:lnTo>
                      <a:pt x="170" y="201"/>
                    </a:lnTo>
                    <a:lnTo>
                      <a:pt x="175" y="201"/>
                    </a:lnTo>
                    <a:lnTo>
                      <a:pt x="182" y="201"/>
                    </a:lnTo>
                    <a:lnTo>
                      <a:pt x="187" y="199"/>
                    </a:lnTo>
                    <a:lnTo>
                      <a:pt x="187" y="196"/>
                    </a:lnTo>
                    <a:lnTo>
                      <a:pt x="185" y="191"/>
                    </a:lnTo>
                    <a:lnTo>
                      <a:pt x="185" y="186"/>
                    </a:lnTo>
                    <a:lnTo>
                      <a:pt x="183" y="181"/>
                    </a:lnTo>
                    <a:lnTo>
                      <a:pt x="182" y="177"/>
                    </a:lnTo>
                    <a:lnTo>
                      <a:pt x="182" y="170"/>
                    </a:lnTo>
                    <a:lnTo>
                      <a:pt x="183" y="164"/>
                    </a:lnTo>
                    <a:lnTo>
                      <a:pt x="185" y="159"/>
                    </a:lnTo>
                    <a:lnTo>
                      <a:pt x="190" y="159"/>
                    </a:lnTo>
                    <a:lnTo>
                      <a:pt x="195" y="157"/>
                    </a:lnTo>
                    <a:lnTo>
                      <a:pt x="199" y="157"/>
                    </a:lnTo>
                    <a:lnTo>
                      <a:pt x="204" y="157"/>
                    </a:lnTo>
                    <a:lnTo>
                      <a:pt x="209" y="156"/>
                    </a:lnTo>
                    <a:lnTo>
                      <a:pt x="212" y="156"/>
                    </a:lnTo>
                    <a:lnTo>
                      <a:pt x="217" y="154"/>
                    </a:lnTo>
                    <a:lnTo>
                      <a:pt x="222" y="154"/>
                    </a:lnTo>
                    <a:lnTo>
                      <a:pt x="222" y="151"/>
                    </a:lnTo>
                    <a:lnTo>
                      <a:pt x="222" y="147"/>
                    </a:lnTo>
                    <a:lnTo>
                      <a:pt x="224" y="144"/>
                    </a:lnTo>
                    <a:lnTo>
                      <a:pt x="224" y="141"/>
                    </a:lnTo>
                    <a:lnTo>
                      <a:pt x="226" y="138"/>
                    </a:lnTo>
                    <a:lnTo>
                      <a:pt x="226" y="134"/>
                    </a:lnTo>
                    <a:lnTo>
                      <a:pt x="227" y="130"/>
                    </a:lnTo>
                    <a:lnTo>
                      <a:pt x="231" y="123"/>
                    </a:lnTo>
                    <a:lnTo>
                      <a:pt x="239" y="121"/>
                    </a:lnTo>
                    <a:lnTo>
                      <a:pt x="246" y="120"/>
                    </a:lnTo>
                    <a:lnTo>
                      <a:pt x="251" y="118"/>
                    </a:lnTo>
                    <a:lnTo>
                      <a:pt x="256" y="115"/>
                    </a:lnTo>
                    <a:lnTo>
                      <a:pt x="259" y="110"/>
                    </a:lnTo>
                    <a:lnTo>
                      <a:pt x="264" y="107"/>
                    </a:lnTo>
                    <a:lnTo>
                      <a:pt x="268" y="102"/>
                    </a:lnTo>
                    <a:lnTo>
                      <a:pt x="274" y="96"/>
                    </a:lnTo>
                    <a:lnTo>
                      <a:pt x="259" y="91"/>
                    </a:lnTo>
                    <a:lnTo>
                      <a:pt x="244" y="84"/>
                    </a:lnTo>
                    <a:lnTo>
                      <a:pt x="229" y="78"/>
                    </a:lnTo>
                    <a:lnTo>
                      <a:pt x="215" y="70"/>
                    </a:lnTo>
                    <a:lnTo>
                      <a:pt x="202" y="62"/>
                    </a:lnTo>
                    <a:lnTo>
                      <a:pt x="189" y="52"/>
                    </a:lnTo>
                    <a:lnTo>
                      <a:pt x="177" y="42"/>
                    </a:lnTo>
                    <a:lnTo>
                      <a:pt x="163" y="32"/>
                    </a:lnTo>
                    <a:lnTo>
                      <a:pt x="148" y="34"/>
                    </a:lnTo>
                    <a:lnTo>
                      <a:pt x="135" y="32"/>
                    </a:lnTo>
                    <a:lnTo>
                      <a:pt x="123" y="29"/>
                    </a:lnTo>
                    <a:lnTo>
                      <a:pt x="113" y="24"/>
                    </a:lnTo>
                    <a:lnTo>
                      <a:pt x="103" y="18"/>
                    </a:lnTo>
                    <a:lnTo>
                      <a:pt x="93" y="13"/>
                    </a:lnTo>
                    <a:lnTo>
                      <a:pt x="82" y="7"/>
                    </a:lnTo>
                    <a:lnTo>
                      <a:pt x="7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27000" y="3219840"/>
                <a:ext cx="98280" cy="317880"/>
              </a:xfrm>
              <a:custGeom>
                <a:avLst/>
                <a:gdLst/>
                <a:ahLst/>
                <a:rect l="l" t="t" r="r" b="b"/>
                <a:pathLst>
                  <a:path w="64" h="206">
                    <a:moveTo>
                      <a:pt x="54" y="0"/>
                    </a:moveTo>
                    <a:lnTo>
                      <a:pt x="54" y="8"/>
                    </a:lnTo>
                    <a:lnTo>
                      <a:pt x="55" y="15"/>
                    </a:lnTo>
                    <a:lnTo>
                      <a:pt x="57" y="21"/>
                    </a:lnTo>
                    <a:lnTo>
                      <a:pt x="59" y="26"/>
                    </a:lnTo>
                    <a:lnTo>
                      <a:pt x="61" y="33"/>
                    </a:lnTo>
                    <a:lnTo>
                      <a:pt x="62" y="38"/>
                    </a:lnTo>
                    <a:lnTo>
                      <a:pt x="62" y="44"/>
                    </a:lnTo>
                    <a:lnTo>
                      <a:pt x="64" y="49"/>
                    </a:lnTo>
                    <a:lnTo>
                      <a:pt x="52" y="65"/>
                    </a:lnTo>
                    <a:lnTo>
                      <a:pt x="40" y="83"/>
                    </a:lnTo>
                    <a:lnTo>
                      <a:pt x="29" y="102"/>
                    </a:lnTo>
                    <a:lnTo>
                      <a:pt x="17" y="123"/>
                    </a:lnTo>
                    <a:lnTo>
                      <a:pt x="8" y="145"/>
                    </a:lnTo>
                    <a:lnTo>
                      <a:pt x="3" y="166"/>
                    </a:lnTo>
                    <a:lnTo>
                      <a:pt x="0" y="175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2" y="20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99960" y="3150720"/>
                <a:ext cx="558000" cy="698400"/>
              </a:xfrm>
              <a:custGeom>
                <a:avLst/>
                <a:gdLst/>
                <a:ahLst/>
                <a:rect l="l" t="t" r="r" b="b"/>
                <a:pathLst>
                  <a:path w="362" h="453">
                    <a:moveTo>
                      <a:pt x="36" y="44"/>
                    </a:moveTo>
                    <a:lnTo>
                      <a:pt x="49" y="42"/>
                    </a:lnTo>
                    <a:lnTo>
                      <a:pt x="59" y="41"/>
                    </a:lnTo>
                    <a:lnTo>
                      <a:pt x="69" y="37"/>
                    </a:lnTo>
                    <a:lnTo>
                      <a:pt x="76" y="34"/>
                    </a:lnTo>
                    <a:lnTo>
                      <a:pt x="85" y="28"/>
                    </a:lnTo>
                    <a:lnTo>
                      <a:pt x="91" y="21"/>
                    </a:lnTo>
                    <a:lnTo>
                      <a:pt x="101" y="11"/>
                    </a:lnTo>
                    <a:lnTo>
                      <a:pt x="112" y="0"/>
                    </a:lnTo>
                    <a:lnTo>
                      <a:pt x="125" y="2"/>
                    </a:lnTo>
                    <a:lnTo>
                      <a:pt x="138" y="8"/>
                    </a:lnTo>
                    <a:lnTo>
                      <a:pt x="154" y="18"/>
                    </a:lnTo>
                    <a:lnTo>
                      <a:pt x="169" y="29"/>
                    </a:lnTo>
                    <a:lnTo>
                      <a:pt x="184" y="41"/>
                    </a:lnTo>
                    <a:lnTo>
                      <a:pt x="201" y="49"/>
                    </a:lnTo>
                    <a:lnTo>
                      <a:pt x="208" y="52"/>
                    </a:lnTo>
                    <a:lnTo>
                      <a:pt x="216" y="55"/>
                    </a:lnTo>
                    <a:lnTo>
                      <a:pt x="223" y="55"/>
                    </a:lnTo>
                    <a:lnTo>
                      <a:pt x="229" y="55"/>
                    </a:lnTo>
                    <a:lnTo>
                      <a:pt x="234" y="49"/>
                    </a:lnTo>
                    <a:lnTo>
                      <a:pt x="240" y="44"/>
                    </a:lnTo>
                    <a:lnTo>
                      <a:pt x="246" y="39"/>
                    </a:lnTo>
                    <a:lnTo>
                      <a:pt x="253" y="36"/>
                    </a:lnTo>
                    <a:lnTo>
                      <a:pt x="261" y="32"/>
                    </a:lnTo>
                    <a:lnTo>
                      <a:pt x="270" y="29"/>
                    </a:lnTo>
                    <a:lnTo>
                      <a:pt x="280" y="28"/>
                    </a:lnTo>
                    <a:lnTo>
                      <a:pt x="292" y="26"/>
                    </a:lnTo>
                    <a:lnTo>
                      <a:pt x="298" y="44"/>
                    </a:lnTo>
                    <a:lnTo>
                      <a:pt x="304" y="57"/>
                    </a:lnTo>
                    <a:lnTo>
                      <a:pt x="307" y="65"/>
                    </a:lnTo>
                    <a:lnTo>
                      <a:pt x="310" y="71"/>
                    </a:lnTo>
                    <a:lnTo>
                      <a:pt x="317" y="76"/>
                    </a:lnTo>
                    <a:lnTo>
                      <a:pt x="325" y="79"/>
                    </a:lnTo>
                    <a:lnTo>
                      <a:pt x="341" y="83"/>
                    </a:lnTo>
                    <a:lnTo>
                      <a:pt x="362" y="86"/>
                    </a:lnTo>
                    <a:lnTo>
                      <a:pt x="361" y="105"/>
                    </a:lnTo>
                    <a:lnTo>
                      <a:pt x="356" y="121"/>
                    </a:lnTo>
                    <a:lnTo>
                      <a:pt x="351" y="136"/>
                    </a:lnTo>
                    <a:lnTo>
                      <a:pt x="344" y="151"/>
                    </a:lnTo>
                    <a:lnTo>
                      <a:pt x="337" y="164"/>
                    </a:lnTo>
                    <a:lnTo>
                      <a:pt x="332" y="178"/>
                    </a:lnTo>
                    <a:lnTo>
                      <a:pt x="329" y="191"/>
                    </a:lnTo>
                    <a:lnTo>
                      <a:pt x="327" y="206"/>
                    </a:lnTo>
                    <a:lnTo>
                      <a:pt x="324" y="214"/>
                    </a:lnTo>
                    <a:lnTo>
                      <a:pt x="324" y="222"/>
                    </a:lnTo>
                    <a:lnTo>
                      <a:pt x="324" y="227"/>
                    </a:lnTo>
                    <a:lnTo>
                      <a:pt x="324" y="233"/>
                    </a:lnTo>
                    <a:lnTo>
                      <a:pt x="325" y="238"/>
                    </a:lnTo>
                    <a:lnTo>
                      <a:pt x="327" y="245"/>
                    </a:lnTo>
                    <a:lnTo>
                      <a:pt x="329" y="249"/>
                    </a:lnTo>
                    <a:lnTo>
                      <a:pt x="330" y="258"/>
                    </a:lnTo>
                    <a:lnTo>
                      <a:pt x="327" y="258"/>
                    </a:lnTo>
                    <a:lnTo>
                      <a:pt x="309" y="264"/>
                    </a:lnTo>
                    <a:lnTo>
                      <a:pt x="292" y="267"/>
                    </a:lnTo>
                    <a:lnTo>
                      <a:pt x="277" y="267"/>
                    </a:lnTo>
                    <a:lnTo>
                      <a:pt x="261" y="267"/>
                    </a:lnTo>
                    <a:lnTo>
                      <a:pt x="248" y="267"/>
                    </a:lnTo>
                    <a:lnTo>
                      <a:pt x="233" y="269"/>
                    </a:lnTo>
                    <a:lnTo>
                      <a:pt x="221" y="274"/>
                    </a:lnTo>
                    <a:lnTo>
                      <a:pt x="208" y="280"/>
                    </a:lnTo>
                    <a:lnTo>
                      <a:pt x="208" y="293"/>
                    </a:lnTo>
                    <a:lnTo>
                      <a:pt x="211" y="304"/>
                    </a:lnTo>
                    <a:lnTo>
                      <a:pt x="213" y="313"/>
                    </a:lnTo>
                    <a:lnTo>
                      <a:pt x="216" y="321"/>
                    </a:lnTo>
                    <a:lnTo>
                      <a:pt x="216" y="329"/>
                    </a:lnTo>
                    <a:lnTo>
                      <a:pt x="214" y="337"/>
                    </a:lnTo>
                    <a:lnTo>
                      <a:pt x="208" y="348"/>
                    </a:lnTo>
                    <a:lnTo>
                      <a:pt x="197" y="361"/>
                    </a:lnTo>
                    <a:lnTo>
                      <a:pt x="181" y="369"/>
                    </a:lnTo>
                    <a:lnTo>
                      <a:pt x="165" y="379"/>
                    </a:lnTo>
                    <a:lnTo>
                      <a:pt x="152" y="389"/>
                    </a:lnTo>
                    <a:lnTo>
                      <a:pt x="138" y="400"/>
                    </a:lnTo>
                    <a:lnTo>
                      <a:pt x="128" y="413"/>
                    </a:lnTo>
                    <a:lnTo>
                      <a:pt x="118" y="426"/>
                    </a:lnTo>
                    <a:lnTo>
                      <a:pt x="110" y="441"/>
                    </a:lnTo>
                    <a:lnTo>
                      <a:pt x="105" y="453"/>
                    </a:lnTo>
                    <a:lnTo>
                      <a:pt x="96" y="452"/>
                    </a:lnTo>
                    <a:lnTo>
                      <a:pt x="90" y="450"/>
                    </a:lnTo>
                    <a:lnTo>
                      <a:pt x="81" y="447"/>
                    </a:lnTo>
                    <a:lnTo>
                      <a:pt x="75" y="445"/>
                    </a:lnTo>
                    <a:lnTo>
                      <a:pt x="68" y="442"/>
                    </a:lnTo>
                    <a:lnTo>
                      <a:pt x="61" y="441"/>
                    </a:lnTo>
                    <a:lnTo>
                      <a:pt x="53" y="439"/>
                    </a:lnTo>
                    <a:lnTo>
                      <a:pt x="44" y="439"/>
                    </a:lnTo>
                    <a:lnTo>
                      <a:pt x="37" y="437"/>
                    </a:lnTo>
                    <a:lnTo>
                      <a:pt x="32" y="437"/>
                    </a:lnTo>
                    <a:lnTo>
                      <a:pt x="27" y="436"/>
                    </a:lnTo>
                    <a:lnTo>
                      <a:pt x="22" y="434"/>
                    </a:lnTo>
                    <a:lnTo>
                      <a:pt x="16" y="432"/>
                    </a:lnTo>
                    <a:lnTo>
                      <a:pt x="11" y="431"/>
                    </a:lnTo>
                    <a:lnTo>
                      <a:pt x="5" y="429"/>
                    </a:lnTo>
                    <a:lnTo>
                      <a:pt x="0" y="4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1960" y="3849120"/>
                <a:ext cx="300600" cy="18360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119"/>
                    </a:moveTo>
                    <a:lnTo>
                      <a:pt x="155" y="115"/>
                    </a:lnTo>
                    <a:lnTo>
                      <a:pt x="123" y="112"/>
                    </a:lnTo>
                    <a:lnTo>
                      <a:pt x="108" y="112"/>
                    </a:lnTo>
                    <a:lnTo>
                      <a:pt x="94" y="111"/>
                    </a:lnTo>
                    <a:lnTo>
                      <a:pt x="82" y="107"/>
                    </a:lnTo>
                    <a:lnTo>
                      <a:pt x="71" y="104"/>
                    </a:lnTo>
                    <a:lnTo>
                      <a:pt x="60" y="99"/>
                    </a:lnTo>
                    <a:lnTo>
                      <a:pt x="50" y="93"/>
                    </a:lnTo>
                    <a:lnTo>
                      <a:pt x="42" y="83"/>
                    </a:lnTo>
                    <a:lnTo>
                      <a:pt x="33" y="73"/>
                    </a:lnTo>
                    <a:lnTo>
                      <a:pt x="25" y="59"/>
                    </a:lnTo>
                    <a:lnTo>
                      <a:pt x="17" y="43"/>
                    </a:lnTo>
                    <a:lnTo>
                      <a:pt x="8" y="2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90440" y="2641680"/>
                <a:ext cx="110880" cy="323640"/>
              </a:xfrm>
              <a:custGeom>
                <a:avLst/>
                <a:gdLst/>
                <a:ahLst/>
                <a:rect l="l" t="t" r="r" b="b"/>
                <a:pathLst>
                  <a:path w="72" h="210">
                    <a:moveTo>
                      <a:pt x="0" y="210"/>
                    </a:moveTo>
                    <a:lnTo>
                      <a:pt x="2" y="207"/>
                    </a:lnTo>
                    <a:lnTo>
                      <a:pt x="5" y="204"/>
                    </a:lnTo>
                    <a:lnTo>
                      <a:pt x="10" y="200"/>
                    </a:lnTo>
                    <a:lnTo>
                      <a:pt x="17" y="197"/>
                    </a:lnTo>
                    <a:lnTo>
                      <a:pt x="24" y="194"/>
                    </a:lnTo>
                    <a:lnTo>
                      <a:pt x="30" y="192"/>
                    </a:lnTo>
                    <a:lnTo>
                      <a:pt x="35" y="189"/>
                    </a:lnTo>
                    <a:lnTo>
                      <a:pt x="39" y="188"/>
                    </a:lnTo>
                    <a:lnTo>
                      <a:pt x="49" y="186"/>
                    </a:lnTo>
                    <a:lnTo>
                      <a:pt x="56" y="184"/>
                    </a:lnTo>
                    <a:lnTo>
                      <a:pt x="61" y="181"/>
                    </a:lnTo>
                    <a:lnTo>
                      <a:pt x="66" y="178"/>
                    </a:lnTo>
                    <a:lnTo>
                      <a:pt x="69" y="175"/>
                    </a:lnTo>
                    <a:lnTo>
                      <a:pt x="71" y="170"/>
                    </a:lnTo>
                    <a:lnTo>
                      <a:pt x="71" y="166"/>
                    </a:lnTo>
                    <a:lnTo>
                      <a:pt x="72" y="162"/>
                    </a:lnTo>
                    <a:lnTo>
                      <a:pt x="71" y="150"/>
                    </a:lnTo>
                    <a:lnTo>
                      <a:pt x="67" y="139"/>
                    </a:lnTo>
                    <a:lnTo>
                      <a:pt x="66" y="128"/>
                    </a:lnTo>
                    <a:lnTo>
                      <a:pt x="64" y="113"/>
                    </a:lnTo>
                    <a:lnTo>
                      <a:pt x="64" y="98"/>
                    </a:lnTo>
                    <a:lnTo>
                      <a:pt x="62" y="85"/>
                    </a:lnTo>
                    <a:lnTo>
                      <a:pt x="61" y="71"/>
                    </a:lnTo>
                    <a:lnTo>
                      <a:pt x="57" y="56"/>
                    </a:lnTo>
                    <a:lnTo>
                      <a:pt x="56" y="43"/>
                    </a:lnTo>
                    <a:lnTo>
                      <a:pt x="54" y="29"/>
                    </a:lnTo>
                    <a:lnTo>
                      <a:pt x="54" y="14"/>
                    </a:lnTo>
                    <a:lnTo>
                      <a:pt x="5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45120" y="1969200"/>
                <a:ext cx="907920" cy="1314000"/>
              </a:xfrm>
              <a:custGeom>
                <a:avLst/>
                <a:gdLst/>
                <a:ahLst/>
                <a:rect l="l" t="t" r="r" b="b"/>
                <a:pathLst>
                  <a:path w="589" h="852">
                    <a:moveTo>
                      <a:pt x="203" y="852"/>
                    </a:moveTo>
                    <a:lnTo>
                      <a:pt x="212" y="847"/>
                    </a:lnTo>
                    <a:lnTo>
                      <a:pt x="222" y="841"/>
                    </a:lnTo>
                    <a:lnTo>
                      <a:pt x="230" y="834"/>
                    </a:lnTo>
                    <a:lnTo>
                      <a:pt x="239" y="826"/>
                    </a:lnTo>
                    <a:lnTo>
                      <a:pt x="247" y="818"/>
                    </a:lnTo>
                    <a:lnTo>
                      <a:pt x="256" y="808"/>
                    </a:lnTo>
                    <a:lnTo>
                      <a:pt x="262" y="797"/>
                    </a:lnTo>
                    <a:lnTo>
                      <a:pt x="269" y="785"/>
                    </a:lnTo>
                    <a:lnTo>
                      <a:pt x="278" y="776"/>
                    </a:lnTo>
                    <a:lnTo>
                      <a:pt x="284" y="766"/>
                    </a:lnTo>
                    <a:lnTo>
                      <a:pt x="288" y="756"/>
                    </a:lnTo>
                    <a:lnTo>
                      <a:pt x="291" y="747"/>
                    </a:lnTo>
                    <a:lnTo>
                      <a:pt x="294" y="739"/>
                    </a:lnTo>
                    <a:lnTo>
                      <a:pt x="298" y="732"/>
                    </a:lnTo>
                    <a:lnTo>
                      <a:pt x="303" y="724"/>
                    </a:lnTo>
                    <a:lnTo>
                      <a:pt x="313" y="719"/>
                    </a:lnTo>
                    <a:lnTo>
                      <a:pt x="316" y="716"/>
                    </a:lnTo>
                    <a:lnTo>
                      <a:pt x="321" y="714"/>
                    </a:lnTo>
                    <a:lnTo>
                      <a:pt x="326" y="713"/>
                    </a:lnTo>
                    <a:lnTo>
                      <a:pt x="331" y="711"/>
                    </a:lnTo>
                    <a:lnTo>
                      <a:pt x="338" y="709"/>
                    </a:lnTo>
                    <a:lnTo>
                      <a:pt x="345" y="708"/>
                    </a:lnTo>
                    <a:lnTo>
                      <a:pt x="353" y="706"/>
                    </a:lnTo>
                    <a:lnTo>
                      <a:pt x="362" y="706"/>
                    </a:lnTo>
                    <a:lnTo>
                      <a:pt x="365" y="693"/>
                    </a:lnTo>
                    <a:lnTo>
                      <a:pt x="367" y="682"/>
                    </a:lnTo>
                    <a:lnTo>
                      <a:pt x="368" y="669"/>
                    </a:lnTo>
                    <a:lnTo>
                      <a:pt x="372" y="658"/>
                    </a:lnTo>
                    <a:lnTo>
                      <a:pt x="377" y="645"/>
                    </a:lnTo>
                    <a:lnTo>
                      <a:pt x="382" y="633"/>
                    </a:lnTo>
                    <a:lnTo>
                      <a:pt x="390" y="620"/>
                    </a:lnTo>
                    <a:lnTo>
                      <a:pt x="404" y="607"/>
                    </a:lnTo>
                    <a:lnTo>
                      <a:pt x="414" y="601"/>
                    </a:lnTo>
                    <a:lnTo>
                      <a:pt x="426" y="593"/>
                    </a:lnTo>
                    <a:lnTo>
                      <a:pt x="436" y="581"/>
                    </a:lnTo>
                    <a:lnTo>
                      <a:pt x="444" y="570"/>
                    </a:lnTo>
                    <a:lnTo>
                      <a:pt x="453" y="556"/>
                    </a:lnTo>
                    <a:lnTo>
                      <a:pt x="459" y="541"/>
                    </a:lnTo>
                    <a:lnTo>
                      <a:pt x="466" y="523"/>
                    </a:lnTo>
                    <a:lnTo>
                      <a:pt x="471" y="507"/>
                    </a:lnTo>
                    <a:lnTo>
                      <a:pt x="480" y="471"/>
                    </a:lnTo>
                    <a:lnTo>
                      <a:pt x="486" y="436"/>
                    </a:lnTo>
                    <a:lnTo>
                      <a:pt x="490" y="402"/>
                    </a:lnTo>
                    <a:lnTo>
                      <a:pt x="491" y="372"/>
                    </a:lnTo>
                    <a:lnTo>
                      <a:pt x="485" y="369"/>
                    </a:lnTo>
                    <a:lnTo>
                      <a:pt x="478" y="364"/>
                    </a:lnTo>
                    <a:lnTo>
                      <a:pt x="473" y="358"/>
                    </a:lnTo>
                    <a:lnTo>
                      <a:pt x="470" y="351"/>
                    </a:lnTo>
                    <a:lnTo>
                      <a:pt x="466" y="342"/>
                    </a:lnTo>
                    <a:lnTo>
                      <a:pt x="464" y="332"/>
                    </a:lnTo>
                    <a:lnTo>
                      <a:pt x="464" y="322"/>
                    </a:lnTo>
                    <a:lnTo>
                      <a:pt x="463" y="311"/>
                    </a:lnTo>
                    <a:lnTo>
                      <a:pt x="466" y="290"/>
                    </a:lnTo>
                    <a:lnTo>
                      <a:pt x="471" y="269"/>
                    </a:lnTo>
                    <a:lnTo>
                      <a:pt x="475" y="259"/>
                    </a:lnTo>
                    <a:lnTo>
                      <a:pt x="480" y="251"/>
                    </a:lnTo>
                    <a:lnTo>
                      <a:pt x="485" y="243"/>
                    </a:lnTo>
                    <a:lnTo>
                      <a:pt x="491" y="236"/>
                    </a:lnTo>
                    <a:lnTo>
                      <a:pt x="493" y="236"/>
                    </a:lnTo>
                    <a:lnTo>
                      <a:pt x="493" y="238"/>
                    </a:lnTo>
                    <a:lnTo>
                      <a:pt x="495" y="238"/>
                    </a:lnTo>
                    <a:lnTo>
                      <a:pt x="496" y="238"/>
                    </a:lnTo>
                    <a:lnTo>
                      <a:pt x="498" y="238"/>
                    </a:lnTo>
                    <a:lnTo>
                      <a:pt x="500" y="240"/>
                    </a:lnTo>
                    <a:lnTo>
                      <a:pt x="503" y="240"/>
                    </a:lnTo>
                    <a:lnTo>
                      <a:pt x="505" y="241"/>
                    </a:lnTo>
                    <a:lnTo>
                      <a:pt x="505" y="240"/>
                    </a:lnTo>
                    <a:lnTo>
                      <a:pt x="507" y="236"/>
                    </a:lnTo>
                    <a:lnTo>
                      <a:pt x="508" y="235"/>
                    </a:lnTo>
                    <a:lnTo>
                      <a:pt x="508" y="233"/>
                    </a:lnTo>
                    <a:lnTo>
                      <a:pt x="510" y="232"/>
                    </a:lnTo>
                    <a:lnTo>
                      <a:pt x="512" y="228"/>
                    </a:lnTo>
                    <a:lnTo>
                      <a:pt x="512" y="227"/>
                    </a:lnTo>
                    <a:lnTo>
                      <a:pt x="513" y="224"/>
                    </a:lnTo>
                    <a:lnTo>
                      <a:pt x="530" y="228"/>
                    </a:lnTo>
                    <a:lnTo>
                      <a:pt x="544" y="232"/>
                    </a:lnTo>
                    <a:lnTo>
                      <a:pt x="554" y="232"/>
                    </a:lnTo>
                    <a:lnTo>
                      <a:pt x="562" y="228"/>
                    </a:lnTo>
                    <a:lnTo>
                      <a:pt x="569" y="224"/>
                    </a:lnTo>
                    <a:lnTo>
                      <a:pt x="574" y="214"/>
                    </a:lnTo>
                    <a:lnTo>
                      <a:pt x="581" y="199"/>
                    </a:lnTo>
                    <a:lnTo>
                      <a:pt x="589" y="180"/>
                    </a:lnTo>
                    <a:lnTo>
                      <a:pt x="586" y="178"/>
                    </a:lnTo>
                    <a:lnTo>
                      <a:pt x="581" y="175"/>
                    </a:lnTo>
                    <a:lnTo>
                      <a:pt x="574" y="173"/>
                    </a:lnTo>
                    <a:lnTo>
                      <a:pt x="569" y="173"/>
                    </a:lnTo>
                    <a:lnTo>
                      <a:pt x="562" y="172"/>
                    </a:lnTo>
                    <a:lnTo>
                      <a:pt x="557" y="172"/>
                    </a:lnTo>
                    <a:lnTo>
                      <a:pt x="552" y="172"/>
                    </a:lnTo>
                    <a:lnTo>
                      <a:pt x="550" y="172"/>
                    </a:lnTo>
                    <a:lnTo>
                      <a:pt x="534" y="162"/>
                    </a:lnTo>
                    <a:lnTo>
                      <a:pt x="518" y="152"/>
                    </a:lnTo>
                    <a:lnTo>
                      <a:pt x="502" y="141"/>
                    </a:lnTo>
                    <a:lnTo>
                      <a:pt x="488" y="130"/>
                    </a:lnTo>
                    <a:lnTo>
                      <a:pt x="473" y="117"/>
                    </a:lnTo>
                    <a:lnTo>
                      <a:pt x="461" y="104"/>
                    </a:lnTo>
                    <a:lnTo>
                      <a:pt x="451" y="91"/>
                    </a:lnTo>
                    <a:lnTo>
                      <a:pt x="443" y="76"/>
                    </a:lnTo>
                    <a:lnTo>
                      <a:pt x="417" y="76"/>
                    </a:lnTo>
                    <a:lnTo>
                      <a:pt x="397" y="76"/>
                    </a:lnTo>
                    <a:lnTo>
                      <a:pt x="384" y="78"/>
                    </a:lnTo>
                    <a:lnTo>
                      <a:pt x="374" y="78"/>
                    </a:lnTo>
                    <a:lnTo>
                      <a:pt x="363" y="76"/>
                    </a:lnTo>
                    <a:lnTo>
                      <a:pt x="353" y="75"/>
                    </a:lnTo>
                    <a:lnTo>
                      <a:pt x="340" y="68"/>
                    </a:lnTo>
                    <a:lnTo>
                      <a:pt x="323" y="58"/>
                    </a:lnTo>
                    <a:lnTo>
                      <a:pt x="303" y="57"/>
                    </a:lnTo>
                    <a:lnTo>
                      <a:pt x="279" y="53"/>
                    </a:lnTo>
                    <a:lnTo>
                      <a:pt x="252" y="49"/>
                    </a:lnTo>
                    <a:lnTo>
                      <a:pt x="225" y="42"/>
                    </a:lnTo>
                    <a:lnTo>
                      <a:pt x="198" y="36"/>
                    </a:lnTo>
                    <a:lnTo>
                      <a:pt x="173" y="26"/>
                    </a:lnTo>
                    <a:lnTo>
                      <a:pt x="163" y="23"/>
                    </a:lnTo>
                    <a:lnTo>
                      <a:pt x="155" y="16"/>
                    </a:lnTo>
                    <a:lnTo>
                      <a:pt x="148" y="11"/>
                    </a:lnTo>
                    <a:lnTo>
                      <a:pt x="141" y="6"/>
                    </a:lnTo>
                    <a:lnTo>
                      <a:pt x="138" y="5"/>
                    </a:lnTo>
                    <a:lnTo>
                      <a:pt x="133" y="5"/>
                    </a:lnTo>
                    <a:lnTo>
                      <a:pt x="128" y="3"/>
                    </a:lnTo>
                    <a:lnTo>
                      <a:pt x="123" y="3"/>
                    </a:lnTo>
                    <a:lnTo>
                      <a:pt x="118" y="2"/>
                    </a:lnTo>
                    <a:lnTo>
                      <a:pt x="114" y="2"/>
                    </a:lnTo>
                    <a:lnTo>
                      <a:pt x="109" y="2"/>
                    </a:lnTo>
                    <a:lnTo>
                      <a:pt x="104" y="0"/>
                    </a:lnTo>
                    <a:lnTo>
                      <a:pt x="97" y="5"/>
                    </a:lnTo>
                    <a:lnTo>
                      <a:pt x="87" y="6"/>
                    </a:lnTo>
                    <a:lnTo>
                      <a:pt x="75" y="8"/>
                    </a:lnTo>
                    <a:lnTo>
                      <a:pt x="64" y="8"/>
                    </a:lnTo>
                    <a:lnTo>
                      <a:pt x="52" y="8"/>
                    </a:lnTo>
                    <a:lnTo>
                      <a:pt x="40" y="6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1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42760" y="3548520"/>
                <a:ext cx="419040" cy="91296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43" y="0"/>
                    </a:moveTo>
                    <a:lnTo>
                      <a:pt x="52" y="3"/>
                    </a:lnTo>
                    <a:lnTo>
                      <a:pt x="60" y="8"/>
                    </a:lnTo>
                    <a:lnTo>
                      <a:pt x="69" y="11"/>
                    </a:lnTo>
                    <a:lnTo>
                      <a:pt x="77" y="16"/>
                    </a:lnTo>
                    <a:lnTo>
                      <a:pt x="86" y="19"/>
                    </a:lnTo>
                    <a:lnTo>
                      <a:pt x="94" y="22"/>
                    </a:lnTo>
                    <a:lnTo>
                      <a:pt x="104" y="25"/>
                    </a:lnTo>
                    <a:lnTo>
                      <a:pt x="113" y="27"/>
                    </a:lnTo>
                    <a:lnTo>
                      <a:pt x="116" y="32"/>
                    </a:lnTo>
                    <a:lnTo>
                      <a:pt x="119" y="37"/>
                    </a:lnTo>
                    <a:lnTo>
                      <a:pt x="124" y="40"/>
                    </a:lnTo>
                    <a:lnTo>
                      <a:pt x="129" y="43"/>
                    </a:lnTo>
                    <a:lnTo>
                      <a:pt x="141" y="46"/>
                    </a:lnTo>
                    <a:lnTo>
                      <a:pt x="156" y="48"/>
                    </a:lnTo>
                    <a:lnTo>
                      <a:pt x="170" y="50"/>
                    </a:lnTo>
                    <a:lnTo>
                      <a:pt x="182" y="55"/>
                    </a:lnTo>
                    <a:lnTo>
                      <a:pt x="187" y="58"/>
                    </a:lnTo>
                    <a:lnTo>
                      <a:pt x="190" y="61"/>
                    </a:lnTo>
                    <a:lnTo>
                      <a:pt x="195" y="66"/>
                    </a:lnTo>
                    <a:lnTo>
                      <a:pt x="197" y="72"/>
                    </a:lnTo>
                    <a:lnTo>
                      <a:pt x="198" y="72"/>
                    </a:lnTo>
                    <a:lnTo>
                      <a:pt x="200" y="74"/>
                    </a:lnTo>
                    <a:lnTo>
                      <a:pt x="202" y="76"/>
                    </a:lnTo>
                    <a:lnTo>
                      <a:pt x="203" y="76"/>
                    </a:lnTo>
                    <a:lnTo>
                      <a:pt x="207" y="76"/>
                    </a:lnTo>
                    <a:lnTo>
                      <a:pt x="208" y="77"/>
                    </a:lnTo>
                    <a:lnTo>
                      <a:pt x="214" y="77"/>
                    </a:lnTo>
                    <a:lnTo>
                      <a:pt x="219" y="77"/>
                    </a:lnTo>
                    <a:lnTo>
                      <a:pt x="222" y="84"/>
                    </a:lnTo>
                    <a:lnTo>
                      <a:pt x="227" y="90"/>
                    </a:lnTo>
                    <a:lnTo>
                      <a:pt x="234" y="97"/>
                    </a:lnTo>
                    <a:lnTo>
                      <a:pt x="239" y="103"/>
                    </a:lnTo>
                    <a:lnTo>
                      <a:pt x="247" y="108"/>
                    </a:lnTo>
                    <a:lnTo>
                      <a:pt x="254" y="115"/>
                    </a:lnTo>
                    <a:lnTo>
                      <a:pt x="262" y="118"/>
                    </a:lnTo>
                    <a:lnTo>
                      <a:pt x="269" y="123"/>
                    </a:lnTo>
                    <a:lnTo>
                      <a:pt x="269" y="126"/>
                    </a:lnTo>
                    <a:lnTo>
                      <a:pt x="269" y="131"/>
                    </a:lnTo>
                    <a:lnTo>
                      <a:pt x="271" y="134"/>
                    </a:lnTo>
                    <a:lnTo>
                      <a:pt x="271" y="137"/>
                    </a:lnTo>
                    <a:lnTo>
                      <a:pt x="271" y="142"/>
                    </a:lnTo>
                    <a:lnTo>
                      <a:pt x="272" y="145"/>
                    </a:lnTo>
                    <a:lnTo>
                      <a:pt x="272" y="150"/>
                    </a:lnTo>
                    <a:lnTo>
                      <a:pt x="272" y="153"/>
                    </a:lnTo>
                    <a:lnTo>
                      <a:pt x="267" y="157"/>
                    </a:lnTo>
                    <a:lnTo>
                      <a:pt x="264" y="160"/>
                    </a:lnTo>
                    <a:lnTo>
                      <a:pt x="259" y="161"/>
                    </a:lnTo>
                    <a:lnTo>
                      <a:pt x="256" y="165"/>
                    </a:lnTo>
                    <a:lnTo>
                      <a:pt x="254" y="168"/>
                    </a:lnTo>
                    <a:lnTo>
                      <a:pt x="251" y="170"/>
                    </a:lnTo>
                    <a:lnTo>
                      <a:pt x="249" y="171"/>
                    </a:lnTo>
                    <a:lnTo>
                      <a:pt x="249" y="171"/>
                    </a:lnTo>
                    <a:lnTo>
                      <a:pt x="247" y="170"/>
                    </a:lnTo>
                    <a:lnTo>
                      <a:pt x="220" y="170"/>
                    </a:lnTo>
                    <a:lnTo>
                      <a:pt x="197" y="170"/>
                    </a:lnTo>
                    <a:lnTo>
                      <a:pt x="178" y="173"/>
                    </a:lnTo>
                    <a:lnTo>
                      <a:pt x="161" y="178"/>
                    </a:lnTo>
                    <a:lnTo>
                      <a:pt x="148" y="183"/>
                    </a:lnTo>
                    <a:lnTo>
                      <a:pt x="138" y="189"/>
                    </a:lnTo>
                    <a:lnTo>
                      <a:pt x="128" y="197"/>
                    </a:lnTo>
                    <a:lnTo>
                      <a:pt x="121" y="207"/>
                    </a:lnTo>
                    <a:lnTo>
                      <a:pt x="111" y="228"/>
                    </a:lnTo>
                    <a:lnTo>
                      <a:pt x="102" y="254"/>
                    </a:lnTo>
                    <a:lnTo>
                      <a:pt x="92" y="285"/>
                    </a:lnTo>
                    <a:lnTo>
                      <a:pt x="79" y="315"/>
                    </a:lnTo>
                    <a:lnTo>
                      <a:pt x="75" y="315"/>
                    </a:lnTo>
                    <a:lnTo>
                      <a:pt x="67" y="315"/>
                    </a:lnTo>
                    <a:lnTo>
                      <a:pt x="55" y="315"/>
                    </a:lnTo>
                    <a:lnTo>
                      <a:pt x="43" y="315"/>
                    </a:lnTo>
                    <a:lnTo>
                      <a:pt x="33" y="315"/>
                    </a:lnTo>
                    <a:lnTo>
                      <a:pt x="23" y="315"/>
                    </a:lnTo>
                    <a:lnTo>
                      <a:pt x="15" y="314"/>
                    </a:lnTo>
                    <a:lnTo>
                      <a:pt x="13" y="314"/>
                    </a:lnTo>
                    <a:lnTo>
                      <a:pt x="11" y="317"/>
                    </a:lnTo>
                    <a:lnTo>
                      <a:pt x="11" y="323"/>
                    </a:lnTo>
                    <a:lnTo>
                      <a:pt x="8" y="332"/>
                    </a:lnTo>
                    <a:lnTo>
                      <a:pt x="6" y="340"/>
                    </a:lnTo>
                    <a:lnTo>
                      <a:pt x="3" y="349"/>
                    </a:lnTo>
                    <a:lnTo>
                      <a:pt x="1" y="357"/>
                    </a:lnTo>
                    <a:lnTo>
                      <a:pt x="0" y="362"/>
                    </a:lnTo>
                    <a:lnTo>
                      <a:pt x="0" y="364"/>
                    </a:lnTo>
                    <a:lnTo>
                      <a:pt x="3" y="366"/>
                    </a:lnTo>
                    <a:lnTo>
                      <a:pt x="6" y="367"/>
                    </a:lnTo>
                    <a:lnTo>
                      <a:pt x="11" y="369"/>
                    </a:lnTo>
                    <a:lnTo>
                      <a:pt x="18" y="370"/>
                    </a:lnTo>
                    <a:lnTo>
                      <a:pt x="23" y="374"/>
                    </a:lnTo>
                    <a:lnTo>
                      <a:pt x="28" y="377"/>
                    </a:lnTo>
                    <a:lnTo>
                      <a:pt x="32" y="380"/>
                    </a:lnTo>
                    <a:lnTo>
                      <a:pt x="35" y="383"/>
                    </a:lnTo>
                    <a:lnTo>
                      <a:pt x="35" y="400"/>
                    </a:lnTo>
                    <a:lnTo>
                      <a:pt x="37" y="414"/>
                    </a:lnTo>
                    <a:lnTo>
                      <a:pt x="40" y="425"/>
                    </a:lnTo>
                    <a:lnTo>
                      <a:pt x="43" y="434"/>
                    </a:lnTo>
                    <a:lnTo>
                      <a:pt x="49" y="442"/>
                    </a:lnTo>
                    <a:lnTo>
                      <a:pt x="54" y="447"/>
                    </a:lnTo>
                    <a:lnTo>
                      <a:pt x="59" y="451"/>
                    </a:lnTo>
                    <a:lnTo>
                      <a:pt x="64" y="456"/>
                    </a:lnTo>
                    <a:lnTo>
                      <a:pt x="75" y="463"/>
                    </a:lnTo>
                    <a:lnTo>
                      <a:pt x="87" y="469"/>
                    </a:lnTo>
                    <a:lnTo>
                      <a:pt x="92" y="474"/>
                    </a:lnTo>
                    <a:lnTo>
                      <a:pt x="96" y="481"/>
                    </a:lnTo>
                    <a:lnTo>
                      <a:pt x="99" y="487"/>
                    </a:lnTo>
                    <a:lnTo>
                      <a:pt x="101" y="495"/>
                    </a:lnTo>
                    <a:lnTo>
                      <a:pt x="102" y="497"/>
                    </a:lnTo>
                    <a:lnTo>
                      <a:pt x="102" y="498"/>
                    </a:lnTo>
                    <a:lnTo>
                      <a:pt x="104" y="500"/>
                    </a:lnTo>
                    <a:lnTo>
                      <a:pt x="106" y="502"/>
                    </a:lnTo>
                    <a:lnTo>
                      <a:pt x="107" y="503"/>
                    </a:lnTo>
                    <a:lnTo>
                      <a:pt x="107" y="505"/>
                    </a:lnTo>
                    <a:lnTo>
                      <a:pt x="109" y="506"/>
                    </a:lnTo>
                    <a:lnTo>
                      <a:pt x="111" y="508"/>
                    </a:lnTo>
                    <a:lnTo>
                      <a:pt x="106" y="521"/>
                    </a:lnTo>
                    <a:lnTo>
                      <a:pt x="101" y="532"/>
                    </a:lnTo>
                    <a:lnTo>
                      <a:pt x="97" y="542"/>
                    </a:lnTo>
                    <a:lnTo>
                      <a:pt x="96" y="552"/>
                    </a:lnTo>
                    <a:lnTo>
                      <a:pt x="94" y="560"/>
                    </a:lnTo>
                    <a:lnTo>
                      <a:pt x="94" y="570"/>
                    </a:lnTo>
                    <a:lnTo>
                      <a:pt x="94" y="579"/>
                    </a:lnTo>
                    <a:lnTo>
                      <a:pt x="94" y="5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26880" y="3812400"/>
                <a:ext cx="422280" cy="342000"/>
              </a:xfrm>
              <a:custGeom>
                <a:avLst/>
                <a:gdLst/>
                <a:ahLst/>
                <a:rect l="l" t="t" r="r" b="b"/>
                <a:pathLst>
                  <a:path w="274" h="222">
                    <a:moveTo>
                      <a:pt x="274" y="222"/>
                    </a:moveTo>
                    <a:lnTo>
                      <a:pt x="145" y="167"/>
                    </a:lnTo>
                    <a:lnTo>
                      <a:pt x="146" y="149"/>
                    </a:lnTo>
                    <a:lnTo>
                      <a:pt x="135" y="144"/>
                    </a:lnTo>
                    <a:lnTo>
                      <a:pt x="123" y="139"/>
                    </a:lnTo>
                    <a:lnTo>
                      <a:pt x="111" y="133"/>
                    </a:lnTo>
                    <a:lnTo>
                      <a:pt x="101" y="125"/>
                    </a:lnTo>
                    <a:lnTo>
                      <a:pt x="93" y="117"/>
                    </a:lnTo>
                    <a:lnTo>
                      <a:pt x="87" y="107"/>
                    </a:lnTo>
                    <a:lnTo>
                      <a:pt x="82" y="96"/>
                    </a:lnTo>
                    <a:lnTo>
                      <a:pt x="81" y="81"/>
                    </a:lnTo>
                    <a:lnTo>
                      <a:pt x="74" y="78"/>
                    </a:lnTo>
                    <a:lnTo>
                      <a:pt x="69" y="75"/>
                    </a:lnTo>
                    <a:lnTo>
                      <a:pt x="66" y="71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57"/>
                    </a:lnTo>
                    <a:lnTo>
                      <a:pt x="67" y="49"/>
                    </a:lnTo>
                    <a:lnTo>
                      <a:pt x="67" y="39"/>
                    </a:lnTo>
                    <a:lnTo>
                      <a:pt x="61" y="41"/>
                    </a:lnTo>
                    <a:lnTo>
                      <a:pt x="55" y="41"/>
                    </a:lnTo>
                    <a:lnTo>
                      <a:pt x="52" y="42"/>
                    </a:lnTo>
                    <a:lnTo>
                      <a:pt x="50" y="44"/>
                    </a:lnTo>
                    <a:lnTo>
                      <a:pt x="49" y="46"/>
                    </a:lnTo>
                    <a:lnTo>
                      <a:pt x="47" y="47"/>
                    </a:lnTo>
                    <a:lnTo>
                      <a:pt x="45" y="49"/>
                    </a:lnTo>
                    <a:lnTo>
                      <a:pt x="45" y="50"/>
                    </a:lnTo>
                    <a:lnTo>
                      <a:pt x="37" y="49"/>
                    </a:lnTo>
                    <a:lnTo>
                      <a:pt x="30" y="46"/>
                    </a:lnTo>
                    <a:lnTo>
                      <a:pt x="23" y="41"/>
                    </a:lnTo>
                    <a:lnTo>
                      <a:pt x="18" y="34"/>
                    </a:lnTo>
                    <a:lnTo>
                      <a:pt x="13" y="26"/>
                    </a:lnTo>
                    <a:lnTo>
                      <a:pt x="8" y="1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9040" y="1859760"/>
                <a:ext cx="1063800" cy="439560"/>
              </a:xfrm>
              <a:custGeom>
                <a:avLst/>
                <a:gdLst/>
                <a:ahLst/>
                <a:rect l="l" t="t" r="r" b="b"/>
                <a:pathLst>
                  <a:path w="690" h="285">
                    <a:moveTo>
                      <a:pt x="633" y="285"/>
                    </a:moveTo>
                    <a:lnTo>
                      <a:pt x="633" y="285"/>
                    </a:lnTo>
                    <a:lnTo>
                      <a:pt x="633" y="285"/>
                    </a:lnTo>
                    <a:lnTo>
                      <a:pt x="633" y="283"/>
                    </a:lnTo>
                    <a:lnTo>
                      <a:pt x="635" y="283"/>
                    </a:lnTo>
                    <a:lnTo>
                      <a:pt x="635" y="283"/>
                    </a:lnTo>
                    <a:lnTo>
                      <a:pt x="635" y="283"/>
                    </a:lnTo>
                    <a:lnTo>
                      <a:pt x="635" y="283"/>
                    </a:lnTo>
                    <a:lnTo>
                      <a:pt x="635" y="282"/>
                    </a:lnTo>
                    <a:lnTo>
                      <a:pt x="638" y="264"/>
                    </a:lnTo>
                    <a:lnTo>
                      <a:pt x="643" y="249"/>
                    </a:lnTo>
                    <a:lnTo>
                      <a:pt x="648" y="238"/>
                    </a:lnTo>
                    <a:lnTo>
                      <a:pt x="655" y="228"/>
                    </a:lnTo>
                    <a:lnTo>
                      <a:pt x="662" y="218"/>
                    </a:lnTo>
                    <a:lnTo>
                      <a:pt x="670" y="207"/>
                    </a:lnTo>
                    <a:lnTo>
                      <a:pt x="678" y="192"/>
                    </a:lnTo>
                    <a:lnTo>
                      <a:pt x="689" y="175"/>
                    </a:lnTo>
                    <a:lnTo>
                      <a:pt x="690" y="171"/>
                    </a:lnTo>
                    <a:lnTo>
                      <a:pt x="687" y="168"/>
                    </a:lnTo>
                    <a:lnTo>
                      <a:pt x="683" y="167"/>
                    </a:lnTo>
                    <a:lnTo>
                      <a:pt x="680" y="163"/>
                    </a:lnTo>
                    <a:lnTo>
                      <a:pt x="677" y="160"/>
                    </a:lnTo>
                    <a:lnTo>
                      <a:pt x="675" y="158"/>
                    </a:lnTo>
                    <a:lnTo>
                      <a:pt x="672" y="155"/>
                    </a:lnTo>
                    <a:lnTo>
                      <a:pt x="668" y="152"/>
                    </a:lnTo>
                    <a:lnTo>
                      <a:pt x="667" y="150"/>
                    </a:lnTo>
                    <a:lnTo>
                      <a:pt x="667" y="142"/>
                    </a:lnTo>
                    <a:lnTo>
                      <a:pt x="667" y="134"/>
                    </a:lnTo>
                    <a:lnTo>
                      <a:pt x="668" y="126"/>
                    </a:lnTo>
                    <a:lnTo>
                      <a:pt x="670" y="118"/>
                    </a:lnTo>
                    <a:lnTo>
                      <a:pt x="670" y="110"/>
                    </a:lnTo>
                    <a:lnTo>
                      <a:pt x="670" y="103"/>
                    </a:lnTo>
                    <a:lnTo>
                      <a:pt x="672" y="95"/>
                    </a:lnTo>
                    <a:lnTo>
                      <a:pt x="672" y="87"/>
                    </a:lnTo>
                    <a:lnTo>
                      <a:pt x="668" y="87"/>
                    </a:lnTo>
                    <a:lnTo>
                      <a:pt x="655" y="92"/>
                    </a:lnTo>
                    <a:lnTo>
                      <a:pt x="641" y="94"/>
                    </a:lnTo>
                    <a:lnTo>
                      <a:pt x="630" y="94"/>
                    </a:lnTo>
                    <a:lnTo>
                      <a:pt x="616" y="94"/>
                    </a:lnTo>
                    <a:lnTo>
                      <a:pt x="603" y="94"/>
                    </a:lnTo>
                    <a:lnTo>
                      <a:pt x="591" y="92"/>
                    </a:lnTo>
                    <a:lnTo>
                      <a:pt x="577" y="90"/>
                    </a:lnTo>
                    <a:lnTo>
                      <a:pt x="562" y="89"/>
                    </a:lnTo>
                    <a:lnTo>
                      <a:pt x="556" y="81"/>
                    </a:lnTo>
                    <a:lnTo>
                      <a:pt x="545" y="76"/>
                    </a:lnTo>
                    <a:lnTo>
                      <a:pt x="535" y="71"/>
                    </a:lnTo>
                    <a:lnTo>
                      <a:pt x="525" y="66"/>
                    </a:lnTo>
                    <a:lnTo>
                      <a:pt x="502" y="63"/>
                    </a:lnTo>
                    <a:lnTo>
                      <a:pt x="478" y="61"/>
                    </a:lnTo>
                    <a:lnTo>
                      <a:pt x="454" y="61"/>
                    </a:lnTo>
                    <a:lnTo>
                      <a:pt x="433" y="65"/>
                    </a:lnTo>
                    <a:lnTo>
                      <a:pt x="411" y="68"/>
                    </a:lnTo>
                    <a:lnTo>
                      <a:pt x="392" y="71"/>
                    </a:lnTo>
                    <a:lnTo>
                      <a:pt x="379" y="65"/>
                    </a:lnTo>
                    <a:lnTo>
                      <a:pt x="362" y="56"/>
                    </a:lnTo>
                    <a:lnTo>
                      <a:pt x="343" y="50"/>
                    </a:lnTo>
                    <a:lnTo>
                      <a:pt x="323" y="43"/>
                    </a:lnTo>
                    <a:lnTo>
                      <a:pt x="303" y="39"/>
                    </a:lnTo>
                    <a:lnTo>
                      <a:pt x="284" y="34"/>
                    </a:lnTo>
                    <a:lnTo>
                      <a:pt x="268" y="32"/>
                    </a:lnTo>
                    <a:lnTo>
                      <a:pt x="252" y="32"/>
                    </a:lnTo>
                    <a:lnTo>
                      <a:pt x="247" y="35"/>
                    </a:lnTo>
                    <a:lnTo>
                      <a:pt x="241" y="37"/>
                    </a:lnTo>
                    <a:lnTo>
                      <a:pt x="234" y="37"/>
                    </a:lnTo>
                    <a:lnTo>
                      <a:pt x="229" y="37"/>
                    </a:lnTo>
                    <a:lnTo>
                      <a:pt x="217" y="34"/>
                    </a:lnTo>
                    <a:lnTo>
                      <a:pt x="207" y="29"/>
                    </a:lnTo>
                    <a:lnTo>
                      <a:pt x="197" y="21"/>
                    </a:lnTo>
                    <a:lnTo>
                      <a:pt x="187" y="14"/>
                    </a:lnTo>
                    <a:lnTo>
                      <a:pt x="178" y="6"/>
                    </a:lnTo>
                    <a:lnTo>
                      <a:pt x="170" y="0"/>
                    </a:lnTo>
                    <a:lnTo>
                      <a:pt x="148" y="0"/>
                    </a:lnTo>
                    <a:lnTo>
                      <a:pt x="124" y="0"/>
                    </a:lnTo>
                    <a:lnTo>
                      <a:pt x="103" y="0"/>
                    </a:lnTo>
                    <a:lnTo>
                      <a:pt x="79" y="1"/>
                    </a:lnTo>
                    <a:lnTo>
                      <a:pt x="57" y="3"/>
                    </a:lnTo>
                    <a:lnTo>
                      <a:pt x="37" y="5"/>
                    </a:lnTo>
                    <a:lnTo>
                      <a:pt x="17" y="8"/>
                    </a:lnTo>
                    <a:lnTo>
                      <a:pt x="0" y="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89080" y="2274480"/>
                <a:ext cx="488880" cy="541440"/>
              </a:xfrm>
              <a:custGeom>
                <a:avLst/>
                <a:gdLst/>
                <a:ahLst/>
                <a:rect l="l" t="t" r="r" b="b"/>
                <a:pathLst>
                  <a:path w="317" h="351">
                    <a:moveTo>
                      <a:pt x="150" y="325"/>
                    </a:moveTo>
                    <a:lnTo>
                      <a:pt x="170" y="332"/>
                    </a:lnTo>
                    <a:lnTo>
                      <a:pt x="190" y="336"/>
                    </a:lnTo>
                    <a:lnTo>
                      <a:pt x="210" y="338"/>
                    </a:lnTo>
                    <a:lnTo>
                      <a:pt x="231" y="338"/>
                    </a:lnTo>
                    <a:lnTo>
                      <a:pt x="251" y="336"/>
                    </a:lnTo>
                    <a:lnTo>
                      <a:pt x="273" y="335"/>
                    </a:lnTo>
                    <a:lnTo>
                      <a:pt x="293" y="333"/>
                    </a:lnTo>
                    <a:lnTo>
                      <a:pt x="315" y="332"/>
                    </a:lnTo>
                    <a:lnTo>
                      <a:pt x="317" y="323"/>
                    </a:lnTo>
                    <a:lnTo>
                      <a:pt x="313" y="315"/>
                    </a:lnTo>
                    <a:lnTo>
                      <a:pt x="310" y="307"/>
                    </a:lnTo>
                    <a:lnTo>
                      <a:pt x="306" y="299"/>
                    </a:lnTo>
                    <a:lnTo>
                      <a:pt x="303" y="289"/>
                    </a:lnTo>
                    <a:lnTo>
                      <a:pt x="301" y="278"/>
                    </a:lnTo>
                    <a:lnTo>
                      <a:pt x="303" y="264"/>
                    </a:lnTo>
                    <a:lnTo>
                      <a:pt x="310" y="247"/>
                    </a:lnTo>
                    <a:lnTo>
                      <a:pt x="303" y="241"/>
                    </a:lnTo>
                    <a:lnTo>
                      <a:pt x="298" y="234"/>
                    </a:lnTo>
                    <a:lnTo>
                      <a:pt x="296" y="228"/>
                    </a:lnTo>
                    <a:lnTo>
                      <a:pt x="295" y="221"/>
                    </a:lnTo>
                    <a:lnTo>
                      <a:pt x="293" y="215"/>
                    </a:lnTo>
                    <a:lnTo>
                      <a:pt x="293" y="209"/>
                    </a:lnTo>
                    <a:lnTo>
                      <a:pt x="291" y="200"/>
                    </a:lnTo>
                    <a:lnTo>
                      <a:pt x="291" y="192"/>
                    </a:lnTo>
                    <a:lnTo>
                      <a:pt x="286" y="187"/>
                    </a:lnTo>
                    <a:lnTo>
                      <a:pt x="281" y="183"/>
                    </a:lnTo>
                    <a:lnTo>
                      <a:pt x="276" y="179"/>
                    </a:lnTo>
                    <a:lnTo>
                      <a:pt x="271" y="174"/>
                    </a:lnTo>
                    <a:lnTo>
                      <a:pt x="266" y="171"/>
                    </a:lnTo>
                    <a:lnTo>
                      <a:pt x="263" y="166"/>
                    </a:lnTo>
                    <a:lnTo>
                      <a:pt x="258" y="163"/>
                    </a:lnTo>
                    <a:lnTo>
                      <a:pt x="256" y="158"/>
                    </a:lnTo>
                    <a:lnTo>
                      <a:pt x="259" y="147"/>
                    </a:lnTo>
                    <a:lnTo>
                      <a:pt x="263" y="131"/>
                    </a:lnTo>
                    <a:lnTo>
                      <a:pt x="268" y="108"/>
                    </a:lnTo>
                    <a:lnTo>
                      <a:pt x="271" y="82"/>
                    </a:lnTo>
                    <a:lnTo>
                      <a:pt x="274" y="58"/>
                    </a:lnTo>
                    <a:lnTo>
                      <a:pt x="274" y="34"/>
                    </a:lnTo>
                    <a:lnTo>
                      <a:pt x="274" y="24"/>
                    </a:lnTo>
                    <a:lnTo>
                      <a:pt x="274" y="14"/>
                    </a:lnTo>
                    <a:lnTo>
                      <a:pt x="273" y="8"/>
                    </a:lnTo>
                    <a:lnTo>
                      <a:pt x="269" y="3"/>
                    </a:lnTo>
                    <a:lnTo>
                      <a:pt x="269" y="3"/>
                    </a:lnTo>
                    <a:lnTo>
                      <a:pt x="268" y="3"/>
                    </a:lnTo>
                    <a:lnTo>
                      <a:pt x="266" y="3"/>
                    </a:lnTo>
                    <a:lnTo>
                      <a:pt x="266" y="3"/>
                    </a:lnTo>
                    <a:lnTo>
                      <a:pt x="264" y="3"/>
                    </a:lnTo>
                    <a:lnTo>
                      <a:pt x="263" y="1"/>
                    </a:lnTo>
                    <a:lnTo>
                      <a:pt x="263" y="1"/>
                    </a:lnTo>
                    <a:lnTo>
                      <a:pt x="261" y="1"/>
                    </a:lnTo>
                    <a:lnTo>
                      <a:pt x="261" y="1"/>
                    </a:lnTo>
                    <a:lnTo>
                      <a:pt x="259" y="3"/>
                    </a:lnTo>
                    <a:lnTo>
                      <a:pt x="259" y="3"/>
                    </a:lnTo>
                    <a:lnTo>
                      <a:pt x="259" y="4"/>
                    </a:lnTo>
                    <a:lnTo>
                      <a:pt x="259" y="4"/>
                    </a:lnTo>
                    <a:lnTo>
                      <a:pt x="258" y="4"/>
                    </a:lnTo>
                    <a:lnTo>
                      <a:pt x="258" y="4"/>
                    </a:lnTo>
                    <a:lnTo>
                      <a:pt x="258" y="4"/>
                    </a:lnTo>
                    <a:lnTo>
                      <a:pt x="242" y="0"/>
                    </a:lnTo>
                    <a:lnTo>
                      <a:pt x="231" y="13"/>
                    </a:lnTo>
                    <a:lnTo>
                      <a:pt x="224" y="19"/>
                    </a:lnTo>
                    <a:lnTo>
                      <a:pt x="217" y="22"/>
                    </a:lnTo>
                    <a:lnTo>
                      <a:pt x="214" y="22"/>
                    </a:lnTo>
                    <a:lnTo>
                      <a:pt x="209" y="21"/>
                    </a:lnTo>
                    <a:lnTo>
                      <a:pt x="205" y="17"/>
                    </a:lnTo>
                    <a:lnTo>
                      <a:pt x="199" y="16"/>
                    </a:lnTo>
                    <a:lnTo>
                      <a:pt x="192" y="16"/>
                    </a:lnTo>
                    <a:lnTo>
                      <a:pt x="189" y="21"/>
                    </a:lnTo>
                    <a:lnTo>
                      <a:pt x="187" y="26"/>
                    </a:lnTo>
                    <a:lnTo>
                      <a:pt x="185" y="30"/>
                    </a:lnTo>
                    <a:lnTo>
                      <a:pt x="185" y="35"/>
                    </a:lnTo>
                    <a:lnTo>
                      <a:pt x="185" y="42"/>
                    </a:lnTo>
                    <a:lnTo>
                      <a:pt x="187" y="47"/>
                    </a:lnTo>
                    <a:lnTo>
                      <a:pt x="187" y="51"/>
                    </a:lnTo>
                    <a:lnTo>
                      <a:pt x="187" y="58"/>
                    </a:lnTo>
                    <a:lnTo>
                      <a:pt x="184" y="56"/>
                    </a:lnTo>
                    <a:lnTo>
                      <a:pt x="180" y="55"/>
                    </a:lnTo>
                    <a:lnTo>
                      <a:pt x="177" y="50"/>
                    </a:lnTo>
                    <a:lnTo>
                      <a:pt x="175" y="47"/>
                    </a:lnTo>
                    <a:lnTo>
                      <a:pt x="173" y="42"/>
                    </a:lnTo>
                    <a:lnTo>
                      <a:pt x="173" y="37"/>
                    </a:lnTo>
                    <a:lnTo>
                      <a:pt x="173" y="32"/>
                    </a:lnTo>
                    <a:lnTo>
                      <a:pt x="172" y="27"/>
                    </a:lnTo>
                    <a:lnTo>
                      <a:pt x="160" y="32"/>
                    </a:lnTo>
                    <a:lnTo>
                      <a:pt x="150" y="37"/>
                    </a:lnTo>
                    <a:lnTo>
                      <a:pt x="141" y="42"/>
                    </a:lnTo>
                    <a:lnTo>
                      <a:pt x="135" y="48"/>
                    </a:lnTo>
                    <a:lnTo>
                      <a:pt x="130" y="56"/>
                    </a:lnTo>
                    <a:lnTo>
                      <a:pt x="125" y="64"/>
                    </a:lnTo>
                    <a:lnTo>
                      <a:pt x="121" y="72"/>
                    </a:lnTo>
                    <a:lnTo>
                      <a:pt x="118" y="82"/>
                    </a:lnTo>
                    <a:lnTo>
                      <a:pt x="115" y="102"/>
                    </a:lnTo>
                    <a:lnTo>
                      <a:pt x="113" y="119"/>
                    </a:lnTo>
                    <a:lnTo>
                      <a:pt x="115" y="137"/>
                    </a:lnTo>
                    <a:lnTo>
                      <a:pt x="115" y="153"/>
                    </a:lnTo>
                    <a:lnTo>
                      <a:pt x="111" y="158"/>
                    </a:lnTo>
                    <a:lnTo>
                      <a:pt x="106" y="163"/>
                    </a:lnTo>
                    <a:lnTo>
                      <a:pt x="103" y="166"/>
                    </a:lnTo>
                    <a:lnTo>
                      <a:pt x="98" y="170"/>
                    </a:lnTo>
                    <a:lnTo>
                      <a:pt x="94" y="173"/>
                    </a:lnTo>
                    <a:lnTo>
                      <a:pt x="91" y="174"/>
                    </a:lnTo>
                    <a:lnTo>
                      <a:pt x="89" y="176"/>
                    </a:lnTo>
                    <a:lnTo>
                      <a:pt x="86" y="176"/>
                    </a:lnTo>
                    <a:lnTo>
                      <a:pt x="86" y="178"/>
                    </a:lnTo>
                    <a:lnTo>
                      <a:pt x="86" y="179"/>
                    </a:lnTo>
                    <a:lnTo>
                      <a:pt x="86" y="179"/>
                    </a:lnTo>
                    <a:lnTo>
                      <a:pt x="86" y="181"/>
                    </a:lnTo>
                    <a:lnTo>
                      <a:pt x="86" y="183"/>
                    </a:lnTo>
                    <a:lnTo>
                      <a:pt x="86" y="183"/>
                    </a:lnTo>
                    <a:lnTo>
                      <a:pt x="86" y="184"/>
                    </a:lnTo>
                    <a:lnTo>
                      <a:pt x="86" y="184"/>
                    </a:lnTo>
                    <a:lnTo>
                      <a:pt x="91" y="184"/>
                    </a:lnTo>
                    <a:lnTo>
                      <a:pt x="94" y="184"/>
                    </a:lnTo>
                    <a:lnTo>
                      <a:pt x="99" y="184"/>
                    </a:lnTo>
                    <a:lnTo>
                      <a:pt x="104" y="184"/>
                    </a:lnTo>
                    <a:lnTo>
                      <a:pt x="108" y="184"/>
                    </a:lnTo>
                    <a:lnTo>
                      <a:pt x="113" y="184"/>
                    </a:lnTo>
                    <a:lnTo>
                      <a:pt x="118" y="184"/>
                    </a:lnTo>
                    <a:lnTo>
                      <a:pt x="121" y="184"/>
                    </a:lnTo>
                    <a:lnTo>
                      <a:pt x="126" y="192"/>
                    </a:lnTo>
                    <a:lnTo>
                      <a:pt x="128" y="199"/>
                    </a:lnTo>
                    <a:lnTo>
                      <a:pt x="130" y="207"/>
                    </a:lnTo>
                    <a:lnTo>
                      <a:pt x="130" y="213"/>
                    </a:lnTo>
                    <a:lnTo>
                      <a:pt x="130" y="228"/>
                    </a:lnTo>
                    <a:lnTo>
                      <a:pt x="128" y="241"/>
                    </a:lnTo>
                    <a:lnTo>
                      <a:pt x="128" y="247"/>
                    </a:lnTo>
                    <a:lnTo>
                      <a:pt x="128" y="252"/>
                    </a:lnTo>
                    <a:lnTo>
                      <a:pt x="130" y="259"/>
                    </a:lnTo>
                    <a:lnTo>
                      <a:pt x="133" y="264"/>
                    </a:lnTo>
                    <a:lnTo>
                      <a:pt x="136" y="267"/>
                    </a:lnTo>
                    <a:lnTo>
                      <a:pt x="141" y="272"/>
                    </a:lnTo>
                    <a:lnTo>
                      <a:pt x="148" y="275"/>
                    </a:lnTo>
                    <a:lnTo>
                      <a:pt x="158" y="278"/>
                    </a:lnTo>
                    <a:lnTo>
                      <a:pt x="157" y="285"/>
                    </a:lnTo>
                    <a:lnTo>
                      <a:pt x="157" y="291"/>
                    </a:lnTo>
                    <a:lnTo>
                      <a:pt x="155" y="298"/>
                    </a:lnTo>
                    <a:lnTo>
                      <a:pt x="155" y="304"/>
                    </a:lnTo>
                    <a:lnTo>
                      <a:pt x="153" y="311"/>
                    </a:lnTo>
                    <a:lnTo>
                      <a:pt x="152" y="317"/>
                    </a:lnTo>
                    <a:lnTo>
                      <a:pt x="150" y="322"/>
                    </a:lnTo>
                    <a:lnTo>
                      <a:pt x="150" y="325"/>
                    </a:lnTo>
                    <a:lnTo>
                      <a:pt x="148" y="323"/>
                    </a:lnTo>
                    <a:lnTo>
                      <a:pt x="147" y="323"/>
                    </a:lnTo>
                    <a:lnTo>
                      <a:pt x="145" y="322"/>
                    </a:lnTo>
                    <a:lnTo>
                      <a:pt x="143" y="322"/>
                    </a:lnTo>
                    <a:lnTo>
                      <a:pt x="141" y="320"/>
                    </a:lnTo>
                    <a:lnTo>
                      <a:pt x="140" y="319"/>
                    </a:lnTo>
                    <a:lnTo>
                      <a:pt x="136" y="319"/>
                    </a:lnTo>
                    <a:lnTo>
                      <a:pt x="135" y="317"/>
                    </a:lnTo>
                    <a:lnTo>
                      <a:pt x="120" y="319"/>
                    </a:lnTo>
                    <a:lnTo>
                      <a:pt x="104" y="322"/>
                    </a:lnTo>
                    <a:lnTo>
                      <a:pt x="89" y="325"/>
                    </a:lnTo>
                    <a:lnTo>
                      <a:pt x="74" y="328"/>
                    </a:lnTo>
                    <a:lnTo>
                      <a:pt x="59" y="332"/>
                    </a:lnTo>
                    <a:lnTo>
                      <a:pt x="44" y="335"/>
                    </a:lnTo>
                    <a:lnTo>
                      <a:pt x="30" y="336"/>
                    </a:lnTo>
                    <a:lnTo>
                      <a:pt x="17" y="336"/>
                    </a:lnTo>
                    <a:lnTo>
                      <a:pt x="17" y="338"/>
                    </a:lnTo>
                    <a:lnTo>
                      <a:pt x="15" y="340"/>
                    </a:lnTo>
                    <a:lnTo>
                      <a:pt x="15" y="343"/>
                    </a:lnTo>
                    <a:lnTo>
                      <a:pt x="13" y="345"/>
                    </a:lnTo>
                    <a:lnTo>
                      <a:pt x="13" y="346"/>
                    </a:lnTo>
                    <a:lnTo>
                      <a:pt x="13" y="348"/>
                    </a:lnTo>
                    <a:lnTo>
                      <a:pt x="12" y="349"/>
                    </a:lnTo>
                    <a:lnTo>
                      <a:pt x="12" y="351"/>
                    </a:lnTo>
                    <a:lnTo>
                      <a:pt x="10" y="351"/>
                    </a:lnTo>
                    <a:lnTo>
                      <a:pt x="8" y="351"/>
                    </a:lnTo>
                    <a:lnTo>
                      <a:pt x="7" y="351"/>
                    </a:lnTo>
                    <a:lnTo>
                      <a:pt x="5" y="351"/>
                    </a:lnTo>
                    <a:lnTo>
                      <a:pt x="5" y="351"/>
                    </a:lnTo>
                    <a:lnTo>
                      <a:pt x="3" y="351"/>
                    </a:lnTo>
                    <a:lnTo>
                      <a:pt x="2" y="351"/>
                    </a:lnTo>
                    <a:lnTo>
                      <a:pt x="0" y="3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00120" y="2243880"/>
                <a:ext cx="630720" cy="536400"/>
              </a:xfrm>
              <a:custGeom>
                <a:avLst/>
                <a:gdLst/>
                <a:ahLst/>
                <a:rect l="l" t="t" r="r" b="b"/>
                <a:pathLst>
                  <a:path w="409" h="348">
                    <a:moveTo>
                      <a:pt x="0" y="319"/>
                    </a:moveTo>
                    <a:lnTo>
                      <a:pt x="3" y="321"/>
                    </a:lnTo>
                    <a:lnTo>
                      <a:pt x="6" y="324"/>
                    </a:lnTo>
                    <a:lnTo>
                      <a:pt x="10" y="326"/>
                    </a:lnTo>
                    <a:lnTo>
                      <a:pt x="15" y="329"/>
                    </a:lnTo>
                    <a:lnTo>
                      <a:pt x="18" y="331"/>
                    </a:lnTo>
                    <a:lnTo>
                      <a:pt x="23" y="332"/>
                    </a:lnTo>
                    <a:lnTo>
                      <a:pt x="28" y="332"/>
                    </a:lnTo>
                    <a:lnTo>
                      <a:pt x="35" y="334"/>
                    </a:lnTo>
                    <a:lnTo>
                      <a:pt x="35" y="332"/>
                    </a:lnTo>
                    <a:lnTo>
                      <a:pt x="35" y="332"/>
                    </a:lnTo>
                    <a:lnTo>
                      <a:pt x="35" y="331"/>
                    </a:lnTo>
                    <a:lnTo>
                      <a:pt x="35" y="329"/>
                    </a:lnTo>
                    <a:lnTo>
                      <a:pt x="35" y="329"/>
                    </a:lnTo>
                    <a:lnTo>
                      <a:pt x="35" y="327"/>
                    </a:lnTo>
                    <a:lnTo>
                      <a:pt x="35" y="327"/>
                    </a:lnTo>
                    <a:lnTo>
                      <a:pt x="35" y="326"/>
                    </a:lnTo>
                    <a:lnTo>
                      <a:pt x="40" y="324"/>
                    </a:lnTo>
                    <a:lnTo>
                      <a:pt x="44" y="326"/>
                    </a:lnTo>
                    <a:lnTo>
                      <a:pt x="49" y="329"/>
                    </a:lnTo>
                    <a:lnTo>
                      <a:pt x="52" y="334"/>
                    </a:lnTo>
                    <a:lnTo>
                      <a:pt x="57" y="339"/>
                    </a:lnTo>
                    <a:lnTo>
                      <a:pt x="60" y="342"/>
                    </a:lnTo>
                    <a:lnTo>
                      <a:pt x="64" y="345"/>
                    </a:lnTo>
                    <a:lnTo>
                      <a:pt x="67" y="348"/>
                    </a:lnTo>
                    <a:lnTo>
                      <a:pt x="69" y="348"/>
                    </a:lnTo>
                    <a:lnTo>
                      <a:pt x="70" y="347"/>
                    </a:lnTo>
                    <a:lnTo>
                      <a:pt x="72" y="347"/>
                    </a:lnTo>
                    <a:lnTo>
                      <a:pt x="74" y="347"/>
                    </a:lnTo>
                    <a:lnTo>
                      <a:pt x="76" y="347"/>
                    </a:lnTo>
                    <a:lnTo>
                      <a:pt x="77" y="345"/>
                    </a:lnTo>
                    <a:lnTo>
                      <a:pt x="81" y="345"/>
                    </a:lnTo>
                    <a:lnTo>
                      <a:pt x="82" y="345"/>
                    </a:lnTo>
                    <a:lnTo>
                      <a:pt x="92" y="334"/>
                    </a:lnTo>
                    <a:lnTo>
                      <a:pt x="104" y="324"/>
                    </a:lnTo>
                    <a:lnTo>
                      <a:pt x="119" y="316"/>
                    </a:lnTo>
                    <a:lnTo>
                      <a:pt x="134" y="309"/>
                    </a:lnTo>
                    <a:lnTo>
                      <a:pt x="151" y="301"/>
                    </a:lnTo>
                    <a:lnTo>
                      <a:pt x="168" y="297"/>
                    </a:lnTo>
                    <a:lnTo>
                      <a:pt x="187" y="292"/>
                    </a:lnTo>
                    <a:lnTo>
                      <a:pt x="205" y="287"/>
                    </a:lnTo>
                    <a:lnTo>
                      <a:pt x="205" y="282"/>
                    </a:lnTo>
                    <a:lnTo>
                      <a:pt x="205" y="277"/>
                    </a:lnTo>
                    <a:lnTo>
                      <a:pt x="205" y="274"/>
                    </a:lnTo>
                    <a:lnTo>
                      <a:pt x="207" y="272"/>
                    </a:lnTo>
                    <a:lnTo>
                      <a:pt x="207" y="271"/>
                    </a:lnTo>
                    <a:lnTo>
                      <a:pt x="207" y="269"/>
                    </a:lnTo>
                    <a:lnTo>
                      <a:pt x="207" y="267"/>
                    </a:lnTo>
                    <a:lnTo>
                      <a:pt x="205" y="267"/>
                    </a:lnTo>
                    <a:lnTo>
                      <a:pt x="212" y="267"/>
                    </a:lnTo>
                    <a:lnTo>
                      <a:pt x="220" y="267"/>
                    </a:lnTo>
                    <a:lnTo>
                      <a:pt x="227" y="267"/>
                    </a:lnTo>
                    <a:lnTo>
                      <a:pt x="234" y="266"/>
                    </a:lnTo>
                    <a:lnTo>
                      <a:pt x="242" y="264"/>
                    </a:lnTo>
                    <a:lnTo>
                      <a:pt x="249" y="264"/>
                    </a:lnTo>
                    <a:lnTo>
                      <a:pt x="256" y="263"/>
                    </a:lnTo>
                    <a:lnTo>
                      <a:pt x="262" y="261"/>
                    </a:lnTo>
                    <a:lnTo>
                      <a:pt x="264" y="263"/>
                    </a:lnTo>
                    <a:lnTo>
                      <a:pt x="266" y="264"/>
                    </a:lnTo>
                    <a:lnTo>
                      <a:pt x="267" y="264"/>
                    </a:lnTo>
                    <a:lnTo>
                      <a:pt x="269" y="266"/>
                    </a:lnTo>
                    <a:lnTo>
                      <a:pt x="273" y="267"/>
                    </a:lnTo>
                    <a:lnTo>
                      <a:pt x="274" y="269"/>
                    </a:lnTo>
                    <a:lnTo>
                      <a:pt x="276" y="269"/>
                    </a:lnTo>
                    <a:lnTo>
                      <a:pt x="278" y="271"/>
                    </a:lnTo>
                    <a:lnTo>
                      <a:pt x="286" y="267"/>
                    </a:lnTo>
                    <a:lnTo>
                      <a:pt x="298" y="264"/>
                    </a:lnTo>
                    <a:lnTo>
                      <a:pt x="311" y="259"/>
                    </a:lnTo>
                    <a:lnTo>
                      <a:pt x="326" y="256"/>
                    </a:lnTo>
                    <a:lnTo>
                      <a:pt x="342" y="254"/>
                    </a:lnTo>
                    <a:lnTo>
                      <a:pt x="353" y="253"/>
                    </a:lnTo>
                    <a:lnTo>
                      <a:pt x="365" y="254"/>
                    </a:lnTo>
                    <a:lnTo>
                      <a:pt x="372" y="258"/>
                    </a:lnTo>
                    <a:lnTo>
                      <a:pt x="385" y="253"/>
                    </a:lnTo>
                    <a:lnTo>
                      <a:pt x="395" y="245"/>
                    </a:lnTo>
                    <a:lnTo>
                      <a:pt x="401" y="237"/>
                    </a:lnTo>
                    <a:lnTo>
                      <a:pt x="402" y="227"/>
                    </a:lnTo>
                    <a:lnTo>
                      <a:pt x="404" y="216"/>
                    </a:lnTo>
                    <a:lnTo>
                      <a:pt x="404" y="203"/>
                    </a:lnTo>
                    <a:lnTo>
                      <a:pt x="406" y="188"/>
                    </a:lnTo>
                    <a:lnTo>
                      <a:pt x="409" y="172"/>
                    </a:lnTo>
                    <a:lnTo>
                      <a:pt x="401" y="165"/>
                    </a:lnTo>
                    <a:lnTo>
                      <a:pt x="392" y="159"/>
                    </a:lnTo>
                    <a:lnTo>
                      <a:pt x="384" y="154"/>
                    </a:lnTo>
                    <a:lnTo>
                      <a:pt x="377" y="148"/>
                    </a:lnTo>
                    <a:lnTo>
                      <a:pt x="369" y="141"/>
                    </a:lnTo>
                    <a:lnTo>
                      <a:pt x="360" y="135"/>
                    </a:lnTo>
                    <a:lnTo>
                      <a:pt x="353" y="128"/>
                    </a:lnTo>
                    <a:lnTo>
                      <a:pt x="345" y="122"/>
                    </a:lnTo>
                    <a:lnTo>
                      <a:pt x="345" y="118"/>
                    </a:lnTo>
                    <a:lnTo>
                      <a:pt x="345" y="115"/>
                    </a:lnTo>
                    <a:lnTo>
                      <a:pt x="343" y="112"/>
                    </a:lnTo>
                    <a:lnTo>
                      <a:pt x="343" y="107"/>
                    </a:lnTo>
                    <a:lnTo>
                      <a:pt x="343" y="104"/>
                    </a:lnTo>
                    <a:lnTo>
                      <a:pt x="343" y="101"/>
                    </a:lnTo>
                    <a:lnTo>
                      <a:pt x="342" y="97"/>
                    </a:lnTo>
                    <a:lnTo>
                      <a:pt x="342" y="92"/>
                    </a:lnTo>
                    <a:lnTo>
                      <a:pt x="200" y="16"/>
                    </a:lnTo>
                    <a:lnTo>
                      <a:pt x="198" y="13"/>
                    </a:lnTo>
                    <a:lnTo>
                      <a:pt x="197" y="11"/>
                    </a:lnTo>
                    <a:lnTo>
                      <a:pt x="195" y="10"/>
                    </a:lnTo>
                    <a:lnTo>
                      <a:pt x="193" y="7"/>
                    </a:lnTo>
                    <a:lnTo>
                      <a:pt x="192" y="5"/>
                    </a:lnTo>
                    <a:lnTo>
                      <a:pt x="188" y="3"/>
                    </a:lnTo>
                    <a:lnTo>
                      <a:pt x="187" y="2"/>
                    </a:lnTo>
                    <a:lnTo>
                      <a:pt x="18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66440" y="2965680"/>
                <a:ext cx="323640" cy="50400"/>
              </a:xfrm>
              <a:custGeom>
                <a:avLst/>
                <a:gdLst/>
                <a:ahLst/>
                <a:rect l="l" t="t" r="r" b="b"/>
                <a:pathLst>
                  <a:path w="210" h="33">
                    <a:moveTo>
                      <a:pt x="210" y="0"/>
                    </a:moveTo>
                    <a:lnTo>
                      <a:pt x="200" y="2"/>
                    </a:lnTo>
                    <a:lnTo>
                      <a:pt x="191" y="5"/>
                    </a:lnTo>
                    <a:lnTo>
                      <a:pt x="185" y="8"/>
                    </a:lnTo>
                    <a:lnTo>
                      <a:pt x="176" y="13"/>
                    </a:lnTo>
                    <a:lnTo>
                      <a:pt x="170" y="18"/>
                    </a:lnTo>
                    <a:lnTo>
                      <a:pt x="165" y="24"/>
                    </a:lnTo>
                    <a:lnTo>
                      <a:pt x="159" y="29"/>
                    </a:lnTo>
                    <a:lnTo>
                      <a:pt x="153" y="33"/>
                    </a:lnTo>
                    <a:lnTo>
                      <a:pt x="143" y="28"/>
                    </a:lnTo>
                    <a:lnTo>
                      <a:pt x="129" y="24"/>
                    </a:lnTo>
                    <a:lnTo>
                      <a:pt x="112" y="23"/>
                    </a:lnTo>
                    <a:lnTo>
                      <a:pt x="94" y="21"/>
                    </a:lnTo>
                    <a:lnTo>
                      <a:pt x="75" y="21"/>
                    </a:lnTo>
                    <a:lnTo>
                      <a:pt x="60" y="21"/>
                    </a:lnTo>
                    <a:lnTo>
                      <a:pt x="47" y="21"/>
                    </a:lnTo>
                    <a:lnTo>
                      <a:pt x="38" y="21"/>
                    </a:lnTo>
                    <a:lnTo>
                      <a:pt x="33" y="20"/>
                    </a:lnTo>
                    <a:lnTo>
                      <a:pt x="28" y="18"/>
                    </a:lnTo>
                    <a:lnTo>
                      <a:pt x="23" y="16"/>
                    </a:lnTo>
                    <a:lnTo>
                      <a:pt x="18" y="15"/>
                    </a:lnTo>
                    <a:lnTo>
                      <a:pt x="15" y="13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57720" y="2171160"/>
                <a:ext cx="849600" cy="35748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551" y="23"/>
                    </a:moveTo>
                    <a:lnTo>
                      <a:pt x="541" y="20"/>
                    </a:lnTo>
                    <a:lnTo>
                      <a:pt x="532" y="18"/>
                    </a:lnTo>
                    <a:lnTo>
                      <a:pt x="522" y="16"/>
                    </a:lnTo>
                    <a:lnTo>
                      <a:pt x="512" y="13"/>
                    </a:lnTo>
                    <a:lnTo>
                      <a:pt x="504" y="12"/>
                    </a:lnTo>
                    <a:lnTo>
                      <a:pt x="495" y="8"/>
                    </a:lnTo>
                    <a:lnTo>
                      <a:pt x="487" y="5"/>
                    </a:lnTo>
                    <a:lnTo>
                      <a:pt x="478" y="0"/>
                    </a:lnTo>
                    <a:lnTo>
                      <a:pt x="483" y="13"/>
                    </a:lnTo>
                    <a:lnTo>
                      <a:pt x="480" y="24"/>
                    </a:lnTo>
                    <a:lnTo>
                      <a:pt x="478" y="36"/>
                    </a:lnTo>
                    <a:lnTo>
                      <a:pt x="475" y="47"/>
                    </a:lnTo>
                    <a:lnTo>
                      <a:pt x="473" y="58"/>
                    </a:lnTo>
                    <a:lnTo>
                      <a:pt x="472" y="70"/>
                    </a:lnTo>
                    <a:lnTo>
                      <a:pt x="470" y="80"/>
                    </a:lnTo>
                    <a:lnTo>
                      <a:pt x="467" y="89"/>
                    </a:lnTo>
                    <a:lnTo>
                      <a:pt x="463" y="99"/>
                    </a:lnTo>
                    <a:lnTo>
                      <a:pt x="462" y="99"/>
                    </a:lnTo>
                    <a:lnTo>
                      <a:pt x="460" y="99"/>
                    </a:lnTo>
                    <a:lnTo>
                      <a:pt x="458" y="99"/>
                    </a:lnTo>
                    <a:lnTo>
                      <a:pt x="456" y="101"/>
                    </a:lnTo>
                    <a:lnTo>
                      <a:pt x="455" y="101"/>
                    </a:lnTo>
                    <a:lnTo>
                      <a:pt x="453" y="101"/>
                    </a:lnTo>
                    <a:lnTo>
                      <a:pt x="451" y="101"/>
                    </a:lnTo>
                    <a:lnTo>
                      <a:pt x="450" y="101"/>
                    </a:lnTo>
                    <a:lnTo>
                      <a:pt x="443" y="114"/>
                    </a:lnTo>
                    <a:lnTo>
                      <a:pt x="438" y="125"/>
                    </a:lnTo>
                    <a:lnTo>
                      <a:pt x="435" y="135"/>
                    </a:lnTo>
                    <a:lnTo>
                      <a:pt x="433" y="141"/>
                    </a:lnTo>
                    <a:lnTo>
                      <a:pt x="428" y="148"/>
                    </a:lnTo>
                    <a:lnTo>
                      <a:pt x="419" y="152"/>
                    </a:lnTo>
                    <a:lnTo>
                      <a:pt x="406" y="157"/>
                    </a:lnTo>
                    <a:lnTo>
                      <a:pt x="384" y="162"/>
                    </a:lnTo>
                    <a:lnTo>
                      <a:pt x="384" y="169"/>
                    </a:lnTo>
                    <a:lnTo>
                      <a:pt x="386" y="177"/>
                    </a:lnTo>
                    <a:lnTo>
                      <a:pt x="386" y="183"/>
                    </a:lnTo>
                    <a:lnTo>
                      <a:pt x="387" y="190"/>
                    </a:lnTo>
                    <a:lnTo>
                      <a:pt x="387" y="196"/>
                    </a:lnTo>
                    <a:lnTo>
                      <a:pt x="389" y="203"/>
                    </a:lnTo>
                    <a:lnTo>
                      <a:pt x="389" y="209"/>
                    </a:lnTo>
                    <a:lnTo>
                      <a:pt x="391" y="216"/>
                    </a:lnTo>
                    <a:lnTo>
                      <a:pt x="386" y="217"/>
                    </a:lnTo>
                    <a:lnTo>
                      <a:pt x="381" y="220"/>
                    </a:lnTo>
                    <a:lnTo>
                      <a:pt x="376" y="222"/>
                    </a:lnTo>
                    <a:lnTo>
                      <a:pt x="372" y="224"/>
                    </a:lnTo>
                    <a:lnTo>
                      <a:pt x="367" y="225"/>
                    </a:lnTo>
                    <a:lnTo>
                      <a:pt x="362" y="227"/>
                    </a:lnTo>
                    <a:lnTo>
                      <a:pt x="359" y="229"/>
                    </a:lnTo>
                    <a:lnTo>
                      <a:pt x="354" y="232"/>
                    </a:lnTo>
                    <a:lnTo>
                      <a:pt x="349" y="227"/>
                    </a:lnTo>
                    <a:lnTo>
                      <a:pt x="344" y="225"/>
                    </a:lnTo>
                    <a:lnTo>
                      <a:pt x="339" y="224"/>
                    </a:lnTo>
                    <a:lnTo>
                      <a:pt x="335" y="224"/>
                    </a:lnTo>
                    <a:lnTo>
                      <a:pt x="332" y="224"/>
                    </a:lnTo>
                    <a:lnTo>
                      <a:pt x="330" y="225"/>
                    </a:lnTo>
                    <a:lnTo>
                      <a:pt x="327" y="229"/>
                    </a:lnTo>
                    <a:lnTo>
                      <a:pt x="323" y="232"/>
                    </a:lnTo>
                    <a:lnTo>
                      <a:pt x="312" y="227"/>
                    </a:lnTo>
                    <a:lnTo>
                      <a:pt x="307" y="222"/>
                    </a:lnTo>
                    <a:lnTo>
                      <a:pt x="302" y="217"/>
                    </a:lnTo>
                    <a:lnTo>
                      <a:pt x="300" y="214"/>
                    </a:lnTo>
                    <a:lnTo>
                      <a:pt x="295" y="211"/>
                    </a:lnTo>
                    <a:lnTo>
                      <a:pt x="288" y="207"/>
                    </a:lnTo>
                    <a:lnTo>
                      <a:pt x="276" y="206"/>
                    </a:lnTo>
                    <a:lnTo>
                      <a:pt x="256" y="204"/>
                    </a:lnTo>
                    <a:lnTo>
                      <a:pt x="229" y="188"/>
                    </a:lnTo>
                    <a:lnTo>
                      <a:pt x="199" y="172"/>
                    </a:lnTo>
                    <a:lnTo>
                      <a:pt x="167" y="159"/>
                    </a:lnTo>
                    <a:lnTo>
                      <a:pt x="131" y="146"/>
                    </a:lnTo>
                    <a:lnTo>
                      <a:pt x="96" y="136"/>
                    </a:lnTo>
                    <a:lnTo>
                      <a:pt x="62" y="128"/>
                    </a:lnTo>
                    <a:lnTo>
                      <a:pt x="30" y="122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96160" y="2485800"/>
                <a:ext cx="531720" cy="374760"/>
              </a:xfrm>
              <a:custGeom>
                <a:avLst/>
                <a:gdLst/>
                <a:ahLst/>
                <a:rect l="l" t="t" r="r" b="b"/>
                <a:pathLst>
                  <a:path w="345" h="243">
                    <a:moveTo>
                      <a:pt x="0" y="243"/>
                    </a:moveTo>
                    <a:lnTo>
                      <a:pt x="1" y="237"/>
                    </a:lnTo>
                    <a:lnTo>
                      <a:pt x="3" y="233"/>
                    </a:lnTo>
                    <a:lnTo>
                      <a:pt x="8" y="230"/>
                    </a:lnTo>
                    <a:lnTo>
                      <a:pt x="13" y="227"/>
                    </a:lnTo>
                    <a:lnTo>
                      <a:pt x="18" y="224"/>
                    </a:lnTo>
                    <a:lnTo>
                      <a:pt x="23" y="221"/>
                    </a:lnTo>
                    <a:lnTo>
                      <a:pt x="28" y="214"/>
                    </a:lnTo>
                    <a:lnTo>
                      <a:pt x="32" y="206"/>
                    </a:lnTo>
                    <a:lnTo>
                      <a:pt x="35" y="206"/>
                    </a:lnTo>
                    <a:lnTo>
                      <a:pt x="40" y="206"/>
                    </a:lnTo>
                    <a:lnTo>
                      <a:pt x="44" y="206"/>
                    </a:lnTo>
                    <a:lnTo>
                      <a:pt x="49" y="206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9" y="209"/>
                    </a:lnTo>
                    <a:lnTo>
                      <a:pt x="79" y="211"/>
                    </a:lnTo>
                    <a:lnTo>
                      <a:pt x="87" y="214"/>
                    </a:lnTo>
                    <a:lnTo>
                      <a:pt x="97" y="219"/>
                    </a:lnTo>
                    <a:lnTo>
                      <a:pt x="109" y="224"/>
                    </a:lnTo>
                    <a:lnTo>
                      <a:pt x="123" y="230"/>
                    </a:lnTo>
                    <a:lnTo>
                      <a:pt x="134" y="235"/>
                    </a:lnTo>
                    <a:lnTo>
                      <a:pt x="146" y="238"/>
                    </a:lnTo>
                    <a:lnTo>
                      <a:pt x="155" y="242"/>
                    </a:lnTo>
                    <a:lnTo>
                      <a:pt x="163" y="242"/>
                    </a:lnTo>
                    <a:lnTo>
                      <a:pt x="165" y="235"/>
                    </a:lnTo>
                    <a:lnTo>
                      <a:pt x="165" y="230"/>
                    </a:lnTo>
                    <a:lnTo>
                      <a:pt x="165" y="225"/>
                    </a:lnTo>
                    <a:lnTo>
                      <a:pt x="166" y="221"/>
                    </a:lnTo>
                    <a:lnTo>
                      <a:pt x="168" y="217"/>
                    </a:lnTo>
                    <a:lnTo>
                      <a:pt x="173" y="214"/>
                    </a:lnTo>
                    <a:lnTo>
                      <a:pt x="178" y="212"/>
                    </a:lnTo>
                    <a:lnTo>
                      <a:pt x="188" y="209"/>
                    </a:lnTo>
                    <a:lnTo>
                      <a:pt x="188" y="204"/>
                    </a:lnTo>
                    <a:lnTo>
                      <a:pt x="190" y="199"/>
                    </a:lnTo>
                    <a:lnTo>
                      <a:pt x="190" y="195"/>
                    </a:lnTo>
                    <a:lnTo>
                      <a:pt x="192" y="191"/>
                    </a:lnTo>
                    <a:lnTo>
                      <a:pt x="195" y="186"/>
                    </a:lnTo>
                    <a:lnTo>
                      <a:pt x="198" y="183"/>
                    </a:lnTo>
                    <a:lnTo>
                      <a:pt x="205" y="178"/>
                    </a:lnTo>
                    <a:lnTo>
                      <a:pt x="214" y="175"/>
                    </a:lnTo>
                    <a:lnTo>
                      <a:pt x="214" y="174"/>
                    </a:lnTo>
                    <a:lnTo>
                      <a:pt x="214" y="172"/>
                    </a:lnTo>
                    <a:lnTo>
                      <a:pt x="214" y="170"/>
                    </a:lnTo>
                    <a:lnTo>
                      <a:pt x="214" y="169"/>
                    </a:lnTo>
                    <a:lnTo>
                      <a:pt x="214" y="167"/>
                    </a:lnTo>
                    <a:lnTo>
                      <a:pt x="214" y="165"/>
                    </a:lnTo>
                    <a:lnTo>
                      <a:pt x="214" y="164"/>
                    </a:lnTo>
                    <a:lnTo>
                      <a:pt x="214" y="162"/>
                    </a:lnTo>
                    <a:lnTo>
                      <a:pt x="227" y="161"/>
                    </a:lnTo>
                    <a:lnTo>
                      <a:pt x="242" y="157"/>
                    </a:lnTo>
                    <a:lnTo>
                      <a:pt x="256" y="152"/>
                    </a:lnTo>
                    <a:lnTo>
                      <a:pt x="271" y="146"/>
                    </a:lnTo>
                    <a:lnTo>
                      <a:pt x="286" y="141"/>
                    </a:lnTo>
                    <a:lnTo>
                      <a:pt x="301" y="136"/>
                    </a:lnTo>
                    <a:lnTo>
                      <a:pt x="316" y="133"/>
                    </a:lnTo>
                    <a:lnTo>
                      <a:pt x="331" y="131"/>
                    </a:lnTo>
                    <a:lnTo>
                      <a:pt x="333" y="125"/>
                    </a:lnTo>
                    <a:lnTo>
                      <a:pt x="335" y="118"/>
                    </a:lnTo>
                    <a:lnTo>
                      <a:pt x="337" y="112"/>
                    </a:lnTo>
                    <a:lnTo>
                      <a:pt x="338" y="106"/>
                    </a:lnTo>
                    <a:lnTo>
                      <a:pt x="340" y="97"/>
                    </a:lnTo>
                    <a:lnTo>
                      <a:pt x="342" y="91"/>
                    </a:lnTo>
                    <a:lnTo>
                      <a:pt x="343" y="84"/>
                    </a:lnTo>
                    <a:lnTo>
                      <a:pt x="345" y="76"/>
                    </a:lnTo>
                    <a:lnTo>
                      <a:pt x="343" y="76"/>
                    </a:lnTo>
                    <a:lnTo>
                      <a:pt x="342" y="76"/>
                    </a:lnTo>
                    <a:lnTo>
                      <a:pt x="342" y="76"/>
                    </a:lnTo>
                    <a:lnTo>
                      <a:pt x="340" y="76"/>
                    </a:lnTo>
                    <a:lnTo>
                      <a:pt x="338" y="75"/>
                    </a:lnTo>
                    <a:lnTo>
                      <a:pt x="338" y="75"/>
                    </a:lnTo>
                    <a:lnTo>
                      <a:pt x="337" y="75"/>
                    </a:lnTo>
                    <a:lnTo>
                      <a:pt x="335" y="75"/>
                    </a:lnTo>
                    <a:lnTo>
                      <a:pt x="331" y="65"/>
                    </a:lnTo>
                    <a:lnTo>
                      <a:pt x="328" y="57"/>
                    </a:lnTo>
                    <a:lnTo>
                      <a:pt x="325" y="54"/>
                    </a:lnTo>
                    <a:lnTo>
                      <a:pt x="321" y="50"/>
                    </a:lnTo>
                    <a:lnTo>
                      <a:pt x="316" y="49"/>
                    </a:lnTo>
                    <a:lnTo>
                      <a:pt x="311" y="46"/>
                    </a:lnTo>
                    <a:lnTo>
                      <a:pt x="305" y="42"/>
                    </a:lnTo>
                    <a:lnTo>
                      <a:pt x="298" y="37"/>
                    </a:lnTo>
                    <a:lnTo>
                      <a:pt x="298" y="34"/>
                    </a:lnTo>
                    <a:lnTo>
                      <a:pt x="298" y="29"/>
                    </a:lnTo>
                    <a:lnTo>
                      <a:pt x="298" y="25"/>
                    </a:lnTo>
                    <a:lnTo>
                      <a:pt x="298" y="20"/>
                    </a:lnTo>
                    <a:lnTo>
                      <a:pt x="298" y="15"/>
                    </a:lnTo>
                    <a:lnTo>
                      <a:pt x="298" y="10"/>
                    </a:lnTo>
                    <a:lnTo>
                      <a:pt x="298" y="5"/>
                    </a:lnTo>
                    <a:lnTo>
                      <a:pt x="29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8240" y="2158560"/>
                <a:ext cx="724680" cy="640080"/>
              </a:xfrm>
              <a:custGeom>
                <a:avLst/>
                <a:gdLst/>
                <a:ahLst/>
                <a:rect l="l" t="t" r="r" b="b"/>
                <a:pathLst>
                  <a:path w="470" h="415">
                    <a:moveTo>
                      <a:pt x="446" y="322"/>
                    </a:moveTo>
                    <a:lnTo>
                      <a:pt x="446" y="322"/>
                    </a:lnTo>
                    <a:lnTo>
                      <a:pt x="446" y="321"/>
                    </a:lnTo>
                    <a:lnTo>
                      <a:pt x="445" y="321"/>
                    </a:lnTo>
                    <a:lnTo>
                      <a:pt x="443" y="321"/>
                    </a:lnTo>
                    <a:lnTo>
                      <a:pt x="443" y="319"/>
                    </a:lnTo>
                    <a:lnTo>
                      <a:pt x="441" y="318"/>
                    </a:lnTo>
                    <a:lnTo>
                      <a:pt x="438" y="316"/>
                    </a:lnTo>
                    <a:lnTo>
                      <a:pt x="436" y="314"/>
                    </a:lnTo>
                    <a:lnTo>
                      <a:pt x="438" y="308"/>
                    </a:lnTo>
                    <a:lnTo>
                      <a:pt x="439" y="303"/>
                    </a:lnTo>
                    <a:lnTo>
                      <a:pt x="441" y="296"/>
                    </a:lnTo>
                    <a:lnTo>
                      <a:pt x="445" y="290"/>
                    </a:lnTo>
                    <a:lnTo>
                      <a:pt x="448" y="285"/>
                    </a:lnTo>
                    <a:lnTo>
                      <a:pt x="453" y="280"/>
                    </a:lnTo>
                    <a:lnTo>
                      <a:pt x="460" y="277"/>
                    </a:lnTo>
                    <a:lnTo>
                      <a:pt x="470" y="275"/>
                    </a:lnTo>
                    <a:lnTo>
                      <a:pt x="466" y="264"/>
                    </a:lnTo>
                    <a:lnTo>
                      <a:pt x="463" y="254"/>
                    </a:lnTo>
                    <a:lnTo>
                      <a:pt x="458" y="243"/>
                    </a:lnTo>
                    <a:lnTo>
                      <a:pt x="455" y="232"/>
                    </a:lnTo>
                    <a:lnTo>
                      <a:pt x="450" y="220"/>
                    </a:lnTo>
                    <a:lnTo>
                      <a:pt x="446" y="207"/>
                    </a:lnTo>
                    <a:lnTo>
                      <a:pt x="445" y="196"/>
                    </a:lnTo>
                    <a:lnTo>
                      <a:pt x="443" y="181"/>
                    </a:lnTo>
                    <a:lnTo>
                      <a:pt x="436" y="177"/>
                    </a:lnTo>
                    <a:lnTo>
                      <a:pt x="433" y="169"/>
                    </a:lnTo>
                    <a:lnTo>
                      <a:pt x="429" y="159"/>
                    </a:lnTo>
                    <a:lnTo>
                      <a:pt x="428" y="146"/>
                    </a:lnTo>
                    <a:lnTo>
                      <a:pt x="424" y="133"/>
                    </a:lnTo>
                    <a:lnTo>
                      <a:pt x="419" y="120"/>
                    </a:lnTo>
                    <a:lnTo>
                      <a:pt x="414" y="109"/>
                    </a:lnTo>
                    <a:lnTo>
                      <a:pt x="406" y="97"/>
                    </a:lnTo>
                    <a:lnTo>
                      <a:pt x="406" y="92"/>
                    </a:lnTo>
                    <a:lnTo>
                      <a:pt x="407" y="86"/>
                    </a:lnTo>
                    <a:lnTo>
                      <a:pt x="407" y="79"/>
                    </a:lnTo>
                    <a:lnTo>
                      <a:pt x="409" y="73"/>
                    </a:lnTo>
                    <a:lnTo>
                      <a:pt x="413" y="68"/>
                    </a:lnTo>
                    <a:lnTo>
                      <a:pt x="416" y="63"/>
                    </a:lnTo>
                    <a:lnTo>
                      <a:pt x="419" y="58"/>
                    </a:lnTo>
                    <a:lnTo>
                      <a:pt x="426" y="55"/>
                    </a:lnTo>
                    <a:lnTo>
                      <a:pt x="416" y="50"/>
                    </a:lnTo>
                    <a:lnTo>
                      <a:pt x="406" y="49"/>
                    </a:lnTo>
                    <a:lnTo>
                      <a:pt x="396" y="47"/>
                    </a:lnTo>
                    <a:lnTo>
                      <a:pt x="384" y="49"/>
                    </a:lnTo>
                    <a:lnTo>
                      <a:pt x="372" y="49"/>
                    </a:lnTo>
                    <a:lnTo>
                      <a:pt x="362" y="50"/>
                    </a:lnTo>
                    <a:lnTo>
                      <a:pt x="350" y="52"/>
                    </a:lnTo>
                    <a:lnTo>
                      <a:pt x="338" y="52"/>
                    </a:lnTo>
                    <a:lnTo>
                      <a:pt x="338" y="49"/>
                    </a:lnTo>
                    <a:lnTo>
                      <a:pt x="338" y="44"/>
                    </a:lnTo>
                    <a:lnTo>
                      <a:pt x="338" y="37"/>
                    </a:lnTo>
                    <a:lnTo>
                      <a:pt x="340" y="28"/>
                    </a:lnTo>
                    <a:lnTo>
                      <a:pt x="340" y="20"/>
                    </a:lnTo>
                    <a:lnTo>
                      <a:pt x="338" y="11"/>
                    </a:lnTo>
                    <a:lnTo>
                      <a:pt x="337" y="5"/>
                    </a:lnTo>
                    <a:lnTo>
                      <a:pt x="333" y="0"/>
                    </a:lnTo>
                    <a:lnTo>
                      <a:pt x="323" y="2"/>
                    </a:lnTo>
                    <a:lnTo>
                      <a:pt x="315" y="3"/>
                    </a:lnTo>
                    <a:lnTo>
                      <a:pt x="306" y="3"/>
                    </a:lnTo>
                    <a:lnTo>
                      <a:pt x="296" y="3"/>
                    </a:lnTo>
                    <a:lnTo>
                      <a:pt x="288" y="2"/>
                    </a:lnTo>
                    <a:lnTo>
                      <a:pt x="281" y="2"/>
                    </a:lnTo>
                    <a:lnTo>
                      <a:pt x="273" y="2"/>
                    </a:lnTo>
                    <a:lnTo>
                      <a:pt x="264" y="0"/>
                    </a:lnTo>
                    <a:lnTo>
                      <a:pt x="263" y="5"/>
                    </a:lnTo>
                    <a:lnTo>
                      <a:pt x="259" y="8"/>
                    </a:lnTo>
                    <a:lnTo>
                      <a:pt x="258" y="11"/>
                    </a:lnTo>
                    <a:lnTo>
                      <a:pt x="256" y="16"/>
                    </a:lnTo>
                    <a:lnTo>
                      <a:pt x="253" y="20"/>
                    </a:lnTo>
                    <a:lnTo>
                      <a:pt x="251" y="23"/>
                    </a:lnTo>
                    <a:lnTo>
                      <a:pt x="249" y="26"/>
                    </a:lnTo>
                    <a:lnTo>
                      <a:pt x="246" y="31"/>
                    </a:lnTo>
                    <a:lnTo>
                      <a:pt x="247" y="50"/>
                    </a:lnTo>
                    <a:lnTo>
                      <a:pt x="249" y="65"/>
                    </a:lnTo>
                    <a:lnTo>
                      <a:pt x="251" y="76"/>
                    </a:lnTo>
                    <a:lnTo>
                      <a:pt x="256" y="84"/>
                    </a:lnTo>
                    <a:lnTo>
                      <a:pt x="263" y="92"/>
                    </a:lnTo>
                    <a:lnTo>
                      <a:pt x="269" y="101"/>
                    </a:lnTo>
                    <a:lnTo>
                      <a:pt x="279" y="112"/>
                    </a:lnTo>
                    <a:lnTo>
                      <a:pt x="291" y="126"/>
                    </a:lnTo>
                    <a:lnTo>
                      <a:pt x="290" y="130"/>
                    </a:lnTo>
                    <a:lnTo>
                      <a:pt x="288" y="131"/>
                    </a:lnTo>
                    <a:lnTo>
                      <a:pt x="286" y="135"/>
                    </a:lnTo>
                    <a:lnTo>
                      <a:pt x="285" y="138"/>
                    </a:lnTo>
                    <a:lnTo>
                      <a:pt x="285" y="139"/>
                    </a:lnTo>
                    <a:lnTo>
                      <a:pt x="283" y="143"/>
                    </a:lnTo>
                    <a:lnTo>
                      <a:pt x="281" y="144"/>
                    </a:lnTo>
                    <a:lnTo>
                      <a:pt x="279" y="147"/>
                    </a:lnTo>
                    <a:lnTo>
                      <a:pt x="273" y="147"/>
                    </a:lnTo>
                    <a:lnTo>
                      <a:pt x="266" y="147"/>
                    </a:lnTo>
                    <a:lnTo>
                      <a:pt x="258" y="149"/>
                    </a:lnTo>
                    <a:lnTo>
                      <a:pt x="251" y="151"/>
                    </a:lnTo>
                    <a:lnTo>
                      <a:pt x="242" y="152"/>
                    </a:lnTo>
                    <a:lnTo>
                      <a:pt x="236" y="156"/>
                    </a:lnTo>
                    <a:lnTo>
                      <a:pt x="229" y="157"/>
                    </a:lnTo>
                    <a:lnTo>
                      <a:pt x="222" y="159"/>
                    </a:lnTo>
                    <a:lnTo>
                      <a:pt x="207" y="170"/>
                    </a:lnTo>
                    <a:lnTo>
                      <a:pt x="195" y="183"/>
                    </a:lnTo>
                    <a:lnTo>
                      <a:pt x="183" y="196"/>
                    </a:lnTo>
                    <a:lnTo>
                      <a:pt x="175" y="211"/>
                    </a:lnTo>
                    <a:lnTo>
                      <a:pt x="168" y="225"/>
                    </a:lnTo>
                    <a:lnTo>
                      <a:pt x="163" y="238"/>
                    </a:lnTo>
                    <a:lnTo>
                      <a:pt x="160" y="253"/>
                    </a:lnTo>
                    <a:lnTo>
                      <a:pt x="158" y="264"/>
                    </a:lnTo>
                    <a:lnTo>
                      <a:pt x="162" y="264"/>
                    </a:lnTo>
                    <a:lnTo>
                      <a:pt x="165" y="264"/>
                    </a:lnTo>
                    <a:lnTo>
                      <a:pt x="168" y="264"/>
                    </a:lnTo>
                    <a:lnTo>
                      <a:pt x="172" y="264"/>
                    </a:lnTo>
                    <a:lnTo>
                      <a:pt x="177" y="264"/>
                    </a:lnTo>
                    <a:lnTo>
                      <a:pt x="180" y="264"/>
                    </a:lnTo>
                    <a:lnTo>
                      <a:pt x="183" y="264"/>
                    </a:lnTo>
                    <a:lnTo>
                      <a:pt x="187" y="264"/>
                    </a:lnTo>
                    <a:lnTo>
                      <a:pt x="189" y="269"/>
                    </a:lnTo>
                    <a:lnTo>
                      <a:pt x="189" y="274"/>
                    </a:lnTo>
                    <a:lnTo>
                      <a:pt x="190" y="277"/>
                    </a:lnTo>
                    <a:lnTo>
                      <a:pt x="190" y="282"/>
                    </a:lnTo>
                    <a:lnTo>
                      <a:pt x="190" y="285"/>
                    </a:lnTo>
                    <a:lnTo>
                      <a:pt x="192" y="290"/>
                    </a:lnTo>
                    <a:lnTo>
                      <a:pt x="192" y="293"/>
                    </a:lnTo>
                    <a:lnTo>
                      <a:pt x="194" y="298"/>
                    </a:lnTo>
                    <a:lnTo>
                      <a:pt x="202" y="300"/>
                    </a:lnTo>
                    <a:lnTo>
                      <a:pt x="207" y="303"/>
                    </a:lnTo>
                    <a:lnTo>
                      <a:pt x="212" y="308"/>
                    </a:lnTo>
                    <a:lnTo>
                      <a:pt x="215" y="311"/>
                    </a:lnTo>
                    <a:lnTo>
                      <a:pt x="221" y="316"/>
                    </a:lnTo>
                    <a:lnTo>
                      <a:pt x="224" y="319"/>
                    </a:lnTo>
                    <a:lnTo>
                      <a:pt x="227" y="322"/>
                    </a:lnTo>
                    <a:lnTo>
                      <a:pt x="234" y="326"/>
                    </a:lnTo>
                    <a:lnTo>
                      <a:pt x="237" y="335"/>
                    </a:lnTo>
                    <a:lnTo>
                      <a:pt x="239" y="343"/>
                    </a:lnTo>
                    <a:lnTo>
                      <a:pt x="242" y="350"/>
                    </a:lnTo>
                    <a:lnTo>
                      <a:pt x="242" y="356"/>
                    </a:lnTo>
                    <a:lnTo>
                      <a:pt x="242" y="361"/>
                    </a:lnTo>
                    <a:lnTo>
                      <a:pt x="242" y="369"/>
                    </a:lnTo>
                    <a:lnTo>
                      <a:pt x="241" y="377"/>
                    </a:lnTo>
                    <a:lnTo>
                      <a:pt x="237" y="387"/>
                    </a:lnTo>
                    <a:lnTo>
                      <a:pt x="229" y="390"/>
                    </a:lnTo>
                    <a:lnTo>
                      <a:pt x="221" y="394"/>
                    </a:lnTo>
                    <a:lnTo>
                      <a:pt x="212" y="397"/>
                    </a:lnTo>
                    <a:lnTo>
                      <a:pt x="204" y="400"/>
                    </a:lnTo>
                    <a:lnTo>
                      <a:pt x="195" y="402"/>
                    </a:lnTo>
                    <a:lnTo>
                      <a:pt x="189" y="402"/>
                    </a:lnTo>
                    <a:lnTo>
                      <a:pt x="182" y="402"/>
                    </a:lnTo>
                    <a:lnTo>
                      <a:pt x="175" y="400"/>
                    </a:lnTo>
                    <a:lnTo>
                      <a:pt x="173" y="394"/>
                    </a:lnTo>
                    <a:lnTo>
                      <a:pt x="170" y="387"/>
                    </a:lnTo>
                    <a:lnTo>
                      <a:pt x="167" y="384"/>
                    </a:lnTo>
                    <a:lnTo>
                      <a:pt x="162" y="381"/>
                    </a:lnTo>
                    <a:lnTo>
                      <a:pt x="151" y="377"/>
                    </a:lnTo>
                    <a:lnTo>
                      <a:pt x="140" y="377"/>
                    </a:lnTo>
                    <a:lnTo>
                      <a:pt x="128" y="381"/>
                    </a:lnTo>
                    <a:lnTo>
                      <a:pt x="114" y="384"/>
                    </a:lnTo>
                    <a:lnTo>
                      <a:pt x="103" y="387"/>
                    </a:lnTo>
                    <a:lnTo>
                      <a:pt x="93" y="390"/>
                    </a:lnTo>
                    <a:lnTo>
                      <a:pt x="93" y="394"/>
                    </a:lnTo>
                    <a:lnTo>
                      <a:pt x="91" y="397"/>
                    </a:lnTo>
                    <a:lnTo>
                      <a:pt x="89" y="400"/>
                    </a:lnTo>
                    <a:lnTo>
                      <a:pt x="89" y="403"/>
                    </a:lnTo>
                    <a:lnTo>
                      <a:pt x="88" y="407"/>
                    </a:lnTo>
                    <a:lnTo>
                      <a:pt x="86" y="408"/>
                    </a:lnTo>
                    <a:lnTo>
                      <a:pt x="86" y="411"/>
                    </a:lnTo>
                    <a:lnTo>
                      <a:pt x="84" y="415"/>
                    </a:lnTo>
                    <a:lnTo>
                      <a:pt x="81" y="415"/>
                    </a:lnTo>
                    <a:lnTo>
                      <a:pt x="77" y="413"/>
                    </a:lnTo>
                    <a:lnTo>
                      <a:pt x="76" y="411"/>
                    </a:lnTo>
                    <a:lnTo>
                      <a:pt x="74" y="410"/>
                    </a:lnTo>
                    <a:lnTo>
                      <a:pt x="74" y="407"/>
                    </a:lnTo>
                    <a:lnTo>
                      <a:pt x="72" y="403"/>
                    </a:lnTo>
                    <a:lnTo>
                      <a:pt x="72" y="400"/>
                    </a:lnTo>
                    <a:lnTo>
                      <a:pt x="71" y="397"/>
                    </a:lnTo>
                    <a:lnTo>
                      <a:pt x="69" y="397"/>
                    </a:lnTo>
                    <a:lnTo>
                      <a:pt x="67" y="397"/>
                    </a:lnTo>
                    <a:lnTo>
                      <a:pt x="66" y="397"/>
                    </a:lnTo>
                    <a:lnTo>
                      <a:pt x="64" y="397"/>
                    </a:lnTo>
                    <a:lnTo>
                      <a:pt x="62" y="397"/>
                    </a:lnTo>
                    <a:lnTo>
                      <a:pt x="61" y="395"/>
                    </a:lnTo>
                    <a:lnTo>
                      <a:pt x="59" y="395"/>
                    </a:lnTo>
                    <a:lnTo>
                      <a:pt x="57" y="395"/>
                    </a:lnTo>
                    <a:lnTo>
                      <a:pt x="57" y="389"/>
                    </a:lnTo>
                    <a:lnTo>
                      <a:pt x="56" y="381"/>
                    </a:lnTo>
                    <a:lnTo>
                      <a:pt x="56" y="374"/>
                    </a:lnTo>
                    <a:lnTo>
                      <a:pt x="54" y="368"/>
                    </a:lnTo>
                    <a:lnTo>
                      <a:pt x="54" y="360"/>
                    </a:lnTo>
                    <a:lnTo>
                      <a:pt x="52" y="353"/>
                    </a:lnTo>
                    <a:lnTo>
                      <a:pt x="52" y="347"/>
                    </a:lnTo>
                    <a:lnTo>
                      <a:pt x="52" y="339"/>
                    </a:lnTo>
                    <a:lnTo>
                      <a:pt x="44" y="334"/>
                    </a:lnTo>
                    <a:lnTo>
                      <a:pt x="39" y="330"/>
                    </a:lnTo>
                    <a:lnTo>
                      <a:pt x="35" y="327"/>
                    </a:lnTo>
                    <a:lnTo>
                      <a:pt x="32" y="324"/>
                    </a:lnTo>
                    <a:lnTo>
                      <a:pt x="29" y="319"/>
                    </a:lnTo>
                    <a:lnTo>
                      <a:pt x="27" y="314"/>
                    </a:lnTo>
                    <a:lnTo>
                      <a:pt x="24" y="308"/>
                    </a:lnTo>
                    <a:lnTo>
                      <a:pt x="20" y="300"/>
                    </a:lnTo>
                    <a:lnTo>
                      <a:pt x="15" y="300"/>
                    </a:lnTo>
                    <a:lnTo>
                      <a:pt x="12" y="300"/>
                    </a:lnTo>
                    <a:lnTo>
                      <a:pt x="8" y="298"/>
                    </a:lnTo>
                    <a:lnTo>
                      <a:pt x="7" y="296"/>
                    </a:lnTo>
                    <a:lnTo>
                      <a:pt x="5" y="295"/>
                    </a:lnTo>
                    <a:lnTo>
                      <a:pt x="3" y="293"/>
                    </a:lnTo>
                    <a:lnTo>
                      <a:pt x="2" y="292"/>
                    </a:lnTo>
                    <a:lnTo>
                      <a:pt x="0" y="2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60240" y="1517400"/>
                <a:ext cx="1699200" cy="1375560"/>
              </a:xfrm>
              <a:custGeom>
                <a:avLst/>
                <a:gdLst/>
                <a:ahLst/>
                <a:rect l="l" t="t" r="r" b="b"/>
                <a:pathLst>
                  <a:path w="1102" h="892">
                    <a:moveTo>
                      <a:pt x="488" y="578"/>
                    </a:moveTo>
                    <a:lnTo>
                      <a:pt x="495" y="568"/>
                    </a:lnTo>
                    <a:lnTo>
                      <a:pt x="501" y="559"/>
                    </a:lnTo>
                    <a:lnTo>
                      <a:pt x="511" y="551"/>
                    </a:lnTo>
                    <a:lnTo>
                      <a:pt x="523" y="546"/>
                    </a:lnTo>
                    <a:lnTo>
                      <a:pt x="535" y="542"/>
                    </a:lnTo>
                    <a:lnTo>
                      <a:pt x="548" y="541"/>
                    </a:lnTo>
                    <a:lnTo>
                      <a:pt x="564" y="541"/>
                    </a:lnTo>
                    <a:lnTo>
                      <a:pt x="579" y="542"/>
                    </a:lnTo>
                    <a:lnTo>
                      <a:pt x="582" y="541"/>
                    </a:lnTo>
                    <a:lnTo>
                      <a:pt x="582" y="536"/>
                    </a:lnTo>
                    <a:lnTo>
                      <a:pt x="584" y="531"/>
                    </a:lnTo>
                    <a:lnTo>
                      <a:pt x="584" y="526"/>
                    </a:lnTo>
                    <a:lnTo>
                      <a:pt x="584" y="521"/>
                    </a:lnTo>
                    <a:lnTo>
                      <a:pt x="586" y="515"/>
                    </a:lnTo>
                    <a:lnTo>
                      <a:pt x="586" y="510"/>
                    </a:lnTo>
                    <a:lnTo>
                      <a:pt x="587" y="505"/>
                    </a:lnTo>
                    <a:lnTo>
                      <a:pt x="587" y="500"/>
                    </a:lnTo>
                    <a:lnTo>
                      <a:pt x="592" y="499"/>
                    </a:lnTo>
                    <a:lnTo>
                      <a:pt x="596" y="497"/>
                    </a:lnTo>
                    <a:lnTo>
                      <a:pt x="601" y="495"/>
                    </a:lnTo>
                    <a:lnTo>
                      <a:pt x="604" y="494"/>
                    </a:lnTo>
                    <a:lnTo>
                      <a:pt x="609" y="492"/>
                    </a:lnTo>
                    <a:lnTo>
                      <a:pt x="612" y="491"/>
                    </a:lnTo>
                    <a:lnTo>
                      <a:pt x="618" y="489"/>
                    </a:lnTo>
                    <a:lnTo>
                      <a:pt x="621" y="487"/>
                    </a:lnTo>
                    <a:lnTo>
                      <a:pt x="633" y="474"/>
                    </a:lnTo>
                    <a:lnTo>
                      <a:pt x="644" y="460"/>
                    </a:lnTo>
                    <a:lnTo>
                      <a:pt x="655" y="448"/>
                    </a:lnTo>
                    <a:lnTo>
                      <a:pt x="666" y="439"/>
                    </a:lnTo>
                    <a:lnTo>
                      <a:pt x="673" y="434"/>
                    </a:lnTo>
                    <a:lnTo>
                      <a:pt x="680" y="432"/>
                    </a:lnTo>
                    <a:lnTo>
                      <a:pt x="688" y="429"/>
                    </a:lnTo>
                    <a:lnTo>
                      <a:pt x="697" y="427"/>
                    </a:lnTo>
                    <a:lnTo>
                      <a:pt x="707" y="427"/>
                    </a:lnTo>
                    <a:lnTo>
                      <a:pt x="717" y="429"/>
                    </a:lnTo>
                    <a:lnTo>
                      <a:pt x="729" y="432"/>
                    </a:lnTo>
                    <a:lnTo>
                      <a:pt x="740" y="436"/>
                    </a:lnTo>
                    <a:lnTo>
                      <a:pt x="757" y="427"/>
                    </a:lnTo>
                    <a:lnTo>
                      <a:pt x="774" y="421"/>
                    </a:lnTo>
                    <a:lnTo>
                      <a:pt x="791" y="414"/>
                    </a:lnTo>
                    <a:lnTo>
                      <a:pt x="808" y="411"/>
                    </a:lnTo>
                    <a:lnTo>
                      <a:pt x="826" y="408"/>
                    </a:lnTo>
                    <a:lnTo>
                      <a:pt x="845" y="405"/>
                    </a:lnTo>
                    <a:lnTo>
                      <a:pt x="865" y="402"/>
                    </a:lnTo>
                    <a:lnTo>
                      <a:pt x="889" y="397"/>
                    </a:lnTo>
                    <a:lnTo>
                      <a:pt x="909" y="395"/>
                    </a:lnTo>
                    <a:lnTo>
                      <a:pt x="929" y="398"/>
                    </a:lnTo>
                    <a:lnTo>
                      <a:pt x="951" y="402"/>
                    </a:lnTo>
                    <a:lnTo>
                      <a:pt x="971" y="406"/>
                    </a:lnTo>
                    <a:lnTo>
                      <a:pt x="993" y="413"/>
                    </a:lnTo>
                    <a:lnTo>
                      <a:pt x="1015" y="418"/>
                    </a:lnTo>
                    <a:lnTo>
                      <a:pt x="1037" y="421"/>
                    </a:lnTo>
                    <a:lnTo>
                      <a:pt x="1057" y="421"/>
                    </a:lnTo>
                    <a:lnTo>
                      <a:pt x="1060" y="424"/>
                    </a:lnTo>
                    <a:lnTo>
                      <a:pt x="1060" y="418"/>
                    </a:lnTo>
                    <a:lnTo>
                      <a:pt x="1060" y="413"/>
                    </a:lnTo>
                    <a:lnTo>
                      <a:pt x="1062" y="408"/>
                    </a:lnTo>
                    <a:lnTo>
                      <a:pt x="1062" y="403"/>
                    </a:lnTo>
                    <a:lnTo>
                      <a:pt x="1062" y="398"/>
                    </a:lnTo>
                    <a:lnTo>
                      <a:pt x="1064" y="392"/>
                    </a:lnTo>
                    <a:lnTo>
                      <a:pt x="1067" y="385"/>
                    </a:lnTo>
                    <a:lnTo>
                      <a:pt x="1069" y="377"/>
                    </a:lnTo>
                    <a:lnTo>
                      <a:pt x="1072" y="377"/>
                    </a:lnTo>
                    <a:lnTo>
                      <a:pt x="1076" y="376"/>
                    </a:lnTo>
                    <a:lnTo>
                      <a:pt x="1079" y="376"/>
                    </a:lnTo>
                    <a:lnTo>
                      <a:pt x="1082" y="374"/>
                    </a:lnTo>
                    <a:lnTo>
                      <a:pt x="1087" y="371"/>
                    </a:lnTo>
                    <a:lnTo>
                      <a:pt x="1092" y="368"/>
                    </a:lnTo>
                    <a:lnTo>
                      <a:pt x="1096" y="363"/>
                    </a:lnTo>
                    <a:lnTo>
                      <a:pt x="1102" y="356"/>
                    </a:lnTo>
                    <a:lnTo>
                      <a:pt x="1099" y="348"/>
                    </a:lnTo>
                    <a:lnTo>
                      <a:pt x="1097" y="340"/>
                    </a:lnTo>
                    <a:lnTo>
                      <a:pt x="1097" y="332"/>
                    </a:lnTo>
                    <a:lnTo>
                      <a:pt x="1099" y="325"/>
                    </a:lnTo>
                    <a:lnTo>
                      <a:pt x="1097" y="317"/>
                    </a:lnTo>
                    <a:lnTo>
                      <a:pt x="1094" y="311"/>
                    </a:lnTo>
                    <a:lnTo>
                      <a:pt x="1087" y="301"/>
                    </a:lnTo>
                    <a:lnTo>
                      <a:pt x="1076" y="290"/>
                    </a:lnTo>
                    <a:lnTo>
                      <a:pt x="1072" y="283"/>
                    </a:lnTo>
                    <a:lnTo>
                      <a:pt x="1070" y="277"/>
                    </a:lnTo>
                    <a:lnTo>
                      <a:pt x="1070" y="270"/>
                    </a:lnTo>
                    <a:lnTo>
                      <a:pt x="1069" y="265"/>
                    </a:lnTo>
                    <a:lnTo>
                      <a:pt x="1069" y="259"/>
                    </a:lnTo>
                    <a:lnTo>
                      <a:pt x="1069" y="253"/>
                    </a:lnTo>
                    <a:lnTo>
                      <a:pt x="1069" y="244"/>
                    </a:lnTo>
                    <a:lnTo>
                      <a:pt x="1069" y="235"/>
                    </a:lnTo>
                    <a:lnTo>
                      <a:pt x="1060" y="235"/>
                    </a:lnTo>
                    <a:lnTo>
                      <a:pt x="1054" y="235"/>
                    </a:lnTo>
                    <a:lnTo>
                      <a:pt x="1049" y="233"/>
                    </a:lnTo>
                    <a:lnTo>
                      <a:pt x="1042" y="231"/>
                    </a:lnTo>
                    <a:lnTo>
                      <a:pt x="1037" y="231"/>
                    </a:lnTo>
                    <a:lnTo>
                      <a:pt x="1032" y="228"/>
                    </a:lnTo>
                    <a:lnTo>
                      <a:pt x="1025" y="227"/>
                    </a:lnTo>
                    <a:lnTo>
                      <a:pt x="1018" y="223"/>
                    </a:lnTo>
                    <a:lnTo>
                      <a:pt x="990" y="225"/>
                    </a:lnTo>
                    <a:lnTo>
                      <a:pt x="964" y="228"/>
                    </a:lnTo>
                    <a:lnTo>
                      <a:pt x="944" y="233"/>
                    </a:lnTo>
                    <a:lnTo>
                      <a:pt x="926" y="238"/>
                    </a:lnTo>
                    <a:lnTo>
                      <a:pt x="917" y="240"/>
                    </a:lnTo>
                    <a:lnTo>
                      <a:pt x="907" y="240"/>
                    </a:lnTo>
                    <a:lnTo>
                      <a:pt x="899" y="238"/>
                    </a:lnTo>
                    <a:lnTo>
                      <a:pt x="889" y="236"/>
                    </a:lnTo>
                    <a:lnTo>
                      <a:pt x="879" y="231"/>
                    </a:lnTo>
                    <a:lnTo>
                      <a:pt x="868" y="227"/>
                    </a:lnTo>
                    <a:lnTo>
                      <a:pt x="857" y="219"/>
                    </a:lnTo>
                    <a:lnTo>
                      <a:pt x="843" y="207"/>
                    </a:lnTo>
                    <a:lnTo>
                      <a:pt x="843" y="197"/>
                    </a:lnTo>
                    <a:lnTo>
                      <a:pt x="843" y="188"/>
                    </a:lnTo>
                    <a:lnTo>
                      <a:pt x="843" y="176"/>
                    </a:lnTo>
                    <a:lnTo>
                      <a:pt x="845" y="165"/>
                    </a:lnTo>
                    <a:lnTo>
                      <a:pt x="845" y="154"/>
                    </a:lnTo>
                    <a:lnTo>
                      <a:pt x="848" y="142"/>
                    </a:lnTo>
                    <a:lnTo>
                      <a:pt x="852" y="129"/>
                    </a:lnTo>
                    <a:lnTo>
                      <a:pt x="857" y="118"/>
                    </a:lnTo>
                    <a:lnTo>
                      <a:pt x="853" y="115"/>
                    </a:lnTo>
                    <a:lnTo>
                      <a:pt x="850" y="112"/>
                    </a:lnTo>
                    <a:lnTo>
                      <a:pt x="847" y="108"/>
                    </a:lnTo>
                    <a:lnTo>
                      <a:pt x="843" y="105"/>
                    </a:lnTo>
                    <a:lnTo>
                      <a:pt x="840" y="100"/>
                    </a:lnTo>
                    <a:lnTo>
                      <a:pt x="838" y="97"/>
                    </a:lnTo>
                    <a:lnTo>
                      <a:pt x="835" y="94"/>
                    </a:lnTo>
                    <a:lnTo>
                      <a:pt x="831" y="91"/>
                    </a:lnTo>
                    <a:lnTo>
                      <a:pt x="823" y="95"/>
                    </a:lnTo>
                    <a:lnTo>
                      <a:pt x="815" y="99"/>
                    </a:lnTo>
                    <a:lnTo>
                      <a:pt x="809" y="102"/>
                    </a:lnTo>
                    <a:lnTo>
                      <a:pt x="803" y="104"/>
                    </a:lnTo>
                    <a:lnTo>
                      <a:pt x="798" y="105"/>
                    </a:lnTo>
                    <a:lnTo>
                      <a:pt x="793" y="107"/>
                    </a:lnTo>
                    <a:lnTo>
                      <a:pt x="788" y="107"/>
                    </a:lnTo>
                    <a:lnTo>
                      <a:pt x="779" y="107"/>
                    </a:lnTo>
                    <a:lnTo>
                      <a:pt x="777" y="105"/>
                    </a:lnTo>
                    <a:lnTo>
                      <a:pt x="777" y="104"/>
                    </a:lnTo>
                    <a:lnTo>
                      <a:pt x="776" y="102"/>
                    </a:lnTo>
                    <a:lnTo>
                      <a:pt x="774" y="100"/>
                    </a:lnTo>
                    <a:lnTo>
                      <a:pt x="774" y="99"/>
                    </a:lnTo>
                    <a:lnTo>
                      <a:pt x="772" y="97"/>
                    </a:lnTo>
                    <a:lnTo>
                      <a:pt x="772" y="95"/>
                    </a:lnTo>
                    <a:lnTo>
                      <a:pt x="771" y="94"/>
                    </a:lnTo>
                    <a:lnTo>
                      <a:pt x="754" y="92"/>
                    </a:lnTo>
                    <a:lnTo>
                      <a:pt x="740" y="87"/>
                    </a:lnTo>
                    <a:lnTo>
                      <a:pt x="729" y="82"/>
                    </a:lnTo>
                    <a:lnTo>
                      <a:pt x="720" y="74"/>
                    </a:lnTo>
                    <a:lnTo>
                      <a:pt x="712" y="65"/>
                    </a:lnTo>
                    <a:lnTo>
                      <a:pt x="703" y="53"/>
                    </a:lnTo>
                    <a:lnTo>
                      <a:pt x="697" y="42"/>
                    </a:lnTo>
                    <a:lnTo>
                      <a:pt x="688" y="29"/>
                    </a:lnTo>
                    <a:lnTo>
                      <a:pt x="660" y="19"/>
                    </a:lnTo>
                    <a:lnTo>
                      <a:pt x="629" y="11"/>
                    </a:lnTo>
                    <a:lnTo>
                      <a:pt x="601" y="3"/>
                    </a:lnTo>
                    <a:lnTo>
                      <a:pt x="572" y="0"/>
                    </a:lnTo>
                    <a:lnTo>
                      <a:pt x="559" y="0"/>
                    </a:lnTo>
                    <a:lnTo>
                      <a:pt x="547" y="0"/>
                    </a:lnTo>
                    <a:lnTo>
                      <a:pt x="535" y="3"/>
                    </a:lnTo>
                    <a:lnTo>
                      <a:pt x="523" y="8"/>
                    </a:lnTo>
                    <a:lnTo>
                      <a:pt x="513" y="14"/>
                    </a:lnTo>
                    <a:lnTo>
                      <a:pt x="503" y="24"/>
                    </a:lnTo>
                    <a:lnTo>
                      <a:pt x="496" y="36"/>
                    </a:lnTo>
                    <a:lnTo>
                      <a:pt x="488" y="48"/>
                    </a:lnTo>
                    <a:lnTo>
                      <a:pt x="484" y="50"/>
                    </a:lnTo>
                    <a:lnTo>
                      <a:pt x="481" y="52"/>
                    </a:lnTo>
                    <a:lnTo>
                      <a:pt x="478" y="53"/>
                    </a:lnTo>
                    <a:lnTo>
                      <a:pt x="474" y="55"/>
                    </a:lnTo>
                    <a:lnTo>
                      <a:pt x="471" y="57"/>
                    </a:lnTo>
                    <a:lnTo>
                      <a:pt x="466" y="58"/>
                    </a:lnTo>
                    <a:lnTo>
                      <a:pt x="463" y="60"/>
                    </a:lnTo>
                    <a:lnTo>
                      <a:pt x="458" y="61"/>
                    </a:lnTo>
                    <a:lnTo>
                      <a:pt x="447" y="65"/>
                    </a:lnTo>
                    <a:lnTo>
                      <a:pt x="441" y="68"/>
                    </a:lnTo>
                    <a:lnTo>
                      <a:pt x="434" y="71"/>
                    </a:lnTo>
                    <a:lnTo>
                      <a:pt x="429" y="74"/>
                    </a:lnTo>
                    <a:lnTo>
                      <a:pt x="426" y="79"/>
                    </a:lnTo>
                    <a:lnTo>
                      <a:pt x="422" y="82"/>
                    </a:lnTo>
                    <a:lnTo>
                      <a:pt x="419" y="86"/>
                    </a:lnTo>
                    <a:lnTo>
                      <a:pt x="415" y="89"/>
                    </a:lnTo>
                    <a:lnTo>
                      <a:pt x="417" y="95"/>
                    </a:lnTo>
                    <a:lnTo>
                      <a:pt x="417" y="99"/>
                    </a:lnTo>
                    <a:lnTo>
                      <a:pt x="419" y="102"/>
                    </a:lnTo>
                    <a:lnTo>
                      <a:pt x="419" y="105"/>
                    </a:lnTo>
                    <a:lnTo>
                      <a:pt x="420" y="105"/>
                    </a:lnTo>
                    <a:lnTo>
                      <a:pt x="422" y="107"/>
                    </a:lnTo>
                    <a:lnTo>
                      <a:pt x="424" y="108"/>
                    </a:lnTo>
                    <a:lnTo>
                      <a:pt x="427" y="112"/>
                    </a:lnTo>
                    <a:lnTo>
                      <a:pt x="426" y="113"/>
                    </a:lnTo>
                    <a:lnTo>
                      <a:pt x="426" y="115"/>
                    </a:lnTo>
                    <a:lnTo>
                      <a:pt x="426" y="116"/>
                    </a:lnTo>
                    <a:lnTo>
                      <a:pt x="426" y="120"/>
                    </a:lnTo>
                    <a:lnTo>
                      <a:pt x="426" y="121"/>
                    </a:lnTo>
                    <a:lnTo>
                      <a:pt x="426" y="123"/>
                    </a:lnTo>
                    <a:lnTo>
                      <a:pt x="426" y="125"/>
                    </a:lnTo>
                    <a:lnTo>
                      <a:pt x="426" y="126"/>
                    </a:lnTo>
                    <a:lnTo>
                      <a:pt x="420" y="134"/>
                    </a:lnTo>
                    <a:lnTo>
                      <a:pt x="417" y="144"/>
                    </a:lnTo>
                    <a:lnTo>
                      <a:pt x="415" y="155"/>
                    </a:lnTo>
                    <a:lnTo>
                      <a:pt x="414" y="167"/>
                    </a:lnTo>
                    <a:lnTo>
                      <a:pt x="415" y="178"/>
                    </a:lnTo>
                    <a:lnTo>
                      <a:pt x="417" y="191"/>
                    </a:lnTo>
                    <a:lnTo>
                      <a:pt x="420" y="202"/>
                    </a:lnTo>
                    <a:lnTo>
                      <a:pt x="424" y="214"/>
                    </a:lnTo>
                    <a:lnTo>
                      <a:pt x="434" y="236"/>
                    </a:lnTo>
                    <a:lnTo>
                      <a:pt x="446" y="257"/>
                    </a:lnTo>
                    <a:lnTo>
                      <a:pt x="452" y="265"/>
                    </a:lnTo>
                    <a:lnTo>
                      <a:pt x="459" y="274"/>
                    </a:lnTo>
                    <a:lnTo>
                      <a:pt x="468" y="280"/>
                    </a:lnTo>
                    <a:lnTo>
                      <a:pt x="474" y="285"/>
                    </a:lnTo>
                    <a:lnTo>
                      <a:pt x="476" y="311"/>
                    </a:lnTo>
                    <a:lnTo>
                      <a:pt x="476" y="334"/>
                    </a:lnTo>
                    <a:lnTo>
                      <a:pt x="473" y="355"/>
                    </a:lnTo>
                    <a:lnTo>
                      <a:pt x="468" y="372"/>
                    </a:lnTo>
                    <a:lnTo>
                      <a:pt x="461" y="390"/>
                    </a:lnTo>
                    <a:lnTo>
                      <a:pt x="452" y="405"/>
                    </a:lnTo>
                    <a:lnTo>
                      <a:pt x="441" y="418"/>
                    </a:lnTo>
                    <a:lnTo>
                      <a:pt x="427" y="431"/>
                    </a:lnTo>
                    <a:lnTo>
                      <a:pt x="429" y="452"/>
                    </a:lnTo>
                    <a:lnTo>
                      <a:pt x="431" y="473"/>
                    </a:lnTo>
                    <a:lnTo>
                      <a:pt x="432" y="491"/>
                    </a:lnTo>
                    <a:lnTo>
                      <a:pt x="436" y="508"/>
                    </a:lnTo>
                    <a:lnTo>
                      <a:pt x="437" y="517"/>
                    </a:lnTo>
                    <a:lnTo>
                      <a:pt x="441" y="525"/>
                    </a:lnTo>
                    <a:lnTo>
                      <a:pt x="446" y="533"/>
                    </a:lnTo>
                    <a:lnTo>
                      <a:pt x="451" y="541"/>
                    </a:lnTo>
                    <a:lnTo>
                      <a:pt x="459" y="547"/>
                    </a:lnTo>
                    <a:lnTo>
                      <a:pt x="468" y="555"/>
                    </a:lnTo>
                    <a:lnTo>
                      <a:pt x="478" y="562"/>
                    </a:lnTo>
                    <a:lnTo>
                      <a:pt x="490" y="568"/>
                    </a:lnTo>
                    <a:lnTo>
                      <a:pt x="488" y="578"/>
                    </a:lnTo>
                    <a:lnTo>
                      <a:pt x="476" y="581"/>
                    </a:lnTo>
                    <a:lnTo>
                      <a:pt x="464" y="583"/>
                    </a:lnTo>
                    <a:lnTo>
                      <a:pt x="452" y="585"/>
                    </a:lnTo>
                    <a:lnTo>
                      <a:pt x="441" y="588"/>
                    </a:lnTo>
                    <a:lnTo>
                      <a:pt x="429" y="589"/>
                    </a:lnTo>
                    <a:lnTo>
                      <a:pt x="417" y="593"/>
                    </a:lnTo>
                    <a:lnTo>
                      <a:pt x="405" y="594"/>
                    </a:lnTo>
                    <a:lnTo>
                      <a:pt x="394" y="596"/>
                    </a:lnTo>
                    <a:lnTo>
                      <a:pt x="385" y="589"/>
                    </a:lnTo>
                    <a:lnTo>
                      <a:pt x="377" y="583"/>
                    </a:lnTo>
                    <a:lnTo>
                      <a:pt x="367" y="578"/>
                    </a:lnTo>
                    <a:lnTo>
                      <a:pt x="358" y="575"/>
                    </a:lnTo>
                    <a:lnTo>
                      <a:pt x="350" y="575"/>
                    </a:lnTo>
                    <a:lnTo>
                      <a:pt x="340" y="573"/>
                    </a:lnTo>
                    <a:lnTo>
                      <a:pt x="331" y="575"/>
                    </a:lnTo>
                    <a:lnTo>
                      <a:pt x="321" y="576"/>
                    </a:lnTo>
                    <a:lnTo>
                      <a:pt x="303" y="583"/>
                    </a:lnTo>
                    <a:lnTo>
                      <a:pt x="284" y="591"/>
                    </a:lnTo>
                    <a:lnTo>
                      <a:pt x="266" y="599"/>
                    </a:lnTo>
                    <a:lnTo>
                      <a:pt x="249" y="609"/>
                    </a:lnTo>
                    <a:lnTo>
                      <a:pt x="230" y="628"/>
                    </a:lnTo>
                    <a:lnTo>
                      <a:pt x="218" y="643"/>
                    </a:lnTo>
                    <a:lnTo>
                      <a:pt x="208" y="653"/>
                    </a:lnTo>
                    <a:lnTo>
                      <a:pt x="202" y="661"/>
                    </a:lnTo>
                    <a:lnTo>
                      <a:pt x="193" y="665"/>
                    </a:lnTo>
                    <a:lnTo>
                      <a:pt x="183" y="670"/>
                    </a:lnTo>
                    <a:lnTo>
                      <a:pt x="170" y="674"/>
                    </a:lnTo>
                    <a:lnTo>
                      <a:pt x="149" y="678"/>
                    </a:lnTo>
                    <a:lnTo>
                      <a:pt x="129" y="690"/>
                    </a:lnTo>
                    <a:lnTo>
                      <a:pt x="111" y="700"/>
                    </a:lnTo>
                    <a:lnTo>
                      <a:pt x="94" y="708"/>
                    </a:lnTo>
                    <a:lnTo>
                      <a:pt x="75" y="716"/>
                    </a:lnTo>
                    <a:lnTo>
                      <a:pt x="58" y="722"/>
                    </a:lnTo>
                    <a:lnTo>
                      <a:pt x="40" y="729"/>
                    </a:lnTo>
                    <a:lnTo>
                      <a:pt x="23" y="734"/>
                    </a:lnTo>
                    <a:lnTo>
                      <a:pt x="5" y="740"/>
                    </a:lnTo>
                    <a:lnTo>
                      <a:pt x="0" y="766"/>
                    </a:lnTo>
                    <a:lnTo>
                      <a:pt x="0" y="789"/>
                    </a:lnTo>
                    <a:lnTo>
                      <a:pt x="0" y="798"/>
                    </a:lnTo>
                    <a:lnTo>
                      <a:pt x="1" y="806"/>
                    </a:lnTo>
                    <a:lnTo>
                      <a:pt x="5" y="814"/>
                    </a:lnTo>
                    <a:lnTo>
                      <a:pt x="8" y="823"/>
                    </a:lnTo>
                    <a:lnTo>
                      <a:pt x="13" y="829"/>
                    </a:lnTo>
                    <a:lnTo>
                      <a:pt x="18" y="834"/>
                    </a:lnTo>
                    <a:lnTo>
                      <a:pt x="25" y="840"/>
                    </a:lnTo>
                    <a:lnTo>
                      <a:pt x="33" y="845"/>
                    </a:lnTo>
                    <a:lnTo>
                      <a:pt x="53" y="857"/>
                    </a:lnTo>
                    <a:lnTo>
                      <a:pt x="77" y="866"/>
                    </a:lnTo>
                    <a:lnTo>
                      <a:pt x="80" y="871"/>
                    </a:lnTo>
                    <a:lnTo>
                      <a:pt x="84" y="873"/>
                    </a:lnTo>
                    <a:lnTo>
                      <a:pt x="85" y="876"/>
                    </a:lnTo>
                    <a:lnTo>
                      <a:pt x="87" y="878"/>
                    </a:lnTo>
                    <a:lnTo>
                      <a:pt x="89" y="881"/>
                    </a:lnTo>
                    <a:lnTo>
                      <a:pt x="90" y="884"/>
                    </a:lnTo>
                    <a:lnTo>
                      <a:pt x="92" y="887"/>
                    </a:lnTo>
                    <a:lnTo>
                      <a:pt x="95" y="8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55360" y="2780280"/>
                <a:ext cx="812520" cy="490680"/>
              </a:xfrm>
              <a:custGeom>
                <a:avLst/>
                <a:gdLst/>
                <a:ahLst/>
                <a:rect l="l" t="t" r="r" b="b"/>
                <a:pathLst>
                  <a:path w="527" h="318">
                    <a:moveTo>
                      <a:pt x="0" y="201"/>
                    </a:moveTo>
                    <a:lnTo>
                      <a:pt x="9" y="196"/>
                    </a:lnTo>
                    <a:lnTo>
                      <a:pt x="17" y="193"/>
                    </a:lnTo>
                    <a:lnTo>
                      <a:pt x="25" y="190"/>
                    </a:lnTo>
                    <a:lnTo>
                      <a:pt x="34" y="187"/>
                    </a:lnTo>
                    <a:lnTo>
                      <a:pt x="42" y="185"/>
                    </a:lnTo>
                    <a:lnTo>
                      <a:pt x="52" y="183"/>
                    </a:lnTo>
                    <a:lnTo>
                      <a:pt x="64" y="182"/>
                    </a:lnTo>
                    <a:lnTo>
                      <a:pt x="76" y="182"/>
                    </a:lnTo>
                    <a:lnTo>
                      <a:pt x="91" y="196"/>
                    </a:lnTo>
                    <a:lnTo>
                      <a:pt x="101" y="208"/>
                    </a:lnTo>
                    <a:lnTo>
                      <a:pt x="110" y="217"/>
                    </a:lnTo>
                    <a:lnTo>
                      <a:pt x="115" y="227"/>
                    </a:lnTo>
                    <a:lnTo>
                      <a:pt x="118" y="237"/>
                    </a:lnTo>
                    <a:lnTo>
                      <a:pt x="118" y="248"/>
                    </a:lnTo>
                    <a:lnTo>
                      <a:pt x="115" y="261"/>
                    </a:lnTo>
                    <a:lnTo>
                      <a:pt x="110" y="277"/>
                    </a:lnTo>
                    <a:lnTo>
                      <a:pt x="116" y="284"/>
                    </a:lnTo>
                    <a:lnTo>
                      <a:pt x="125" y="289"/>
                    </a:lnTo>
                    <a:lnTo>
                      <a:pt x="135" y="292"/>
                    </a:lnTo>
                    <a:lnTo>
                      <a:pt x="147" y="293"/>
                    </a:lnTo>
                    <a:lnTo>
                      <a:pt x="160" y="293"/>
                    </a:lnTo>
                    <a:lnTo>
                      <a:pt x="172" y="295"/>
                    </a:lnTo>
                    <a:lnTo>
                      <a:pt x="184" y="295"/>
                    </a:lnTo>
                    <a:lnTo>
                      <a:pt x="195" y="295"/>
                    </a:lnTo>
                    <a:lnTo>
                      <a:pt x="195" y="297"/>
                    </a:lnTo>
                    <a:lnTo>
                      <a:pt x="195" y="298"/>
                    </a:lnTo>
                    <a:lnTo>
                      <a:pt x="195" y="300"/>
                    </a:lnTo>
                    <a:lnTo>
                      <a:pt x="197" y="303"/>
                    </a:lnTo>
                    <a:lnTo>
                      <a:pt x="197" y="305"/>
                    </a:lnTo>
                    <a:lnTo>
                      <a:pt x="197" y="306"/>
                    </a:lnTo>
                    <a:lnTo>
                      <a:pt x="199" y="308"/>
                    </a:lnTo>
                    <a:lnTo>
                      <a:pt x="199" y="310"/>
                    </a:lnTo>
                    <a:lnTo>
                      <a:pt x="209" y="308"/>
                    </a:lnTo>
                    <a:lnTo>
                      <a:pt x="217" y="308"/>
                    </a:lnTo>
                    <a:lnTo>
                      <a:pt x="227" y="308"/>
                    </a:lnTo>
                    <a:lnTo>
                      <a:pt x="236" y="310"/>
                    </a:lnTo>
                    <a:lnTo>
                      <a:pt x="246" y="310"/>
                    </a:lnTo>
                    <a:lnTo>
                      <a:pt x="256" y="311"/>
                    </a:lnTo>
                    <a:lnTo>
                      <a:pt x="266" y="315"/>
                    </a:lnTo>
                    <a:lnTo>
                      <a:pt x="276" y="318"/>
                    </a:lnTo>
                    <a:lnTo>
                      <a:pt x="283" y="318"/>
                    </a:lnTo>
                    <a:lnTo>
                      <a:pt x="290" y="315"/>
                    </a:lnTo>
                    <a:lnTo>
                      <a:pt x="298" y="313"/>
                    </a:lnTo>
                    <a:lnTo>
                      <a:pt x="307" y="308"/>
                    </a:lnTo>
                    <a:lnTo>
                      <a:pt x="315" y="305"/>
                    </a:lnTo>
                    <a:lnTo>
                      <a:pt x="323" y="302"/>
                    </a:lnTo>
                    <a:lnTo>
                      <a:pt x="332" y="298"/>
                    </a:lnTo>
                    <a:lnTo>
                      <a:pt x="337" y="295"/>
                    </a:lnTo>
                    <a:lnTo>
                      <a:pt x="337" y="290"/>
                    </a:lnTo>
                    <a:lnTo>
                      <a:pt x="337" y="285"/>
                    </a:lnTo>
                    <a:lnTo>
                      <a:pt x="337" y="281"/>
                    </a:lnTo>
                    <a:lnTo>
                      <a:pt x="337" y="276"/>
                    </a:lnTo>
                    <a:lnTo>
                      <a:pt x="337" y="271"/>
                    </a:lnTo>
                    <a:lnTo>
                      <a:pt x="337" y="266"/>
                    </a:lnTo>
                    <a:lnTo>
                      <a:pt x="337" y="261"/>
                    </a:lnTo>
                    <a:lnTo>
                      <a:pt x="337" y="256"/>
                    </a:lnTo>
                    <a:lnTo>
                      <a:pt x="339" y="256"/>
                    </a:lnTo>
                    <a:lnTo>
                      <a:pt x="342" y="255"/>
                    </a:lnTo>
                    <a:lnTo>
                      <a:pt x="344" y="253"/>
                    </a:lnTo>
                    <a:lnTo>
                      <a:pt x="345" y="251"/>
                    </a:lnTo>
                    <a:lnTo>
                      <a:pt x="349" y="250"/>
                    </a:lnTo>
                    <a:lnTo>
                      <a:pt x="350" y="250"/>
                    </a:lnTo>
                    <a:lnTo>
                      <a:pt x="354" y="248"/>
                    </a:lnTo>
                    <a:lnTo>
                      <a:pt x="355" y="247"/>
                    </a:lnTo>
                    <a:lnTo>
                      <a:pt x="355" y="243"/>
                    </a:lnTo>
                    <a:lnTo>
                      <a:pt x="355" y="240"/>
                    </a:lnTo>
                    <a:lnTo>
                      <a:pt x="357" y="237"/>
                    </a:lnTo>
                    <a:lnTo>
                      <a:pt x="357" y="234"/>
                    </a:lnTo>
                    <a:lnTo>
                      <a:pt x="360" y="232"/>
                    </a:lnTo>
                    <a:lnTo>
                      <a:pt x="364" y="229"/>
                    </a:lnTo>
                    <a:lnTo>
                      <a:pt x="369" y="227"/>
                    </a:lnTo>
                    <a:lnTo>
                      <a:pt x="376" y="224"/>
                    </a:lnTo>
                    <a:lnTo>
                      <a:pt x="377" y="221"/>
                    </a:lnTo>
                    <a:lnTo>
                      <a:pt x="379" y="216"/>
                    </a:lnTo>
                    <a:lnTo>
                      <a:pt x="381" y="209"/>
                    </a:lnTo>
                    <a:lnTo>
                      <a:pt x="384" y="201"/>
                    </a:lnTo>
                    <a:lnTo>
                      <a:pt x="387" y="193"/>
                    </a:lnTo>
                    <a:lnTo>
                      <a:pt x="392" y="187"/>
                    </a:lnTo>
                    <a:lnTo>
                      <a:pt x="398" y="182"/>
                    </a:lnTo>
                    <a:lnTo>
                      <a:pt x="403" y="178"/>
                    </a:lnTo>
                    <a:lnTo>
                      <a:pt x="409" y="185"/>
                    </a:lnTo>
                    <a:lnTo>
                      <a:pt x="416" y="187"/>
                    </a:lnTo>
                    <a:lnTo>
                      <a:pt x="424" y="187"/>
                    </a:lnTo>
                    <a:lnTo>
                      <a:pt x="431" y="183"/>
                    </a:lnTo>
                    <a:lnTo>
                      <a:pt x="438" y="180"/>
                    </a:lnTo>
                    <a:lnTo>
                      <a:pt x="446" y="175"/>
                    </a:lnTo>
                    <a:lnTo>
                      <a:pt x="456" y="174"/>
                    </a:lnTo>
                    <a:lnTo>
                      <a:pt x="465" y="172"/>
                    </a:lnTo>
                    <a:lnTo>
                      <a:pt x="468" y="164"/>
                    </a:lnTo>
                    <a:lnTo>
                      <a:pt x="473" y="159"/>
                    </a:lnTo>
                    <a:lnTo>
                      <a:pt x="480" y="156"/>
                    </a:lnTo>
                    <a:lnTo>
                      <a:pt x="488" y="154"/>
                    </a:lnTo>
                    <a:lnTo>
                      <a:pt x="497" y="151"/>
                    </a:lnTo>
                    <a:lnTo>
                      <a:pt x="505" y="148"/>
                    </a:lnTo>
                    <a:lnTo>
                      <a:pt x="514" y="141"/>
                    </a:lnTo>
                    <a:lnTo>
                      <a:pt x="522" y="132"/>
                    </a:lnTo>
                    <a:lnTo>
                      <a:pt x="526" y="123"/>
                    </a:lnTo>
                    <a:lnTo>
                      <a:pt x="527" y="114"/>
                    </a:lnTo>
                    <a:lnTo>
                      <a:pt x="526" y="104"/>
                    </a:lnTo>
                    <a:lnTo>
                      <a:pt x="524" y="96"/>
                    </a:lnTo>
                    <a:lnTo>
                      <a:pt x="519" y="86"/>
                    </a:lnTo>
                    <a:lnTo>
                      <a:pt x="514" y="78"/>
                    </a:lnTo>
                    <a:lnTo>
                      <a:pt x="507" y="72"/>
                    </a:lnTo>
                    <a:lnTo>
                      <a:pt x="500" y="65"/>
                    </a:lnTo>
                    <a:lnTo>
                      <a:pt x="500" y="59"/>
                    </a:lnTo>
                    <a:lnTo>
                      <a:pt x="499" y="52"/>
                    </a:lnTo>
                    <a:lnTo>
                      <a:pt x="497" y="46"/>
                    </a:lnTo>
                    <a:lnTo>
                      <a:pt x="495" y="39"/>
                    </a:lnTo>
                    <a:lnTo>
                      <a:pt x="492" y="33"/>
                    </a:lnTo>
                    <a:lnTo>
                      <a:pt x="488" y="25"/>
                    </a:lnTo>
                    <a:lnTo>
                      <a:pt x="485" y="18"/>
                    </a:lnTo>
                    <a:lnTo>
                      <a:pt x="480" y="10"/>
                    </a:lnTo>
                    <a:lnTo>
                      <a:pt x="480" y="8"/>
                    </a:lnTo>
                    <a:lnTo>
                      <a:pt x="482" y="7"/>
                    </a:lnTo>
                    <a:lnTo>
                      <a:pt x="482" y="7"/>
                    </a:lnTo>
                    <a:lnTo>
                      <a:pt x="482" y="5"/>
                    </a:lnTo>
                    <a:lnTo>
                      <a:pt x="482" y="4"/>
                    </a:lnTo>
                    <a:lnTo>
                      <a:pt x="483" y="2"/>
                    </a:lnTo>
                    <a:lnTo>
                      <a:pt x="483" y="2"/>
                    </a:lnTo>
                    <a:lnTo>
                      <a:pt x="48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95920" y="3637800"/>
                <a:ext cx="251280" cy="544320"/>
              </a:xfrm>
              <a:custGeom>
                <a:avLst/>
                <a:gdLst/>
                <a:ahLst/>
                <a:rect l="l" t="t" r="r" b="b"/>
                <a:pathLst>
                  <a:path w="163" h="353">
                    <a:moveTo>
                      <a:pt x="163" y="353"/>
                    </a:moveTo>
                    <a:lnTo>
                      <a:pt x="163" y="346"/>
                    </a:lnTo>
                    <a:lnTo>
                      <a:pt x="161" y="332"/>
                    </a:lnTo>
                    <a:lnTo>
                      <a:pt x="160" y="311"/>
                    </a:lnTo>
                    <a:lnTo>
                      <a:pt x="160" y="285"/>
                    </a:lnTo>
                    <a:lnTo>
                      <a:pt x="158" y="257"/>
                    </a:lnTo>
                    <a:lnTo>
                      <a:pt x="156" y="230"/>
                    </a:lnTo>
                    <a:lnTo>
                      <a:pt x="156" y="207"/>
                    </a:lnTo>
                    <a:lnTo>
                      <a:pt x="156" y="188"/>
                    </a:lnTo>
                    <a:lnTo>
                      <a:pt x="155" y="188"/>
                    </a:lnTo>
                    <a:lnTo>
                      <a:pt x="153" y="184"/>
                    </a:lnTo>
                    <a:lnTo>
                      <a:pt x="151" y="183"/>
                    </a:lnTo>
                    <a:lnTo>
                      <a:pt x="150" y="181"/>
                    </a:lnTo>
                    <a:lnTo>
                      <a:pt x="148" y="180"/>
                    </a:lnTo>
                    <a:lnTo>
                      <a:pt x="146" y="178"/>
                    </a:lnTo>
                    <a:lnTo>
                      <a:pt x="145" y="175"/>
                    </a:lnTo>
                    <a:lnTo>
                      <a:pt x="145" y="173"/>
                    </a:lnTo>
                    <a:lnTo>
                      <a:pt x="134" y="173"/>
                    </a:lnTo>
                    <a:lnTo>
                      <a:pt x="126" y="170"/>
                    </a:lnTo>
                    <a:lnTo>
                      <a:pt x="118" y="168"/>
                    </a:lnTo>
                    <a:lnTo>
                      <a:pt x="109" y="167"/>
                    </a:lnTo>
                    <a:lnTo>
                      <a:pt x="101" y="165"/>
                    </a:lnTo>
                    <a:lnTo>
                      <a:pt x="92" y="163"/>
                    </a:lnTo>
                    <a:lnTo>
                      <a:pt x="86" y="162"/>
                    </a:lnTo>
                    <a:lnTo>
                      <a:pt x="81" y="162"/>
                    </a:lnTo>
                    <a:lnTo>
                      <a:pt x="81" y="137"/>
                    </a:lnTo>
                    <a:lnTo>
                      <a:pt x="77" y="115"/>
                    </a:lnTo>
                    <a:lnTo>
                      <a:pt x="70" y="94"/>
                    </a:lnTo>
                    <a:lnTo>
                      <a:pt x="60" y="71"/>
                    </a:lnTo>
                    <a:lnTo>
                      <a:pt x="49" y="52"/>
                    </a:lnTo>
                    <a:lnTo>
                      <a:pt x="35" y="32"/>
                    </a:lnTo>
                    <a:lnTo>
                      <a:pt x="18" y="1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36760" y="3542400"/>
                <a:ext cx="127800" cy="393120"/>
              </a:xfrm>
              <a:custGeom>
                <a:avLst/>
                <a:gdLst/>
                <a:ahLst/>
                <a:rect l="l" t="t" r="r" b="b"/>
                <a:pathLst>
                  <a:path w="83" h="255">
                    <a:moveTo>
                      <a:pt x="0" y="250"/>
                    </a:moveTo>
                    <a:lnTo>
                      <a:pt x="15" y="253"/>
                    </a:lnTo>
                    <a:lnTo>
                      <a:pt x="29" y="255"/>
                    </a:lnTo>
                    <a:lnTo>
                      <a:pt x="41" y="253"/>
                    </a:lnTo>
                    <a:lnTo>
                      <a:pt x="51" y="250"/>
                    </a:lnTo>
                    <a:lnTo>
                      <a:pt x="59" y="243"/>
                    </a:lnTo>
                    <a:lnTo>
                      <a:pt x="66" y="235"/>
                    </a:lnTo>
                    <a:lnTo>
                      <a:pt x="73" y="222"/>
                    </a:lnTo>
                    <a:lnTo>
                      <a:pt x="78" y="206"/>
                    </a:lnTo>
                    <a:lnTo>
                      <a:pt x="78" y="206"/>
                    </a:lnTo>
                    <a:lnTo>
                      <a:pt x="76" y="206"/>
                    </a:lnTo>
                    <a:lnTo>
                      <a:pt x="74" y="206"/>
                    </a:lnTo>
                    <a:lnTo>
                      <a:pt x="74" y="206"/>
                    </a:lnTo>
                    <a:lnTo>
                      <a:pt x="73" y="204"/>
                    </a:lnTo>
                    <a:lnTo>
                      <a:pt x="73" y="204"/>
                    </a:lnTo>
                    <a:lnTo>
                      <a:pt x="71" y="204"/>
                    </a:lnTo>
                    <a:lnTo>
                      <a:pt x="71" y="203"/>
                    </a:lnTo>
                    <a:lnTo>
                      <a:pt x="71" y="190"/>
                    </a:lnTo>
                    <a:lnTo>
                      <a:pt x="69" y="177"/>
                    </a:lnTo>
                    <a:lnTo>
                      <a:pt x="68" y="164"/>
                    </a:lnTo>
                    <a:lnTo>
                      <a:pt x="68" y="149"/>
                    </a:lnTo>
                    <a:lnTo>
                      <a:pt x="68" y="136"/>
                    </a:lnTo>
                    <a:lnTo>
                      <a:pt x="71" y="122"/>
                    </a:lnTo>
                    <a:lnTo>
                      <a:pt x="74" y="109"/>
                    </a:lnTo>
                    <a:lnTo>
                      <a:pt x="83" y="94"/>
                    </a:lnTo>
                    <a:lnTo>
                      <a:pt x="83" y="93"/>
                    </a:lnTo>
                    <a:lnTo>
                      <a:pt x="83" y="89"/>
                    </a:lnTo>
                    <a:lnTo>
                      <a:pt x="81" y="88"/>
                    </a:lnTo>
                    <a:lnTo>
                      <a:pt x="81" y="85"/>
                    </a:lnTo>
                    <a:lnTo>
                      <a:pt x="81" y="83"/>
                    </a:lnTo>
                    <a:lnTo>
                      <a:pt x="81" y="80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74" y="76"/>
                    </a:lnTo>
                    <a:lnTo>
                      <a:pt x="68" y="76"/>
                    </a:lnTo>
                    <a:lnTo>
                      <a:pt x="63" y="75"/>
                    </a:lnTo>
                    <a:lnTo>
                      <a:pt x="56" y="75"/>
                    </a:lnTo>
                    <a:lnTo>
                      <a:pt x="49" y="75"/>
                    </a:lnTo>
                    <a:lnTo>
                      <a:pt x="42" y="75"/>
                    </a:lnTo>
                    <a:lnTo>
                      <a:pt x="37" y="75"/>
                    </a:lnTo>
                    <a:lnTo>
                      <a:pt x="31" y="73"/>
                    </a:lnTo>
                    <a:lnTo>
                      <a:pt x="31" y="68"/>
                    </a:lnTo>
                    <a:lnTo>
                      <a:pt x="29" y="60"/>
                    </a:lnTo>
                    <a:lnTo>
                      <a:pt x="27" y="50"/>
                    </a:lnTo>
                    <a:lnTo>
                      <a:pt x="27" y="39"/>
                    </a:lnTo>
                    <a:lnTo>
                      <a:pt x="26" y="28"/>
                    </a:lnTo>
                    <a:lnTo>
                      <a:pt x="24" y="18"/>
                    </a:lnTo>
                    <a:lnTo>
                      <a:pt x="21" y="8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50800" y="3485520"/>
                <a:ext cx="459360" cy="374400"/>
              </a:xfrm>
              <a:custGeom>
                <a:avLst/>
                <a:gdLst/>
                <a:ahLst/>
                <a:rect l="l" t="t" r="r" b="b"/>
                <a:pathLst>
                  <a:path w="298" h="243">
                    <a:moveTo>
                      <a:pt x="69" y="243"/>
                    </a:moveTo>
                    <a:lnTo>
                      <a:pt x="69" y="243"/>
                    </a:lnTo>
                    <a:lnTo>
                      <a:pt x="70" y="241"/>
                    </a:lnTo>
                    <a:lnTo>
                      <a:pt x="70" y="240"/>
                    </a:lnTo>
                    <a:lnTo>
                      <a:pt x="70" y="238"/>
                    </a:lnTo>
                    <a:lnTo>
                      <a:pt x="70" y="238"/>
                    </a:lnTo>
                    <a:lnTo>
                      <a:pt x="70" y="236"/>
                    </a:lnTo>
                    <a:lnTo>
                      <a:pt x="72" y="235"/>
                    </a:lnTo>
                    <a:lnTo>
                      <a:pt x="72" y="233"/>
                    </a:lnTo>
                    <a:lnTo>
                      <a:pt x="77" y="232"/>
                    </a:lnTo>
                    <a:lnTo>
                      <a:pt x="87" y="227"/>
                    </a:lnTo>
                    <a:lnTo>
                      <a:pt x="99" y="222"/>
                    </a:lnTo>
                    <a:lnTo>
                      <a:pt x="113" y="214"/>
                    </a:lnTo>
                    <a:lnTo>
                      <a:pt x="123" y="204"/>
                    </a:lnTo>
                    <a:lnTo>
                      <a:pt x="129" y="194"/>
                    </a:lnTo>
                    <a:lnTo>
                      <a:pt x="131" y="190"/>
                    </a:lnTo>
                    <a:lnTo>
                      <a:pt x="131" y="185"/>
                    </a:lnTo>
                    <a:lnTo>
                      <a:pt x="129" y="180"/>
                    </a:lnTo>
                    <a:lnTo>
                      <a:pt x="124" y="175"/>
                    </a:lnTo>
                    <a:lnTo>
                      <a:pt x="124" y="172"/>
                    </a:lnTo>
                    <a:lnTo>
                      <a:pt x="124" y="170"/>
                    </a:lnTo>
                    <a:lnTo>
                      <a:pt x="126" y="167"/>
                    </a:lnTo>
                    <a:lnTo>
                      <a:pt x="126" y="165"/>
                    </a:lnTo>
                    <a:lnTo>
                      <a:pt x="128" y="162"/>
                    </a:lnTo>
                    <a:lnTo>
                      <a:pt x="128" y="159"/>
                    </a:lnTo>
                    <a:lnTo>
                      <a:pt x="129" y="154"/>
                    </a:lnTo>
                    <a:lnTo>
                      <a:pt x="129" y="151"/>
                    </a:lnTo>
                    <a:lnTo>
                      <a:pt x="140" y="151"/>
                    </a:lnTo>
                    <a:lnTo>
                      <a:pt x="148" y="152"/>
                    </a:lnTo>
                    <a:lnTo>
                      <a:pt x="155" y="154"/>
                    </a:lnTo>
                    <a:lnTo>
                      <a:pt x="161" y="154"/>
                    </a:lnTo>
                    <a:lnTo>
                      <a:pt x="166" y="152"/>
                    </a:lnTo>
                    <a:lnTo>
                      <a:pt x="172" y="147"/>
                    </a:lnTo>
                    <a:lnTo>
                      <a:pt x="177" y="138"/>
                    </a:lnTo>
                    <a:lnTo>
                      <a:pt x="183" y="123"/>
                    </a:lnTo>
                    <a:lnTo>
                      <a:pt x="271" y="128"/>
                    </a:lnTo>
                    <a:lnTo>
                      <a:pt x="283" y="115"/>
                    </a:lnTo>
                    <a:lnTo>
                      <a:pt x="283" y="109"/>
                    </a:lnTo>
                    <a:lnTo>
                      <a:pt x="286" y="102"/>
                    </a:lnTo>
                    <a:lnTo>
                      <a:pt x="288" y="94"/>
                    </a:lnTo>
                    <a:lnTo>
                      <a:pt x="291" y="84"/>
                    </a:lnTo>
                    <a:lnTo>
                      <a:pt x="293" y="76"/>
                    </a:lnTo>
                    <a:lnTo>
                      <a:pt x="294" y="66"/>
                    </a:lnTo>
                    <a:lnTo>
                      <a:pt x="296" y="57"/>
                    </a:lnTo>
                    <a:lnTo>
                      <a:pt x="298" y="49"/>
                    </a:lnTo>
                    <a:lnTo>
                      <a:pt x="294" y="49"/>
                    </a:lnTo>
                    <a:lnTo>
                      <a:pt x="291" y="47"/>
                    </a:lnTo>
                    <a:lnTo>
                      <a:pt x="288" y="47"/>
                    </a:lnTo>
                    <a:lnTo>
                      <a:pt x="284" y="45"/>
                    </a:lnTo>
                    <a:lnTo>
                      <a:pt x="283" y="45"/>
                    </a:lnTo>
                    <a:lnTo>
                      <a:pt x="279" y="44"/>
                    </a:lnTo>
                    <a:lnTo>
                      <a:pt x="278" y="41"/>
                    </a:lnTo>
                    <a:lnTo>
                      <a:pt x="276" y="39"/>
                    </a:lnTo>
                    <a:lnTo>
                      <a:pt x="271" y="37"/>
                    </a:lnTo>
                    <a:lnTo>
                      <a:pt x="267" y="37"/>
                    </a:lnTo>
                    <a:lnTo>
                      <a:pt x="262" y="37"/>
                    </a:lnTo>
                    <a:lnTo>
                      <a:pt x="259" y="36"/>
                    </a:lnTo>
                    <a:lnTo>
                      <a:pt x="254" y="36"/>
                    </a:lnTo>
                    <a:lnTo>
                      <a:pt x="249" y="34"/>
                    </a:lnTo>
                    <a:lnTo>
                      <a:pt x="246" y="34"/>
                    </a:lnTo>
                    <a:lnTo>
                      <a:pt x="241" y="32"/>
                    </a:lnTo>
                    <a:lnTo>
                      <a:pt x="227" y="36"/>
                    </a:lnTo>
                    <a:lnTo>
                      <a:pt x="209" y="37"/>
                    </a:lnTo>
                    <a:lnTo>
                      <a:pt x="188" y="39"/>
                    </a:lnTo>
                    <a:lnTo>
                      <a:pt x="165" y="41"/>
                    </a:lnTo>
                    <a:lnTo>
                      <a:pt x="143" y="39"/>
                    </a:lnTo>
                    <a:lnTo>
                      <a:pt x="121" y="36"/>
                    </a:lnTo>
                    <a:lnTo>
                      <a:pt x="104" y="32"/>
                    </a:lnTo>
                    <a:lnTo>
                      <a:pt x="91" y="26"/>
                    </a:lnTo>
                    <a:lnTo>
                      <a:pt x="81" y="24"/>
                    </a:lnTo>
                    <a:lnTo>
                      <a:pt x="72" y="19"/>
                    </a:lnTo>
                    <a:lnTo>
                      <a:pt x="65" y="13"/>
                    </a:lnTo>
                    <a:lnTo>
                      <a:pt x="59" y="7"/>
                    </a:lnTo>
                    <a:lnTo>
                      <a:pt x="54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8" y="3"/>
                    </a:lnTo>
                    <a:lnTo>
                      <a:pt x="35" y="8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2" y="5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68280" y="417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47160" y="2976120"/>
                <a:ext cx="1221120" cy="1315800"/>
              </a:xfrm>
              <a:custGeom>
                <a:avLst/>
                <a:gdLst/>
                <a:ahLst/>
                <a:rect l="l" t="t" r="r" b="b"/>
                <a:pathLst>
                  <a:path w="792" h="853">
                    <a:moveTo>
                      <a:pt x="792" y="777"/>
                    </a:moveTo>
                    <a:lnTo>
                      <a:pt x="644" y="766"/>
                    </a:lnTo>
                    <a:lnTo>
                      <a:pt x="640" y="766"/>
                    </a:lnTo>
                    <a:lnTo>
                      <a:pt x="637" y="766"/>
                    </a:lnTo>
                    <a:lnTo>
                      <a:pt x="635" y="766"/>
                    </a:lnTo>
                    <a:lnTo>
                      <a:pt x="632" y="766"/>
                    </a:lnTo>
                    <a:lnTo>
                      <a:pt x="630" y="766"/>
                    </a:lnTo>
                    <a:lnTo>
                      <a:pt x="627" y="766"/>
                    </a:lnTo>
                    <a:lnTo>
                      <a:pt x="625" y="764"/>
                    </a:lnTo>
                    <a:lnTo>
                      <a:pt x="623" y="764"/>
                    </a:lnTo>
                    <a:lnTo>
                      <a:pt x="608" y="741"/>
                    </a:lnTo>
                    <a:lnTo>
                      <a:pt x="597" y="724"/>
                    </a:lnTo>
                    <a:lnTo>
                      <a:pt x="585" y="707"/>
                    </a:lnTo>
                    <a:lnTo>
                      <a:pt x="573" y="696"/>
                    </a:lnTo>
                    <a:lnTo>
                      <a:pt x="566" y="691"/>
                    </a:lnTo>
                    <a:lnTo>
                      <a:pt x="559" y="686"/>
                    </a:lnTo>
                    <a:lnTo>
                      <a:pt x="551" y="683"/>
                    </a:lnTo>
                    <a:lnTo>
                      <a:pt x="541" y="681"/>
                    </a:lnTo>
                    <a:lnTo>
                      <a:pt x="517" y="677"/>
                    </a:lnTo>
                    <a:lnTo>
                      <a:pt x="487" y="677"/>
                    </a:lnTo>
                    <a:lnTo>
                      <a:pt x="485" y="677"/>
                    </a:lnTo>
                    <a:lnTo>
                      <a:pt x="482" y="678"/>
                    </a:lnTo>
                    <a:lnTo>
                      <a:pt x="479" y="680"/>
                    </a:lnTo>
                    <a:lnTo>
                      <a:pt x="477" y="681"/>
                    </a:lnTo>
                    <a:lnTo>
                      <a:pt x="474" y="681"/>
                    </a:lnTo>
                    <a:lnTo>
                      <a:pt x="472" y="683"/>
                    </a:lnTo>
                    <a:lnTo>
                      <a:pt x="469" y="685"/>
                    </a:lnTo>
                    <a:lnTo>
                      <a:pt x="465" y="685"/>
                    </a:lnTo>
                    <a:lnTo>
                      <a:pt x="460" y="681"/>
                    </a:lnTo>
                    <a:lnTo>
                      <a:pt x="455" y="678"/>
                    </a:lnTo>
                    <a:lnTo>
                      <a:pt x="450" y="675"/>
                    </a:lnTo>
                    <a:lnTo>
                      <a:pt x="445" y="675"/>
                    </a:lnTo>
                    <a:lnTo>
                      <a:pt x="435" y="675"/>
                    </a:lnTo>
                    <a:lnTo>
                      <a:pt x="425" y="677"/>
                    </a:lnTo>
                    <a:lnTo>
                      <a:pt x="416" y="681"/>
                    </a:lnTo>
                    <a:lnTo>
                      <a:pt x="406" y="686"/>
                    </a:lnTo>
                    <a:lnTo>
                      <a:pt x="398" y="691"/>
                    </a:lnTo>
                    <a:lnTo>
                      <a:pt x="388" y="696"/>
                    </a:lnTo>
                    <a:lnTo>
                      <a:pt x="389" y="703"/>
                    </a:lnTo>
                    <a:lnTo>
                      <a:pt x="389" y="707"/>
                    </a:lnTo>
                    <a:lnTo>
                      <a:pt x="391" y="711"/>
                    </a:lnTo>
                    <a:lnTo>
                      <a:pt x="393" y="714"/>
                    </a:lnTo>
                    <a:lnTo>
                      <a:pt x="394" y="717"/>
                    </a:lnTo>
                    <a:lnTo>
                      <a:pt x="398" y="719"/>
                    </a:lnTo>
                    <a:lnTo>
                      <a:pt x="401" y="722"/>
                    </a:lnTo>
                    <a:lnTo>
                      <a:pt x="406" y="725"/>
                    </a:lnTo>
                    <a:lnTo>
                      <a:pt x="401" y="745"/>
                    </a:lnTo>
                    <a:lnTo>
                      <a:pt x="394" y="745"/>
                    </a:lnTo>
                    <a:lnTo>
                      <a:pt x="389" y="746"/>
                    </a:lnTo>
                    <a:lnTo>
                      <a:pt x="384" y="746"/>
                    </a:lnTo>
                    <a:lnTo>
                      <a:pt x="379" y="746"/>
                    </a:lnTo>
                    <a:lnTo>
                      <a:pt x="374" y="746"/>
                    </a:lnTo>
                    <a:lnTo>
                      <a:pt x="369" y="746"/>
                    </a:lnTo>
                    <a:lnTo>
                      <a:pt x="362" y="746"/>
                    </a:lnTo>
                    <a:lnTo>
                      <a:pt x="357" y="746"/>
                    </a:lnTo>
                    <a:lnTo>
                      <a:pt x="292" y="777"/>
                    </a:lnTo>
                    <a:lnTo>
                      <a:pt x="277" y="777"/>
                    </a:lnTo>
                    <a:lnTo>
                      <a:pt x="261" y="780"/>
                    </a:lnTo>
                    <a:lnTo>
                      <a:pt x="245" y="782"/>
                    </a:lnTo>
                    <a:lnTo>
                      <a:pt x="229" y="785"/>
                    </a:lnTo>
                    <a:lnTo>
                      <a:pt x="214" y="790"/>
                    </a:lnTo>
                    <a:lnTo>
                      <a:pt x="199" y="795"/>
                    </a:lnTo>
                    <a:lnTo>
                      <a:pt x="186" y="801"/>
                    </a:lnTo>
                    <a:lnTo>
                      <a:pt x="171" y="809"/>
                    </a:lnTo>
                    <a:lnTo>
                      <a:pt x="167" y="824"/>
                    </a:lnTo>
                    <a:lnTo>
                      <a:pt x="162" y="834"/>
                    </a:lnTo>
                    <a:lnTo>
                      <a:pt x="154" y="842"/>
                    </a:lnTo>
                    <a:lnTo>
                      <a:pt x="144" y="848"/>
                    </a:lnTo>
                    <a:lnTo>
                      <a:pt x="132" y="852"/>
                    </a:lnTo>
                    <a:lnTo>
                      <a:pt x="120" y="853"/>
                    </a:lnTo>
                    <a:lnTo>
                      <a:pt x="108" y="853"/>
                    </a:lnTo>
                    <a:lnTo>
                      <a:pt x="96" y="853"/>
                    </a:lnTo>
                    <a:lnTo>
                      <a:pt x="90" y="842"/>
                    </a:lnTo>
                    <a:lnTo>
                      <a:pt x="81" y="829"/>
                    </a:lnTo>
                    <a:lnTo>
                      <a:pt x="71" y="813"/>
                    </a:lnTo>
                    <a:lnTo>
                      <a:pt x="61" y="796"/>
                    </a:lnTo>
                    <a:lnTo>
                      <a:pt x="54" y="780"/>
                    </a:lnTo>
                    <a:lnTo>
                      <a:pt x="51" y="764"/>
                    </a:lnTo>
                    <a:lnTo>
                      <a:pt x="51" y="756"/>
                    </a:lnTo>
                    <a:lnTo>
                      <a:pt x="53" y="749"/>
                    </a:lnTo>
                    <a:lnTo>
                      <a:pt x="56" y="743"/>
                    </a:lnTo>
                    <a:lnTo>
                      <a:pt x="59" y="737"/>
                    </a:lnTo>
                    <a:lnTo>
                      <a:pt x="66" y="720"/>
                    </a:lnTo>
                    <a:lnTo>
                      <a:pt x="76" y="699"/>
                    </a:lnTo>
                    <a:lnTo>
                      <a:pt x="86" y="675"/>
                    </a:lnTo>
                    <a:lnTo>
                      <a:pt x="100" y="651"/>
                    </a:lnTo>
                    <a:lnTo>
                      <a:pt x="113" y="626"/>
                    </a:lnTo>
                    <a:lnTo>
                      <a:pt x="128" y="605"/>
                    </a:lnTo>
                    <a:lnTo>
                      <a:pt x="142" y="588"/>
                    </a:lnTo>
                    <a:lnTo>
                      <a:pt x="157" y="575"/>
                    </a:lnTo>
                    <a:lnTo>
                      <a:pt x="174" y="573"/>
                    </a:lnTo>
                    <a:lnTo>
                      <a:pt x="186" y="570"/>
                    </a:lnTo>
                    <a:lnTo>
                      <a:pt x="197" y="568"/>
                    </a:lnTo>
                    <a:lnTo>
                      <a:pt x="206" y="563"/>
                    </a:lnTo>
                    <a:lnTo>
                      <a:pt x="214" y="557"/>
                    </a:lnTo>
                    <a:lnTo>
                      <a:pt x="224" y="547"/>
                    </a:lnTo>
                    <a:lnTo>
                      <a:pt x="234" y="534"/>
                    </a:lnTo>
                    <a:lnTo>
                      <a:pt x="248" y="518"/>
                    </a:lnTo>
                    <a:lnTo>
                      <a:pt x="241" y="511"/>
                    </a:lnTo>
                    <a:lnTo>
                      <a:pt x="236" y="507"/>
                    </a:lnTo>
                    <a:lnTo>
                      <a:pt x="229" y="500"/>
                    </a:lnTo>
                    <a:lnTo>
                      <a:pt x="223" y="495"/>
                    </a:lnTo>
                    <a:lnTo>
                      <a:pt x="218" y="489"/>
                    </a:lnTo>
                    <a:lnTo>
                      <a:pt x="216" y="482"/>
                    </a:lnTo>
                    <a:lnTo>
                      <a:pt x="214" y="474"/>
                    </a:lnTo>
                    <a:lnTo>
                      <a:pt x="216" y="464"/>
                    </a:lnTo>
                    <a:lnTo>
                      <a:pt x="224" y="401"/>
                    </a:lnTo>
                    <a:lnTo>
                      <a:pt x="213" y="403"/>
                    </a:lnTo>
                    <a:lnTo>
                      <a:pt x="201" y="405"/>
                    </a:lnTo>
                    <a:lnTo>
                      <a:pt x="189" y="408"/>
                    </a:lnTo>
                    <a:lnTo>
                      <a:pt x="177" y="413"/>
                    </a:lnTo>
                    <a:lnTo>
                      <a:pt x="165" y="416"/>
                    </a:lnTo>
                    <a:lnTo>
                      <a:pt x="155" y="419"/>
                    </a:lnTo>
                    <a:lnTo>
                      <a:pt x="145" y="422"/>
                    </a:lnTo>
                    <a:lnTo>
                      <a:pt x="137" y="426"/>
                    </a:lnTo>
                    <a:lnTo>
                      <a:pt x="128" y="414"/>
                    </a:lnTo>
                    <a:lnTo>
                      <a:pt x="118" y="406"/>
                    </a:lnTo>
                    <a:lnTo>
                      <a:pt x="105" y="398"/>
                    </a:lnTo>
                    <a:lnTo>
                      <a:pt x="93" y="393"/>
                    </a:lnTo>
                    <a:lnTo>
                      <a:pt x="80" y="388"/>
                    </a:lnTo>
                    <a:lnTo>
                      <a:pt x="64" y="385"/>
                    </a:lnTo>
                    <a:lnTo>
                      <a:pt x="51" y="382"/>
                    </a:lnTo>
                    <a:lnTo>
                      <a:pt x="39" y="380"/>
                    </a:lnTo>
                    <a:lnTo>
                      <a:pt x="37" y="377"/>
                    </a:lnTo>
                    <a:lnTo>
                      <a:pt x="37" y="374"/>
                    </a:lnTo>
                    <a:lnTo>
                      <a:pt x="36" y="371"/>
                    </a:lnTo>
                    <a:lnTo>
                      <a:pt x="36" y="367"/>
                    </a:lnTo>
                    <a:lnTo>
                      <a:pt x="34" y="364"/>
                    </a:lnTo>
                    <a:lnTo>
                      <a:pt x="34" y="361"/>
                    </a:lnTo>
                    <a:lnTo>
                      <a:pt x="34" y="358"/>
                    </a:lnTo>
                    <a:lnTo>
                      <a:pt x="34" y="354"/>
                    </a:lnTo>
                    <a:lnTo>
                      <a:pt x="27" y="354"/>
                    </a:lnTo>
                    <a:lnTo>
                      <a:pt x="22" y="353"/>
                    </a:lnTo>
                    <a:lnTo>
                      <a:pt x="17" y="353"/>
                    </a:lnTo>
                    <a:lnTo>
                      <a:pt x="12" y="351"/>
                    </a:lnTo>
                    <a:lnTo>
                      <a:pt x="9" y="351"/>
                    </a:lnTo>
                    <a:lnTo>
                      <a:pt x="5" y="348"/>
                    </a:lnTo>
                    <a:lnTo>
                      <a:pt x="2" y="346"/>
                    </a:lnTo>
                    <a:lnTo>
                      <a:pt x="0" y="341"/>
                    </a:lnTo>
                    <a:lnTo>
                      <a:pt x="2" y="338"/>
                    </a:lnTo>
                    <a:lnTo>
                      <a:pt x="5" y="332"/>
                    </a:lnTo>
                    <a:lnTo>
                      <a:pt x="9" y="324"/>
                    </a:lnTo>
                    <a:lnTo>
                      <a:pt x="14" y="315"/>
                    </a:lnTo>
                    <a:lnTo>
                      <a:pt x="17" y="306"/>
                    </a:lnTo>
                    <a:lnTo>
                      <a:pt x="21" y="298"/>
                    </a:lnTo>
                    <a:lnTo>
                      <a:pt x="22" y="288"/>
                    </a:lnTo>
                    <a:lnTo>
                      <a:pt x="24" y="281"/>
                    </a:lnTo>
                    <a:lnTo>
                      <a:pt x="16" y="269"/>
                    </a:lnTo>
                    <a:lnTo>
                      <a:pt x="9" y="256"/>
                    </a:lnTo>
                    <a:lnTo>
                      <a:pt x="5" y="244"/>
                    </a:lnTo>
                    <a:lnTo>
                      <a:pt x="4" y="233"/>
                    </a:lnTo>
                    <a:lnTo>
                      <a:pt x="4" y="220"/>
                    </a:lnTo>
                    <a:lnTo>
                      <a:pt x="5" y="207"/>
                    </a:lnTo>
                    <a:lnTo>
                      <a:pt x="11" y="191"/>
                    </a:lnTo>
                    <a:lnTo>
                      <a:pt x="17" y="173"/>
                    </a:lnTo>
                    <a:lnTo>
                      <a:pt x="24" y="171"/>
                    </a:lnTo>
                    <a:lnTo>
                      <a:pt x="29" y="170"/>
                    </a:lnTo>
                    <a:lnTo>
                      <a:pt x="34" y="166"/>
                    </a:lnTo>
                    <a:lnTo>
                      <a:pt x="37" y="165"/>
                    </a:lnTo>
                    <a:lnTo>
                      <a:pt x="41" y="160"/>
                    </a:lnTo>
                    <a:lnTo>
                      <a:pt x="43" y="155"/>
                    </a:lnTo>
                    <a:lnTo>
                      <a:pt x="46" y="147"/>
                    </a:lnTo>
                    <a:lnTo>
                      <a:pt x="49" y="137"/>
                    </a:lnTo>
                    <a:lnTo>
                      <a:pt x="51" y="141"/>
                    </a:lnTo>
                    <a:lnTo>
                      <a:pt x="59" y="142"/>
                    </a:lnTo>
                    <a:lnTo>
                      <a:pt x="66" y="145"/>
                    </a:lnTo>
                    <a:lnTo>
                      <a:pt x="73" y="149"/>
                    </a:lnTo>
                    <a:lnTo>
                      <a:pt x="78" y="150"/>
                    </a:lnTo>
                    <a:lnTo>
                      <a:pt x="83" y="154"/>
                    </a:lnTo>
                    <a:lnTo>
                      <a:pt x="90" y="154"/>
                    </a:lnTo>
                    <a:lnTo>
                      <a:pt x="98" y="154"/>
                    </a:lnTo>
                    <a:lnTo>
                      <a:pt x="108" y="152"/>
                    </a:lnTo>
                    <a:lnTo>
                      <a:pt x="122" y="154"/>
                    </a:lnTo>
                    <a:lnTo>
                      <a:pt x="137" y="155"/>
                    </a:lnTo>
                    <a:lnTo>
                      <a:pt x="150" y="158"/>
                    </a:lnTo>
                    <a:lnTo>
                      <a:pt x="164" y="162"/>
                    </a:lnTo>
                    <a:lnTo>
                      <a:pt x="179" y="163"/>
                    </a:lnTo>
                    <a:lnTo>
                      <a:pt x="194" y="165"/>
                    </a:lnTo>
                    <a:lnTo>
                      <a:pt x="211" y="166"/>
                    </a:lnTo>
                    <a:lnTo>
                      <a:pt x="229" y="165"/>
                    </a:lnTo>
                    <a:lnTo>
                      <a:pt x="243" y="163"/>
                    </a:lnTo>
                    <a:lnTo>
                      <a:pt x="260" y="160"/>
                    </a:lnTo>
                    <a:lnTo>
                      <a:pt x="278" y="157"/>
                    </a:lnTo>
                    <a:lnTo>
                      <a:pt x="300" y="155"/>
                    </a:lnTo>
                    <a:lnTo>
                      <a:pt x="320" y="154"/>
                    </a:lnTo>
                    <a:lnTo>
                      <a:pt x="341" y="154"/>
                    </a:lnTo>
                    <a:lnTo>
                      <a:pt x="357" y="155"/>
                    </a:lnTo>
                    <a:lnTo>
                      <a:pt x="369" y="160"/>
                    </a:lnTo>
                    <a:lnTo>
                      <a:pt x="366" y="8"/>
                    </a:lnTo>
                    <a:lnTo>
                      <a:pt x="38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053160" y="4131360"/>
                <a:ext cx="1275480" cy="187920"/>
              </a:xfrm>
              <a:custGeom>
                <a:avLst/>
                <a:gdLst/>
                <a:ahLst/>
                <a:rect l="l" t="t" r="r" b="b"/>
                <a:pathLst>
                  <a:path w="827" h="122">
                    <a:moveTo>
                      <a:pt x="10" y="28"/>
                    </a:moveTo>
                    <a:lnTo>
                      <a:pt x="8" y="36"/>
                    </a:lnTo>
                    <a:lnTo>
                      <a:pt x="7" y="46"/>
                    </a:lnTo>
                    <a:lnTo>
                      <a:pt x="7" y="54"/>
                    </a:lnTo>
                    <a:lnTo>
                      <a:pt x="5" y="62"/>
                    </a:lnTo>
                    <a:lnTo>
                      <a:pt x="3" y="70"/>
                    </a:lnTo>
                    <a:lnTo>
                      <a:pt x="3" y="78"/>
                    </a:lnTo>
                    <a:lnTo>
                      <a:pt x="1" y="86"/>
                    </a:lnTo>
                    <a:lnTo>
                      <a:pt x="0" y="94"/>
                    </a:lnTo>
                    <a:lnTo>
                      <a:pt x="8" y="98"/>
                    </a:lnTo>
                    <a:lnTo>
                      <a:pt x="15" y="99"/>
                    </a:lnTo>
                    <a:lnTo>
                      <a:pt x="20" y="101"/>
                    </a:lnTo>
                    <a:lnTo>
                      <a:pt x="27" y="103"/>
                    </a:lnTo>
                    <a:lnTo>
                      <a:pt x="32" y="103"/>
                    </a:lnTo>
                    <a:lnTo>
                      <a:pt x="39" y="103"/>
                    </a:lnTo>
                    <a:lnTo>
                      <a:pt x="49" y="101"/>
                    </a:lnTo>
                    <a:lnTo>
                      <a:pt x="60" y="96"/>
                    </a:lnTo>
                    <a:lnTo>
                      <a:pt x="76" y="94"/>
                    </a:lnTo>
                    <a:lnTo>
                      <a:pt x="89" y="91"/>
                    </a:lnTo>
                    <a:lnTo>
                      <a:pt x="99" y="86"/>
                    </a:lnTo>
                    <a:lnTo>
                      <a:pt x="108" y="78"/>
                    </a:lnTo>
                    <a:lnTo>
                      <a:pt x="114" y="69"/>
                    </a:lnTo>
                    <a:lnTo>
                      <a:pt x="119" y="59"/>
                    </a:lnTo>
                    <a:lnTo>
                      <a:pt x="124" y="46"/>
                    </a:lnTo>
                    <a:lnTo>
                      <a:pt x="126" y="33"/>
                    </a:lnTo>
                    <a:lnTo>
                      <a:pt x="128" y="28"/>
                    </a:lnTo>
                    <a:lnTo>
                      <a:pt x="129" y="25"/>
                    </a:lnTo>
                    <a:lnTo>
                      <a:pt x="131" y="22"/>
                    </a:lnTo>
                    <a:lnTo>
                      <a:pt x="133" y="17"/>
                    </a:lnTo>
                    <a:lnTo>
                      <a:pt x="134" y="13"/>
                    </a:lnTo>
                    <a:lnTo>
                      <a:pt x="136" y="10"/>
                    </a:lnTo>
                    <a:lnTo>
                      <a:pt x="138" y="5"/>
                    </a:lnTo>
                    <a:lnTo>
                      <a:pt x="140" y="0"/>
                    </a:lnTo>
                    <a:lnTo>
                      <a:pt x="151" y="2"/>
                    </a:lnTo>
                    <a:lnTo>
                      <a:pt x="161" y="5"/>
                    </a:lnTo>
                    <a:lnTo>
                      <a:pt x="172" y="10"/>
                    </a:lnTo>
                    <a:lnTo>
                      <a:pt x="180" y="18"/>
                    </a:lnTo>
                    <a:lnTo>
                      <a:pt x="197" y="33"/>
                    </a:lnTo>
                    <a:lnTo>
                      <a:pt x="212" y="51"/>
                    </a:lnTo>
                    <a:lnTo>
                      <a:pt x="220" y="59"/>
                    </a:lnTo>
                    <a:lnTo>
                      <a:pt x="229" y="65"/>
                    </a:lnTo>
                    <a:lnTo>
                      <a:pt x="236" y="72"/>
                    </a:lnTo>
                    <a:lnTo>
                      <a:pt x="246" y="75"/>
                    </a:lnTo>
                    <a:lnTo>
                      <a:pt x="254" y="77"/>
                    </a:lnTo>
                    <a:lnTo>
                      <a:pt x="264" y="75"/>
                    </a:lnTo>
                    <a:lnTo>
                      <a:pt x="276" y="72"/>
                    </a:lnTo>
                    <a:lnTo>
                      <a:pt x="288" y="65"/>
                    </a:lnTo>
                    <a:lnTo>
                      <a:pt x="345" y="65"/>
                    </a:lnTo>
                    <a:lnTo>
                      <a:pt x="345" y="64"/>
                    </a:lnTo>
                    <a:lnTo>
                      <a:pt x="345" y="69"/>
                    </a:lnTo>
                    <a:lnTo>
                      <a:pt x="345" y="73"/>
                    </a:lnTo>
                    <a:lnTo>
                      <a:pt x="347" y="77"/>
                    </a:lnTo>
                    <a:lnTo>
                      <a:pt x="347" y="81"/>
                    </a:lnTo>
                    <a:lnTo>
                      <a:pt x="347" y="85"/>
                    </a:lnTo>
                    <a:lnTo>
                      <a:pt x="348" y="90"/>
                    </a:lnTo>
                    <a:lnTo>
                      <a:pt x="348" y="93"/>
                    </a:lnTo>
                    <a:lnTo>
                      <a:pt x="348" y="96"/>
                    </a:lnTo>
                    <a:lnTo>
                      <a:pt x="353" y="101"/>
                    </a:lnTo>
                    <a:lnTo>
                      <a:pt x="360" y="104"/>
                    </a:lnTo>
                    <a:lnTo>
                      <a:pt x="367" y="107"/>
                    </a:lnTo>
                    <a:lnTo>
                      <a:pt x="374" y="109"/>
                    </a:lnTo>
                    <a:lnTo>
                      <a:pt x="380" y="112"/>
                    </a:lnTo>
                    <a:lnTo>
                      <a:pt x="387" y="115"/>
                    </a:lnTo>
                    <a:lnTo>
                      <a:pt x="392" y="119"/>
                    </a:lnTo>
                    <a:lnTo>
                      <a:pt x="397" y="122"/>
                    </a:lnTo>
                    <a:lnTo>
                      <a:pt x="401" y="122"/>
                    </a:lnTo>
                    <a:lnTo>
                      <a:pt x="402" y="122"/>
                    </a:lnTo>
                    <a:lnTo>
                      <a:pt x="404" y="122"/>
                    </a:lnTo>
                    <a:lnTo>
                      <a:pt x="407" y="122"/>
                    </a:lnTo>
                    <a:lnTo>
                      <a:pt x="409" y="122"/>
                    </a:lnTo>
                    <a:lnTo>
                      <a:pt x="412" y="122"/>
                    </a:lnTo>
                    <a:lnTo>
                      <a:pt x="414" y="122"/>
                    </a:lnTo>
                    <a:lnTo>
                      <a:pt x="416" y="122"/>
                    </a:lnTo>
                    <a:lnTo>
                      <a:pt x="417" y="120"/>
                    </a:lnTo>
                    <a:lnTo>
                      <a:pt x="419" y="119"/>
                    </a:lnTo>
                    <a:lnTo>
                      <a:pt x="419" y="119"/>
                    </a:lnTo>
                    <a:lnTo>
                      <a:pt x="421" y="117"/>
                    </a:lnTo>
                    <a:lnTo>
                      <a:pt x="422" y="115"/>
                    </a:lnTo>
                    <a:lnTo>
                      <a:pt x="424" y="114"/>
                    </a:lnTo>
                    <a:lnTo>
                      <a:pt x="424" y="112"/>
                    </a:lnTo>
                    <a:lnTo>
                      <a:pt x="426" y="109"/>
                    </a:lnTo>
                    <a:lnTo>
                      <a:pt x="438" y="109"/>
                    </a:lnTo>
                    <a:lnTo>
                      <a:pt x="451" y="106"/>
                    </a:lnTo>
                    <a:lnTo>
                      <a:pt x="466" y="103"/>
                    </a:lnTo>
                    <a:lnTo>
                      <a:pt x="483" y="98"/>
                    </a:lnTo>
                    <a:lnTo>
                      <a:pt x="500" y="90"/>
                    </a:lnTo>
                    <a:lnTo>
                      <a:pt x="513" y="80"/>
                    </a:lnTo>
                    <a:lnTo>
                      <a:pt x="520" y="75"/>
                    </a:lnTo>
                    <a:lnTo>
                      <a:pt x="525" y="69"/>
                    </a:lnTo>
                    <a:lnTo>
                      <a:pt x="529" y="62"/>
                    </a:lnTo>
                    <a:lnTo>
                      <a:pt x="532" y="56"/>
                    </a:lnTo>
                    <a:lnTo>
                      <a:pt x="549" y="57"/>
                    </a:lnTo>
                    <a:lnTo>
                      <a:pt x="567" y="59"/>
                    </a:lnTo>
                    <a:lnTo>
                      <a:pt x="587" y="60"/>
                    </a:lnTo>
                    <a:lnTo>
                      <a:pt x="606" y="64"/>
                    </a:lnTo>
                    <a:lnTo>
                      <a:pt x="626" y="65"/>
                    </a:lnTo>
                    <a:lnTo>
                      <a:pt x="646" y="69"/>
                    </a:lnTo>
                    <a:lnTo>
                      <a:pt x="667" y="70"/>
                    </a:lnTo>
                    <a:lnTo>
                      <a:pt x="687" y="70"/>
                    </a:lnTo>
                    <a:lnTo>
                      <a:pt x="692" y="77"/>
                    </a:lnTo>
                    <a:lnTo>
                      <a:pt x="697" y="80"/>
                    </a:lnTo>
                    <a:lnTo>
                      <a:pt x="702" y="83"/>
                    </a:lnTo>
                    <a:lnTo>
                      <a:pt x="707" y="83"/>
                    </a:lnTo>
                    <a:lnTo>
                      <a:pt x="712" y="83"/>
                    </a:lnTo>
                    <a:lnTo>
                      <a:pt x="717" y="83"/>
                    </a:lnTo>
                    <a:lnTo>
                      <a:pt x="724" y="83"/>
                    </a:lnTo>
                    <a:lnTo>
                      <a:pt x="732" y="83"/>
                    </a:lnTo>
                    <a:lnTo>
                      <a:pt x="734" y="86"/>
                    </a:lnTo>
                    <a:lnTo>
                      <a:pt x="734" y="88"/>
                    </a:lnTo>
                    <a:lnTo>
                      <a:pt x="736" y="91"/>
                    </a:lnTo>
                    <a:lnTo>
                      <a:pt x="737" y="93"/>
                    </a:lnTo>
                    <a:lnTo>
                      <a:pt x="737" y="96"/>
                    </a:lnTo>
                    <a:lnTo>
                      <a:pt x="739" y="99"/>
                    </a:lnTo>
                    <a:lnTo>
                      <a:pt x="741" y="101"/>
                    </a:lnTo>
                    <a:lnTo>
                      <a:pt x="741" y="104"/>
                    </a:lnTo>
                    <a:lnTo>
                      <a:pt x="752" y="104"/>
                    </a:lnTo>
                    <a:lnTo>
                      <a:pt x="763" y="103"/>
                    </a:lnTo>
                    <a:lnTo>
                      <a:pt x="773" y="103"/>
                    </a:lnTo>
                    <a:lnTo>
                      <a:pt x="783" y="101"/>
                    </a:lnTo>
                    <a:lnTo>
                      <a:pt x="793" y="101"/>
                    </a:lnTo>
                    <a:lnTo>
                      <a:pt x="805" y="99"/>
                    </a:lnTo>
                    <a:lnTo>
                      <a:pt x="815" y="99"/>
                    </a:lnTo>
                    <a:lnTo>
                      <a:pt x="827" y="9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80280" y="3303360"/>
                <a:ext cx="288000" cy="871560"/>
              </a:xfrm>
              <a:custGeom>
                <a:avLst/>
                <a:gdLst/>
                <a:ahLst/>
                <a:rect l="l" t="t" r="r" b="b"/>
                <a:pathLst>
                  <a:path w="187" h="565">
                    <a:moveTo>
                      <a:pt x="187" y="565"/>
                    </a:moveTo>
                    <a:lnTo>
                      <a:pt x="185" y="562"/>
                    </a:lnTo>
                    <a:lnTo>
                      <a:pt x="182" y="557"/>
                    </a:lnTo>
                    <a:lnTo>
                      <a:pt x="177" y="554"/>
                    </a:lnTo>
                    <a:lnTo>
                      <a:pt x="170" y="549"/>
                    </a:lnTo>
                    <a:lnTo>
                      <a:pt x="155" y="539"/>
                    </a:lnTo>
                    <a:lnTo>
                      <a:pt x="135" y="529"/>
                    </a:lnTo>
                    <a:lnTo>
                      <a:pt x="114" y="520"/>
                    </a:lnTo>
                    <a:lnTo>
                      <a:pt x="96" y="512"/>
                    </a:lnTo>
                    <a:lnTo>
                      <a:pt x="81" y="507"/>
                    </a:lnTo>
                    <a:lnTo>
                      <a:pt x="71" y="503"/>
                    </a:lnTo>
                    <a:lnTo>
                      <a:pt x="72" y="497"/>
                    </a:lnTo>
                    <a:lnTo>
                      <a:pt x="74" y="491"/>
                    </a:lnTo>
                    <a:lnTo>
                      <a:pt x="77" y="484"/>
                    </a:lnTo>
                    <a:lnTo>
                      <a:pt x="79" y="478"/>
                    </a:lnTo>
                    <a:lnTo>
                      <a:pt x="82" y="469"/>
                    </a:lnTo>
                    <a:lnTo>
                      <a:pt x="84" y="461"/>
                    </a:lnTo>
                    <a:lnTo>
                      <a:pt x="86" y="452"/>
                    </a:lnTo>
                    <a:lnTo>
                      <a:pt x="84" y="440"/>
                    </a:lnTo>
                    <a:lnTo>
                      <a:pt x="88" y="429"/>
                    </a:lnTo>
                    <a:lnTo>
                      <a:pt x="89" y="416"/>
                    </a:lnTo>
                    <a:lnTo>
                      <a:pt x="89" y="405"/>
                    </a:lnTo>
                    <a:lnTo>
                      <a:pt x="88" y="392"/>
                    </a:lnTo>
                    <a:lnTo>
                      <a:pt x="81" y="366"/>
                    </a:lnTo>
                    <a:lnTo>
                      <a:pt x="74" y="342"/>
                    </a:lnTo>
                    <a:lnTo>
                      <a:pt x="72" y="329"/>
                    </a:lnTo>
                    <a:lnTo>
                      <a:pt x="72" y="316"/>
                    </a:lnTo>
                    <a:lnTo>
                      <a:pt x="74" y="303"/>
                    </a:lnTo>
                    <a:lnTo>
                      <a:pt x="77" y="290"/>
                    </a:lnTo>
                    <a:lnTo>
                      <a:pt x="84" y="277"/>
                    </a:lnTo>
                    <a:lnTo>
                      <a:pt x="94" y="264"/>
                    </a:lnTo>
                    <a:lnTo>
                      <a:pt x="108" y="251"/>
                    </a:lnTo>
                    <a:lnTo>
                      <a:pt x="125" y="238"/>
                    </a:lnTo>
                    <a:lnTo>
                      <a:pt x="126" y="235"/>
                    </a:lnTo>
                    <a:lnTo>
                      <a:pt x="126" y="231"/>
                    </a:lnTo>
                    <a:lnTo>
                      <a:pt x="128" y="228"/>
                    </a:lnTo>
                    <a:lnTo>
                      <a:pt x="130" y="225"/>
                    </a:lnTo>
                    <a:lnTo>
                      <a:pt x="131" y="223"/>
                    </a:lnTo>
                    <a:lnTo>
                      <a:pt x="133" y="220"/>
                    </a:lnTo>
                    <a:lnTo>
                      <a:pt x="136" y="218"/>
                    </a:lnTo>
                    <a:lnTo>
                      <a:pt x="140" y="217"/>
                    </a:lnTo>
                    <a:lnTo>
                      <a:pt x="138" y="207"/>
                    </a:lnTo>
                    <a:lnTo>
                      <a:pt x="135" y="201"/>
                    </a:lnTo>
                    <a:lnTo>
                      <a:pt x="131" y="196"/>
                    </a:lnTo>
                    <a:lnTo>
                      <a:pt x="128" y="193"/>
                    </a:lnTo>
                    <a:lnTo>
                      <a:pt x="121" y="189"/>
                    </a:lnTo>
                    <a:lnTo>
                      <a:pt x="114" y="186"/>
                    </a:lnTo>
                    <a:lnTo>
                      <a:pt x="108" y="184"/>
                    </a:lnTo>
                    <a:lnTo>
                      <a:pt x="99" y="181"/>
                    </a:lnTo>
                    <a:lnTo>
                      <a:pt x="98" y="178"/>
                    </a:lnTo>
                    <a:lnTo>
                      <a:pt x="98" y="175"/>
                    </a:lnTo>
                    <a:lnTo>
                      <a:pt x="96" y="171"/>
                    </a:lnTo>
                    <a:lnTo>
                      <a:pt x="94" y="167"/>
                    </a:lnTo>
                    <a:lnTo>
                      <a:pt x="94" y="163"/>
                    </a:lnTo>
                    <a:lnTo>
                      <a:pt x="93" y="159"/>
                    </a:lnTo>
                    <a:lnTo>
                      <a:pt x="93" y="155"/>
                    </a:lnTo>
                    <a:lnTo>
                      <a:pt x="91" y="152"/>
                    </a:lnTo>
                    <a:lnTo>
                      <a:pt x="88" y="152"/>
                    </a:lnTo>
                    <a:lnTo>
                      <a:pt x="84" y="152"/>
                    </a:lnTo>
                    <a:lnTo>
                      <a:pt x="81" y="154"/>
                    </a:lnTo>
                    <a:lnTo>
                      <a:pt x="77" y="154"/>
                    </a:lnTo>
                    <a:lnTo>
                      <a:pt x="76" y="154"/>
                    </a:lnTo>
                    <a:lnTo>
                      <a:pt x="72" y="154"/>
                    </a:lnTo>
                    <a:lnTo>
                      <a:pt x="69" y="152"/>
                    </a:lnTo>
                    <a:lnTo>
                      <a:pt x="66" y="150"/>
                    </a:lnTo>
                    <a:lnTo>
                      <a:pt x="67" y="147"/>
                    </a:lnTo>
                    <a:lnTo>
                      <a:pt x="69" y="144"/>
                    </a:lnTo>
                    <a:lnTo>
                      <a:pt x="71" y="141"/>
                    </a:lnTo>
                    <a:lnTo>
                      <a:pt x="72" y="137"/>
                    </a:lnTo>
                    <a:lnTo>
                      <a:pt x="76" y="134"/>
                    </a:lnTo>
                    <a:lnTo>
                      <a:pt x="77" y="131"/>
                    </a:lnTo>
                    <a:lnTo>
                      <a:pt x="81" y="126"/>
                    </a:lnTo>
                    <a:lnTo>
                      <a:pt x="82" y="121"/>
                    </a:lnTo>
                    <a:lnTo>
                      <a:pt x="69" y="105"/>
                    </a:lnTo>
                    <a:lnTo>
                      <a:pt x="54" y="92"/>
                    </a:lnTo>
                    <a:lnTo>
                      <a:pt x="40" y="81"/>
                    </a:lnTo>
                    <a:lnTo>
                      <a:pt x="29" y="68"/>
                    </a:lnTo>
                    <a:lnTo>
                      <a:pt x="17" y="55"/>
                    </a:lnTo>
                    <a:lnTo>
                      <a:pt x="8" y="40"/>
                    </a:lnTo>
                    <a:lnTo>
                      <a:pt x="5" y="32"/>
                    </a:lnTo>
                    <a:lnTo>
                      <a:pt x="2" y="22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74600" y="2823480"/>
                <a:ext cx="2188080" cy="1347840"/>
              </a:xfrm>
              <a:custGeom>
                <a:avLst/>
                <a:gdLst/>
                <a:ahLst/>
                <a:rect l="l" t="t" r="r" b="b"/>
                <a:pathLst>
                  <a:path w="1419" h="874">
                    <a:moveTo>
                      <a:pt x="914" y="95"/>
                    </a:moveTo>
                    <a:lnTo>
                      <a:pt x="911" y="95"/>
                    </a:lnTo>
                    <a:lnTo>
                      <a:pt x="907" y="95"/>
                    </a:lnTo>
                    <a:lnTo>
                      <a:pt x="906" y="97"/>
                    </a:lnTo>
                    <a:lnTo>
                      <a:pt x="902" y="97"/>
                    </a:lnTo>
                    <a:lnTo>
                      <a:pt x="899" y="97"/>
                    </a:lnTo>
                    <a:lnTo>
                      <a:pt x="895" y="99"/>
                    </a:lnTo>
                    <a:lnTo>
                      <a:pt x="894" y="99"/>
                    </a:lnTo>
                    <a:lnTo>
                      <a:pt x="890" y="99"/>
                    </a:lnTo>
                    <a:lnTo>
                      <a:pt x="884" y="91"/>
                    </a:lnTo>
                    <a:lnTo>
                      <a:pt x="880" y="81"/>
                    </a:lnTo>
                    <a:lnTo>
                      <a:pt x="877" y="73"/>
                    </a:lnTo>
                    <a:lnTo>
                      <a:pt x="875" y="63"/>
                    </a:lnTo>
                    <a:lnTo>
                      <a:pt x="872" y="53"/>
                    </a:lnTo>
                    <a:lnTo>
                      <a:pt x="869" y="44"/>
                    </a:lnTo>
                    <a:lnTo>
                      <a:pt x="863" y="34"/>
                    </a:lnTo>
                    <a:lnTo>
                      <a:pt x="857" y="24"/>
                    </a:lnTo>
                    <a:lnTo>
                      <a:pt x="852" y="24"/>
                    </a:lnTo>
                    <a:lnTo>
                      <a:pt x="847" y="24"/>
                    </a:lnTo>
                    <a:lnTo>
                      <a:pt x="840" y="23"/>
                    </a:lnTo>
                    <a:lnTo>
                      <a:pt x="835" y="23"/>
                    </a:lnTo>
                    <a:lnTo>
                      <a:pt x="830" y="23"/>
                    </a:lnTo>
                    <a:lnTo>
                      <a:pt x="825" y="21"/>
                    </a:lnTo>
                    <a:lnTo>
                      <a:pt x="820" y="21"/>
                    </a:lnTo>
                    <a:lnTo>
                      <a:pt x="815" y="19"/>
                    </a:lnTo>
                    <a:lnTo>
                      <a:pt x="810" y="13"/>
                    </a:lnTo>
                    <a:lnTo>
                      <a:pt x="805" y="6"/>
                    </a:lnTo>
                    <a:lnTo>
                      <a:pt x="799" y="3"/>
                    </a:lnTo>
                    <a:lnTo>
                      <a:pt x="794" y="0"/>
                    </a:lnTo>
                    <a:lnTo>
                      <a:pt x="789" y="0"/>
                    </a:lnTo>
                    <a:lnTo>
                      <a:pt x="784" y="0"/>
                    </a:lnTo>
                    <a:lnTo>
                      <a:pt x="779" y="0"/>
                    </a:lnTo>
                    <a:lnTo>
                      <a:pt x="774" y="2"/>
                    </a:lnTo>
                    <a:lnTo>
                      <a:pt x="762" y="6"/>
                    </a:lnTo>
                    <a:lnTo>
                      <a:pt x="752" y="13"/>
                    </a:lnTo>
                    <a:lnTo>
                      <a:pt x="742" y="19"/>
                    </a:lnTo>
                    <a:lnTo>
                      <a:pt x="734" y="24"/>
                    </a:lnTo>
                    <a:lnTo>
                      <a:pt x="729" y="26"/>
                    </a:lnTo>
                    <a:lnTo>
                      <a:pt x="724" y="27"/>
                    </a:lnTo>
                    <a:lnTo>
                      <a:pt x="719" y="27"/>
                    </a:lnTo>
                    <a:lnTo>
                      <a:pt x="715" y="27"/>
                    </a:lnTo>
                    <a:lnTo>
                      <a:pt x="712" y="27"/>
                    </a:lnTo>
                    <a:lnTo>
                      <a:pt x="709" y="27"/>
                    </a:lnTo>
                    <a:lnTo>
                      <a:pt x="707" y="26"/>
                    </a:lnTo>
                    <a:lnTo>
                      <a:pt x="703" y="26"/>
                    </a:lnTo>
                    <a:lnTo>
                      <a:pt x="700" y="32"/>
                    </a:lnTo>
                    <a:lnTo>
                      <a:pt x="695" y="37"/>
                    </a:lnTo>
                    <a:lnTo>
                      <a:pt x="690" y="40"/>
                    </a:lnTo>
                    <a:lnTo>
                      <a:pt x="685" y="44"/>
                    </a:lnTo>
                    <a:lnTo>
                      <a:pt x="675" y="47"/>
                    </a:lnTo>
                    <a:lnTo>
                      <a:pt x="663" y="47"/>
                    </a:lnTo>
                    <a:lnTo>
                      <a:pt x="653" y="45"/>
                    </a:lnTo>
                    <a:lnTo>
                      <a:pt x="641" y="42"/>
                    </a:lnTo>
                    <a:lnTo>
                      <a:pt x="633" y="40"/>
                    </a:lnTo>
                    <a:lnTo>
                      <a:pt x="624" y="42"/>
                    </a:lnTo>
                    <a:lnTo>
                      <a:pt x="621" y="52"/>
                    </a:lnTo>
                    <a:lnTo>
                      <a:pt x="616" y="60"/>
                    </a:lnTo>
                    <a:lnTo>
                      <a:pt x="609" y="68"/>
                    </a:lnTo>
                    <a:lnTo>
                      <a:pt x="601" y="74"/>
                    </a:lnTo>
                    <a:lnTo>
                      <a:pt x="591" y="81"/>
                    </a:lnTo>
                    <a:lnTo>
                      <a:pt x="582" y="86"/>
                    </a:lnTo>
                    <a:lnTo>
                      <a:pt x="574" y="89"/>
                    </a:lnTo>
                    <a:lnTo>
                      <a:pt x="565" y="92"/>
                    </a:lnTo>
                    <a:lnTo>
                      <a:pt x="557" y="84"/>
                    </a:lnTo>
                    <a:lnTo>
                      <a:pt x="549" y="74"/>
                    </a:lnTo>
                    <a:lnTo>
                      <a:pt x="540" y="63"/>
                    </a:lnTo>
                    <a:lnTo>
                      <a:pt x="530" y="52"/>
                    </a:lnTo>
                    <a:lnTo>
                      <a:pt x="520" y="42"/>
                    </a:lnTo>
                    <a:lnTo>
                      <a:pt x="510" y="34"/>
                    </a:lnTo>
                    <a:lnTo>
                      <a:pt x="498" y="29"/>
                    </a:lnTo>
                    <a:lnTo>
                      <a:pt x="488" y="27"/>
                    </a:lnTo>
                    <a:lnTo>
                      <a:pt x="488" y="36"/>
                    </a:lnTo>
                    <a:lnTo>
                      <a:pt x="491" y="44"/>
                    </a:lnTo>
                    <a:lnTo>
                      <a:pt x="495" y="53"/>
                    </a:lnTo>
                    <a:lnTo>
                      <a:pt x="498" y="61"/>
                    </a:lnTo>
                    <a:lnTo>
                      <a:pt x="501" y="68"/>
                    </a:lnTo>
                    <a:lnTo>
                      <a:pt x="503" y="76"/>
                    </a:lnTo>
                    <a:lnTo>
                      <a:pt x="503" y="81"/>
                    </a:lnTo>
                    <a:lnTo>
                      <a:pt x="501" y="84"/>
                    </a:lnTo>
                    <a:lnTo>
                      <a:pt x="490" y="79"/>
                    </a:lnTo>
                    <a:lnTo>
                      <a:pt x="478" y="73"/>
                    </a:lnTo>
                    <a:lnTo>
                      <a:pt x="466" y="68"/>
                    </a:lnTo>
                    <a:lnTo>
                      <a:pt x="456" y="61"/>
                    </a:lnTo>
                    <a:lnTo>
                      <a:pt x="446" y="57"/>
                    </a:lnTo>
                    <a:lnTo>
                      <a:pt x="434" y="52"/>
                    </a:lnTo>
                    <a:lnTo>
                      <a:pt x="422" y="47"/>
                    </a:lnTo>
                    <a:lnTo>
                      <a:pt x="410" y="45"/>
                    </a:lnTo>
                    <a:lnTo>
                      <a:pt x="414" y="58"/>
                    </a:lnTo>
                    <a:lnTo>
                      <a:pt x="417" y="71"/>
                    </a:lnTo>
                    <a:lnTo>
                      <a:pt x="422" y="84"/>
                    </a:lnTo>
                    <a:lnTo>
                      <a:pt x="427" y="97"/>
                    </a:lnTo>
                    <a:lnTo>
                      <a:pt x="431" y="110"/>
                    </a:lnTo>
                    <a:lnTo>
                      <a:pt x="434" y="125"/>
                    </a:lnTo>
                    <a:lnTo>
                      <a:pt x="437" y="138"/>
                    </a:lnTo>
                    <a:lnTo>
                      <a:pt x="441" y="150"/>
                    </a:lnTo>
                    <a:lnTo>
                      <a:pt x="437" y="157"/>
                    </a:lnTo>
                    <a:lnTo>
                      <a:pt x="432" y="160"/>
                    </a:lnTo>
                    <a:lnTo>
                      <a:pt x="427" y="162"/>
                    </a:lnTo>
                    <a:lnTo>
                      <a:pt x="424" y="163"/>
                    </a:lnTo>
                    <a:lnTo>
                      <a:pt x="419" y="163"/>
                    </a:lnTo>
                    <a:lnTo>
                      <a:pt x="416" y="163"/>
                    </a:lnTo>
                    <a:lnTo>
                      <a:pt x="410" y="162"/>
                    </a:lnTo>
                    <a:lnTo>
                      <a:pt x="407" y="162"/>
                    </a:lnTo>
                    <a:lnTo>
                      <a:pt x="400" y="155"/>
                    </a:lnTo>
                    <a:lnTo>
                      <a:pt x="392" y="147"/>
                    </a:lnTo>
                    <a:lnTo>
                      <a:pt x="380" y="139"/>
                    </a:lnTo>
                    <a:lnTo>
                      <a:pt x="370" y="131"/>
                    </a:lnTo>
                    <a:lnTo>
                      <a:pt x="358" y="125"/>
                    </a:lnTo>
                    <a:lnTo>
                      <a:pt x="345" y="118"/>
                    </a:lnTo>
                    <a:lnTo>
                      <a:pt x="333" y="113"/>
                    </a:lnTo>
                    <a:lnTo>
                      <a:pt x="323" y="110"/>
                    </a:lnTo>
                    <a:lnTo>
                      <a:pt x="315" y="110"/>
                    </a:lnTo>
                    <a:lnTo>
                      <a:pt x="308" y="108"/>
                    </a:lnTo>
                    <a:lnTo>
                      <a:pt x="303" y="108"/>
                    </a:lnTo>
                    <a:lnTo>
                      <a:pt x="298" y="108"/>
                    </a:lnTo>
                    <a:lnTo>
                      <a:pt x="294" y="107"/>
                    </a:lnTo>
                    <a:lnTo>
                      <a:pt x="289" y="107"/>
                    </a:lnTo>
                    <a:lnTo>
                      <a:pt x="284" y="105"/>
                    </a:lnTo>
                    <a:lnTo>
                      <a:pt x="277" y="104"/>
                    </a:lnTo>
                    <a:lnTo>
                      <a:pt x="267" y="107"/>
                    </a:lnTo>
                    <a:lnTo>
                      <a:pt x="259" y="112"/>
                    </a:lnTo>
                    <a:lnTo>
                      <a:pt x="251" y="118"/>
                    </a:lnTo>
                    <a:lnTo>
                      <a:pt x="240" y="126"/>
                    </a:lnTo>
                    <a:lnTo>
                      <a:pt x="234" y="136"/>
                    </a:lnTo>
                    <a:lnTo>
                      <a:pt x="227" y="146"/>
                    </a:lnTo>
                    <a:lnTo>
                      <a:pt x="220" y="154"/>
                    </a:lnTo>
                    <a:lnTo>
                      <a:pt x="213" y="162"/>
                    </a:lnTo>
                    <a:lnTo>
                      <a:pt x="225" y="163"/>
                    </a:lnTo>
                    <a:lnTo>
                      <a:pt x="234" y="167"/>
                    </a:lnTo>
                    <a:lnTo>
                      <a:pt x="242" y="170"/>
                    </a:lnTo>
                    <a:lnTo>
                      <a:pt x="247" y="175"/>
                    </a:lnTo>
                    <a:lnTo>
                      <a:pt x="251" y="180"/>
                    </a:lnTo>
                    <a:lnTo>
                      <a:pt x="254" y="185"/>
                    </a:lnTo>
                    <a:lnTo>
                      <a:pt x="256" y="191"/>
                    </a:lnTo>
                    <a:lnTo>
                      <a:pt x="256" y="197"/>
                    </a:lnTo>
                    <a:lnTo>
                      <a:pt x="256" y="212"/>
                    </a:lnTo>
                    <a:lnTo>
                      <a:pt x="254" y="227"/>
                    </a:lnTo>
                    <a:lnTo>
                      <a:pt x="251" y="243"/>
                    </a:lnTo>
                    <a:lnTo>
                      <a:pt x="251" y="259"/>
                    </a:lnTo>
                    <a:lnTo>
                      <a:pt x="262" y="262"/>
                    </a:lnTo>
                    <a:lnTo>
                      <a:pt x="274" y="265"/>
                    </a:lnTo>
                    <a:lnTo>
                      <a:pt x="284" y="270"/>
                    </a:lnTo>
                    <a:lnTo>
                      <a:pt x="293" y="275"/>
                    </a:lnTo>
                    <a:lnTo>
                      <a:pt x="301" y="280"/>
                    </a:lnTo>
                    <a:lnTo>
                      <a:pt x="308" y="287"/>
                    </a:lnTo>
                    <a:lnTo>
                      <a:pt x="316" y="296"/>
                    </a:lnTo>
                    <a:lnTo>
                      <a:pt x="323" y="308"/>
                    </a:lnTo>
                    <a:lnTo>
                      <a:pt x="315" y="316"/>
                    </a:lnTo>
                    <a:lnTo>
                      <a:pt x="306" y="327"/>
                    </a:lnTo>
                    <a:lnTo>
                      <a:pt x="298" y="340"/>
                    </a:lnTo>
                    <a:lnTo>
                      <a:pt x="289" y="355"/>
                    </a:lnTo>
                    <a:lnTo>
                      <a:pt x="274" y="385"/>
                    </a:lnTo>
                    <a:lnTo>
                      <a:pt x="261" y="418"/>
                    </a:lnTo>
                    <a:lnTo>
                      <a:pt x="251" y="452"/>
                    </a:lnTo>
                    <a:lnTo>
                      <a:pt x="242" y="482"/>
                    </a:lnTo>
                    <a:lnTo>
                      <a:pt x="239" y="508"/>
                    </a:lnTo>
                    <a:lnTo>
                      <a:pt x="237" y="529"/>
                    </a:lnTo>
                    <a:lnTo>
                      <a:pt x="234" y="529"/>
                    </a:lnTo>
                    <a:lnTo>
                      <a:pt x="229" y="528"/>
                    </a:lnTo>
                    <a:lnTo>
                      <a:pt x="224" y="528"/>
                    </a:lnTo>
                    <a:lnTo>
                      <a:pt x="220" y="528"/>
                    </a:lnTo>
                    <a:lnTo>
                      <a:pt x="215" y="526"/>
                    </a:lnTo>
                    <a:lnTo>
                      <a:pt x="212" y="526"/>
                    </a:lnTo>
                    <a:lnTo>
                      <a:pt x="207" y="526"/>
                    </a:lnTo>
                    <a:lnTo>
                      <a:pt x="203" y="525"/>
                    </a:lnTo>
                    <a:lnTo>
                      <a:pt x="193" y="539"/>
                    </a:lnTo>
                    <a:lnTo>
                      <a:pt x="181" y="554"/>
                    </a:lnTo>
                    <a:lnTo>
                      <a:pt x="168" y="570"/>
                    </a:lnTo>
                    <a:lnTo>
                      <a:pt x="153" y="586"/>
                    </a:lnTo>
                    <a:lnTo>
                      <a:pt x="138" y="599"/>
                    </a:lnTo>
                    <a:lnTo>
                      <a:pt x="123" y="610"/>
                    </a:lnTo>
                    <a:lnTo>
                      <a:pt x="116" y="615"/>
                    </a:lnTo>
                    <a:lnTo>
                      <a:pt x="109" y="619"/>
                    </a:lnTo>
                    <a:lnTo>
                      <a:pt x="102" y="620"/>
                    </a:lnTo>
                    <a:lnTo>
                      <a:pt x="97" y="622"/>
                    </a:lnTo>
                    <a:lnTo>
                      <a:pt x="94" y="617"/>
                    </a:lnTo>
                    <a:lnTo>
                      <a:pt x="92" y="612"/>
                    </a:lnTo>
                    <a:lnTo>
                      <a:pt x="89" y="607"/>
                    </a:lnTo>
                    <a:lnTo>
                      <a:pt x="85" y="602"/>
                    </a:lnTo>
                    <a:lnTo>
                      <a:pt x="84" y="596"/>
                    </a:lnTo>
                    <a:lnTo>
                      <a:pt x="80" y="591"/>
                    </a:lnTo>
                    <a:lnTo>
                      <a:pt x="79" y="586"/>
                    </a:lnTo>
                    <a:lnTo>
                      <a:pt x="77" y="581"/>
                    </a:lnTo>
                    <a:lnTo>
                      <a:pt x="67" y="588"/>
                    </a:lnTo>
                    <a:lnTo>
                      <a:pt x="57" y="599"/>
                    </a:lnTo>
                    <a:lnTo>
                      <a:pt x="45" y="615"/>
                    </a:lnTo>
                    <a:lnTo>
                      <a:pt x="32" y="635"/>
                    </a:lnTo>
                    <a:lnTo>
                      <a:pt x="22" y="654"/>
                    </a:lnTo>
                    <a:lnTo>
                      <a:pt x="11" y="672"/>
                    </a:lnTo>
                    <a:lnTo>
                      <a:pt x="3" y="687"/>
                    </a:lnTo>
                    <a:lnTo>
                      <a:pt x="0" y="696"/>
                    </a:lnTo>
                    <a:lnTo>
                      <a:pt x="10" y="696"/>
                    </a:lnTo>
                    <a:lnTo>
                      <a:pt x="20" y="696"/>
                    </a:lnTo>
                    <a:lnTo>
                      <a:pt x="30" y="698"/>
                    </a:lnTo>
                    <a:lnTo>
                      <a:pt x="40" y="700"/>
                    </a:lnTo>
                    <a:lnTo>
                      <a:pt x="50" y="701"/>
                    </a:lnTo>
                    <a:lnTo>
                      <a:pt x="60" y="704"/>
                    </a:lnTo>
                    <a:lnTo>
                      <a:pt x="69" y="706"/>
                    </a:lnTo>
                    <a:lnTo>
                      <a:pt x="79" y="711"/>
                    </a:lnTo>
                    <a:lnTo>
                      <a:pt x="87" y="708"/>
                    </a:lnTo>
                    <a:lnTo>
                      <a:pt x="96" y="706"/>
                    </a:lnTo>
                    <a:lnTo>
                      <a:pt x="102" y="708"/>
                    </a:lnTo>
                    <a:lnTo>
                      <a:pt x="111" y="708"/>
                    </a:lnTo>
                    <a:lnTo>
                      <a:pt x="126" y="714"/>
                    </a:lnTo>
                    <a:lnTo>
                      <a:pt x="139" y="724"/>
                    </a:lnTo>
                    <a:lnTo>
                      <a:pt x="153" y="734"/>
                    </a:lnTo>
                    <a:lnTo>
                      <a:pt x="165" y="745"/>
                    </a:lnTo>
                    <a:lnTo>
                      <a:pt x="176" y="756"/>
                    </a:lnTo>
                    <a:lnTo>
                      <a:pt x="185" y="764"/>
                    </a:lnTo>
                    <a:lnTo>
                      <a:pt x="185" y="766"/>
                    </a:lnTo>
                    <a:lnTo>
                      <a:pt x="185" y="768"/>
                    </a:lnTo>
                    <a:lnTo>
                      <a:pt x="185" y="769"/>
                    </a:lnTo>
                    <a:lnTo>
                      <a:pt x="185" y="769"/>
                    </a:lnTo>
                    <a:lnTo>
                      <a:pt x="185" y="771"/>
                    </a:lnTo>
                    <a:lnTo>
                      <a:pt x="185" y="772"/>
                    </a:lnTo>
                    <a:lnTo>
                      <a:pt x="185" y="772"/>
                    </a:lnTo>
                    <a:lnTo>
                      <a:pt x="185" y="774"/>
                    </a:lnTo>
                    <a:lnTo>
                      <a:pt x="181" y="777"/>
                    </a:lnTo>
                    <a:lnTo>
                      <a:pt x="178" y="780"/>
                    </a:lnTo>
                    <a:lnTo>
                      <a:pt x="175" y="782"/>
                    </a:lnTo>
                    <a:lnTo>
                      <a:pt x="171" y="785"/>
                    </a:lnTo>
                    <a:lnTo>
                      <a:pt x="168" y="789"/>
                    </a:lnTo>
                    <a:lnTo>
                      <a:pt x="165" y="790"/>
                    </a:lnTo>
                    <a:lnTo>
                      <a:pt x="161" y="793"/>
                    </a:lnTo>
                    <a:lnTo>
                      <a:pt x="156" y="795"/>
                    </a:lnTo>
                    <a:lnTo>
                      <a:pt x="158" y="803"/>
                    </a:lnTo>
                    <a:lnTo>
                      <a:pt x="161" y="811"/>
                    </a:lnTo>
                    <a:lnTo>
                      <a:pt x="168" y="818"/>
                    </a:lnTo>
                    <a:lnTo>
                      <a:pt x="175" y="823"/>
                    </a:lnTo>
                    <a:lnTo>
                      <a:pt x="183" y="827"/>
                    </a:lnTo>
                    <a:lnTo>
                      <a:pt x="192" y="831"/>
                    </a:lnTo>
                    <a:lnTo>
                      <a:pt x="200" y="834"/>
                    </a:lnTo>
                    <a:lnTo>
                      <a:pt x="208" y="834"/>
                    </a:lnTo>
                    <a:lnTo>
                      <a:pt x="232" y="821"/>
                    </a:lnTo>
                    <a:lnTo>
                      <a:pt x="249" y="814"/>
                    </a:lnTo>
                    <a:lnTo>
                      <a:pt x="257" y="813"/>
                    </a:lnTo>
                    <a:lnTo>
                      <a:pt x="262" y="813"/>
                    </a:lnTo>
                    <a:lnTo>
                      <a:pt x="269" y="813"/>
                    </a:lnTo>
                    <a:lnTo>
                      <a:pt x="274" y="814"/>
                    </a:lnTo>
                    <a:lnTo>
                      <a:pt x="283" y="821"/>
                    </a:lnTo>
                    <a:lnTo>
                      <a:pt x="293" y="831"/>
                    </a:lnTo>
                    <a:lnTo>
                      <a:pt x="304" y="842"/>
                    </a:lnTo>
                    <a:lnTo>
                      <a:pt x="321" y="857"/>
                    </a:lnTo>
                    <a:lnTo>
                      <a:pt x="331" y="865"/>
                    </a:lnTo>
                    <a:lnTo>
                      <a:pt x="341" y="870"/>
                    </a:lnTo>
                    <a:lnTo>
                      <a:pt x="350" y="873"/>
                    </a:lnTo>
                    <a:lnTo>
                      <a:pt x="358" y="874"/>
                    </a:lnTo>
                    <a:lnTo>
                      <a:pt x="365" y="873"/>
                    </a:lnTo>
                    <a:lnTo>
                      <a:pt x="375" y="868"/>
                    </a:lnTo>
                    <a:lnTo>
                      <a:pt x="385" y="861"/>
                    </a:lnTo>
                    <a:lnTo>
                      <a:pt x="397" y="853"/>
                    </a:lnTo>
                    <a:lnTo>
                      <a:pt x="404" y="845"/>
                    </a:lnTo>
                    <a:lnTo>
                      <a:pt x="407" y="839"/>
                    </a:lnTo>
                    <a:lnTo>
                      <a:pt x="412" y="834"/>
                    </a:lnTo>
                    <a:lnTo>
                      <a:pt x="417" y="832"/>
                    </a:lnTo>
                    <a:lnTo>
                      <a:pt x="426" y="831"/>
                    </a:lnTo>
                    <a:lnTo>
                      <a:pt x="434" y="829"/>
                    </a:lnTo>
                    <a:lnTo>
                      <a:pt x="448" y="827"/>
                    </a:lnTo>
                    <a:lnTo>
                      <a:pt x="464" y="827"/>
                    </a:lnTo>
                    <a:lnTo>
                      <a:pt x="468" y="824"/>
                    </a:lnTo>
                    <a:lnTo>
                      <a:pt x="473" y="821"/>
                    </a:lnTo>
                    <a:lnTo>
                      <a:pt x="478" y="819"/>
                    </a:lnTo>
                    <a:lnTo>
                      <a:pt x="483" y="818"/>
                    </a:lnTo>
                    <a:lnTo>
                      <a:pt x="496" y="818"/>
                    </a:lnTo>
                    <a:lnTo>
                      <a:pt x="510" y="821"/>
                    </a:lnTo>
                    <a:lnTo>
                      <a:pt x="523" y="824"/>
                    </a:lnTo>
                    <a:lnTo>
                      <a:pt x="537" y="829"/>
                    </a:lnTo>
                    <a:lnTo>
                      <a:pt x="549" y="834"/>
                    </a:lnTo>
                    <a:lnTo>
                      <a:pt x="559" y="839"/>
                    </a:lnTo>
                    <a:lnTo>
                      <a:pt x="565" y="837"/>
                    </a:lnTo>
                    <a:lnTo>
                      <a:pt x="577" y="831"/>
                    </a:lnTo>
                    <a:lnTo>
                      <a:pt x="591" y="821"/>
                    </a:lnTo>
                    <a:lnTo>
                      <a:pt x="609" y="808"/>
                    </a:lnTo>
                    <a:lnTo>
                      <a:pt x="626" y="795"/>
                    </a:lnTo>
                    <a:lnTo>
                      <a:pt x="643" y="782"/>
                    </a:lnTo>
                    <a:lnTo>
                      <a:pt x="658" y="771"/>
                    </a:lnTo>
                    <a:lnTo>
                      <a:pt x="670" y="761"/>
                    </a:lnTo>
                    <a:lnTo>
                      <a:pt x="672" y="761"/>
                    </a:lnTo>
                    <a:lnTo>
                      <a:pt x="673" y="761"/>
                    </a:lnTo>
                    <a:lnTo>
                      <a:pt x="677" y="763"/>
                    </a:lnTo>
                    <a:lnTo>
                      <a:pt x="678" y="763"/>
                    </a:lnTo>
                    <a:lnTo>
                      <a:pt x="682" y="764"/>
                    </a:lnTo>
                    <a:lnTo>
                      <a:pt x="685" y="764"/>
                    </a:lnTo>
                    <a:lnTo>
                      <a:pt x="688" y="766"/>
                    </a:lnTo>
                    <a:lnTo>
                      <a:pt x="693" y="766"/>
                    </a:lnTo>
                    <a:lnTo>
                      <a:pt x="697" y="763"/>
                    </a:lnTo>
                    <a:lnTo>
                      <a:pt x="700" y="759"/>
                    </a:lnTo>
                    <a:lnTo>
                      <a:pt x="705" y="758"/>
                    </a:lnTo>
                    <a:lnTo>
                      <a:pt x="710" y="756"/>
                    </a:lnTo>
                    <a:lnTo>
                      <a:pt x="715" y="753"/>
                    </a:lnTo>
                    <a:lnTo>
                      <a:pt x="720" y="746"/>
                    </a:lnTo>
                    <a:lnTo>
                      <a:pt x="725" y="740"/>
                    </a:lnTo>
                    <a:lnTo>
                      <a:pt x="729" y="729"/>
                    </a:lnTo>
                    <a:lnTo>
                      <a:pt x="739" y="730"/>
                    </a:lnTo>
                    <a:lnTo>
                      <a:pt x="749" y="732"/>
                    </a:lnTo>
                    <a:lnTo>
                      <a:pt x="757" y="735"/>
                    </a:lnTo>
                    <a:lnTo>
                      <a:pt x="767" y="737"/>
                    </a:lnTo>
                    <a:lnTo>
                      <a:pt x="778" y="738"/>
                    </a:lnTo>
                    <a:lnTo>
                      <a:pt x="789" y="740"/>
                    </a:lnTo>
                    <a:lnTo>
                      <a:pt x="803" y="738"/>
                    </a:lnTo>
                    <a:lnTo>
                      <a:pt x="816" y="737"/>
                    </a:lnTo>
                    <a:lnTo>
                      <a:pt x="835" y="732"/>
                    </a:lnTo>
                    <a:lnTo>
                      <a:pt x="850" y="725"/>
                    </a:lnTo>
                    <a:lnTo>
                      <a:pt x="862" y="719"/>
                    </a:lnTo>
                    <a:lnTo>
                      <a:pt x="872" y="711"/>
                    </a:lnTo>
                    <a:lnTo>
                      <a:pt x="880" y="704"/>
                    </a:lnTo>
                    <a:lnTo>
                      <a:pt x="890" y="696"/>
                    </a:lnTo>
                    <a:lnTo>
                      <a:pt x="902" y="687"/>
                    </a:lnTo>
                    <a:lnTo>
                      <a:pt x="917" y="678"/>
                    </a:lnTo>
                    <a:lnTo>
                      <a:pt x="917" y="674"/>
                    </a:lnTo>
                    <a:lnTo>
                      <a:pt x="916" y="670"/>
                    </a:lnTo>
                    <a:lnTo>
                      <a:pt x="912" y="665"/>
                    </a:lnTo>
                    <a:lnTo>
                      <a:pt x="907" y="661"/>
                    </a:lnTo>
                    <a:lnTo>
                      <a:pt x="894" y="651"/>
                    </a:lnTo>
                    <a:lnTo>
                      <a:pt x="880" y="638"/>
                    </a:lnTo>
                    <a:lnTo>
                      <a:pt x="874" y="631"/>
                    </a:lnTo>
                    <a:lnTo>
                      <a:pt x="869" y="623"/>
                    </a:lnTo>
                    <a:lnTo>
                      <a:pt x="865" y="615"/>
                    </a:lnTo>
                    <a:lnTo>
                      <a:pt x="863" y="606"/>
                    </a:lnTo>
                    <a:lnTo>
                      <a:pt x="863" y="596"/>
                    </a:lnTo>
                    <a:lnTo>
                      <a:pt x="867" y="583"/>
                    </a:lnTo>
                    <a:lnTo>
                      <a:pt x="872" y="570"/>
                    </a:lnTo>
                    <a:lnTo>
                      <a:pt x="882" y="555"/>
                    </a:lnTo>
                    <a:lnTo>
                      <a:pt x="889" y="555"/>
                    </a:lnTo>
                    <a:lnTo>
                      <a:pt x="895" y="557"/>
                    </a:lnTo>
                    <a:lnTo>
                      <a:pt x="902" y="557"/>
                    </a:lnTo>
                    <a:lnTo>
                      <a:pt x="909" y="557"/>
                    </a:lnTo>
                    <a:lnTo>
                      <a:pt x="917" y="557"/>
                    </a:lnTo>
                    <a:lnTo>
                      <a:pt x="924" y="557"/>
                    </a:lnTo>
                    <a:lnTo>
                      <a:pt x="931" y="559"/>
                    </a:lnTo>
                    <a:lnTo>
                      <a:pt x="938" y="559"/>
                    </a:lnTo>
                    <a:lnTo>
                      <a:pt x="939" y="554"/>
                    </a:lnTo>
                    <a:lnTo>
                      <a:pt x="941" y="549"/>
                    </a:lnTo>
                    <a:lnTo>
                      <a:pt x="943" y="542"/>
                    </a:lnTo>
                    <a:lnTo>
                      <a:pt x="943" y="538"/>
                    </a:lnTo>
                    <a:lnTo>
                      <a:pt x="944" y="533"/>
                    </a:lnTo>
                    <a:lnTo>
                      <a:pt x="946" y="528"/>
                    </a:lnTo>
                    <a:lnTo>
                      <a:pt x="948" y="521"/>
                    </a:lnTo>
                    <a:lnTo>
                      <a:pt x="948" y="516"/>
                    </a:lnTo>
                    <a:lnTo>
                      <a:pt x="961" y="515"/>
                    </a:lnTo>
                    <a:lnTo>
                      <a:pt x="975" y="513"/>
                    </a:lnTo>
                    <a:lnTo>
                      <a:pt x="988" y="513"/>
                    </a:lnTo>
                    <a:lnTo>
                      <a:pt x="1002" y="512"/>
                    </a:lnTo>
                    <a:lnTo>
                      <a:pt x="1015" y="510"/>
                    </a:lnTo>
                    <a:lnTo>
                      <a:pt x="1028" y="508"/>
                    </a:lnTo>
                    <a:lnTo>
                      <a:pt x="1042" y="507"/>
                    </a:lnTo>
                    <a:lnTo>
                      <a:pt x="1055" y="505"/>
                    </a:lnTo>
                    <a:lnTo>
                      <a:pt x="1055" y="502"/>
                    </a:lnTo>
                    <a:lnTo>
                      <a:pt x="1054" y="499"/>
                    </a:lnTo>
                    <a:lnTo>
                      <a:pt x="1054" y="495"/>
                    </a:lnTo>
                    <a:lnTo>
                      <a:pt x="1052" y="492"/>
                    </a:lnTo>
                    <a:lnTo>
                      <a:pt x="1050" y="491"/>
                    </a:lnTo>
                    <a:lnTo>
                      <a:pt x="1050" y="487"/>
                    </a:lnTo>
                    <a:lnTo>
                      <a:pt x="1049" y="484"/>
                    </a:lnTo>
                    <a:lnTo>
                      <a:pt x="1049" y="482"/>
                    </a:lnTo>
                    <a:lnTo>
                      <a:pt x="1045" y="476"/>
                    </a:lnTo>
                    <a:lnTo>
                      <a:pt x="1044" y="468"/>
                    </a:lnTo>
                    <a:lnTo>
                      <a:pt x="1042" y="457"/>
                    </a:lnTo>
                    <a:lnTo>
                      <a:pt x="1042" y="444"/>
                    </a:lnTo>
                    <a:lnTo>
                      <a:pt x="1044" y="411"/>
                    </a:lnTo>
                    <a:lnTo>
                      <a:pt x="1047" y="376"/>
                    </a:lnTo>
                    <a:lnTo>
                      <a:pt x="1049" y="338"/>
                    </a:lnTo>
                    <a:lnTo>
                      <a:pt x="1050" y="304"/>
                    </a:lnTo>
                    <a:lnTo>
                      <a:pt x="1050" y="288"/>
                    </a:lnTo>
                    <a:lnTo>
                      <a:pt x="1050" y="274"/>
                    </a:lnTo>
                    <a:lnTo>
                      <a:pt x="1047" y="262"/>
                    </a:lnTo>
                    <a:lnTo>
                      <a:pt x="1044" y="254"/>
                    </a:lnTo>
                    <a:lnTo>
                      <a:pt x="1025" y="241"/>
                    </a:lnTo>
                    <a:lnTo>
                      <a:pt x="1003" y="227"/>
                    </a:lnTo>
                    <a:lnTo>
                      <a:pt x="983" y="207"/>
                    </a:lnTo>
                    <a:lnTo>
                      <a:pt x="965" y="186"/>
                    </a:lnTo>
                    <a:lnTo>
                      <a:pt x="946" y="162"/>
                    </a:lnTo>
                    <a:lnTo>
                      <a:pt x="931" y="139"/>
                    </a:lnTo>
                    <a:lnTo>
                      <a:pt x="926" y="128"/>
                    </a:lnTo>
                    <a:lnTo>
                      <a:pt x="921" y="116"/>
                    </a:lnTo>
                    <a:lnTo>
                      <a:pt x="916" y="105"/>
                    </a:lnTo>
                    <a:lnTo>
                      <a:pt x="914" y="95"/>
                    </a:lnTo>
                    <a:lnTo>
                      <a:pt x="924" y="92"/>
                    </a:lnTo>
                    <a:lnTo>
                      <a:pt x="934" y="91"/>
                    </a:lnTo>
                    <a:lnTo>
                      <a:pt x="944" y="87"/>
                    </a:lnTo>
                    <a:lnTo>
                      <a:pt x="953" y="86"/>
                    </a:lnTo>
                    <a:lnTo>
                      <a:pt x="963" y="82"/>
                    </a:lnTo>
                    <a:lnTo>
                      <a:pt x="973" y="79"/>
                    </a:lnTo>
                    <a:lnTo>
                      <a:pt x="983" y="76"/>
                    </a:lnTo>
                    <a:lnTo>
                      <a:pt x="993" y="74"/>
                    </a:lnTo>
                    <a:lnTo>
                      <a:pt x="990" y="86"/>
                    </a:lnTo>
                    <a:lnTo>
                      <a:pt x="986" y="94"/>
                    </a:lnTo>
                    <a:lnTo>
                      <a:pt x="983" y="102"/>
                    </a:lnTo>
                    <a:lnTo>
                      <a:pt x="981" y="108"/>
                    </a:lnTo>
                    <a:lnTo>
                      <a:pt x="983" y="113"/>
                    </a:lnTo>
                    <a:lnTo>
                      <a:pt x="988" y="118"/>
                    </a:lnTo>
                    <a:lnTo>
                      <a:pt x="998" y="121"/>
                    </a:lnTo>
                    <a:lnTo>
                      <a:pt x="1013" y="125"/>
                    </a:lnTo>
                    <a:lnTo>
                      <a:pt x="1013" y="129"/>
                    </a:lnTo>
                    <a:lnTo>
                      <a:pt x="1013" y="136"/>
                    </a:lnTo>
                    <a:lnTo>
                      <a:pt x="1015" y="144"/>
                    </a:lnTo>
                    <a:lnTo>
                      <a:pt x="1015" y="152"/>
                    </a:lnTo>
                    <a:lnTo>
                      <a:pt x="1017" y="160"/>
                    </a:lnTo>
                    <a:lnTo>
                      <a:pt x="1018" y="167"/>
                    </a:lnTo>
                    <a:lnTo>
                      <a:pt x="1022" y="172"/>
                    </a:lnTo>
                    <a:lnTo>
                      <a:pt x="1025" y="173"/>
                    </a:lnTo>
                    <a:lnTo>
                      <a:pt x="1028" y="183"/>
                    </a:lnTo>
                    <a:lnTo>
                      <a:pt x="1037" y="197"/>
                    </a:lnTo>
                    <a:lnTo>
                      <a:pt x="1049" y="217"/>
                    </a:lnTo>
                    <a:lnTo>
                      <a:pt x="1062" y="238"/>
                    </a:lnTo>
                    <a:lnTo>
                      <a:pt x="1077" y="259"/>
                    </a:lnTo>
                    <a:lnTo>
                      <a:pt x="1091" y="278"/>
                    </a:lnTo>
                    <a:lnTo>
                      <a:pt x="1101" y="296"/>
                    </a:lnTo>
                    <a:lnTo>
                      <a:pt x="1106" y="311"/>
                    </a:lnTo>
                    <a:lnTo>
                      <a:pt x="1113" y="311"/>
                    </a:lnTo>
                    <a:lnTo>
                      <a:pt x="1119" y="312"/>
                    </a:lnTo>
                    <a:lnTo>
                      <a:pt x="1126" y="314"/>
                    </a:lnTo>
                    <a:lnTo>
                      <a:pt x="1133" y="316"/>
                    </a:lnTo>
                    <a:lnTo>
                      <a:pt x="1141" y="317"/>
                    </a:lnTo>
                    <a:lnTo>
                      <a:pt x="1148" y="319"/>
                    </a:lnTo>
                    <a:lnTo>
                      <a:pt x="1155" y="321"/>
                    </a:lnTo>
                    <a:lnTo>
                      <a:pt x="1162" y="321"/>
                    </a:lnTo>
                    <a:lnTo>
                      <a:pt x="1163" y="330"/>
                    </a:lnTo>
                    <a:lnTo>
                      <a:pt x="1165" y="337"/>
                    </a:lnTo>
                    <a:lnTo>
                      <a:pt x="1167" y="343"/>
                    </a:lnTo>
                    <a:lnTo>
                      <a:pt x="1170" y="350"/>
                    </a:lnTo>
                    <a:lnTo>
                      <a:pt x="1172" y="355"/>
                    </a:lnTo>
                    <a:lnTo>
                      <a:pt x="1175" y="361"/>
                    </a:lnTo>
                    <a:lnTo>
                      <a:pt x="1177" y="366"/>
                    </a:lnTo>
                    <a:lnTo>
                      <a:pt x="1178" y="372"/>
                    </a:lnTo>
                    <a:lnTo>
                      <a:pt x="1192" y="376"/>
                    </a:lnTo>
                    <a:lnTo>
                      <a:pt x="1204" y="377"/>
                    </a:lnTo>
                    <a:lnTo>
                      <a:pt x="1215" y="379"/>
                    </a:lnTo>
                    <a:lnTo>
                      <a:pt x="1227" y="380"/>
                    </a:lnTo>
                    <a:lnTo>
                      <a:pt x="1241" y="380"/>
                    </a:lnTo>
                    <a:lnTo>
                      <a:pt x="1252" y="382"/>
                    </a:lnTo>
                    <a:lnTo>
                      <a:pt x="1266" y="385"/>
                    </a:lnTo>
                    <a:lnTo>
                      <a:pt x="1281" y="389"/>
                    </a:lnTo>
                    <a:lnTo>
                      <a:pt x="1291" y="397"/>
                    </a:lnTo>
                    <a:lnTo>
                      <a:pt x="1300" y="403"/>
                    </a:lnTo>
                    <a:lnTo>
                      <a:pt x="1310" y="410"/>
                    </a:lnTo>
                    <a:lnTo>
                      <a:pt x="1318" y="414"/>
                    </a:lnTo>
                    <a:lnTo>
                      <a:pt x="1327" y="419"/>
                    </a:lnTo>
                    <a:lnTo>
                      <a:pt x="1337" y="423"/>
                    </a:lnTo>
                    <a:lnTo>
                      <a:pt x="1347" y="426"/>
                    </a:lnTo>
                    <a:lnTo>
                      <a:pt x="1360" y="431"/>
                    </a:lnTo>
                    <a:lnTo>
                      <a:pt x="1360" y="432"/>
                    </a:lnTo>
                    <a:lnTo>
                      <a:pt x="1362" y="436"/>
                    </a:lnTo>
                    <a:lnTo>
                      <a:pt x="1362" y="439"/>
                    </a:lnTo>
                    <a:lnTo>
                      <a:pt x="1362" y="440"/>
                    </a:lnTo>
                    <a:lnTo>
                      <a:pt x="1362" y="444"/>
                    </a:lnTo>
                    <a:lnTo>
                      <a:pt x="1364" y="447"/>
                    </a:lnTo>
                    <a:lnTo>
                      <a:pt x="1364" y="448"/>
                    </a:lnTo>
                    <a:lnTo>
                      <a:pt x="1364" y="452"/>
                    </a:lnTo>
                    <a:lnTo>
                      <a:pt x="1367" y="455"/>
                    </a:lnTo>
                    <a:lnTo>
                      <a:pt x="1372" y="457"/>
                    </a:lnTo>
                    <a:lnTo>
                      <a:pt x="1375" y="460"/>
                    </a:lnTo>
                    <a:lnTo>
                      <a:pt x="1379" y="461"/>
                    </a:lnTo>
                    <a:lnTo>
                      <a:pt x="1382" y="465"/>
                    </a:lnTo>
                    <a:lnTo>
                      <a:pt x="1387" y="466"/>
                    </a:lnTo>
                    <a:lnTo>
                      <a:pt x="1391" y="470"/>
                    </a:lnTo>
                    <a:lnTo>
                      <a:pt x="1394" y="471"/>
                    </a:lnTo>
                    <a:lnTo>
                      <a:pt x="1396" y="471"/>
                    </a:lnTo>
                    <a:lnTo>
                      <a:pt x="1397" y="470"/>
                    </a:lnTo>
                    <a:lnTo>
                      <a:pt x="1399" y="470"/>
                    </a:lnTo>
                    <a:lnTo>
                      <a:pt x="1402" y="468"/>
                    </a:lnTo>
                    <a:lnTo>
                      <a:pt x="1406" y="468"/>
                    </a:lnTo>
                    <a:lnTo>
                      <a:pt x="1409" y="466"/>
                    </a:lnTo>
                    <a:lnTo>
                      <a:pt x="1414" y="466"/>
                    </a:lnTo>
                    <a:lnTo>
                      <a:pt x="1419" y="466"/>
                    </a:lnTo>
                    <a:lnTo>
                      <a:pt x="1417" y="463"/>
                    </a:lnTo>
                    <a:lnTo>
                      <a:pt x="1416" y="458"/>
                    </a:lnTo>
                    <a:lnTo>
                      <a:pt x="1416" y="453"/>
                    </a:lnTo>
                    <a:lnTo>
                      <a:pt x="1414" y="450"/>
                    </a:lnTo>
                    <a:lnTo>
                      <a:pt x="1414" y="445"/>
                    </a:lnTo>
                    <a:lnTo>
                      <a:pt x="1414" y="440"/>
                    </a:lnTo>
                    <a:lnTo>
                      <a:pt x="1412" y="436"/>
                    </a:lnTo>
                    <a:lnTo>
                      <a:pt x="1412" y="432"/>
                    </a:lnTo>
                    <a:lnTo>
                      <a:pt x="1411" y="429"/>
                    </a:lnTo>
                    <a:lnTo>
                      <a:pt x="1409" y="426"/>
                    </a:lnTo>
                    <a:lnTo>
                      <a:pt x="1407" y="421"/>
                    </a:lnTo>
                    <a:lnTo>
                      <a:pt x="1406" y="418"/>
                    </a:lnTo>
                    <a:lnTo>
                      <a:pt x="1404" y="413"/>
                    </a:lnTo>
                    <a:lnTo>
                      <a:pt x="1402" y="408"/>
                    </a:lnTo>
                    <a:lnTo>
                      <a:pt x="1401" y="405"/>
                    </a:lnTo>
                    <a:lnTo>
                      <a:pt x="1401" y="400"/>
                    </a:lnTo>
                    <a:lnTo>
                      <a:pt x="1380" y="393"/>
                    </a:lnTo>
                    <a:lnTo>
                      <a:pt x="1362" y="384"/>
                    </a:lnTo>
                    <a:lnTo>
                      <a:pt x="1347" y="374"/>
                    </a:lnTo>
                    <a:lnTo>
                      <a:pt x="1332" y="363"/>
                    </a:lnTo>
                    <a:lnTo>
                      <a:pt x="1327" y="356"/>
                    </a:lnTo>
                    <a:lnTo>
                      <a:pt x="1322" y="348"/>
                    </a:lnTo>
                    <a:lnTo>
                      <a:pt x="1316" y="340"/>
                    </a:lnTo>
                    <a:lnTo>
                      <a:pt x="1313" y="332"/>
                    </a:lnTo>
                    <a:lnTo>
                      <a:pt x="1310" y="322"/>
                    </a:lnTo>
                    <a:lnTo>
                      <a:pt x="1308" y="312"/>
                    </a:lnTo>
                    <a:lnTo>
                      <a:pt x="1306" y="301"/>
                    </a:lnTo>
                    <a:lnTo>
                      <a:pt x="1305" y="29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65520" y="2246760"/>
                <a:ext cx="1487880" cy="2072520"/>
              </a:xfrm>
              <a:custGeom>
                <a:avLst/>
                <a:gdLst/>
                <a:ahLst/>
                <a:rect l="l" t="t" r="r" b="b"/>
                <a:pathLst>
                  <a:path w="965" h="1344">
                    <a:moveTo>
                      <a:pt x="965" y="0"/>
                    </a:moveTo>
                    <a:lnTo>
                      <a:pt x="957" y="19"/>
                    </a:lnTo>
                    <a:lnTo>
                      <a:pt x="950" y="34"/>
                    </a:lnTo>
                    <a:lnTo>
                      <a:pt x="945" y="44"/>
                    </a:lnTo>
                    <a:lnTo>
                      <a:pt x="938" y="48"/>
                    </a:lnTo>
                    <a:lnTo>
                      <a:pt x="930" y="52"/>
                    </a:lnTo>
                    <a:lnTo>
                      <a:pt x="920" y="52"/>
                    </a:lnTo>
                    <a:lnTo>
                      <a:pt x="906" y="48"/>
                    </a:lnTo>
                    <a:lnTo>
                      <a:pt x="889" y="44"/>
                    </a:lnTo>
                    <a:lnTo>
                      <a:pt x="888" y="47"/>
                    </a:lnTo>
                    <a:lnTo>
                      <a:pt x="888" y="48"/>
                    </a:lnTo>
                    <a:lnTo>
                      <a:pt x="886" y="52"/>
                    </a:lnTo>
                    <a:lnTo>
                      <a:pt x="884" y="53"/>
                    </a:lnTo>
                    <a:lnTo>
                      <a:pt x="884" y="55"/>
                    </a:lnTo>
                    <a:lnTo>
                      <a:pt x="883" y="56"/>
                    </a:lnTo>
                    <a:lnTo>
                      <a:pt x="881" y="60"/>
                    </a:lnTo>
                    <a:lnTo>
                      <a:pt x="881" y="61"/>
                    </a:lnTo>
                    <a:lnTo>
                      <a:pt x="879" y="60"/>
                    </a:lnTo>
                    <a:lnTo>
                      <a:pt x="876" y="60"/>
                    </a:lnTo>
                    <a:lnTo>
                      <a:pt x="874" y="58"/>
                    </a:lnTo>
                    <a:lnTo>
                      <a:pt x="872" y="58"/>
                    </a:lnTo>
                    <a:lnTo>
                      <a:pt x="871" y="58"/>
                    </a:lnTo>
                    <a:lnTo>
                      <a:pt x="869" y="58"/>
                    </a:lnTo>
                    <a:lnTo>
                      <a:pt x="869" y="56"/>
                    </a:lnTo>
                    <a:lnTo>
                      <a:pt x="867" y="56"/>
                    </a:lnTo>
                    <a:lnTo>
                      <a:pt x="861" y="63"/>
                    </a:lnTo>
                    <a:lnTo>
                      <a:pt x="856" y="71"/>
                    </a:lnTo>
                    <a:lnTo>
                      <a:pt x="851" y="79"/>
                    </a:lnTo>
                    <a:lnTo>
                      <a:pt x="847" y="89"/>
                    </a:lnTo>
                    <a:lnTo>
                      <a:pt x="842" y="110"/>
                    </a:lnTo>
                    <a:lnTo>
                      <a:pt x="839" y="131"/>
                    </a:lnTo>
                    <a:lnTo>
                      <a:pt x="840" y="142"/>
                    </a:lnTo>
                    <a:lnTo>
                      <a:pt x="840" y="152"/>
                    </a:lnTo>
                    <a:lnTo>
                      <a:pt x="842" y="162"/>
                    </a:lnTo>
                    <a:lnTo>
                      <a:pt x="846" y="171"/>
                    </a:lnTo>
                    <a:lnTo>
                      <a:pt x="849" y="178"/>
                    </a:lnTo>
                    <a:lnTo>
                      <a:pt x="854" y="184"/>
                    </a:lnTo>
                    <a:lnTo>
                      <a:pt x="861" y="189"/>
                    </a:lnTo>
                    <a:lnTo>
                      <a:pt x="867" y="192"/>
                    </a:lnTo>
                    <a:lnTo>
                      <a:pt x="866" y="222"/>
                    </a:lnTo>
                    <a:lnTo>
                      <a:pt x="862" y="256"/>
                    </a:lnTo>
                    <a:lnTo>
                      <a:pt x="856" y="291"/>
                    </a:lnTo>
                    <a:lnTo>
                      <a:pt x="847" y="327"/>
                    </a:lnTo>
                    <a:lnTo>
                      <a:pt x="842" y="343"/>
                    </a:lnTo>
                    <a:lnTo>
                      <a:pt x="835" y="361"/>
                    </a:lnTo>
                    <a:lnTo>
                      <a:pt x="829" y="376"/>
                    </a:lnTo>
                    <a:lnTo>
                      <a:pt x="820" y="390"/>
                    </a:lnTo>
                    <a:lnTo>
                      <a:pt x="812" y="401"/>
                    </a:lnTo>
                    <a:lnTo>
                      <a:pt x="802" y="413"/>
                    </a:lnTo>
                    <a:lnTo>
                      <a:pt x="790" y="421"/>
                    </a:lnTo>
                    <a:lnTo>
                      <a:pt x="780" y="427"/>
                    </a:lnTo>
                    <a:lnTo>
                      <a:pt x="766" y="440"/>
                    </a:lnTo>
                    <a:lnTo>
                      <a:pt x="758" y="453"/>
                    </a:lnTo>
                    <a:lnTo>
                      <a:pt x="753" y="465"/>
                    </a:lnTo>
                    <a:lnTo>
                      <a:pt x="748" y="478"/>
                    </a:lnTo>
                    <a:lnTo>
                      <a:pt x="744" y="489"/>
                    </a:lnTo>
                    <a:lnTo>
                      <a:pt x="743" y="502"/>
                    </a:lnTo>
                    <a:lnTo>
                      <a:pt x="741" y="513"/>
                    </a:lnTo>
                    <a:lnTo>
                      <a:pt x="738" y="526"/>
                    </a:lnTo>
                    <a:lnTo>
                      <a:pt x="729" y="526"/>
                    </a:lnTo>
                    <a:lnTo>
                      <a:pt x="721" y="528"/>
                    </a:lnTo>
                    <a:lnTo>
                      <a:pt x="714" y="529"/>
                    </a:lnTo>
                    <a:lnTo>
                      <a:pt x="707" y="531"/>
                    </a:lnTo>
                    <a:lnTo>
                      <a:pt x="702" y="533"/>
                    </a:lnTo>
                    <a:lnTo>
                      <a:pt x="697" y="534"/>
                    </a:lnTo>
                    <a:lnTo>
                      <a:pt x="692" y="536"/>
                    </a:lnTo>
                    <a:lnTo>
                      <a:pt x="689" y="539"/>
                    </a:lnTo>
                    <a:lnTo>
                      <a:pt x="679" y="544"/>
                    </a:lnTo>
                    <a:lnTo>
                      <a:pt x="674" y="552"/>
                    </a:lnTo>
                    <a:lnTo>
                      <a:pt x="670" y="559"/>
                    </a:lnTo>
                    <a:lnTo>
                      <a:pt x="667" y="567"/>
                    </a:lnTo>
                    <a:lnTo>
                      <a:pt x="664" y="576"/>
                    </a:lnTo>
                    <a:lnTo>
                      <a:pt x="660" y="586"/>
                    </a:lnTo>
                    <a:lnTo>
                      <a:pt x="654" y="596"/>
                    </a:lnTo>
                    <a:lnTo>
                      <a:pt x="645" y="605"/>
                    </a:lnTo>
                    <a:lnTo>
                      <a:pt x="638" y="617"/>
                    </a:lnTo>
                    <a:lnTo>
                      <a:pt x="632" y="628"/>
                    </a:lnTo>
                    <a:lnTo>
                      <a:pt x="623" y="638"/>
                    </a:lnTo>
                    <a:lnTo>
                      <a:pt x="615" y="646"/>
                    </a:lnTo>
                    <a:lnTo>
                      <a:pt x="606" y="654"/>
                    </a:lnTo>
                    <a:lnTo>
                      <a:pt x="598" y="661"/>
                    </a:lnTo>
                    <a:lnTo>
                      <a:pt x="588" y="667"/>
                    </a:lnTo>
                    <a:lnTo>
                      <a:pt x="579" y="672"/>
                    </a:lnTo>
                    <a:lnTo>
                      <a:pt x="578" y="691"/>
                    </a:lnTo>
                    <a:lnTo>
                      <a:pt x="573" y="707"/>
                    </a:lnTo>
                    <a:lnTo>
                      <a:pt x="568" y="722"/>
                    </a:lnTo>
                    <a:lnTo>
                      <a:pt x="561" y="737"/>
                    </a:lnTo>
                    <a:lnTo>
                      <a:pt x="554" y="750"/>
                    </a:lnTo>
                    <a:lnTo>
                      <a:pt x="549" y="764"/>
                    </a:lnTo>
                    <a:lnTo>
                      <a:pt x="546" y="777"/>
                    </a:lnTo>
                    <a:lnTo>
                      <a:pt x="544" y="792"/>
                    </a:lnTo>
                    <a:lnTo>
                      <a:pt x="541" y="800"/>
                    </a:lnTo>
                    <a:lnTo>
                      <a:pt x="541" y="808"/>
                    </a:lnTo>
                    <a:lnTo>
                      <a:pt x="541" y="813"/>
                    </a:lnTo>
                    <a:lnTo>
                      <a:pt x="541" y="819"/>
                    </a:lnTo>
                    <a:lnTo>
                      <a:pt x="542" y="824"/>
                    </a:lnTo>
                    <a:lnTo>
                      <a:pt x="544" y="831"/>
                    </a:lnTo>
                    <a:lnTo>
                      <a:pt x="546" y="835"/>
                    </a:lnTo>
                    <a:lnTo>
                      <a:pt x="547" y="844"/>
                    </a:lnTo>
                    <a:lnTo>
                      <a:pt x="556" y="847"/>
                    </a:lnTo>
                    <a:lnTo>
                      <a:pt x="564" y="852"/>
                    </a:lnTo>
                    <a:lnTo>
                      <a:pt x="573" y="855"/>
                    </a:lnTo>
                    <a:lnTo>
                      <a:pt x="581" y="860"/>
                    </a:lnTo>
                    <a:lnTo>
                      <a:pt x="590" y="863"/>
                    </a:lnTo>
                    <a:lnTo>
                      <a:pt x="598" y="866"/>
                    </a:lnTo>
                    <a:lnTo>
                      <a:pt x="608" y="869"/>
                    </a:lnTo>
                    <a:lnTo>
                      <a:pt x="617" y="871"/>
                    </a:lnTo>
                    <a:lnTo>
                      <a:pt x="620" y="876"/>
                    </a:lnTo>
                    <a:lnTo>
                      <a:pt x="623" y="881"/>
                    </a:lnTo>
                    <a:lnTo>
                      <a:pt x="628" y="884"/>
                    </a:lnTo>
                    <a:lnTo>
                      <a:pt x="633" y="887"/>
                    </a:lnTo>
                    <a:lnTo>
                      <a:pt x="645" y="890"/>
                    </a:lnTo>
                    <a:lnTo>
                      <a:pt x="660" y="892"/>
                    </a:lnTo>
                    <a:lnTo>
                      <a:pt x="674" y="894"/>
                    </a:lnTo>
                    <a:lnTo>
                      <a:pt x="686" y="899"/>
                    </a:lnTo>
                    <a:lnTo>
                      <a:pt x="691" y="902"/>
                    </a:lnTo>
                    <a:lnTo>
                      <a:pt x="694" y="905"/>
                    </a:lnTo>
                    <a:lnTo>
                      <a:pt x="699" y="910"/>
                    </a:lnTo>
                    <a:lnTo>
                      <a:pt x="701" y="916"/>
                    </a:lnTo>
                    <a:lnTo>
                      <a:pt x="702" y="916"/>
                    </a:lnTo>
                    <a:lnTo>
                      <a:pt x="704" y="918"/>
                    </a:lnTo>
                    <a:lnTo>
                      <a:pt x="706" y="920"/>
                    </a:lnTo>
                    <a:lnTo>
                      <a:pt x="707" y="920"/>
                    </a:lnTo>
                    <a:lnTo>
                      <a:pt x="711" y="920"/>
                    </a:lnTo>
                    <a:lnTo>
                      <a:pt x="712" y="921"/>
                    </a:lnTo>
                    <a:lnTo>
                      <a:pt x="718" y="921"/>
                    </a:lnTo>
                    <a:lnTo>
                      <a:pt x="723" y="921"/>
                    </a:lnTo>
                    <a:lnTo>
                      <a:pt x="726" y="928"/>
                    </a:lnTo>
                    <a:lnTo>
                      <a:pt x="731" y="934"/>
                    </a:lnTo>
                    <a:lnTo>
                      <a:pt x="738" y="941"/>
                    </a:lnTo>
                    <a:lnTo>
                      <a:pt x="743" y="947"/>
                    </a:lnTo>
                    <a:lnTo>
                      <a:pt x="751" y="952"/>
                    </a:lnTo>
                    <a:lnTo>
                      <a:pt x="758" y="959"/>
                    </a:lnTo>
                    <a:lnTo>
                      <a:pt x="766" y="962"/>
                    </a:lnTo>
                    <a:lnTo>
                      <a:pt x="773" y="967"/>
                    </a:lnTo>
                    <a:lnTo>
                      <a:pt x="773" y="970"/>
                    </a:lnTo>
                    <a:lnTo>
                      <a:pt x="773" y="975"/>
                    </a:lnTo>
                    <a:lnTo>
                      <a:pt x="775" y="978"/>
                    </a:lnTo>
                    <a:lnTo>
                      <a:pt x="775" y="981"/>
                    </a:lnTo>
                    <a:lnTo>
                      <a:pt x="775" y="986"/>
                    </a:lnTo>
                    <a:lnTo>
                      <a:pt x="776" y="989"/>
                    </a:lnTo>
                    <a:lnTo>
                      <a:pt x="776" y="994"/>
                    </a:lnTo>
                    <a:lnTo>
                      <a:pt x="776" y="997"/>
                    </a:lnTo>
                    <a:lnTo>
                      <a:pt x="771" y="1001"/>
                    </a:lnTo>
                    <a:lnTo>
                      <a:pt x="768" y="1004"/>
                    </a:lnTo>
                    <a:lnTo>
                      <a:pt x="763" y="1005"/>
                    </a:lnTo>
                    <a:lnTo>
                      <a:pt x="760" y="1009"/>
                    </a:lnTo>
                    <a:lnTo>
                      <a:pt x="758" y="1012"/>
                    </a:lnTo>
                    <a:lnTo>
                      <a:pt x="755" y="1014"/>
                    </a:lnTo>
                    <a:lnTo>
                      <a:pt x="753" y="1015"/>
                    </a:lnTo>
                    <a:lnTo>
                      <a:pt x="753" y="1015"/>
                    </a:lnTo>
                    <a:lnTo>
                      <a:pt x="751" y="1014"/>
                    </a:lnTo>
                    <a:lnTo>
                      <a:pt x="724" y="1014"/>
                    </a:lnTo>
                    <a:lnTo>
                      <a:pt x="701" y="1014"/>
                    </a:lnTo>
                    <a:lnTo>
                      <a:pt x="682" y="1017"/>
                    </a:lnTo>
                    <a:lnTo>
                      <a:pt x="665" y="1022"/>
                    </a:lnTo>
                    <a:lnTo>
                      <a:pt x="652" y="1027"/>
                    </a:lnTo>
                    <a:lnTo>
                      <a:pt x="642" y="1033"/>
                    </a:lnTo>
                    <a:lnTo>
                      <a:pt x="632" y="1041"/>
                    </a:lnTo>
                    <a:lnTo>
                      <a:pt x="625" y="1051"/>
                    </a:lnTo>
                    <a:lnTo>
                      <a:pt x="615" y="1072"/>
                    </a:lnTo>
                    <a:lnTo>
                      <a:pt x="606" y="1098"/>
                    </a:lnTo>
                    <a:lnTo>
                      <a:pt x="596" y="1129"/>
                    </a:lnTo>
                    <a:lnTo>
                      <a:pt x="583" y="1159"/>
                    </a:lnTo>
                    <a:lnTo>
                      <a:pt x="579" y="1159"/>
                    </a:lnTo>
                    <a:lnTo>
                      <a:pt x="571" y="1159"/>
                    </a:lnTo>
                    <a:lnTo>
                      <a:pt x="559" y="1159"/>
                    </a:lnTo>
                    <a:lnTo>
                      <a:pt x="547" y="1159"/>
                    </a:lnTo>
                    <a:lnTo>
                      <a:pt x="537" y="1159"/>
                    </a:lnTo>
                    <a:lnTo>
                      <a:pt x="527" y="1159"/>
                    </a:lnTo>
                    <a:lnTo>
                      <a:pt x="519" y="1158"/>
                    </a:lnTo>
                    <a:lnTo>
                      <a:pt x="517" y="1158"/>
                    </a:lnTo>
                    <a:lnTo>
                      <a:pt x="515" y="1161"/>
                    </a:lnTo>
                    <a:lnTo>
                      <a:pt x="515" y="1167"/>
                    </a:lnTo>
                    <a:lnTo>
                      <a:pt x="512" y="1176"/>
                    </a:lnTo>
                    <a:lnTo>
                      <a:pt x="510" y="1184"/>
                    </a:lnTo>
                    <a:lnTo>
                      <a:pt x="507" y="1193"/>
                    </a:lnTo>
                    <a:lnTo>
                      <a:pt x="505" y="1201"/>
                    </a:lnTo>
                    <a:lnTo>
                      <a:pt x="504" y="1206"/>
                    </a:lnTo>
                    <a:lnTo>
                      <a:pt x="504" y="1208"/>
                    </a:lnTo>
                    <a:lnTo>
                      <a:pt x="494" y="1221"/>
                    </a:lnTo>
                    <a:lnTo>
                      <a:pt x="483" y="1235"/>
                    </a:lnTo>
                    <a:lnTo>
                      <a:pt x="472" y="1250"/>
                    </a:lnTo>
                    <a:lnTo>
                      <a:pt x="462" y="1265"/>
                    </a:lnTo>
                    <a:lnTo>
                      <a:pt x="451" y="1281"/>
                    </a:lnTo>
                    <a:lnTo>
                      <a:pt x="441" y="1295"/>
                    </a:lnTo>
                    <a:lnTo>
                      <a:pt x="435" y="1308"/>
                    </a:lnTo>
                    <a:lnTo>
                      <a:pt x="430" y="1320"/>
                    </a:lnTo>
                    <a:lnTo>
                      <a:pt x="418" y="1321"/>
                    </a:lnTo>
                    <a:lnTo>
                      <a:pt x="408" y="1321"/>
                    </a:lnTo>
                    <a:lnTo>
                      <a:pt x="396" y="1323"/>
                    </a:lnTo>
                    <a:lnTo>
                      <a:pt x="386" y="1323"/>
                    </a:lnTo>
                    <a:lnTo>
                      <a:pt x="376" y="1325"/>
                    </a:lnTo>
                    <a:lnTo>
                      <a:pt x="366" y="1325"/>
                    </a:lnTo>
                    <a:lnTo>
                      <a:pt x="355" y="1326"/>
                    </a:lnTo>
                    <a:lnTo>
                      <a:pt x="344" y="1326"/>
                    </a:lnTo>
                    <a:lnTo>
                      <a:pt x="344" y="1323"/>
                    </a:lnTo>
                    <a:lnTo>
                      <a:pt x="342" y="1321"/>
                    </a:lnTo>
                    <a:lnTo>
                      <a:pt x="340" y="1318"/>
                    </a:lnTo>
                    <a:lnTo>
                      <a:pt x="340" y="1315"/>
                    </a:lnTo>
                    <a:lnTo>
                      <a:pt x="339" y="1313"/>
                    </a:lnTo>
                    <a:lnTo>
                      <a:pt x="337" y="1310"/>
                    </a:lnTo>
                    <a:lnTo>
                      <a:pt x="337" y="1308"/>
                    </a:lnTo>
                    <a:lnTo>
                      <a:pt x="335" y="1305"/>
                    </a:lnTo>
                    <a:lnTo>
                      <a:pt x="327" y="1305"/>
                    </a:lnTo>
                    <a:lnTo>
                      <a:pt x="320" y="1305"/>
                    </a:lnTo>
                    <a:lnTo>
                      <a:pt x="315" y="1305"/>
                    </a:lnTo>
                    <a:lnTo>
                      <a:pt x="310" y="1305"/>
                    </a:lnTo>
                    <a:lnTo>
                      <a:pt x="305" y="1305"/>
                    </a:lnTo>
                    <a:lnTo>
                      <a:pt x="300" y="1302"/>
                    </a:lnTo>
                    <a:lnTo>
                      <a:pt x="295" y="1299"/>
                    </a:lnTo>
                    <a:lnTo>
                      <a:pt x="290" y="1292"/>
                    </a:lnTo>
                    <a:lnTo>
                      <a:pt x="270" y="1292"/>
                    </a:lnTo>
                    <a:lnTo>
                      <a:pt x="249" y="1291"/>
                    </a:lnTo>
                    <a:lnTo>
                      <a:pt x="229" y="1287"/>
                    </a:lnTo>
                    <a:lnTo>
                      <a:pt x="209" y="1286"/>
                    </a:lnTo>
                    <a:lnTo>
                      <a:pt x="190" y="1282"/>
                    </a:lnTo>
                    <a:lnTo>
                      <a:pt x="170" y="1281"/>
                    </a:lnTo>
                    <a:lnTo>
                      <a:pt x="152" y="1279"/>
                    </a:lnTo>
                    <a:lnTo>
                      <a:pt x="135" y="1278"/>
                    </a:lnTo>
                    <a:lnTo>
                      <a:pt x="132" y="1284"/>
                    </a:lnTo>
                    <a:lnTo>
                      <a:pt x="128" y="1291"/>
                    </a:lnTo>
                    <a:lnTo>
                      <a:pt x="123" y="1297"/>
                    </a:lnTo>
                    <a:lnTo>
                      <a:pt x="116" y="1302"/>
                    </a:lnTo>
                    <a:lnTo>
                      <a:pt x="103" y="1312"/>
                    </a:lnTo>
                    <a:lnTo>
                      <a:pt x="86" y="1320"/>
                    </a:lnTo>
                    <a:lnTo>
                      <a:pt x="69" y="1325"/>
                    </a:lnTo>
                    <a:lnTo>
                      <a:pt x="54" y="1328"/>
                    </a:lnTo>
                    <a:lnTo>
                      <a:pt x="41" y="1331"/>
                    </a:lnTo>
                    <a:lnTo>
                      <a:pt x="29" y="1331"/>
                    </a:lnTo>
                    <a:lnTo>
                      <a:pt x="27" y="1334"/>
                    </a:lnTo>
                    <a:lnTo>
                      <a:pt x="27" y="1336"/>
                    </a:lnTo>
                    <a:lnTo>
                      <a:pt x="25" y="1337"/>
                    </a:lnTo>
                    <a:lnTo>
                      <a:pt x="24" y="1339"/>
                    </a:lnTo>
                    <a:lnTo>
                      <a:pt x="22" y="1341"/>
                    </a:lnTo>
                    <a:lnTo>
                      <a:pt x="22" y="1341"/>
                    </a:lnTo>
                    <a:lnTo>
                      <a:pt x="20" y="1342"/>
                    </a:lnTo>
                    <a:lnTo>
                      <a:pt x="19" y="1344"/>
                    </a:lnTo>
                    <a:lnTo>
                      <a:pt x="17" y="1344"/>
                    </a:lnTo>
                    <a:lnTo>
                      <a:pt x="15" y="1344"/>
                    </a:lnTo>
                    <a:lnTo>
                      <a:pt x="12" y="1344"/>
                    </a:lnTo>
                    <a:lnTo>
                      <a:pt x="10" y="1344"/>
                    </a:lnTo>
                    <a:lnTo>
                      <a:pt x="7" y="1344"/>
                    </a:lnTo>
                    <a:lnTo>
                      <a:pt x="5" y="1344"/>
                    </a:lnTo>
                    <a:lnTo>
                      <a:pt x="4" y="1344"/>
                    </a:lnTo>
                    <a:lnTo>
                      <a:pt x="0" y="1344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87000" y="3270960"/>
                <a:ext cx="164880" cy="21888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107" y="142"/>
                    </a:moveTo>
                    <a:lnTo>
                      <a:pt x="106" y="139"/>
                    </a:lnTo>
                    <a:lnTo>
                      <a:pt x="104" y="136"/>
                    </a:lnTo>
                    <a:lnTo>
                      <a:pt x="102" y="131"/>
                    </a:lnTo>
                    <a:lnTo>
                      <a:pt x="101" y="128"/>
                    </a:lnTo>
                    <a:lnTo>
                      <a:pt x="99" y="123"/>
                    </a:lnTo>
                    <a:lnTo>
                      <a:pt x="97" y="118"/>
                    </a:lnTo>
                    <a:lnTo>
                      <a:pt x="96" y="115"/>
                    </a:lnTo>
                    <a:lnTo>
                      <a:pt x="96" y="110"/>
                    </a:lnTo>
                    <a:lnTo>
                      <a:pt x="75" y="103"/>
                    </a:lnTo>
                    <a:lnTo>
                      <a:pt x="57" y="94"/>
                    </a:lnTo>
                    <a:lnTo>
                      <a:pt x="42" y="84"/>
                    </a:lnTo>
                    <a:lnTo>
                      <a:pt x="27" y="73"/>
                    </a:lnTo>
                    <a:lnTo>
                      <a:pt x="22" y="66"/>
                    </a:lnTo>
                    <a:lnTo>
                      <a:pt x="17" y="58"/>
                    </a:lnTo>
                    <a:lnTo>
                      <a:pt x="11" y="50"/>
                    </a:lnTo>
                    <a:lnTo>
                      <a:pt x="8" y="42"/>
                    </a:lnTo>
                    <a:lnTo>
                      <a:pt x="5" y="32"/>
                    </a:lnTo>
                    <a:lnTo>
                      <a:pt x="3" y="22"/>
                    </a:lnTo>
                    <a:lnTo>
                      <a:pt x="1" y="1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51880" y="34898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34"/>
                    </a:moveTo>
                    <a:lnTo>
                      <a:pt x="5" y="31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2" y="13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780280" y="3303360"/>
                <a:ext cx="482400" cy="246600"/>
              </a:xfrm>
              <a:custGeom>
                <a:avLst/>
                <a:gdLst/>
                <a:ahLst/>
                <a:rect l="l" t="t" r="r" b="b"/>
                <a:pathLst>
                  <a:path w="313" h="160">
                    <a:moveTo>
                      <a:pt x="0" y="0"/>
                    </a:moveTo>
                    <a:lnTo>
                      <a:pt x="7" y="0"/>
                    </a:lnTo>
                    <a:lnTo>
                      <a:pt x="13" y="1"/>
                    </a:lnTo>
                    <a:lnTo>
                      <a:pt x="20" y="3"/>
                    </a:lnTo>
                    <a:lnTo>
                      <a:pt x="27" y="5"/>
                    </a:lnTo>
                    <a:lnTo>
                      <a:pt x="35" y="6"/>
                    </a:lnTo>
                    <a:lnTo>
                      <a:pt x="42" y="8"/>
                    </a:lnTo>
                    <a:lnTo>
                      <a:pt x="49" y="10"/>
                    </a:lnTo>
                    <a:lnTo>
                      <a:pt x="56" y="10"/>
                    </a:lnTo>
                    <a:lnTo>
                      <a:pt x="57" y="19"/>
                    </a:lnTo>
                    <a:lnTo>
                      <a:pt x="59" y="26"/>
                    </a:lnTo>
                    <a:lnTo>
                      <a:pt x="61" y="32"/>
                    </a:lnTo>
                    <a:lnTo>
                      <a:pt x="64" y="39"/>
                    </a:lnTo>
                    <a:lnTo>
                      <a:pt x="66" y="44"/>
                    </a:lnTo>
                    <a:lnTo>
                      <a:pt x="69" y="50"/>
                    </a:lnTo>
                    <a:lnTo>
                      <a:pt x="71" y="55"/>
                    </a:lnTo>
                    <a:lnTo>
                      <a:pt x="72" y="61"/>
                    </a:lnTo>
                    <a:lnTo>
                      <a:pt x="86" y="65"/>
                    </a:lnTo>
                    <a:lnTo>
                      <a:pt x="98" y="66"/>
                    </a:lnTo>
                    <a:lnTo>
                      <a:pt x="109" y="68"/>
                    </a:lnTo>
                    <a:lnTo>
                      <a:pt x="121" y="69"/>
                    </a:lnTo>
                    <a:lnTo>
                      <a:pt x="135" y="69"/>
                    </a:lnTo>
                    <a:lnTo>
                      <a:pt x="146" y="71"/>
                    </a:lnTo>
                    <a:lnTo>
                      <a:pt x="160" y="74"/>
                    </a:lnTo>
                    <a:lnTo>
                      <a:pt x="175" y="78"/>
                    </a:lnTo>
                    <a:lnTo>
                      <a:pt x="185" y="86"/>
                    </a:lnTo>
                    <a:lnTo>
                      <a:pt x="194" y="92"/>
                    </a:lnTo>
                    <a:lnTo>
                      <a:pt x="204" y="99"/>
                    </a:lnTo>
                    <a:lnTo>
                      <a:pt x="212" y="103"/>
                    </a:lnTo>
                    <a:lnTo>
                      <a:pt x="221" y="108"/>
                    </a:lnTo>
                    <a:lnTo>
                      <a:pt x="231" y="112"/>
                    </a:lnTo>
                    <a:lnTo>
                      <a:pt x="241" y="115"/>
                    </a:lnTo>
                    <a:lnTo>
                      <a:pt x="254" y="120"/>
                    </a:lnTo>
                    <a:lnTo>
                      <a:pt x="254" y="121"/>
                    </a:lnTo>
                    <a:lnTo>
                      <a:pt x="256" y="125"/>
                    </a:lnTo>
                    <a:lnTo>
                      <a:pt x="256" y="128"/>
                    </a:lnTo>
                    <a:lnTo>
                      <a:pt x="256" y="129"/>
                    </a:lnTo>
                    <a:lnTo>
                      <a:pt x="256" y="133"/>
                    </a:lnTo>
                    <a:lnTo>
                      <a:pt x="258" y="136"/>
                    </a:lnTo>
                    <a:lnTo>
                      <a:pt x="258" y="137"/>
                    </a:lnTo>
                    <a:lnTo>
                      <a:pt x="258" y="141"/>
                    </a:lnTo>
                    <a:lnTo>
                      <a:pt x="261" y="144"/>
                    </a:lnTo>
                    <a:lnTo>
                      <a:pt x="266" y="146"/>
                    </a:lnTo>
                    <a:lnTo>
                      <a:pt x="269" y="149"/>
                    </a:lnTo>
                    <a:lnTo>
                      <a:pt x="273" y="150"/>
                    </a:lnTo>
                    <a:lnTo>
                      <a:pt x="276" y="154"/>
                    </a:lnTo>
                    <a:lnTo>
                      <a:pt x="281" y="155"/>
                    </a:lnTo>
                    <a:lnTo>
                      <a:pt x="285" y="159"/>
                    </a:lnTo>
                    <a:lnTo>
                      <a:pt x="288" y="160"/>
                    </a:lnTo>
                    <a:lnTo>
                      <a:pt x="290" y="160"/>
                    </a:lnTo>
                    <a:lnTo>
                      <a:pt x="291" y="159"/>
                    </a:lnTo>
                    <a:lnTo>
                      <a:pt x="293" y="159"/>
                    </a:lnTo>
                    <a:lnTo>
                      <a:pt x="296" y="157"/>
                    </a:lnTo>
                    <a:lnTo>
                      <a:pt x="300" y="157"/>
                    </a:lnTo>
                    <a:lnTo>
                      <a:pt x="303" y="155"/>
                    </a:lnTo>
                    <a:lnTo>
                      <a:pt x="308" y="155"/>
                    </a:lnTo>
                    <a:lnTo>
                      <a:pt x="313" y="1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55360" y="3090600"/>
                <a:ext cx="124560" cy="212400"/>
              </a:xfrm>
              <a:custGeom>
                <a:avLst/>
                <a:gdLst/>
                <a:ahLst/>
                <a:rect l="l" t="t" r="r" b="b"/>
                <a:pathLst>
                  <a:path w="81" h="138">
                    <a:moveTo>
                      <a:pt x="0" y="0"/>
                    </a:moveTo>
                    <a:lnTo>
                      <a:pt x="3" y="10"/>
                    </a:lnTo>
                    <a:lnTo>
                      <a:pt x="12" y="24"/>
                    </a:lnTo>
                    <a:lnTo>
                      <a:pt x="24" y="44"/>
                    </a:lnTo>
                    <a:lnTo>
                      <a:pt x="37" y="65"/>
                    </a:lnTo>
                    <a:lnTo>
                      <a:pt x="52" y="86"/>
                    </a:lnTo>
                    <a:lnTo>
                      <a:pt x="66" y="105"/>
                    </a:lnTo>
                    <a:lnTo>
                      <a:pt x="76" y="123"/>
                    </a:lnTo>
                    <a:lnTo>
                      <a:pt x="81" y="1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84000" y="2937600"/>
                <a:ext cx="171360" cy="152640"/>
              </a:xfrm>
              <a:custGeom>
                <a:avLst/>
                <a:gdLst/>
                <a:ahLst/>
                <a:rect l="l" t="t" r="r" b="b"/>
                <a:pathLst>
                  <a:path w="111" h="99">
                    <a:moveTo>
                      <a:pt x="0" y="21"/>
                    </a:moveTo>
                    <a:lnTo>
                      <a:pt x="10" y="18"/>
                    </a:lnTo>
                    <a:lnTo>
                      <a:pt x="20" y="17"/>
                    </a:lnTo>
                    <a:lnTo>
                      <a:pt x="30" y="13"/>
                    </a:lnTo>
                    <a:lnTo>
                      <a:pt x="39" y="12"/>
                    </a:lnTo>
                    <a:lnTo>
                      <a:pt x="49" y="8"/>
                    </a:lnTo>
                    <a:lnTo>
                      <a:pt x="59" y="5"/>
                    </a:lnTo>
                    <a:lnTo>
                      <a:pt x="69" y="2"/>
                    </a:lnTo>
                    <a:lnTo>
                      <a:pt x="79" y="0"/>
                    </a:lnTo>
                    <a:lnTo>
                      <a:pt x="76" y="12"/>
                    </a:lnTo>
                    <a:lnTo>
                      <a:pt x="72" y="20"/>
                    </a:lnTo>
                    <a:lnTo>
                      <a:pt x="69" y="28"/>
                    </a:lnTo>
                    <a:lnTo>
                      <a:pt x="67" y="34"/>
                    </a:lnTo>
                    <a:lnTo>
                      <a:pt x="69" y="39"/>
                    </a:lnTo>
                    <a:lnTo>
                      <a:pt x="74" y="44"/>
                    </a:lnTo>
                    <a:lnTo>
                      <a:pt x="84" y="47"/>
                    </a:lnTo>
                    <a:lnTo>
                      <a:pt x="99" y="51"/>
                    </a:lnTo>
                    <a:lnTo>
                      <a:pt x="99" y="55"/>
                    </a:lnTo>
                    <a:lnTo>
                      <a:pt x="99" y="62"/>
                    </a:lnTo>
                    <a:lnTo>
                      <a:pt x="101" y="70"/>
                    </a:lnTo>
                    <a:lnTo>
                      <a:pt x="101" y="78"/>
                    </a:lnTo>
                    <a:lnTo>
                      <a:pt x="103" y="86"/>
                    </a:lnTo>
                    <a:lnTo>
                      <a:pt x="104" y="93"/>
                    </a:lnTo>
                    <a:lnTo>
                      <a:pt x="108" y="98"/>
                    </a:lnTo>
                    <a:lnTo>
                      <a:pt x="111" y="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36800" y="2970360"/>
                <a:ext cx="764640" cy="1147320"/>
              </a:xfrm>
              <a:custGeom>
                <a:avLst/>
                <a:gdLst/>
                <a:ahLst/>
                <a:rect l="l" t="t" r="r" b="b"/>
                <a:pathLst>
                  <a:path w="496" h="744">
                    <a:moveTo>
                      <a:pt x="0" y="744"/>
                    </a:moveTo>
                    <a:lnTo>
                      <a:pt x="6" y="742"/>
                    </a:lnTo>
                    <a:lnTo>
                      <a:pt x="18" y="736"/>
                    </a:lnTo>
                    <a:lnTo>
                      <a:pt x="32" y="726"/>
                    </a:lnTo>
                    <a:lnTo>
                      <a:pt x="50" y="713"/>
                    </a:lnTo>
                    <a:lnTo>
                      <a:pt x="67" y="700"/>
                    </a:lnTo>
                    <a:lnTo>
                      <a:pt x="84" y="687"/>
                    </a:lnTo>
                    <a:lnTo>
                      <a:pt x="99" y="676"/>
                    </a:lnTo>
                    <a:lnTo>
                      <a:pt x="111" y="666"/>
                    </a:lnTo>
                    <a:lnTo>
                      <a:pt x="113" y="666"/>
                    </a:lnTo>
                    <a:lnTo>
                      <a:pt x="114" y="666"/>
                    </a:lnTo>
                    <a:lnTo>
                      <a:pt x="118" y="668"/>
                    </a:lnTo>
                    <a:lnTo>
                      <a:pt x="119" y="668"/>
                    </a:lnTo>
                    <a:lnTo>
                      <a:pt x="123" y="669"/>
                    </a:lnTo>
                    <a:lnTo>
                      <a:pt x="126" y="669"/>
                    </a:lnTo>
                    <a:lnTo>
                      <a:pt x="129" y="671"/>
                    </a:lnTo>
                    <a:lnTo>
                      <a:pt x="134" y="671"/>
                    </a:lnTo>
                    <a:lnTo>
                      <a:pt x="138" y="668"/>
                    </a:lnTo>
                    <a:lnTo>
                      <a:pt x="141" y="664"/>
                    </a:lnTo>
                    <a:lnTo>
                      <a:pt x="146" y="663"/>
                    </a:lnTo>
                    <a:lnTo>
                      <a:pt x="151" y="661"/>
                    </a:lnTo>
                    <a:lnTo>
                      <a:pt x="156" y="658"/>
                    </a:lnTo>
                    <a:lnTo>
                      <a:pt x="161" y="651"/>
                    </a:lnTo>
                    <a:lnTo>
                      <a:pt x="166" y="645"/>
                    </a:lnTo>
                    <a:lnTo>
                      <a:pt x="170" y="634"/>
                    </a:lnTo>
                    <a:lnTo>
                      <a:pt x="180" y="635"/>
                    </a:lnTo>
                    <a:lnTo>
                      <a:pt x="190" y="637"/>
                    </a:lnTo>
                    <a:lnTo>
                      <a:pt x="198" y="640"/>
                    </a:lnTo>
                    <a:lnTo>
                      <a:pt x="208" y="642"/>
                    </a:lnTo>
                    <a:lnTo>
                      <a:pt x="219" y="643"/>
                    </a:lnTo>
                    <a:lnTo>
                      <a:pt x="230" y="645"/>
                    </a:lnTo>
                    <a:lnTo>
                      <a:pt x="244" y="643"/>
                    </a:lnTo>
                    <a:lnTo>
                      <a:pt x="257" y="642"/>
                    </a:lnTo>
                    <a:lnTo>
                      <a:pt x="276" y="637"/>
                    </a:lnTo>
                    <a:lnTo>
                      <a:pt x="291" y="630"/>
                    </a:lnTo>
                    <a:lnTo>
                      <a:pt x="303" y="624"/>
                    </a:lnTo>
                    <a:lnTo>
                      <a:pt x="313" y="616"/>
                    </a:lnTo>
                    <a:lnTo>
                      <a:pt x="321" y="609"/>
                    </a:lnTo>
                    <a:lnTo>
                      <a:pt x="331" y="601"/>
                    </a:lnTo>
                    <a:lnTo>
                      <a:pt x="343" y="592"/>
                    </a:lnTo>
                    <a:lnTo>
                      <a:pt x="358" y="583"/>
                    </a:lnTo>
                    <a:lnTo>
                      <a:pt x="358" y="579"/>
                    </a:lnTo>
                    <a:lnTo>
                      <a:pt x="357" y="575"/>
                    </a:lnTo>
                    <a:lnTo>
                      <a:pt x="353" y="570"/>
                    </a:lnTo>
                    <a:lnTo>
                      <a:pt x="348" y="566"/>
                    </a:lnTo>
                    <a:lnTo>
                      <a:pt x="335" y="556"/>
                    </a:lnTo>
                    <a:lnTo>
                      <a:pt x="321" y="543"/>
                    </a:lnTo>
                    <a:lnTo>
                      <a:pt x="315" y="536"/>
                    </a:lnTo>
                    <a:lnTo>
                      <a:pt x="310" y="528"/>
                    </a:lnTo>
                    <a:lnTo>
                      <a:pt x="306" y="520"/>
                    </a:lnTo>
                    <a:lnTo>
                      <a:pt x="304" y="511"/>
                    </a:lnTo>
                    <a:lnTo>
                      <a:pt x="304" y="501"/>
                    </a:lnTo>
                    <a:lnTo>
                      <a:pt x="308" y="488"/>
                    </a:lnTo>
                    <a:lnTo>
                      <a:pt x="313" y="475"/>
                    </a:lnTo>
                    <a:lnTo>
                      <a:pt x="323" y="460"/>
                    </a:lnTo>
                    <a:lnTo>
                      <a:pt x="330" y="460"/>
                    </a:lnTo>
                    <a:lnTo>
                      <a:pt x="336" y="462"/>
                    </a:lnTo>
                    <a:lnTo>
                      <a:pt x="343" y="462"/>
                    </a:lnTo>
                    <a:lnTo>
                      <a:pt x="350" y="462"/>
                    </a:lnTo>
                    <a:lnTo>
                      <a:pt x="358" y="462"/>
                    </a:lnTo>
                    <a:lnTo>
                      <a:pt x="365" y="462"/>
                    </a:lnTo>
                    <a:lnTo>
                      <a:pt x="372" y="464"/>
                    </a:lnTo>
                    <a:lnTo>
                      <a:pt x="379" y="464"/>
                    </a:lnTo>
                    <a:lnTo>
                      <a:pt x="380" y="459"/>
                    </a:lnTo>
                    <a:lnTo>
                      <a:pt x="382" y="454"/>
                    </a:lnTo>
                    <a:lnTo>
                      <a:pt x="384" y="447"/>
                    </a:lnTo>
                    <a:lnTo>
                      <a:pt x="384" y="443"/>
                    </a:lnTo>
                    <a:lnTo>
                      <a:pt x="385" y="438"/>
                    </a:lnTo>
                    <a:lnTo>
                      <a:pt x="387" y="433"/>
                    </a:lnTo>
                    <a:lnTo>
                      <a:pt x="389" y="426"/>
                    </a:lnTo>
                    <a:lnTo>
                      <a:pt x="389" y="421"/>
                    </a:lnTo>
                    <a:lnTo>
                      <a:pt x="402" y="420"/>
                    </a:lnTo>
                    <a:lnTo>
                      <a:pt x="416" y="418"/>
                    </a:lnTo>
                    <a:lnTo>
                      <a:pt x="429" y="418"/>
                    </a:lnTo>
                    <a:lnTo>
                      <a:pt x="443" y="417"/>
                    </a:lnTo>
                    <a:lnTo>
                      <a:pt x="456" y="415"/>
                    </a:lnTo>
                    <a:lnTo>
                      <a:pt x="469" y="413"/>
                    </a:lnTo>
                    <a:lnTo>
                      <a:pt x="483" y="412"/>
                    </a:lnTo>
                    <a:lnTo>
                      <a:pt x="496" y="410"/>
                    </a:lnTo>
                    <a:lnTo>
                      <a:pt x="496" y="407"/>
                    </a:lnTo>
                    <a:lnTo>
                      <a:pt x="495" y="404"/>
                    </a:lnTo>
                    <a:lnTo>
                      <a:pt x="495" y="400"/>
                    </a:lnTo>
                    <a:lnTo>
                      <a:pt x="493" y="397"/>
                    </a:lnTo>
                    <a:lnTo>
                      <a:pt x="491" y="396"/>
                    </a:lnTo>
                    <a:lnTo>
                      <a:pt x="491" y="392"/>
                    </a:lnTo>
                    <a:lnTo>
                      <a:pt x="490" y="389"/>
                    </a:lnTo>
                    <a:lnTo>
                      <a:pt x="490" y="387"/>
                    </a:lnTo>
                    <a:lnTo>
                      <a:pt x="486" y="381"/>
                    </a:lnTo>
                    <a:lnTo>
                      <a:pt x="485" y="373"/>
                    </a:lnTo>
                    <a:lnTo>
                      <a:pt x="483" y="362"/>
                    </a:lnTo>
                    <a:lnTo>
                      <a:pt x="483" y="349"/>
                    </a:lnTo>
                    <a:lnTo>
                      <a:pt x="485" y="316"/>
                    </a:lnTo>
                    <a:lnTo>
                      <a:pt x="488" y="281"/>
                    </a:lnTo>
                    <a:lnTo>
                      <a:pt x="490" y="243"/>
                    </a:lnTo>
                    <a:lnTo>
                      <a:pt x="491" y="209"/>
                    </a:lnTo>
                    <a:lnTo>
                      <a:pt x="491" y="193"/>
                    </a:lnTo>
                    <a:lnTo>
                      <a:pt x="491" y="179"/>
                    </a:lnTo>
                    <a:lnTo>
                      <a:pt x="488" y="167"/>
                    </a:lnTo>
                    <a:lnTo>
                      <a:pt x="485" y="159"/>
                    </a:lnTo>
                    <a:lnTo>
                      <a:pt x="466" y="146"/>
                    </a:lnTo>
                    <a:lnTo>
                      <a:pt x="444" y="132"/>
                    </a:lnTo>
                    <a:lnTo>
                      <a:pt x="424" y="112"/>
                    </a:lnTo>
                    <a:lnTo>
                      <a:pt x="406" y="91"/>
                    </a:lnTo>
                    <a:lnTo>
                      <a:pt x="387" y="67"/>
                    </a:lnTo>
                    <a:lnTo>
                      <a:pt x="372" y="44"/>
                    </a:lnTo>
                    <a:lnTo>
                      <a:pt x="367" y="33"/>
                    </a:lnTo>
                    <a:lnTo>
                      <a:pt x="362" y="21"/>
                    </a:lnTo>
                    <a:lnTo>
                      <a:pt x="357" y="10"/>
                    </a:lnTo>
                    <a:lnTo>
                      <a:pt x="35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09400" y="2892960"/>
                <a:ext cx="344880" cy="182160"/>
              </a:xfrm>
              <a:custGeom>
                <a:avLst/>
                <a:gdLst/>
                <a:ahLst/>
                <a:rect l="l" t="t" r="r" b="b"/>
                <a:pathLst>
                  <a:path w="224" h="118">
                    <a:moveTo>
                      <a:pt x="193" y="0"/>
                    </a:moveTo>
                    <a:lnTo>
                      <a:pt x="197" y="13"/>
                    </a:lnTo>
                    <a:lnTo>
                      <a:pt x="200" y="26"/>
                    </a:lnTo>
                    <a:lnTo>
                      <a:pt x="205" y="39"/>
                    </a:lnTo>
                    <a:lnTo>
                      <a:pt x="210" y="52"/>
                    </a:lnTo>
                    <a:lnTo>
                      <a:pt x="214" y="65"/>
                    </a:lnTo>
                    <a:lnTo>
                      <a:pt x="217" y="80"/>
                    </a:lnTo>
                    <a:lnTo>
                      <a:pt x="220" y="93"/>
                    </a:lnTo>
                    <a:lnTo>
                      <a:pt x="224" y="105"/>
                    </a:lnTo>
                    <a:lnTo>
                      <a:pt x="220" y="112"/>
                    </a:lnTo>
                    <a:lnTo>
                      <a:pt x="215" y="115"/>
                    </a:lnTo>
                    <a:lnTo>
                      <a:pt x="210" y="117"/>
                    </a:lnTo>
                    <a:lnTo>
                      <a:pt x="207" y="118"/>
                    </a:lnTo>
                    <a:lnTo>
                      <a:pt x="202" y="118"/>
                    </a:lnTo>
                    <a:lnTo>
                      <a:pt x="199" y="118"/>
                    </a:lnTo>
                    <a:lnTo>
                      <a:pt x="193" y="117"/>
                    </a:lnTo>
                    <a:lnTo>
                      <a:pt x="190" y="117"/>
                    </a:lnTo>
                    <a:lnTo>
                      <a:pt x="183" y="110"/>
                    </a:lnTo>
                    <a:lnTo>
                      <a:pt x="175" y="102"/>
                    </a:lnTo>
                    <a:lnTo>
                      <a:pt x="163" y="94"/>
                    </a:lnTo>
                    <a:lnTo>
                      <a:pt x="153" y="86"/>
                    </a:lnTo>
                    <a:lnTo>
                      <a:pt x="141" y="80"/>
                    </a:lnTo>
                    <a:lnTo>
                      <a:pt x="128" y="73"/>
                    </a:lnTo>
                    <a:lnTo>
                      <a:pt x="116" y="68"/>
                    </a:lnTo>
                    <a:lnTo>
                      <a:pt x="106" y="65"/>
                    </a:lnTo>
                    <a:lnTo>
                      <a:pt x="98" y="65"/>
                    </a:lnTo>
                    <a:lnTo>
                      <a:pt x="91" y="63"/>
                    </a:lnTo>
                    <a:lnTo>
                      <a:pt x="86" y="63"/>
                    </a:lnTo>
                    <a:lnTo>
                      <a:pt x="81" y="63"/>
                    </a:lnTo>
                    <a:lnTo>
                      <a:pt x="77" y="62"/>
                    </a:lnTo>
                    <a:lnTo>
                      <a:pt x="72" y="62"/>
                    </a:lnTo>
                    <a:lnTo>
                      <a:pt x="67" y="60"/>
                    </a:lnTo>
                    <a:lnTo>
                      <a:pt x="60" y="59"/>
                    </a:lnTo>
                    <a:lnTo>
                      <a:pt x="52" y="62"/>
                    </a:lnTo>
                    <a:lnTo>
                      <a:pt x="44" y="67"/>
                    </a:lnTo>
                    <a:lnTo>
                      <a:pt x="35" y="73"/>
                    </a:lnTo>
                    <a:lnTo>
                      <a:pt x="27" y="81"/>
                    </a:lnTo>
                    <a:lnTo>
                      <a:pt x="18" y="89"/>
                    </a:lnTo>
                    <a:lnTo>
                      <a:pt x="12" y="99"/>
                    </a:lnTo>
                    <a:lnTo>
                      <a:pt x="5" y="107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74600" y="3897000"/>
                <a:ext cx="861840" cy="274320"/>
              </a:xfrm>
              <a:custGeom>
                <a:avLst/>
                <a:gdLst/>
                <a:ahLst/>
                <a:rect l="l" t="t" r="r" b="b"/>
                <a:pathLst>
                  <a:path w="559" h="178">
                    <a:moveTo>
                      <a:pt x="0" y="0"/>
                    </a:moveTo>
                    <a:lnTo>
                      <a:pt x="10" y="0"/>
                    </a:lnTo>
                    <a:lnTo>
                      <a:pt x="20" y="0"/>
                    </a:lnTo>
                    <a:lnTo>
                      <a:pt x="30" y="2"/>
                    </a:lnTo>
                    <a:lnTo>
                      <a:pt x="40" y="4"/>
                    </a:lnTo>
                    <a:lnTo>
                      <a:pt x="50" y="5"/>
                    </a:lnTo>
                    <a:lnTo>
                      <a:pt x="60" y="8"/>
                    </a:lnTo>
                    <a:lnTo>
                      <a:pt x="69" y="10"/>
                    </a:lnTo>
                    <a:lnTo>
                      <a:pt x="79" y="15"/>
                    </a:lnTo>
                    <a:lnTo>
                      <a:pt x="87" y="12"/>
                    </a:lnTo>
                    <a:lnTo>
                      <a:pt x="96" y="10"/>
                    </a:lnTo>
                    <a:lnTo>
                      <a:pt x="102" y="12"/>
                    </a:lnTo>
                    <a:lnTo>
                      <a:pt x="111" y="12"/>
                    </a:lnTo>
                    <a:lnTo>
                      <a:pt x="126" y="18"/>
                    </a:lnTo>
                    <a:lnTo>
                      <a:pt x="139" y="28"/>
                    </a:lnTo>
                    <a:lnTo>
                      <a:pt x="153" y="38"/>
                    </a:lnTo>
                    <a:lnTo>
                      <a:pt x="165" y="49"/>
                    </a:lnTo>
                    <a:lnTo>
                      <a:pt x="176" y="60"/>
                    </a:lnTo>
                    <a:lnTo>
                      <a:pt x="185" y="68"/>
                    </a:lnTo>
                    <a:lnTo>
                      <a:pt x="185" y="70"/>
                    </a:lnTo>
                    <a:lnTo>
                      <a:pt x="185" y="72"/>
                    </a:lnTo>
                    <a:lnTo>
                      <a:pt x="185" y="73"/>
                    </a:lnTo>
                    <a:lnTo>
                      <a:pt x="185" y="73"/>
                    </a:lnTo>
                    <a:lnTo>
                      <a:pt x="185" y="75"/>
                    </a:lnTo>
                    <a:lnTo>
                      <a:pt x="185" y="76"/>
                    </a:lnTo>
                    <a:lnTo>
                      <a:pt x="185" y="76"/>
                    </a:lnTo>
                    <a:lnTo>
                      <a:pt x="185" y="78"/>
                    </a:lnTo>
                    <a:lnTo>
                      <a:pt x="181" y="81"/>
                    </a:lnTo>
                    <a:lnTo>
                      <a:pt x="178" y="84"/>
                    </a:lnTo>
                    <a:lnTo>
                      <a:pt x="175" y="86"/>
                    </a:lnTo>
                    <a:lnTo>
                      <a:pt x="171" y="89"/>
                    </a:lnTo>
                    <a:lnTo>
                      <a:pt x="168" y="93"/>
                    </a:lnTo>
                    <a:lnTo>
                      <a:pt x="165" y="94"/>
                    </a:lnTo>
                    <a:lnTo>
                      <a:pt x="161" y="97"/>
                    </a:lnTo>
                    <a:lnTo>
                      <a:pt x="156" y="99"/>
                    </a:lnTo>
                    <a:lnTo>
                      <a:pt x="158" y="107"/>
                    </a:lnTo>
                    <a:lnTo>
                      <a:pt x="161" y="115"/>
                    </a:lnTo>
                    <a:lnTo>
                      <a:pt x="168" y="122"/>
                    </a:lnTo>
                    <a:lnTo>
                      <a:pt x="175" y="127"/>
                    </a:lnTo>
                    <a:lnTo>
                      <a:pt x="183" y="131"/>
                    </a:lnTo>
                    <a:lnTo>
                      <a:pt x="192" y="135"/>
                    </a:lnTo>
                    <a:lnTo>
                      <a:pt x="200" y="138"/>
                    </a:lnTo>
                    <a:lnTo>
                      <a:pt x="208" y="138"/>
                    </a:lnTo>
                    <a:lnTo>
                      <a:pt x="232" y="125"/>
                    </a:lnTo>
                    <a:lnTo>
                      <a:pt x="249" y="118"/>
                    </a:lnTo>
                    <a:lnTo>
                      <a:pt x="257" y="117"/>
                    </a:lnTo>
                    <a:lnTo>
                      <a:pt x="262" y="117"/>
                    </a:lnTo>
                    <a:lnTo>
                      <a:pt x="269" y="117"/>
                    </a:lnTo>
                    <a:lnTo>
                      <a:pt x="274" y="118"/>
                    </a:lnTo>
                    <a:lnTo>
                      <a:pt x="283" y="125"/>
                    </a:lnTo>
                    <a:lnTo>
                      <a:pt x="293" y="135"/>
                    </a:lnTo>
                    <a:lnTo>
                      <a:pt x="304" y="146"/>
                    </a:lnTo>
                    <a:lnTo>
                      <a:pt x="321" y="161"/>
                    </a:lnTo>
                    <a:lnTo>
                      <a:pt x="331" y="169"/>
                    </a:lnTo>
                    <a:lnTo>
                      <a:pt x="341" y="174"/>
                    </a:lnTo>
                    <a:lnTo>
                      <a:pt x="350" y="177"/>
                    </a:lnTo>
                    <a:lnTo>
                      <a:pt x="358" y="178"/>
                    </a:lnTo>
                    <a:lnTo>
                      <a:pt x="365" y="177"/>
                    </a:lnTo>
                    <a:lnTo>
                      <a:pt x="375" y="172"/>
                    </a:lnTo>
                    <a:lnTo>
                      <a:pt x="385" y="165"/>
                    </a:lnTo>
                    <a:lnTo>
                      <a:pt x="397" y="157"/>
                    </a:lnTo>
                    <a:lnTo>
                      <a:pt x="404" y="149"/>
                    </a:lnTo>
                    <a:lnTo>
                      <a:pt x="407" y="143"/>
                    </a:lnTo>
                    <a:lnTo>
                      <a:pt x="412" y="138"/>
                    </a:lnTo>
                    <a:lnTo>
                      <a:pt x="417" y="136"/>
                    </a:lnTo>
                    <a:lnTo>
                      <a:pt x="426" y="135"/>
                    </a:lnTo>
                    <a:lnTo>
                      <a:pt x="434" y="133"/>
                    </a:lnTo>
                    <a:lnTo>
                      <a:pt x="448" y="131"/>
                    </a:lnTo>
                    <a:lnTo>
                      <a:pt x="464" y="131"/>
                    </a:lnTo>
                    <a:lnTo>
                      <a:pt x="468" y="128"/>
                    </a:lnTo>
                    <a:lnTo>
                      <a:pt x="473" y="125"/>
                    </a:lnTo>
                    <a:lnTo>
                      <a:pt x="478" y="123"/>
                    </a:lnTo>
                    <a:lnTo>
                      <a:pt x="483" y="122"/>
                    </a:lnTo>
                    <a:lnTo>
                      <a:pt x="496" y="122"/>
                    </a:lnTo>
                    <a:lnTo>
                      <a:pt x="510" y="125"/>
                    </a:lnTo>
                    <a:lnTo>
                      <a:pt x="523" y="128"/>
                    </a:lnTo>
                    <a:lnTo>
                      <a:pt x="537" y="133"/>
                    </a:lnTo>
                    <a:lnTo>
                      <a:pt x="549" y="138"/>
                    </a:lnTo>
                    <a:lnTo>
                      <a:pt x="559" y="1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74600" y="3298680"/>
                <a:ext cx="497880" cy="598320"/>
              </a:xfrm>
              <a:custGeom>
                <a:avLst/>
                <a:gdLst/>
                <a:ahLst/>
                <a:rect l="l" t="t" r="r" b="b"/>
                <a:pathLst>
                  <a:path w="323" h="388">
                    <a:moveTo>
                      <a:pt x="323" y="0"/>
                    </a:moveTo>
                    <a:lnTo>
                      <a:pt x="315" y="8"/>
                    </a:lnTo>
                    <a:lnTo>
                      <a:pt x="306" y="19"/>
                    </a:lnTo>
                    <a:lnTo>
                      <a:pt x="298" y="32"/>
                    </a:lnTo>
                    <a:lnTo>
                      <a:pt x="289" y="47"/>
                    </a:lnTo>
                    <a:lnTo>
                      <a:pt x="274" y="77"/>
                    </a:lnTo>
                    <a:lnTo>
                      <a:pt x="261" y="110"/>
                    </a:lnTo>
                    <a:lnTo>
                      <a:pt x="251" y="144"/>
                    </a:lnTo>
                    <a:lnTo>
                      <a:pt x="242" y="174"/>
                    </a:lnTo>
                    <a:lnTo>
                      <a:pt x="239" y="200"/>
                    </a:lnTo>
                    <a:lnTo>
                      <a:pt x="237" y="221"/>
                    </a:lnTo>
                    <a:lnTo>
                      <a:pt x="234" y="221"/>
                    </a:lnTo>
                    <a:lnTo>
                      <a:pt x="229" y="220"/>
                    </a:lnTo>
                    <a:lnTo>
                      <a:pt x="224" y="220"/>
                    </a:lnTo>
                    <a:lnTo>
                      <a:pt x="220" y="220"/>
                    </a:lnTo>
                    <a:lnTo>
                      <a:pt x="215" y="218"/>
                    </a:lnTo>
                    <a:lnTo>
                      <a:pt x="212" y="218"/>
                    </a:lnTo>
                    <a:lnTo>
                      <a:pt x="207" y="218"/>
                    </a:lnTo>
                    <a:lnTo>
                      <a:pt x="203" y="217"/>
                    </a:lnTo>
                    <a:lnTo>
                      <a:pt x="193" y="231"/>
                    </a:lnTo>
                    <a:lnTo>
                      <a:pt x="181" y="246"/>
                    </a:lnTo>
                    <a:lnTo>
                      <a:pt x="168" y="262"/>
                    </a:lnTo>
                    <a:lnTo>
                      <a:pt x="153" y="278"/>
                    </a:lnTo>
                    <a:lnTo>
                      <a:pt x="138" y="291"/>
                    </a:lnTo>
                    <a:lnTo>
                      <a:pt x="123" y="302"/>
                    </a:lnTo>
                    <a:lnTo>
                      <a:pt x="116" y="307"/>
                    </a:lnTo>
                    <a:lnTo>
                      <a:pt x="109" y="311"/>
                    </a:lnTo>
                    <a:lnTo>
                      <a:pt x="102" y="312"/>
                    </a:lnTo>
                    <a:lnTo>
                      <a:pt x="97" y="314"/>
                    </a:lnTo>
                    <a:lnTo>
                      <a:pt x="94" y="309"/>
                    </a:lnTo>
                    <a:lnTo>
                      <a:pt x="92" y="304"/>
                    </a:lnTo>
                    <a:lnTo>
                      <a:pt x="89" y="299"/>
                    </a:lnTo>
                    <a:lnTo>
                      <a:pt x="85" y="294"/>
                    </a:lnTo>
                    <a:lnTo>
                      <a:pt x="84" y="288"/>
                    </a:lnTo>
                    <a:lnTo>
                      <a:pt x="80" y="283"/>
                    </a:lnTo>
                    <a:lnTo>
                      <a:pt x="79" y="278"/>
                    </a:lnTo>
                    <a:lnTo>
                      <a:pt x="77" y="273"/>
                    </a:lnTo>
                    <a:lnTo>
                      <a:pt x="67" y="280"/>
                    </a:lnTo>
                    <a:lnTo>
                      <a:pt x="57" y="291"/>
                    </a:lnTo>
                    <a:lnTo>
                      <a:pt x="45" y="307"/>
                    </a:lnTo>
                    <a:lnTo>
                      <a:pt x="32" y="327"/>
                    </a:lnTo>
                    <a:lnTo>
                      <a:pt x="22" y="346"/>
                    </a:lnTo>
                    <a:lnTo>
                      <a:pt x="11" y="364"/>
                    </a:lnTo>
                    <a:lnTo>
                      <a:pt x="3" y="379"/>
                    </a:lnTo>
                    <a:lnTo>
                      <a:pt x="0" y="3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02920" y="3069000"/>
                <a:ext cx="169560" cy="229680"/>
              </a:xfrm>
              <a:custGeom>
                <a:avLst/>
                <a:gdLst/>
                <a:ahLst/>
                <a:rect l="l" t="t" r="r" b="b"/>
                <a:pathLst>
                  <a:path w="110" h="14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12" y="4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4" y="16"/>
                    </a:lnTo>
                    <a:lnTo>
                      <a:pt x="38" y="21"/>
                    </a:lnTo>
                    <a:lnTo>
                      <a:pt x="41" y="26"/>
                    </a:lnTo>
                    <a:lnTo>
                      <a:pt x="43" y="32"/>
                    </a:lnTo>
                    <a:lnTo>
                      <a:pt x="43" y="38"/>
                    </a:lnTo>
                    <a:lnTo>
                      <a:pt x="43" y="53"/>
                    </a:lnTo>
                    <a:lnTo>
                      <a:pt x="41" y="68"/>
                    </a:lnTo>
                    <a:lnTo>
                      <a:pt x="38" y="84"/>
                    </a:lnTo>
                    <a:lnTo>
                      <a:pt x="38" y="100"/>
                    </a:lnTo>
                    <a:lnTo>
                      <a:pt x="49" y="103"/>
                    </a:lnTo>
                    <a:lnTo>
                      <a:pt x="61" y="106"/>
                    </a:lnTo>
                    <a:lnTo>
                      <a:pt x="71" y="111"/>
                    </a:lnTo>
                    <a:lnTo>
                      <a:pt x="80" y="116"/>
                    </a:lnTo>
                    <a:lnTo>
                      <a:pt x="88" y="121"/>
                    </a:lnTo>
                    <a:lnTo>
                      <a:pt x="95" y="128"/>
                    </a:lnTo>
                    <a:lnTo>
                      <a:pt x="103" y="137"/>
                    </a:lnTo>
                    <a:lnTo>
                      <a:pt x="110" y="14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7600" y="2970360"/>
                <a:ext cx="715320" cy="977760"/>
              </a:xfrm>
              <a:custGeom>
                <a:avLst/>
                <a:gdLst/>
                <a:ahLst/>
                <a:rect l="l" t="t" r="r" b="b"/>
                <a:pathLst>
                  <a:path w="464" h="634">
                    <a:moveTo>
                      <a:pt x="251" y="601"/>
                    </a:moveTo>
                    <a:lnTo>
                      <a:pt x="247" y="601"/>
                    </a:lnTo>
                    <a:lnTo>
                      <a:pt x="241" y="605"/>
                    </a:lnTo>
                    <a:lnTo>
                      <a:pt x="232" y="608"/>
                    </a:lnTo>
                    <a:lnTo>
                      <a:pt x="222" y="613"/>
                    </a:lnTo>
                    <a:lnTo>
                      <a:pt x="210" y="617"/>
                    </a:lnTo>
                    <a:lnTo>
                      <a:pt x="200" y="622"/>
                    </a:lnTo>
                    <a:lnTo>
                      <a:pt x="188" y="629"/>
                    </a:lnTo>
                    <a:lnTo>
                      <a:pt x="178" y="634"/>
                    </a:lnTo>
                    <a:lnTo>
                      <a:pt x="165" y="619"/>
                    </a:lnTo>
                    <a:lnTo>
                      <a:pt x="151" y="603"/>
                    </a:lnTo>
                    <a:lnTo>
                      <a:pt x="139" y="585"/>
                    </a:lnTo>
                    <a:lnTo>
                      <a:pt x="128" y="569"/>
                    </a:lnTo>
                    <a:lnTo>
                      <a:pt x="116" y="551"/>
                    </a:lnTo>
                    <a:lnTo>
                      <a:pt x="104" y="533"/>
                    </a:lnTo>
                    <a:lnTo>
                      <a:pt x="91" y="515"/>
                    </a:lnTo>
                    <a:lnTo>
                      <a:pt x="77" y="499"/>
                    </a:lnTo>
                    <a:lnTo>
                      <a:pt x="74" y="490"/>
                    </a:lnTo>
                    <a:lnTo>
                      <a:pt x="70" y="483"/>
                    </a:lnTo>
                    <a:lnTo>
                      <a:pt x="70" y="478"/>
                    </a:lnTo>
                    <a:lnTo>
                      <a:pt x="74" y="473"/>
                    </a:lnTo>
                    <a:lnTo>
                      <a:pt x="77" y="468"/>
                    </a:lnTo>
                    <a:lnTo>
                      <a:pt x="82" y="464"/>
                    </a:lnTo>
                    <a:lnTo>
                      <a:pt x="91" y="457"/>
                    </a:lnTo>
                    <a:lnTo>
                      <a:pt x="101" y="447"/>
                    </a:lnTo>
                    <a:lnTo>
                      <a:pt x="99" y="444"/>
                    </a:lnTo>
                    <a:lnTo>
                      <a:pt x="99" y="439"/>
                    </a:lnTo>
                    <a:lnTo>
                      <a:pt x="97" y="434"/>
                    </a:lnTo>
                    <a:lnTo>
                      <a:pt x="97" y="430"/>
                    </a:lnTo>
                    <a:lnTo>
                      <a:pt x="96" y="425"/>
                    </a:lnTo>
                    <a:lnTo>
                      <a:pt x="96" y="421"/>
                    </a:lnTo>
                    <a:lnTo>
                      <a:pt x="94" y="417"/>
                    </a:lnTo>
                    <a:lnTo>
                      <a:pt x="94" y="412"/>
                    </a:lnTo>
                    <a:lnTo>
                      <a:pt x="84" y="409"/>
                    </a:lnTo>
                    <a:lnTo>
                      <a:pt x="74" y="407"/>
                    </a:lnTo>
                    <a:lnTo>
                      <a:pt x="64" y="404"/>
                    </a:lnTo>
                    <a:lnTo>
                      <a:pt x="55" y="400"/>
                    </a:lnTo>
                    <a:lnTo>
                      <a:pt x="45" y="399"/>
                    </a:lnTo>
                    <a:lnTo>
                      <a:pt x="35" y="396"/>
                    </a:lnTo>
                    <a:lnTo>
                      <a:pt x="27" y="392"/>
                    </a:lnTo>
                    <a:lnTo>
                      <a:pt x="17" y="391"/>
                    </a:lnTo>
                    <a:lnTo>
                      <a:pt x="15" y="376"/>
                    </a:lnTo>
                    <a:lnTo>
                      <a:pt x="13" y="363"/>
                    </a:lnTo>
                    <a:lnTo>
                      <a:pt x="10" y="350"/>
                    </a:lnTo>
                    <a:lnTo>
                      <a:pt x="6" y="337"/>
                    </a:lnTo>
                    <a:lnTo>
                      <a:pt x="5" y="323"/>
                    </a:lnTo>
                    <a:lnTo>
                      <a:pt x="1" y="310"/>
                    </a:lnTo>
                    <a:lnTo>
                      <a:pt x="0" y="295"/>
                    </a:lnTo>
                    <a:lnTo>
                      <a:pt x="0" y="281"/>
                    </a:lnTo>
                    <a:lnTo>
                      <a:pt x="11" y="258"/>
                    </a:lnTo>
                    <a:lnTo>
                      <a:pt x="22" y="237"/>
                    </a:lnTo>
                    <a:lnTo>
                      <a:pt x="30" y="217"/>
                    </a:lnTo>
                    <a:lnTo>
                      <a:pt x="42" y="198"/>
                    </a:lnTo>
                    <a:lnTo>
                      <a:pt x="49" y="190"/>
                    </a:lnTo>
                    <a:lnTo>
                      <a:pt x="57" y="182"/>
                    </a:lnTo>
                    <a:lnTo>
                      <a:pt x="65" y="174"/>
                    </a:lnTo>
                    <a:lnTo>
                      <a:pt x="74" y="166"/>
                    </a:lnTo>
                    <a:lnTo>
                      <a:pt x="86" y="159"/>
                    </a:lnTo>
                    <a:lnTo>
                      <a:pt x="99" y="154"/>
                    </a:lnTo>
                    <a:lnTo>
                      <a:pt x="113" y="149"/>
                    </a:lnTo>
                    <a:lnTo>
                      <a:pt x="129" y="145"/>
                    </a:lnTo>
                    <a:lnTo>
                      <a:pt x="134" y="141"/>
                    </a:lnTo>
                    <a:lnTo>
                      <a:pt x="138" y="138"/>
                    </a:lnTo>
                    <a:lnTo>
                      <a:pt x="139" y="135"/>
                    </a:lnTo>
                    <a:lnTo>
                      <a:pt x="141" y="132"/>
                    </a:lnTo>
                    <a:lnTo>
                      <a:pt x="143" y="122"/>
                    </a:lnTo>
                    <a:lnTo>
                      <a:pt x="145" y="111"/>
                    </a:lnTo>
                    <a:lnTo>
                      <a:pt x="145" y="98"/>
                    </a:lnTo>
                    <a:lnTo>
                      <a:pt x="146" y="85"/>
                    </a:lnTo>
                    <a:lnTo>
                      <a:pt x="150" y="72"/>
                    </a:lnTo>
                    <a:lnTo>
                      <a:pt x="156" y="59"/>
                    </a:lnTo>
                    <a:lnTo>
                      <a:pt x="158" y="59"/>
                    </a:lnTo>
                    <a:lnTo>
                      <a:pt x="158" y="59"/>
                    </a:lnTo>
                    <a:lnTo>
                      <a:pt x="160" y="59"/>
                    </a:lnTo>
                    <a:lnTo>
                      <a:pt x="161" y="59"/>
                    </a:lnTo>
                    <a:lnTo>
                      <a:pt x="161" y="59"/>
                    </a:lnTo>
                    <a:lnTo>
                      <a:pt x="163" y="59"/>
                    </a:lnTo>
                    <a:lnTo>
                      <a:pt x="165" y="59"/>
                    </a:lnTo>
                    <a:lnTo>
                      <a:pt x="165" y="59"/>
                    </a:lnTo>
                    <a:lnTo>
                      <a:pt x="168" y="62"/>
                    </a:lnTo>
                    <a:lnTo>
                      <a:pt x="171" y="67"/>
                    </a:lnTo>
                    <a:lnTo>
                      <a:pt x="175" y="70"/>
                    </a:lnTo>
                    <a:lnTo>
                      <a:pt x="178" y="75"/>
                    </a:lnTo>
                    <a:lnTo>
                      <a:pt x="180" y="78"/>
                    </a:lnTo>
                    <a:lnTo>
                      <a:pt x="183" y="83"/>
                    </a:lnTo>
                    <a:lnTo>
                      <a:pt x="187" y="86"/>
                    </a:lnTo>
                    <a:lnTo>
                      <a:pt x="190" y="90"/>
                    </a:lnTo>
                    <a:lnTo>
                      <a:pt x="197" y="91"/>
                    </a:lnTo>
                    <a:lnTo>
                      <a:pt x="203" y="90"/>
                    </a:lnTo>
                    <a:lnTo>
                      <a:pt x="212" y="85"/>
                    </a:lnTo>
                    <a:lnTo>
                      <a:pt x="220" y="78"/>
                    </a:lnTo>
                    <a:lnTo>
                      <a:pt x="237" y="62"/>
                    </a:lnTo>
                    <a:lnTo>
                      <a:pt x="256" y="41"/>
                    </a:lnTo>
                    <a:lnTo>
                      <a:pt x="266" y="31"/>
                    </a:lnTo>
                    <a:lnTo>
                      <a:pt x="276" y="21"/>
                    </a:lnTo>
                    <a:lnTo>
                      <a:pt x="286" y="13"/>
                    </a:lnTo>
                    <a:lnTo>
                      <a:pt x="296" y="7"/>
                    </a:lnTo>
                    <a:lnTo>
                      <a:pt x="306" y="2"/>
                    </a:lnTo>
                    <a:lnTo>
                      <a:pt x="316" y="0"/>
                    </a:lnTo>
                    <a:lnTo>
                      <a:pt x="328" y="2"/>
                    </a:lnTo>
                    <a:lnTo>
                      <a:pt x="338" y="7"/>
                    </a:lnTo>
                    <a:lnTo>
                      <a:pt x="353" y="10"/>
                    </a:lnTo>
                    <a:lnTo>
                      <a:pt x="370" y="13"/>
                    </a:lnTo>
                    <a:lnTo>
                      <a:pt x="389" y="18"/>
                    </a:lnTo>
                    <a:lnTo>
                      <a:pt x="407" y="25"/>
                    </a:lnTo>
                    <a:lnTo>
                      <a:pt x="426" y="33"/>
                    </a:lnTo>
                    <a:lnTo>
                      <a:pt x="443" y="43"/>
                    </a:lnTo>
                    <a:lnTo>
                      <a:pt x="449" y="47"/>
                    </a:lnTo>
                    <a:lnTo>
                      <a:pt x="456" y="54"/>
                    </a:lnTo>
                    <a:lnTo>
                      <a:pt x="461" y="60"/>
                    </a:lnTo>
                    <a:lnTo>
                      <a:pt x="464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06760" y="2823480"/>
                <a:ext cx="689040" cy="141840"/>
              </a:xfrm>
              <a:custGeom>
                <a:avLst/>
                <a:gdLst/>
                <a:ahLst/>
                <a:rect l="l" t="t" r="r" b="b"/>
                <a:pathLst>
                  <a:path w="447" h="92">
                    <a:moveTo>
                      <a:pt x="447" y="24"/>
                    </a:moveTo>
                    <a:lnTo>
                      <a:pt x="442" y="24"/>
                    </a:lnTo>
                    <a:lnTo>
                      <a:pt x="437" y="24"/>
                    </a:lnTo>
                    <a:lnTo>
                      <a:pt x="430" y="23"/>
                    </a:lnTo>
                    <a:lnTo>
                      <a:pt x="425" y="23"/>
                    </a:lnTo>
                    <a:lnTo>
                      <a:pt x="420" y="23"/>
                    </a:lnTo>
                    <a:lnTo>
                      <a:pt x="415" y="21"/>
                    </a:lnTo>
                    <a:lnTo>
                      <a:pt x="410" y="21"/>
                    </a:lnTo>
                    <a:lnTo>
                      <a:pt x="405" y="19"/>
                    </a:lnTo>
                    <a:lnTo>
                      <a:pt x="400" y="13"/>
                    </a:lnTo>
                    <a:lnTo>
                      <a:pt x="395" y="6"/>
                    </a:lnTo>
                    <a:lnTo>
                      <a:pt x="389" y="3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0"/>
                    </a:lnTo>
                    <a:lnTo>
                      <a:pt x="369" y="0"/>
                    </a:lnTo>
                    <a:lnTo>
                      <a:pt x="364" y="2"/>
                    </a:lnTo>
                    <a:lnTo>
                      <a:pt x="352" y="6"/>
                    </a:lnTo>
                    <a:lnTo>
                      <a:pt x="342" y="13"/>
                    </a:lnTo>
                    <a:lnTo>
                      <a:pt x="332" y="19"/>
                    </a:lnTo>
                    <a:lnTo>
                      <a:pt x="324" y="24"/>
                    </a:lnTo>
                    <a:lnTo>
                      <a:pt x="319" y="26"/>
                    </a:lnTo>
                    <a:lnTo>
                      <a:pt x="314" y="27"/>
                    </a:lnTo>
                    <a:lnTo>
                      <a:pt x="309" y="27"/>
                    </a:lnTo>
                    <a:lnTo>
                      <a:pt x="305" y="27"/>
                    </a:lnTo>
                    <a:lnTo>
                      <a:pt x="302" y="27"/>
                    </a:lnTo>
                    <a:lnTo>
                      <a:pt x="299" y="27"/>
                    </a:lnTo>
                    <a:lnTo>
                      <a:pt x="297" y="26"/>
                    </a:lnTo>
                    <a:lnTo>
                      <a:pt x="293" y="26"/>
                    </a:lnTo>
                    <a:lnTo>
                      <a:pt x="290" y="32"/>
                    </a:lnTo>
                    <a:lnTo>
                      <a:pt x="285" y="37"/>
                    </a:lnTo>
                    <a:lnTo>
                      <a:pt x="280" y="40"/>
                    </a:lnTo>
                    <a:lnTo>
                      <a:pt x="275" y="44"/>
                    </a:lnTo>
                    <a:lnTo>
                      <a:pt x="265" y="47"/>
                    </a:lnTo>
                    <a:lnTo>
                      <a:pt x="253" y="47"/>
                    </a:lnTo>
                    <a:lnTo>
                      <a:pt x="243" y="45"/>
                    </a:lnTo>
                    <a:lnTo>
                      <a:pt x="231" y="42"/>
                    </a:lnTo>
                    <a:lnTo>
                      <a:pt x="223" y="40"/>
                    </a:lnTo>
                    <a:lnTo>
                      <a:pt x="214" y="42"/>
                    </a:lnTo>
                    <a:lnTo>
                      <a:pt x="211" y="52"/>
                    </a:lnTo>
                    <a:lnTo>
                      <a:pt x="206" y="60"/>
                    </a:lnTo>
                    <a:lnTo>
                      <a:pt x="199" y="68"/>
                    </a:lnTo>
                    <a:lnTo>
                      <a:pt x="191" y="74"/>
                    </a:lnTo>
                    <a:lnTo>
                      <a:pt x="181" y="81"/>
                    </a:lnTo>
                    <a:lnTo>
                      <a:pt x="172" y="86"/>
                    </a:lnTo>
                    <a:lnTo>
                      <a:pt x="164" y="89"/>
                    </a:lnTo>
                    <a:lnTo>
                      <a:pt x="155" y="92"/>
                    </a:lnTo>
                    <a:lnTo>
                      <a:pt x="147" y="84"/>
                    </a:lnTo>
                    <a:lnTo>
                      <a:pt x="139" y="74"/>
                    </a:lnTo>
                    <a:lnTo>
                      <a:pt x="130" y="63"/>
                    </a:lnTo>
                    <a:lnTo>
                      <a:pt x="120" y="52"/>
                    </a:lnTo>
                    <a:lnTo>
                      <a:pt x="110" y="42"/>
                    </a:lnTo>
                    <a:lnTo>
                      <a:pt x="100" y="34"/>
                    </a:lnTo>
                    <a:lnTo>
                      <a:pt x="88" y="29"/>
                    </a:lnTo>
                    <a:lnTo>
                      <a:pt x="78" y="27"/>
                    </a:lnTo>
                    <a:lnTo>
                      <a:pt x="78" y="36"/>
                    </a:lnTo>
                    <a:lnTo>
                      <a:pt x="81" y="44"/>
                    </a:lnTo>
                    <a:lnTo>
                      <a:pt x="85" y="53"/>
                    </a:lnTo>
                    <a:lnTo>
                      <a:pt x="88" y="61"/>
                    </a:lnTo>
                    <a:lnTo>
                      <a:pt x="91" y="68"/>
                    </a:lnTo>
                    <a:lnTo>
                      <a:pt x="93" y="76"/>
                    </a:lnTo>
                    <a:lnTo>
                      <a:pt x="93" y="81"/>
                    </a:lnTo>
                    <a:lnTo>
                      <a:pt x="91" y="84"/>
                    </a:lnTo>
                    <a:lnTo>
                      <a:pt x="80" y="79"/>
                    </a:lnTo>
                    <a:lnTo>
                      <a:pt x="68" y="73"/>
                    </a:lnTo>
                    <a:lnTo>
                      <a:pt x="56" y="68"/>
                    </a:lnTo>
                    <a:lnTo>
                      <a:pt x="46" y="61"/>
                    </a:lnTo>
                    <a:lnTo>
                      <a:pt x="36" y="57"/>
                    </a:lnTo>
                    <a:lnTo>
                      <a:pt x="24" y="52"/>
                    </a:lnTo>
                    <a:lnTo>
                      <a:pt x="12" y="47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6160" y="2860560"/>
                <a:ext cx="50400" cy="1152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33" y="75"/>
                    </a:moveTo>
                    <a:lnTo>
                      <a:pt x="27" y="67"/>
                    </a:lnTo>
                    <a:lnTo>
                      <a:pt x="23" y="57"/>
                    </a:lnTo>
                    <a:lnTo>
                      <a:pt x="20" y="49"/>
                    </a:lnTo>
                    <a:lnTo>
                      <a:pt x="18" y="39"/>
                    </a:lnTo>
                    <a:lnTo>
                      <a:pt x="15" y="29"/>
                    </a:lnTo>
                    <a:lnTo>
                      <a:pt x="12" y="20"/>
                    </a:lnTo>
                    <a:lnTo>
                      <a:pt x="6" y="1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46920" y="2970360"/>
                <a:ext cx="36720" cy="576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4" y="0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80280" y="3303360"/>
                <a:ext cx="215640" cy="334440"/>
              </a:xfrm>
              <a:custGeom>
                <a:avLst/>
                <a:gdLst/>
                <a:ahLst/>
                <a:rect l="l" t="t" r="r" b="b"/>
                <a:pathLst>
                  <a:path w="140" h="217">
                    <a:moveTo>
                      <a:pt x="140" y="217"/>
                    </a:moveTo>
                    <a:lnTo>
                      <a:pt x="138" y="207"/>
                    </a:lnTo>
                    <a:lnTo>
                      <a:pt x="135" y="201"/>
                    </a:lnTo>
                    <a:lnTo>
                      <a:pt x="131" y="196"/>
                    </a:lnTo>
                    <a:lnTo>
                      <a:pt x="128" y="193"/>
                    </a:lnTo>
                    <a:lnTo>
                      <a:pt x="121" y="189"/>
                    </a:lnTo>
                    <a:lnTo>
                      <a:pt x="114" y="186"/>
                    </a:lnTo>
                    <a:lnTo>
                      <a:pt x="108" y="184"/>
                    </a:lnTo>
                    <a:lnTo>
                      <a:pt x="99" y="181"/>
                    </a:lnTo>
                    <a:lnTo>
                      <a:pt x="98" y="178"/>
                    </a:lnTo>
                    <a:lnTo>
                      <a:pt x="98" y="175"/>
                    </a:lnTo>
                    <a:lnTo>
                      <a:pt x="96" y="171"/>
                    </a:lnTo>
                    <a:lnTo>
                      <a:pt x="94" y="167"/>
                    </a:lnTo>
                    <a:lnTo>
                      <a:pt x="94" y="163"/>
                    </a:lnTo>
                    <a:lnTo>
                      <a:pt x="93" y="159"/>
                    </a:lnTo>
                    <a:lnTo>
                      <a:pt x="93" y="155"/>
                    </a:lnTo>
                    <a:lnTo>
                      <a:pt x="91" y="152"/>
                    </a:lnTo>
                    <a:lnTo>
                      <a:pt x="88" y="152"/>
                    </a:lnTo>
                    <a:lnTo>
                      <a:pt x="84" y="152"/>
                    </a:lnTo>
                    <a:lnTo>
                      <a:pt x="81" y="154"/>
                    </a:lnTo>
                    <a:lnTo>
                      <a:pt x="77" y="154"/>
                    </a:lnTo>
                    <a:lnTo>
                      <a:pt x="76" y="154"/>
                    </a:lnTo>
                    <a:lnTo>
                      <a:pt x="72" y="154"/>
                    </a:lnTo>
                    <a:lnTo>
                      <a:pt x="69" y="152"/>
                    </a:lnTo>
                    <a:lnTo>
                      <a:pt x="66" y="150"/>
                    </a:lnTo>
                    <a:lnTo>
                      <a:pt x="67" y="147"/>
                    </a:lnTo>
                    <a:lnTo>
                      <a:pt x="69" y="144"/>
                    </a:lnTo>
                    <a:lnTo>
                      <a:pt x="71" y="141"/>
                    </a:lnTo>
                    <a:lnTo>
                      <a:pt x="72" y="137"/>
                    </a:lnTo>
                    <a:lnTo>
                      <a:pt x="76" y="134"/>
                    </a:lnTo>
                    <a:lnTo>
                      <a:pt x="77" y="131"/>
                    </a:lnTo>
                    <a:lnTo>
                      <a:pt x="81" y="126"/>
                    </a:lnTo>
                    <a:lnTo>
                      <a:pt x="82" y="121"/>
                    </a:lnTo>
                    <a:lnTo>
                      <a:pt x="69" y="105"/>
                    </a:lnTo>
                    <a:lnTo>
                      <a:pt x="54" y="92"/>
                    </a:lnTo>
                    <a:lnTo>
                      <a:pt x="40" y="81"/>
                    </a:lnTo>
                    <a:lnTo>
                      <a:pt x="29" y="68"/>
                    </a:lnTo>
                    <a:lnTo>
                      <a:pt x="17" y="55"/>
                    </a:lnTo>
                    <a:lnTo>
                      <a:pt x="8" y="40"/>
                    </a:lnTo>
                    <a:lnTo>
                      <a:pt x="5" y="32"/>
                    </a:lnTo>
                    <a:lnTo>
                      <a:pt x="2" y="22"/>
                    </a:lnTo>
                    <a:lnTo>
                      <a:pt x="2" y="1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89720" y="3637800"/>
                <a:ext cx="178560" cy="536760"/>
              </a:xfrm>
              <a:custGeom>
                <a:avLst/>
                <a:gdLst/>
                <a:ahLst/>
                <a:rect l="l" t="t" r="r" b="b"/>
                <a:pathLst>
                  <a:path w="116" h="348">
                    <a:moveTo>
                      <a:pt x="116" y="348"/>
                    </a:moveTo>
                    <a:lnTo>
                      <a:pt x="114" y="345"/>
                    </a:lnTo>
                    <a:lnTo>
                      <a:pt x="111" y="340"/>
                    </a:lnTo>
                    <a:lnTo>
                      <a:pt x="106" y="337"/>
                    </a:lnTo>
                    <a:lnTo>
                      <a:pt x="99" y="332"/>
                    </a:lnTo>
                    <a:lnTo>
                      <a:pt x="84" y="322"/>
                    </a:lnTo>
                    <a:lnTo>
                      <a:pt x="64" y="312"/>
                    </a:lnTo>
                    <a:lnTo>
                      <a:pt x="43" y="303"/>
                    </a:lnTo>
                    <a:lnTo>
                      <a:pt x="25" y="295"/>
                    </a:lnTo>
                    <a:lnTo>
                      <a:pt x="10" y="290"/>
                    </a:lnTo>
                    <a:lnTo>
                      <a:pt x="0" y="286"/>
                    </a:lnTo>
                    <a:lnTo>
                      <a:pt x="1" y="280"/>
                    </a:lnTo>
                    <a:lnTo>
                      <a:pt x="3" y="274"/>
                    </a:lnTo>
                    <a:lnTo>
                      <a:pt x="6" y="267"/>
                    </a:lnTo>
                    <a:lnTo>
                      <a:pt x="8" y="261"/>
                    </a:lnTo>
                    <a:lnTo>
                      <a:pt x="11" y="252"/>
                    </a:lnTo>
                    <a:lnTo>
                      <a:pt x="13" y="244"/>
                    </a:lnTo>
                    <a:lnTo>
                      <a:pt x="15" y="235"/>
                    </a:lnTo>
                    <a:lnTo>
                      <a:pt x="13" y="223"/>
                    </a:lnTo>
                    <a:lnTo>
                      <a:pt x="17" y="212"/>
                    </a:lnTo>
                    <a:lnTo>
                      <a:pt x="18" y="199"/>
                    </a:lnTo>
                    <a:lnTo>
                      <a:pt x="18" y="188"/>
                    </a:lnTo>
                    <a:lnTo>
                      <a:pt x="17" y="175"/>
                    </a:lnTo>
                    <a:lnTo>
                      <a:pt x="10" y="149"/>
                    </a:lnTo>
                    <a:lnTo>
                      <a:pt x="3" y="125"/>
                    </a:lnTo>
                    <a:lnTo>
                      <a:pt x="1" y="112"/>
                    </a:lnTo>
                    <a:lnTo>
                      <a:pt x="1" y="99"/>
                    </a:lnTo>
                    <a:lnTo>
                      <a:pt x="3" y="86"/>
                    </a:lnTo>
                    <a:lnTo>
                      <a:pt x="6" y="73"/>
                    </a:lnTo>
                    <a:lnTo>
                      <a:pt x="13" y="60"/>
                    </a:lnTo>
                    <a:lnTo>
                      <a:pt x="23" y="47"/>
                    </a:lnTo>
                    <a:lnTo>
                      <a:pt x="37" y="34"/>
                    </a:lnTo>
                    <a:lnTo>
                      <a:pt x="54" y="21"/>
                    </a:lnTo>
                    <a:lnTo>
                      <a:pt x="55" y="18"/>
                    </a:lnTo>
                    <a:lnTo>
                      <a:pt x="55" y="14"/>
                    </a:lnTo>
                    <a:lnTo>
                      <a:pt x="57" y="11"/>
                    </a:lnTo>
                    <a:lnTo>
                      <a:pt x="59" y="8"/>
                    </a:lnTo>
                    <a:lnTo>
                      <a:pt x="60" y="6"/>
                    </a:lnTo>
                    <a:lnTo>
                      <a:pt x="62" y="3"/>
                    </a:lnTo>
                    <a:lnTo>
                      <a:pt x="65" y="1"/>
                    </a:lnTo>
                    <a:lnTo>
                      <a:pt x="6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65520" y="4308840"/>
                <a:ext cx="38160" cy="2016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4" y="4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5" y="12"/>
                    </a:lnTo>
                    <a:lnTo>
                      <a:pt x="19" y="13"/>
                    </a:lnTo>
                    <a:lnTo>
                      <a:pt x="22" y="13"/>
                    </a:lnTo>
                    <a:lnTo>
                      <a:pt x="25" y="1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87120" y="4290480"/>
                <a:ext cx="33840" cy="3672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5" y="0"/>
                    </a:moveTo>
                    <a:lnTo>
                      <a:pt x="10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3" y="21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16" y="14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10160" y="4206960"/>
                <a:ext cx="173880" cy="104760"/>
              </a:xfrm>
              <a:custGeom>
                <a:avLst/>
                <a:gdLst/>
                <a:ahLst/>
                <a:rect l="l" t="t" r="r" b="b"/>
                <a:pathLst>
                  <a:path w="113" h="68">
                    <a:moveTo>
                      <a:pt x="106" y="0"/>
                    </a:moveTo>
                    <a:lnTo>
                      <a:pt x="99" y="5"/>
                    </a:lnTo>
                    <a:lnTo>
                      <a:pt x="96" y="11"/>
                    </a:lnTo>
                    <a:lnTo>
                      <a:pt x="92" y="16"/>
                    </a:lnTo>
                    <a:lnTo>
                      <a:pt x="89" y="21"/>
                    </a:lnTo>
                    <a:lnTo>
                      <a:pt x="84" y="26"/>
                    </a:lnTo>
                    <a:lnTo>
                      <a:pt x="71" y="36"/>
                    </a:lnTo>
                    <a:lnTo>
                      <a:pt x="55" y="42"/>
                    </a:lnTo>
                    <a:lnTo>
                      <a:pt x="39" y="47"/>
                    </a:lnTo>
                    <a:lnTo>
                      <a:pt x="23" y="50"/>
                    </a:lnTo>
                    <a:lnTo>
                      <a:pt x="10" y="54"/>
                    </a:lnTo>
                    <a:lnTo>
                      <a:pt x="0" y="54"/>
                    </a:lnTo>
                    <a:lnTo>
                      <a:pt x="1" y="68"/>
                    </a:lnTo>
                    <a:lnTo>
                      <a:pt x="12" y="66"/>
                    </a:lnTo>
                    <a:lnTo>
                      <a:pt x="27" y="63"/>
                    </a:lnTo>
                    <a:lnTo>
                      <a:pt x="44" y="60"/>
                    </a:lnTo>
                    <a:lnTo>
                      <a:pt x="60" y="54"/>
                    </a:lnTo>
                    <a:lnTo>
                      <a:pt x="77" y="47"/>
                    </a:lnTo>
                    <a:lnTo>
                      <a:pt x="92" y="37"/>
                    </a:lnTo>
                    <a:lnTo>
                      <a:pt x="99" y="31"/>
                    </a:lnTo>
                    <a:lnTo>
                      <a:pt x="104" y="24"/>
                    </a:lnTo>
                    <a:lnTo>
                      <a:pt x="109" y="16"/>
                    </a:lnTo>
                    <a:lnTo>
                      <a:pt x="113" y="8"/>
                    </a:lnTo>
                    <a:lnTo>
                      <a:pt x="106" y="13"/>
                    </a:lnTo>
                    <a:lnTo>
                      <a:pt x="106" y="0"/>
                    </a:lnTo>
                    <a:lnTo>
                      <a:pt x="99" y="0"/>
                    </a:lnTo>
                    <a:lnTo>
                      <a:pt x="99" y="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73600" y="4206960"/>
                <a:ext cx="246600" cy="43200"/>
              </a:xfrm>
              <a:custGeom>
                <a:avLst/>
                <a:gdLst/>
                <a:ahLst/>
                <a:rect l="l" t="t" r="r" b="b"/>
                <a:pathLst>
                  <a:path w="160" h="28">
                    <a:moveTo>
                      <a:pt x="160" y="18"/>
                    </a:moveTo>
                    <a:lnTo>
                      <a:pt x="155" y="15"/>
                    </a:lnTo>
                    <a:lnTo>
                      <a:pt x="135" y="15"/>
                    </a:lnTo>
                    <a:lnTo>
                      <a:pt x="114" y="13"/>
                    </a:lnTo>
                    <a:lnTo>
                      <a:pt x="94" y="10"/>
                    </a:lnTo>
                    <a:lnTo>
                      <a:pt x="76" y="8"/>
                    </a:lnTo>
                    <a:lnTo>
                      <a:pt x="55" y="5"/>
                    </a:lnTo>
                    <a:lnTo>
                      <a:pt x="37" y="2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7" y="15"/>
                    </a:lnTo>
                    <a:lnTo>
                      <a:pt x="35" y="16"/>
                    </a:lnTo>
                    <a:lnTo>
                      <a:pt x="54" y="18"/>
                    </a:lnTo>
                    <a:lnTo>
                      <a:pt x="74" y="21"/>
                    </a:lnTo>
                    <a:lnTo>
                      <a:pt x="93" y="23"/>
                    </a:lnTo>
                    <a:lnTo>
                      <a:pt x="113" y="26"/>
                    </a:lnTo>
                    <a:lnTo>
                      <a:pt x="135" y="28"/>
                    </a:lnTo>
                    <a:lnTo>
                      <a:pt x="155" y="28"/>
                    </a:lnTo>
                    <a:lnTo>
                      <a:pt x="150" y="26"/>
                    </a:lnTo>
                    <a:lnTo>
                      <a:pt x="160" y="18"/>
                    </a:lnTo>
                    <a:lnTo>
                      <a:pt x="158" y="15"/>
                    </a:lnTo>
                    <a:lnTo>
                      <a:pt x="155" y="15"/>
                    </a:lnTo>
                    <a:lnTo>
                      <a:pt x="16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05080" y="423504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3"/>
                    </a:moveTo>
                    <a:lnTo>
                      <a:pt x="50" y="10"/>
                    </a:lnTo>
                    <a:lnTo>
                      <a:pt x="42" y="10"/>
                    </a:lnTo>
                    <a:lnTo>
                      <a:pt x="35" y="10"/>
                    </a:lnTo>
                    <a:lnTo>
                      <a:pt x="30" y="10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8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5" y="14"/>
                    </a:lnTo>
                    <a:lnTo>
                      <a:pt x="12" y="19"/>
                    </a:lnTo>
                    <a:lnTo>
                      <a:pt x="17" y="21"/>
                    </a:lnTo>
                    <a:lnTo>
                      <a:pt x="23" y="23"/>
                    </a:lnTo>
                    <a:lnTo>
                      <a:pt x="30" y="24"/>
                    </a:lnTo>
                    <a:lnTo>
                      <a:pt x="35" y="24"/>
                    </a:lnTo>
                    <a:lnTo>
                      <a:pt x="42" y="23"/>
                    </a:lnTo>
                    <a:lnTo>
                      <a:pt x="50" y="23"/>
                    </a:lnTo>
                    <a:lnTo>
                      <a:pt x="44" y="19"/>
                    </a:lnTo>
                    <a:lnTo>
                      <a:pt x="57" y="13"/>
                    </a:lnTo>
                    <a:lnTo>
                      <a:pt x="55" y="10"/>
                    </a:lnTo>
                    <a:lnTo>
                      <a:pt x="50" y="10"/>
                    </a:lnTo>
                    <a:lnTo>
                      <a:pt x="5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72760" y="4254840"/>
                <a:ext cx="32040" cy="4788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15" y="18"/>
                    </a:moveTo>
                    <a:lnTo>
                      <a:pt x="21" y="21"/>
                    </a:lnTo>
                    <a:lnTo>
                      <a:pt x="21" y="19"/>
                    </a:lnTo>
                    <a:lnTo>
                      <a:pt x="20" y="16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16" y="8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5" y="16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4"/>
                    </a:lnTo>
                    <a:lnTo>
                      <a:pt x="10" y="26"/>
                    </a:lnTo>
                    <a:lnTo>
                      <a:pt x="16" y="31"/>
                    </a:lnTo>
                    <a:lnTo>
                      <a:pt x="10" y="26"/>
                    </a:lnTo>
                    <a:lnTo>
                      <a:pt x="11" y="31"/>
                    </a:lnTo>
                    <a:lnTo>
                      <a:pt x="16" y="31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95800" y="4272120"/>
                <a:ext cx="132480" cy="30600"/>
              </a:xfrm>
              <a:custGeom>
                <a:avLst/>
                <a:gdLst/>
                <a:ahLst/>
                <a:rect l="l" t="t" r="r" b="b"/>
                <a:pathLst>
                  <a:path w="86" h="20">
                    <a:moveTo>
                      <a:pt x="84" y="0"/>
                    </a:moveTo>
                    <a:lnTo>
                      <a:pt x="74" y="2"/>
                    </a:lnTo>
                    <a:lnTo>
                      <a:pt x="62" y="2"/>
                    </a:lnTo>
                    <a:lnTo>
                      <a:pt x="52" y="3"/>
                    </a:lnTo>
                    <a:lnTo>
                      <a:pt x="42" y="3"/>
                    </a:lnTo>
                    <a:lnTo>
                      <a:pt x="32" y="5"/>
                    </a:lnTo>
                    <a:lnTo>
                      <a:pt x="22" y="5"/>
                    </a:lnTo>
                    <a:lnTo>
                      <a:pt x="10" y="5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11" y="20"/>
                    </a:lnTo>
                    <a:lnTo>
                      <a:pt x="22" y="18"/>
                    </a:lnTo>
                    <a:lnTo>
                      <a:pt x="32" y="18"/>
                    </a:lnTo>
                    <a:lnTo>
                      <a:pt x="42" y="18"/>
                    </a:lnTo>
                    <a:lnTo>
                      <a:pt x="54" y="16"/>
                    </a:lnTo>
                    <a:lnTo>
                      <a:pt x="64" y="16"/>
                    </a:lnTo>
                    <a:lnTo>
                      <a:pt x="74" y="15"/>
                    </a:lnTo>
                    <a:lnTo>
                      <a:pt x="86" y="1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85240" y="4230360"/>
                <a:ext cx="79920" cy="8892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1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29"/>
                    </a:lnTo>
                    <a:lnTo>
                      <a:pt x="3" y="32"/>
                    </a:lnTo>
                    <a:lnTo>
                      <a:pt x="8" y="37"/>
                    </a:lnTo>
                    <a:lnTo>
                      <a:pt x="15" y="40"/>
                    </a:lnTo>
                    <a:lnTo>
                      <a:pt x="22" y="43"/>
                    </a:lnTo>
                    <a:lnTo>
                      <a:pt x="29" y="45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47" y="55"/>
                    </a:lnTo>
                    <a:lnTo>
                      <a:pt x="52" y="5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47560" y="4131360"/>
                <a:ext cx="337680" cy="118800"/>
              </a:xfrm>
              <a:custGeom>
                <a:avLst/>
                <a:gdLst/>
                <a:ahLst/>
                <a:rect l="l" t="t" r="r" b="b"/>
                <a:pathLst>
                  <a:path w="219" h="77">
                    <a:moveTo>
                      <a:pt x="0" y="33"/>
                    </a:moveTo>
                    <a:lnTo>
                      <a:pt x="2" y="28"/>
                    </a:lnTo>
                    <a:lnTo>
                      <a:pt x="3" y="25"/>
                    </a:lnTo>
                    <a:lnTo>
                      <a:pt x="5" y="22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10" y="10"/>
                    </a:lnTo>
                    <a:lnTo>
                      <a:pt x="12" y="5"/>
                    </a:lnTo>
                    <a:lnTo>
                      <a:pt x="14" y="0"/>
                    </a:lnTo>
                    <a:lnTo>
                      <a:pt x="25" y="2"/>
                    </a:lnTo>
                    <a:lnTo>
                      <a:pt x="35" y="5"/>
                    </a:lnTo>
                    <a:lnTo>
                      <a:pt x="46" y="10"/>
                    </a:lnTo>
                    <a:lnTo>
                      <a:pt x="54" y="18"/>
                    </a:lnTo>
                    <a:lnTo>
                      <a:pt x="71" y="33"/>
                    </a:lnTo>
                    <a:lnTo>
                      <a:pt x="86" y="51"/>
                    </a:lnTo>
                    <a:lnTo>
                      <a:pt x="94" y="59"/>
                    </a:lnTo>
                    <a:lnTo>
                      <a:pt x="103" y="65"/>
                    </a:lnTo>
                    <a:lnTo>
                      <a:pt x="110" y="72"/>
                    </a:lnTo>
                    <a:lnTo>
                      <a:pt x="120" y="75"/>
                    </a:lnTo>
                    <a:lnTo>
                      <a:pt x="128" y="77"/>
                    </a:lnTo>
                    <a:lnTo>
                      <a:pt x="138" y="75"/>
                    </a:lnTo>
                    <a:lnTo>
                      <a:pt x="150" y="72"/>
                    </a:lnTo>
                    <a:lnTo>
                      <a:pt x="162" y="65"/>
                    </a:lnTo>
                    <a:lnTo>
                      <a:pt x="219" y="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53160" y="4174920"/>
                <a:ext cx="194400" cy="115560"/>
              </a:xfrm>
              <a:custGeom>
                <a:avLst/>
                <a:gdLst/>
                <a:ahLst/>
                <a:rect l="l" t="t" r="r" b="b"/>
                <a:pathLst>
                  <a:path w="126" h="75">
                    <a:moveTo>
                      <a:pt x="10" y="0"/>
                    </a:moveTo>
                    <a:lnTo>
                      <a:pt x="8" y="8"/>
                    </a:lnTo>
                    <a:lnTo>
                      <a:pt x="7" y="18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2"/>
                    </a:lnTo>
                    <a:lnTo>
                      <a:pt x="3" y="50"/>
                    </a:lnTo>
                    <a:lnTo>
                      <a:pt x="1" y="58"/>
                    </a:lnTo>
                    <a:lnTo>
                      <a:pt x="0" y="66"/>
                    </a:lnTo>
                    <a:lnTo>
                      <a:pt x="8" y="70"/>
                    </a:lnTo>
                    <a:lnTo>
                      <a:pt x="15" y="71"/>
                    </a:lnTo>
                    <a:lnTo>
                      <a:pt x="20" y="73"/>
                    </a:lnTo>
                    <a:lnTo>
                      <a:pt x="27" y="75"/>
                    </a:lnTo>
                    <a:lnTo>
                      <a:pt x="32" y="75"/>
                    </a:lnTo>
                    <a:lnTo>
                      <a:pt x="39" y="75"/>
                    </a:lnTo>
                    <a:lnTo>
                      <a:pt x="49" y="73"/>
                    </a:lnTo>
                    <a:lnTo>
                      <a:pt x="60" y="68"/>
                    </a:lnTo>
                    <a:lnTo>
                      <a:pt x="76" y="66"/>
                    </a:lnTo>
                    <a:lnTo>
                      <a:pt x="89" y="63"/>
                    </a:lnTo>
                    <a:lnTo>
                      <a:pt x="99" y="58"/>
                    </a:lnTo>
                    <a:lnTo>
                      <a:pt x="108" y="50"/>
                    </a:lnTo>
                    <a:lnTo>
                      <a:pt x="114" y="41"/>
                    </a:lnTo>
                    <a:lnTo>
                      <a:pt x="119" y="31"/>
                    </a:lnTo>
                    <a:lnTo>
                      <a:pt x="124" y="18"/>
                    </a:lnTo>
                    <a:lnTo>
                      <a:pt x="126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22760" y="2976120"/>
                <a:ext cx="524160" cy="255960"/>
              </a:xfrm>
              <a:custGeom>
                <a:avLst/>
                <a:gdLst/>
                <a:ahLst/>
                <a:rect l="l" t="t" r="r" b="b"/>
                <a:pathLst>
                  <a:path w="340" h="166">
                    <a:moveTo>
                      <a:pt x="0" y="137"/>
                    </a:moveTo>
                    <a:lnTo>
                      <a:pt x="2" y="141"/>
                    </a:lnTo>
                    <a:lnTo>
                      <a:pt x="10" y="142"/>
                    </a:lnTo>
                    <a:lnTo>
                      <a:pt x="17" y="145"/>
                    </a:lnTo>
                    <a:lnTo>
                      <a:pt x="24" y="149"/>
                    </a:lnTo>
                    <a:lnTo>
                      <a:pt x="29" y="150"/>
                    </a:lnTo>
                    <a:lnTo>
                      <a:pt x="34" y="154"/>
                    </a:lnTo>
                    <a:lnTo>
                      <a:pt x="41" y="154"/>
                    </a:lnTo>
                    <a:lnTo>
                      <a:pt x="49" y="154"/>
                    </a:lnTo>
                    <a:lnTo>
                      <a:pt x="59" y="152"/>
                    </a:lnTo>
                    <a:lnTo>
                      <a:pt x="73" y="154"/>
                    </a:lnTo>
                    <a:lnTo>
                      <a:pt x="88" y="155"/>
                    </a:lnTo>
                    <a:lnTo>
                      <a:pt x="101" y="158"/>
                    </a:lnTo>
                    <a:lnTo>
                      <a:pt x="115" y="162"/>
                    </a:lnTo>
                    <a:lnTo>
                      <a:pt x="130" y="163"/>
                    </a:lnTo>
                    <a:lnTo>
                      <a:pt x="145" y="165"/>
                    </a:lnTo>
                    <a:lnTo>
                      <a:pt x="162" y="166"/>
                    </a:lnTo>
                    <a:lnTo>
                      <a:pt x="180" y="165"/>
                    </a:lnTo>
                    <a:lnTo>
                      <a:pt x="194" y="163"/>
                    </a:lnTo>
                    <a:lnTo>
                      <a:pt x="211" y="160"/>
                    </a:lnTo>
                    <a:lnTo>
                      <a:pt x="229" y="157"/>
                    </a:lnTo>
                    <a:lnTo>
                      <a:pt x="251" y="155"/>
                    </a:lnTo>
                    <a:lnTo>
                      <a:pt x="271" y="154"/>
                    </a:lnTo>
                    <a:lnTo>
                      <a:pt x="292" y="154"/>
                    </a:lnTo>
                    <a:lnTo>
                      <a:pt x="308" y="155"/>
                    </a:lnTo>
                    <a:lnTo>
                      <a:pt x="320" y="160"/>
                    </a:lnTo>
                    <a:lnTo>
                      <a:pt x="317" y="8"/>
                    </a:lnTo>
                    <a:lnTo>
                      <a:pt x="34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47160" y="3187800"/>
                <a:ext cx="382320" cy="924840"/>
              </a:xfrm>
              <a:custGeom>
                <a:avLst/>
                <a:gdLst/>
                <a:ahLst/>
                <a:rect l="l" t="t" r="r" b="b"/>
                <a:pathLst>
                  <a:path w="248" h="600">
                    <a:moveTo>
                      <a:pt x="59" y="600"/>
                    </a:moveTo>
                    <a:lnTo>
                      <a:pt x="66" y="583"/>
                    </a:lnTo>
                    <a:lnTo>
                      <a:pt x="76" y="562"/>
                    </a:lnTo>
                    <a:lnTo>
                      <a:pt x="86" y="538"/>
                    </a:lnTo>
                    <a:lnTo>
                      <a:pt x="100" y="514"/>
                    </a:lnTo>
                    <a:lnTo>
                      <a:pt x="113" y="489"/>
                    </a:lnTo>
                    <a:lnTo>
                      <a:pt x="128" y="468"/>
                    </a:lnTo>
                    <a:lnTo>
                      <a:pt x="142" y="451"/>
                    </a:lnTo>
                    <a:lnTo>
                      <a:pt x="157" y="438"/>
                    </a:lnTo>
                    <a:lnTo>
                      <a:pt x="174" y="436"/>
                    </a:lnTo>
                    <a:lnTo>
                      <a:pt x="186" y="433"/>
                    </a:lnTo>
                    <a:lnTo>
                      <a:pt x="197" y="431"/>
                    </a:lnTo>
                    <a:lnTo>
                      <a:pt x="206" y="426"/>
                    </a:lnTo>
                    <a:lnTo>
                      <a:pt x="214" y="420"/>
                    </a:lnTo>
                    <a:lnTo>
                      <a:pt x="224" y="410"/>
                    </a:lnTo>
                    <a:lnTo>
                      <a:pt x="234" y="397"/>
                    </a:lnTo>
                    <a:lnTo>
                      <a:pt x="248" y="381"/>
                    </a:lnTo>
                    <a:lnTo>
                      <a:pt x="241" y="374"/>
                    </a:lnTo>
                    <a:lnTo>
                      <a:pt x="236" y="370"/>
                    </a:lnTo>
                    <a:lnTo>
                      <a:pt x="229" y="363"/>
                    </a:lnTo>
                    <a:lnTo>
                      <a:pt x="223" y="358"/>
                    </a:lnTo>
                    <a:lnTo>
                      <a:pt x="218" y="352"/>
                    </a:lnTo>
                    <a:lnTo>
                      <a:pt x="216" y="345"/>
                    </a:lnTo>
                    <a:lnTo>
                      <a:pt x="214" y="337"/>
                    </a:lnTo>
                    <a:lnTo>
                      <a:pt x="216" y="327"/>
                    </a:lnTo>
                    <a:lnTo>
                      <a:pt x="224" y="264"/>
                    </a:lnTo>
                    <a:lnTo>
                      <a:pt x="213" y="266"/>
                    </a:lnTo>
                    <a:lnTo>
                      <a:pt x="201" y="268"/>
                    </a:lnTo>
                    <a:lnTo>
                      <a:pt x="189" y="271"/>
                    </a:lnTo>
                    <a:lnTo>
                      <a:pt x="177" y="276"/>
                    </a:lnTo>
                    <a:lnTo>
                      <a:pt x="165" y="279"/>
                    </a:lnTo>
                    <a:lnTo>
                      <a:pt x="155" y="282"/>
                    </a:lnTo>
                    <a:lnTo>
                      <a:pt x="145" y="285"/>
                    </a:lnTo>
                    <a:lnTo>
                      <a:pt x="137" y="289"/>
                    </a:lnTo>
                    <a:lnTo>
                      <a:pt x="128" y="277"/>
                    </a:lnTo>
                    <a:lnTo>
                      <a:pt x="118" y="269"/>
                    </a:lnTo>
                    <a:lnTo>
                      <a:pt x="105" y="261"/>
                    </a:lnTo>
                    <a:lnTo>
                      <a:pt x="93" y="256"/>
                    </a:lnTo>
                    <a:lnTo>
                      <a:pt x="80" y="251"/>
                    </a:lnTo>
                    <a:lnTo>
                      <a:pt x="64" y="248"/>
                    </a:lnTo>
                    <a:lnTo>
                      <a:pt x="51" y="245"/>
                    </a:lnTo>
                    <a:lnTo>
                      <a:pt x="39" y="243"/>
                    </a:lnTo>
                    <a:lnTo>
                      <a:pt x="37" y="240"/>
                    </a:lnTo>
                    <a:lnTo>
                      <a:pt x="37" y="237"/>
                    </a:lnTo>
                    <a:lnTo>
                      <a:pt x="36" y="234"/>
                    </a:lnTo>
                    <a:lnTo>
                      <a:pt x="36" y="230"/>
                    </a:lnTo>
                    <a:lnTo>
                      <a:pt x="34" y="227"/>
                    </a:lnTo>
                    <a:lnTo>
                      <a:pt x="34" y="224"/>
                    </a:lnTo>
                    <a:lnTo>
                      <a:pt x="34" y="221"/>
                    </a:lnTo>
                    <a:lnTo>
                      <a:pt x="34" y="217"/>
                    </a:lnTo>
                    <a:lnTo>
                      <a:pt x="27" y="217"/>
                    </a:lnTo>
                    <a:lnTo>
                      <a:pt x="22" y="216"/>
                    </a:lnTo>
                    <a:lnTo>
                      <a:pt x="17" y="216"/>
                    </a:lnTo>
                    <a:lnTo>
                      <a:pt x="12" y="214"/>
                    </a:lnTo>
                    <a:lnTo>
                      <a:pt x="9" y="214"/>
                    </a:lnTo>
                    <a:lnTo>
                      <a:pt x="5" y="211"/>
                    </a:lnTo>
                    <a:lnTo>
                      <a:pt x="2" y="209"/>
                    </a:lnTo>
                    <a:lnTo>
                      <a:pt x="0" y="204"/>
                    </a:lnTo>
                    <a:lnTo>
                      <a:pt x="2" y="201"/>
                    </a:lnTo>
                    <a:lnTo>
                      <a:pt x="5" y="195"/>
                    </a:lnTo>
                    <a:lnTo>
                      <a:pt x="9" y="187"/>
                    </a:lnTo>
                    <a:lnTo>
                      <a:pt x="14" y="178"/>
                    </a:lnTo>
                    <a:lnTo>
                      <a:pt x="17" y="169"/>
                    </a:lnTo>
                    <a:lnTo>
                      <a:pt x="21" y="161"/>
                    </a:lnTo>
                    <a:lnTo>
                      <a:pt x="22" y="151"/>
                    </a:lnTo>
                    <a:lnTo>
                      <a:pt x="24" y="144"/>
                    </a:lnTo>
                    <a:lnTo>
                      <a:pt x="16" y="132"/>
                    </a:lnTo>
                    <a:lnTo>
                      <a:pt x="9" y="119"/>
                    </a:lnTo>
                    <a:lnTo>
                      <a:pt x="5" y="107"/>
                    </a:lnTo>
                    <a:lnTo>
                      <a:pt x="4" y="96"/>
                    </a:lnTo>
                    <a:lnTo>
                      <a:pt x="4" y="83"/>
                    </a:lnTo>
                    <a:lnTo>
                      <a:pt x="5" y="70"/>
                    </a:lnTo>
                    <a:lnTo>
                      <a:pt x="11" y="54"/>
                    </a:lnTo>
                    <a:lnTo>
                      <a:pt x="17" y="36"/>
                    </a:lnTo>
                    <a:lnTo>
                      <a:pt x="24" y="34"/>
                    </a:lnTo>
                    <a:lnTo>
                      <a:pt x="29" y="33"/>
                    </a:lnTo>
                    <a:lnTo>
                      <a:pt x="34" y="29"/>
                    </a:lnTo>
                    <a:lnTo>
                      <a:pt x="37" y="28"/>
                    </a:lnTo>
                    <a:lnTo>
                      <a:pt x="41" y="23"/>
                    </a:lnTo>
                    <a:lnTo>
                      <a:pt x="43" y="18"/>
                    </a:lnTo>
                    <a:lnTo>
                      <a:pt x="46" y="10"/>
                    </a:lnTo>
                    <a:lnTo>
                      <a:pt x="4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26000" y="4017600"/>
                <a:ext cx="1142280" cy="274320"/>
              </a:xfrm>
              <a:custGeom>
                <a:avLst/>
                <a:gdLst/>
                <a:ahLst/>
                <a:rect l="l" t="t" r="r" b="b"/>
                <a:pathLst>
                  <a:path w="741" h="178">
                    <a:moveTo>
                      <a:pt x="741" y="102"/>
                    </a:moveTo>
                    <a:lnTo>
                      <a:pt x="593" y="91"/>
                    </a:lnTo>
                    <a:lnTo>
                      <a:pt x="589" y="91"/>
                    </a:lnTo>
                    <a:lnTo>
                      <a:pt x="586" y="91"/>
                    </a:lnTo>
                    <a:lnTo>
                      <a:pt x="584" y="91"/>
                    </a:lnTo>
                    <a:lnTo>
                      <a:pt x="581" y="91"/>
                    </a:lnTo>
                    <a:lnTo>
                      <a:pt x="579" y="91"/>
                    </a:lnTo>
                    <a:lnTo>
                      <a:pt x="576" y="91"/>
                    </a:lnTo>
                    <a:lnTo>
                      <a:pt x="574" y="89"/>
                    </a:lnTo>
                    <a:lnTo>
                      <a:pt x="572" y="89"/>
                    </a:lnTo>
                    <a:lnTo>
                      <a:pt x="557" y="66"/>
                    </a:lnTo>
                    <a:lnTo>
                      <a:pt x="546" y="49"/>
                    </a:lnTo>
                    <a:lnTo>
                      <a:pt x="534" y="32"/>
                    </a:lnTo>
                    <a:lnTo>
                      <a:pt x="522" y="21"/>
                    </a:lnTo>
                    <a:lnTo>
                      <a:pt x="515" y="16"/>
                    </a:lnTo>
                    <a:lnTo>
                      <a:pt x="508" y="11"/>
                    </a:lnTo>
                    <a:lnTo>
                      <a:pt x="500" y="8"/>
                    </a:lnTo>
                    <a:lnTo>
                      <a:pt x="490" y="6"/>
                    </a:lnTo>
                    <a:lnTo>
                      <a:pt x="466" y="2"/>
                    </a:lnTo>
                    <a:lnTo>
                      <a:pt x="436" y="2"/>
                    </a:lnTo>
                    <a:lnTo>
                      <a:pt x="434" y="2"/>
                    </a:lnTo>
                    <a:lnTo>
                      <a:pt x="431" y="3"/>
                    </a:lnTo>
                    <a:lnTo>
                      <a:pt x="428" y="5"/>
                    </a:lnTo>
                    <a:lnTo>
                      <a:pt x="426" y="6"/>
                    </a:lnTo>
                    <a:lnTo>
                      <a:pt x="423" y="6"/>
                    </a:lnTo>
                    <a:lnTo>
                      <a:pt x="421" y="8"/>
                    </a:lnTo>
                    <a:lnTo>
                      <a:pt x="418" y="10"/>
                    </a:lnTo>
                    <a:lnTo>
                      <a:pt x="414" y="10"/>
                    </a:lnTo>
                    <a:lnTo>
                      <a:pt x="409" y="6"/>
                    </a:lnTo>
                    <a:lnTo>
                      <a:pt x="404" y="3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384" y="0"/>
                    </a:lnTo>
                    <a:lnTo>
                      <a:pt x="374" y="2"/>
                    </a:lnTo>
                    <a:lnTo>
                      <a:pt x="365" y="6"/>
                    </a:lnTo>
                    <a:lnTo>
                      <a:pt x="355" y="11"/>
                    </a:lnTo>
                    <a:lnTo>
                      <a:pt x="347" y="16"/>
                    </a:lnTo>
                    <a:lnTo>
                      <a:pt x="337" y="21"/>
                    </a:lnTo>
                    <a:lnTo>
                      <a:pt x="338" y="28"/>
                    </a:lnTo>
                    <a:lnTo>
                      <a:pt x="338" y="32"/>
                    </a:lnTo>
                    <a:lnTo>
                      <a:pt x="340" y="36"/>
                    </a:lnTo>
                    <a:lnTo>
                      <a:pt x="342" y="39"/>
                    </a:lnTo>
                    <a:lnTo>
                      <a:pt x="343" y="42"/>
                    </a:lnTo>
                    <a:lnTo>
                      <a:pt x="347" y="44"/>
                    </a:lnTo>
                    <a:lnTo>
                      <a:pt x="350" y="47"/>
                    </a:lnTo>
                    <a:lnTo>
                      <a:pt x="355" y="50"/>
                    </a:lnTo>
                    <a:lnTo>
                      <a:pt x="350" y="70"/>
                    </a:lnTo>
                    <a:lnTo>
                      <a:pt x="343" y="70"/>
                    </a:lnTo>
                    <a:lnTo>
                      <a:pt x="338" y="71"/>
                    </a:lnTo>
                    <a:lnTo>
                      <a:pt x="333" y="71"/>
                    </a:lnTo>
                    <a:lnTo>
                      <a:pt x="328" y="71"/>
                    </a:lnTo>
                    <a:lnTo>
                      <a:pt x="323" y="71"/>
                    </a:lnTo>
                    <a:lnTo>
                      <a:pt x="318" y="71"/>
                    </a:lnTo>
                    <a:lnTo>
                      <a:pt x="311" y="71"/>
                    </a:lnTo>
                    <a:lnTo>
                      <a:pt x="306" y="71"/>
                    </a:lnTo>
                    <a:lnTo>
                      <a:pt x="241" y="102"/>
                    </a:lnTo>
                    <a:lnTo>
                      <a:pt x="226" y="102"/>
                    </a:lnTo>
                    <a:lnTo>
                      <a:pt x="210" y="105"/>
                    </a:lnTo>
                    <a:lnTo>
                      <a:pt x="194" y="107"/>
                    </a:lnTo>
                    <a:lnTo>
                      <a:pt x="178" y="110"/>
                    </a:lnTo>
                    <a:lnTo>
                      <a:pt x="163" y="115"/>
                    </a:lnTo>
                    <a:lnTo>
                      <a:pt x="148" y="120"/>
                    </a:lnTo>
                    <a:lnTo>
                      <a:pt x="135" y="126"/>
                    </a:lnTo>
                    <a:lnTo>
                      <a:pt x="120" y="134"/>
                    </a:lnTo>
                    <a:lnTo>
                      <a:pt x="116" y="149"/>
                    </a:lnTo>
                    <a:lnTo>
                      <a:pt x="111" y="159"/>
                    </a:lnTo>
                    <a:lnTo>
                      <a:pt x="103" y="167"/>
                    </a:lnTo>
                    <a:lnTo>
                      <a:pt x="93" y="173"/>
                    </a:lnTo>
                    <a:lnTo>
                      <a:pt x="81" y="177"/>
                    </a:lnTo>
                    <a:lnTo>
                      <a:pt x="69" y="178"/>
                    </a:lnTo>
                    <a:lnTo>
                      <a:pt x="57" y="178"/>
                    </a:lnTo>
                    <a:lnTo>
                      <a:pt x="45" y="178"/>
                    </a:lnTo>
                    <a:lnTo>
                      <a:pt x="39" y="167"/>
                    </a:lnTo>
                    <a:lnTo>
                      <a:pt x="30" y="154"/>
                    </a:lnTo>
                    <a:lnTo>
                      <a:pt x="20" y="138"/>
                    </a:lnTo>
                    <a:lnTo>
                      <a:pt x="10" y="121"/>
                    </a:lnTo>
                    <a:lnTo>
                      <a:pt x="3" y="105"/>
                    </a:lnTo>
                    <a:lnTo>
                      <a:pt x="0" y="89"/>
                    </a:lnTo>
                    <a:lnTo>
                      <a:pt x="0" y="81"/>
                    </a:lnTo>
                    <a:lnTo>
                      <a:pt x="2" y="74"/>
                    </a:lnTo>
                    <a:lnTo>
                      <a:pt x="5" y="68"/>
                    </a:lnTo>
                    <a:lnTo>
                      <a:pt x="8" y="6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8280" y="417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50800" y="3485520"/>
                <a:ext cx="371520" cy="62640"/>
              </a:xfrm>
              <a:custGeom>
                <a:avLst/>
                <a:gdLst/>
                <a:ahLst/>
                <a:rect l="l" t="t" r="r" b="b"/>
                <a:pathLst>
                  <a:path w="241" h="41">
                    <a:moveTo>
                      <a:pt x="241" y="32"/>
                    </a:moveTo>
                    <a:lnTo>
                      <a:pt x="227" y="36"/>
                    </a:lnTo>
                    <a:lnTo>
                      <a:pt x="209" y="37"/>
                    </a:lnTo>
                    <a:lnTo>
                      <a:pt x="188" y="39"/>
                    </a:lnTo>
                    <a:lnTo>
                      <a:pt x="165" y="41"/>
                    </a:lnTo>
                    <a:lnTo>
                      <a:pt x="143" y="39"/>
                    </a:lnTo>
                    <a:lnTo>
                      <a:pt x="121" y="36"/>
                    </a:lnTo>
                    <a:lnTo>
                      <a:pt x="104" y="32"/>
                    </a:lnTo>
                    <a:lnTo>
                      <a:pt x="91" y="26"/>
                    </a:lnTo>
                    <a:lnTo>
                      <a:pt x="81" y="24"/>
                    </a:lnTo>
                    <a:lnTo>
                      <a:pt x="72" y="19"/>
                    </a:lnTo>
                    <a:lnTo>
                      <a:pt x="65" y="13"/>
                    </a:lnTo>
                    <a:lnTo>
                      <a:pt x="59" y="7"/>
                    </a:lnTo>
                    <a:lnTo>
                      <a:pt x="54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38" y="3"/>
                    </a:lnTo>
                    <a:lnTo>
                      <a:pt x="35" y="8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2" y="5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22320" y="3534840"/>
                <a:ext cx="87480" cy="127800"/>
              </a:xfrm>
              <a:custGeom>
                <a:avLst/>
                <a:gdLst/>
                <a:ahLst/>
                <a:rect l="l" t="t" r="r" b="b"/>
                <a:pathLst>
                  <a:path w="57" h="83">
                    <a:moveTo>
                      <a:pt x="42" y="83"/>
                    </a:moveTo>
                    <a:lnTo>
                      <a:pt x="42" y="77"/>
                    </a:lnTo>
                    <a:lnTo>
                      <a:pt x="45" y="70"/>
                    </a:lnTo>
                    <a:lnTo>
                      <a:pt x="47" y="62"/>
                    </a:lnTo>
                    <a:lnTo>
                      <a:pt x="50" y="52"/>
                    </a:lnTo>
                    <a:lnTo>
                      <a:pt x="52" y="44"/>
                    </a:lnTo>
                    <a:lnTo>
                      <a:pt x="53" y="34"/>
                    </a:lnTo>
                    <a:lnTo>
                      <a:pt x="55" y="25"/>
                    </a:lnTo>
                    <a:lnTo>
                      <a:pt x="57" y="17"/>
                    </a:lnTo>
                    <a:lnTo>
                      <a:pt x="53" y="17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3" y="13"/>
                    </a:lnTo>
                    <a:lnTo>
                      <a:pt x="42" y="13"/>
                    </a:lnTo>
                    <a:lnTo>
                      <a:pt x="38" y="12"/>
                    </a:lnTo>
                    <a:lnTo>
                      <a:pt x="37" y="9"/>
                    </a:lnTo>
                    <a:lnTo>
                      <a:pt x="35" y="7"/>
                    </a:lnTo>
                    <a:lnTo>
                      <a:pt x="30" y="5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8" y="4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57000" y="3662640"/>
                <a:ext cx="330120" cy="196920"/>
              </a:xfrm>
              <a:custGeom>
                <a:avLst/>
                <a:gdLst/>
                <a:ahLst/>
                <a:rect l="l" t="t" r="r" b="b"/>
                <a:pathLst>
                  <a:path w="214" h="128">
                    <a:moveTo>
                      <a:pt x="0" y="128"/>
                    </a:moveTo>
                    <a:lnTo>
                      <a:pt x="0" y="128"/>
                    </a:lnTo>
                    <a:lnTo>
                      <a:pt x="1" y="126"/>
                    </a:lnTo>
                    <a:lnTo>
                      <a:pt x="1" y="125"/>
                    </a:lnTo>
                    <a:lnTo>
                      <a:pt x="1" y="123"/>
                    </a:lnTo>
                    <a:lnTo>
                      <a:pt x="1" y="123"/>
                    </a:lnTo>
                    <a:lnTo>
                      <a:pt x="1" y="121"/>
                    </a:lnTo>
                    <a:lnTo>
                      <a:pt x="3" y="120"/>
                    </a:lnTo>
                    <a:lnTo>
                      <a:pt x="3" y="118"/>
                    </a:lnTo>
                    <a:lnTo>
                      <a:pt x="8" y="117"/>
                    </a:lnTo>
                    <a:lnTo>
                      <a:pt x="18" y="112"/>
                    </a:lnTo>
                    <a:lnTo>
                      <a:pt x="30" y="107"/>
                    </a:lnTo>
                    <a:lnTo>
                      <a:pt x="44" y="99"/>
                    </a:lnTo>
                    <a:lnTo>
                      <a:pt x="54" y="89"/>
                    </a:lnTo>
                    <a:lnTo>
                      <a:pt x="60" y="79"/>
                    </a:lnTo>
                    <a:lnTo>
                      <a:pt x="62" y="75"/>
                    </a:lnTo>
                    <a:lnTo>
                      <a:pt x="62" y="70"/>
                    </a:lnTo>
                    <a:lnTo>
                      <a:pt x="60" y="65"/>
                    </a:lnTo>
                    <a:lnTo>
                      <a:pt x="55" y="60"/>
                    </a:lnTo>
                    <a:lnTo>
                      <a:pt x="55" y="57"/>
                    </a:lnTo>
                    <a:lnTo>
                      <a:pt x="55" y="55"/>
                    </a:lnTo>
                    <a:lnTo>
                      <a:pt x="57" y="52"/>
                    </a:lnTo>
                    <a:lnTo>
                      <a:pt x="57" y="50"/>
                    </a:lnTo>
                    <a:lnTo>
                      <a:pt x="59" y="47"/>
                    </a:lnTo>
                    <a:lnTo>
                      <a:pt x="59" y="44"/>
                    </a:lnTo>
                    <a:lnTo>
                      <a:pt x="60" y="39"/>
                    </a:lnTo>
                    <a:lnTo>
                      <a:pt x="60" y="36"/>
                    </a:lnTo>
                    <a:lnTo>
                      <a:pt x="71" y="36"/>
                    </a:lnTo>
                    <a:lnTo>
                      <a:pt x="79" y="37"/>
                    </a:lnTo>
                    <a:lnTo>
                      <a:pt x="86" y="39"/>
                    </a:lnTo>
                    <a:lnTo>
                      <a:pt x="92" y="39"/>
                    </a:lnTo>
                    <a:lnTo>
                      <a:pt x="97" y="37"/>
                    </a:lnTo>
                    <a:lnTo>
                      <a:pt x="103" y="32"/>
                    </a:lnTo>
                    <a:lnTo>
                      <a:pt x="108" y="23"/>
                    </a:lnTo>
                    <a:lnTo>
                      <a:pt x="114" y="8"/>
                    </a:lnTo>
                    <a:lnTo>
                      <a:pt x="202" y="13"/>
                    </a:lnTo>
                    <a:lnTo>
                      <a:pt x="21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63040" y="3542400"/>
                <a:ext cx="101520" cy="317520"/>
              </a:xfrm>
              <a:custGeom>
                <a:avLst/>
                <a:gdLst/>
                <a:ahLst/>
                <a:rect l="l" t="t" r="r" b="b"/>
                <a:pathLst>
                  <a:path w="66" h="206">
                    <a:moveTo>
                      <a:pt x="61" y="206"/>
                    </a:moveTo>
                    <a:lnTo>
                      <a:pt x="61" y="206"/>
                    </a:lnTo>
                    <a:lnTo>
                      <a:pt x="59" y="206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56" y="204"/>
                    </a:lnTo>
                    <a:lnTo>
                      <a:pt x="56" y="204"/>
                    </a:lnTo>
                    <a:lnTo>
                      <a:pt x="54" y="204"/>
                    </a:lnTo>
                    <a:lnTo>
                      <a:pt x="54" y="203"/>
                    </a:lnTo>
                    <a:lnTo>
                      <a:pt x="54" y="190"/>
                    </a:lnTo>
                    <a:lnTo>
                      <a:pt x="52" y="177"/>
                    </a:lnTo>
                    <a:lnTo>
                      <a:pt x="51" y="164"/>
                    </a:lnTo>
                    <a:lnTo>
                      <a:pt x="51" y="149"/>
                    </a:lnTo>
                    <a:lnTo>
                      <a:pt x="51" y="136"/>
                    </a:lnTo>
                    <a:lnTo>
                      <a:pt x="54" y="122"/>
                    </a:lnTo>
                    <a:lnTo>
                      <a:pt x="57" y="109"/>
                    </a:lnTo>
                    <a:lnTo>
                      <a:pt x="66" y="94"/>
                    </a:lnTo>
                    <a:lnTo>
                      <a:pt x="66" y="93"/>
                    </a:lnTo>
                    <a:lnTo>
                      <a:pt x="66" y="89"/>
                    </a:lnTo>
                    <a:lnTo>
                      <a:pt x="64" y="88"/>
                    </a:lnTo>
                    <a:lnTo>
                      <a:pt x="64" y="85"/>
                    </a:lnTo>
                    <a:lnTo>
                      <a:pt x="64" y="83"/>
                    </a:lnTo>
                    <a:lnTo>
                      <a:pt x="64" y="80"/>
                    </a:lnTo>
                    <a:lnTo>
                      <a:pt x="64" y="78"/>
                    </a:lnTo>
                    <a:lnTo>
                      <a:pt x="64" y="76"/>
                    </a:lnTo>
                    <a:lnTo>
                      <a:pt x="57" y="76"/>
                    </a:lnTo>
                    <a:lnTo>
                      <a:pt x="51" y="76"/>
                    </a:lnTo>
                    <a:lnTo>
                      <a:pt x="46" y="75"/>
                    </a:lnTo>
                    <a:lnTo>
                      <a:pt x="39" y="75"/>
                    </a:lnTo>
                    <a:lnTo>
                      <a:pt x="32" y="75"/>
                    </a:lnTo>
                    <a:lnTo>
                      <a:pt x="25" y="75"/>
                    </a:lnTo>
                    <a:lnTo>
                      <a:pt x="20" y="75"/>
                    </a:lnTo>
                    <a:lnTo>
                      <a:pt x="14" y="73"/>
                    </a:lnTo>
                    <a:lnTo>
                      <a:pt x="14" y="68"/>
                    </a:lnTo>
                    <a:lnTo>
                      <a:pt x="12" y="60"/>
                    </a:lnTo>
                    <a:lnTo>
                      <a:pt x="10" y="50"/>
                    </a:lnTo>
                    <a:lnTo>
                      <a:pt x="10" y="39"/>
                    </a:lnTo>
                    <a:lnTo>
                      <a:pt x="9" y="28"/>
                    </a:lnTo>
                    <a:lnTo>
                      <a:pt x="7" y="18"/>
                    </a:lnTo>
                    <a:lnTo>
                      <a:pt x="4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36760" y="3859920"/>
                <a:ext cx="120240" cy="75240"/>
              </a:xfrm>
              <a:custGeom>
                <a:avLst/>
                <a:gdLst/>
                <a:ahLst/>
                <a:rect l="l" t="t" r="r" b="b"/>
                <a:pathLst>
                  <a:path w="78" h="49">
                    <a:moveTo>
                      <a:pt x="0" y="44"/>
                    </a:moveTo>
                    <a:lnTo>
                      <a:pt x="15" y="47"/>
                    </a:lnTo>
                    <a:lnTo>
                      <a:pt x="29" y="49"/>
                    </a:lnTo>
                    <a:lnTo>
                      <a:pt x="41" y="47"/>
                    </a:lnTo>
                    <a:lnTo>
                      <a:pt x="51" y="44"/>
                    </a:lnTo>
                    <a:lnTo>
                      <a:pt x="59" y="37"/>
                    </a:lnTo>
                    <a:lnTo>
                      <a:pt x="66" y="29"/>
                    </a:lnTo>
                    <a:lnTo>
                      <a:pt x="73" y="16"/>
                    </a:lnTo>
                    <a:lnTo>
                      <a:pt x="7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95920" y="3637800"/>
                <a:ext cx="240480" cy="289800"/>
              </a:xfrm>
              <a:custGeom>
                <a:avLst/>
                <a:gdLst/>
                <a:ahLst/>
                <a:rect l="l" t="t" r="r" b="b"/>
                <a:pathLst>
                  <a:path w="156" h="188">
                    <a:moveTo>
                      <a:pt x="156" y="188"/>
                    </a:moveTo>
                    <a:lnTo>
                      <a:pt x="155" y="188"/>
                    </a:lnTo>
                    <a:lnTo>
                      <a:pt x="153" y="184"/>
                    </a:lnTo>
                    <a:lnTo>
                      <a:pt x="151" y="183"/>
                    </a:lnTo>
                    <a:lnTo>
                      <a:pt x="150" y="181"/>
                    </a:lnTo>
                    <a:lnTo>
                      <a:pt x="148" y="180"/>
                    </a:lnTo>
                    <a:lnTo>
                      <a:pt x="146" y="178"/>
                    </a:lnTo>
                    <a:lnTo>
                      <a:pt x="145" y="175"/>
                    </a:lnTo>
                    <a:lnTo>
                      <a:pt x="145" y="173"/>
                    </a:lnTo>
                    <a:lnTo>
                      <a:pt x="134" y="173"/>
                    </a:lnTo>
                    <a:lnTo>
                      <a:pt x="126" y="170"/>
                    </a:lnTo>
                    <a:lnTo>
                      <a:pt x="118" y="168"/>
                    </a:lnTo>
                    <a:lnTo>
                      <a:pt x="109" y="167"/>
                    </a:lnTo>
                    <a:lnTo>
                      <a:pt x="101" y="165"/>
                    </a:lnTo>
                    <a:lnTo>
                      <a:pt x="92" y="163"/>
                    </a:lnTo>
                    <a:lnTo>
                      <a:pt x="86" y="162"/>
                    </a:lnTo>
                    <a:lnTo>
                      <a:pt x="81" y="162"/>
                    </a:lnTo>
                    <a:lnTo>
                      <a:pt x="81" y="137"/>
                    </a:lnTo>
                    <a:lnTo>
                      <a:pt x="77" y="115"/>
                    </a:lnTo>
                    <a:lnTo>
                      <a:pt x="70" y="94"/>
                    </a:lnTo>
                    <a:lnTo>
                      <a:pt x="60" y="71"/>
                    </a:lnTo>
                    <a:lnTo>
                      <a:pt x="49" y="52"/>
                    </a:lnTo>
                    <a:lnTo>
                      <a:pt x="35" y="32"/>
                    </a:lnTo>
                    <a:lnTo>
                      <a:pt x="18" y="1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36760" y="3927960"/>
                <a:ext cx="10800" cy="254520"/>
              </a:xfrm>
              <a:custGeom>
                <a:avLst/>
                <a:gdLst/>
                <a:ahLst/>
                <a:rect l="l" t="t" r="r" b="b"/>
                <a:pathLst>
                  <a:path w="7" h="165">
                    <a:moveTo>
                      <a:pt x="7" y="165"/>
                    </a:moveTo>
                    <a:lnTo>
                      <a:pt x="7" y="158"/>
                    </a:lnTo>
                    <a:lnTo>
                      <a:pt x="5" y="144"/>
                    </a:lnTo>
                    <a:lnTo>
                      <a:pt x="4" y="123"/>
                    </a:lnTo>
                    <a:lnTo>
                      <a:pt x="4" y="97"/>
                    </a:lnTo>
                    <a:lnTo>
                      <a:pt x="2" y="69"/>
                    </a:lnTo>
                    <a:lnTo>
                      <a:pt x="0" y="42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95520" y="278028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47" h="132">
                    <a:moveTo>
                      <a:pt x="42" y="132"/>
                    </a:moveTo>
                    <a:lnTo>
                      <a:pt x="46" y="123"/>
                    </a:lnTo>
                    <a:lnTo>
                      <a:pt x="47" y="114"/>
                    </a:lnTo>
                    <a:lnTo>
                      <a:pt x="46" y="104"/>
                    </a:lnTo>
                    <a:lnTo>
                      <a:pt x="44" y="96"/>
                    </a:lnTo>
                    <a:lnTo>
                      <a:pt x="39" y="86"/>
                    </a:lnTo>
                    <a:lnTo>
                      <a:pt x="34" y="78"/>
                    </a:lnTo>
                    <a:lnTo>
                      <a:pt x="27" y="72"/>
                    </a:lnTo>
                    <a:lnTo>
                      <a:pt x="20" y="65"/>
                    </a:lnTo>
                    <a:lnTo>
                      <a:pt x="20" y="59"/>
                    </a:lnTo>
                    <a:lnTo>
                      <a:pt x="19" y="52"/>
                    </a:lnTo>
                    <a:lnTo>
                      <a:pt x="17" y="46"/>
                    </a:lnTo>
                    <a:lnTo>
                      <a:pt x="15" y="39"/>
                    </a:lnTo>
                    <a:lnTo>
                      <a:pt x="12" y="33"/>
                    </a:lnTo>
                    <a:lnTo>
                      <a:pt x="8" y="25"/>
                    </a:lnTo>
                    <a:lnTo>
                      <a:pt x="5" y="18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80880" y="2983680"/>
                <a:ext cx="379440" cy="286920"/>
              </a:xfrm>
              <a:custGeom>
                <a:avLst/>
                <a:gdLst/>
                <a:ahLst/>
                <a:rect l="l" t="t" r="r" b="b"/>
                <a:pathLst>
                  <a:path w="246" h="186">
                    <a:moveTo>
                      <a:pt x="0" y="186"/>
                    </a:moveTo>
                    <a:lnTo>
                      <a:pt x="7" y="186"/>
                    </a:lnTo>
                    <a:lnTo>
                      <a:pt x="14" y="183"/>
                    </a:lnTo>
                    <a:lnTo>
                      <a:pt x="22" y="181"/>
                    </a:lnTo>
                    <a:lnTo>
                      <a:pt x="31" y="176"/>
                    </a:lnTo>
                    <a:lnTo>
                      <a:pt x="39" y="173"/>
                    </a:lnTo>
                    <a:lnTo>
                      <a:pt x="47" y="170"/>
                    </a:lnTo>
                    <a:lnTo>
                      <a:pt x="56" y="166"/>
                    </a:lnTo>
                    <a:lnTo>
                      <a:pt x="61" y="163"/>
                    </a:lnTo>
                    <a:lnTo>
                      <a:pt x="61" y="158"/>
                    </a:lnTo>
                    <a:lnTo>
                      <a:pt x="61" y="153"/>
                    </a:lnTo>
                    <a:lnTo>
                      <a:pt x="61" y="149"/>
                    </a:lnTo>
                    <a:lnTo>
                      <a:pt x="61" y="144"/>
                    </a:lnTo>
                    <a:lnTo>
                      <a:pt x="61" y="139"/>
                    </a:lnTo>
                    <a:lnTo>
                      <a:pt x="61" y="134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3" y="124"/>
                    </a:lnTo>
                    <a:lnTo>
                      <a:pt x="66" y="123"/>
                    </a:lnTo>
                    <a:lnTo>
                      <a:pt x="68" y="121"/>
                    </a:lnTo>
                    <a:lnTo>
                      <a:pt x="69" y="119"/>
                    </a:lnTo>
                    <a:lnTo>
                      <a:pt x="73" y="118"/>
                    </a:lnTo>
                    <a:lnTo>
                      <a:pt x="74" y="118"/>
                    </a:lnTo>
                    <a:lnTo>
                      <a:pt x="78" y="116"/>
                    </a:lnTo>
                    <a:lnTo>
                      <a:pt x="79" y="115"/>
                    </a:lnTo>
                    <a:lnTo>
                      <a:pt x="79" y="111"/>
                    </a:lnTo>
                    <a:lnTo>
                      <a:pt x="79" y="108"/>
                    </a:lnTo>
                    <a:lnTo>
                      <a:pt x="81" y="105"/>
                    </a:lnTo>
                    <a:lnTo>
                      <a:pt x="81" y="102"/>
                    </a:lnTo>
                    <a:lnTo>
                      <a:pt x="84" y="100"/>
                    </a:lnTo>
                    <a:lnTo>
                      <a:pt x="88" y="97"/>
                    </a:lnTo>
                    <a:lnTo>
                      <a:pt x="93" y="95"/>
                    </a:lnTo>
                    <a:lnTo>
                      <a:pt x="100" y="92"/>
                    </a:lnTo>
                    <a:lnTo>
                      <a:pt x="101" y="89"/>
                    </a:lnTo>
                    <a:lnTo>
                      <a:pt x="103" y="84"/>
                    </a:lnTo>
                    <a:lnTo>
                      <a:pt x="105" y="77"/>
                    </a:lnTo>
                    <a:lnTo>
                      <a:pt x="108" y="69"/>
                    </a:lnTo>
                    <a:lnTo>
                      <a:pt x="111" y="61"/>
                    </a:lnTo>
                    <a:lnTo>
                      <a:pt x="116" y="55"/>
                    </a:lnTo>
                    <a:lnTo>
                      <a:pt x="122" y="50"/>
                    </a:lnTo>
                    <a:lnTo>
                      <a:pt x="127" y="46"/>
                    </a:lnTo>
                    <a:lnTo>
                      <a:pt x="133" y="53"/>
                    </a:lnTo>
                    <a:lnTo>
                      <a:pt x="140" y="55"/>
                    </a:lnTo>
                    <a:lnTo>
                      <a:pt x="148" y="55"/>
                    </a:lnTo>
                    <a:lnTo>
                      <a:pt x="155" y="51"/>
                    </a:lnTo>
                    <a:lnTo>
                      <a:pt x="162" y="48"/>
                    </a:lnTo>
                    <a:lnTo>
                      <a:pt x="170" y="43"/>
                    </a:lnTo>
                    <a:lnTo>
                      <a:pt x="180" y="42"/>
                    </a:lnTo>
                    <a:lnTo>
                      <a:pt x="189" y="40"/>
                    </a:lnTo>
                    <a:lnTo>
                      <a:pt x="192" y="32"/>
                    </a:lnTo>
                    <a:lnTo>
                      <a:pt x="197" y="27"/>
                    </a:lnTo>
                    <a:lnTo>
                      <a:pt x="204" y="24"/>
                    </a:lnTo>
                    <a:lnTo>
                      <a:pt x="212" y="22"/>
                    </a:lnTo>
                    <a:lnTo>
                      <a:pt x="221" y="19"/>
                    </a:lnTo>
                    <a:lnTo>
                      <a:pt x="229" y="16"/>
                    </a:lnTo>
                    <a:lnTo>
                      <a:pt x="238" y="9"/>
                    </a:lnTo>
                    <a:lnTo>
                      <a:pt x="24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55360" y="3061080"/>
                <a:ext cx="425520" cy="209520"/>
              </a:xfrm>
              <a:custGeom>
                <a:avLst/>
                <a:gdLst/>
                <a:ahLst/>
                <a:rect l="l" t="t" r="r" b="b"/>
                <a:pathLst>
                  <a:path w="276" h="136">
                    <a:moveTo>
                      <a:pt x="0" y="19"/>
                    </a:moveTo>
                    <a:lnTo>
                      <a:pt x="9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52" y="1"/>
                    </a:lnTo>
                    <a:lnTo>
                      <a:pt x="64" y="0"/>
                    </a:lnTo>
                    <a:lnTo>
                      <a:pt x="76" y="0"/>
                    </a:lnTo>
                    <a:lnTo>
                      <a:pt x="91" y="14"/>
                    </a:lnTo>
                    <a:lnTo>
                      <a:pt x="101" y="26"/>
                    </a:lnTo>
                    <a:lnTo>
                      <a:pt x="110" y="35"/>
                    </a:lnTo>
                    <a:lnTo>
                      <a:pt x="115" y="45"/>
                    </a:lnTo>
                    <a:lnTo>
                      <a:pt x="118" y="55"/>
                    </a:lnTo>
                    <a:lnTo>
                      <a:pt x="118" y="66"/>
                    </a:lnTo>
                    <a:lnTo>
                      <a:pt x="115" y="79"/>
                    </a:lnTo>
                    <a:lnTo>
                      <a:pt x="110" y="95"/>
                    </a:lnTo>
                    <a:lnTo>
                      <a:pt x="116" y="102"/>
                    </a:lnTo>
                    <a:lnTo>
                      <a:pt x="125" y="107"/>
                    </a:lnTo>
                    <a:lnTo>
                      <a:pt x="135" y="110"/>
                    </a:lnTo>
                    <a:lnTo>
                      <a:pt x="147" y="111"/>
                    </a:lnTo>
                    <a:lnTo>
                      <a:pt x="160" y="111"/>
                    </a:lnTo>
                    <a:lnTo>
                      <a:pt x="172" y="113"/>
                    </a:lnTo>
                    <a:lnTo>
                      <a:pt x="184" y="113"/>
                    </a:lnTo>
                    <a:lnTo>
                      <a:pt x="195" y="113"/>
                    </a:lnTo>
                    <a:lnTo>
                      <a:pt x="195" y="115"/>
                    </a:lnTo>
                    <a:lnTo>
                      <a:pt x="195" y="116"/>
                    </a:lnTo>
                    <a:lnTo>
                      <a:pt x="195" y="118"/>
                    </a:lnTo>
                    <a:lnTo>
                      <a:pt x="197" y="121"/>
                    </a:lnTo>
                    <a:lnTo>
                      <a:pt x="197" y="123"/>
                    </a:lnTo>
                    <a:lnTo>
                      <a:pt x="197" y="124"/>
                    </a:lnTo>
                    <a:lnTo>
                      <a:pt x="199" y="126"/>
                    </a:lnTo>
                    <a:lnTo>
                      <a:pt x="199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7" y="126"/>
                    </a:lnTo>
                    <a:lnTo>
                      <a:pt x="236" y="128"/>
                    </a:lnTo>
                    <a:lnTo>
                      <a:pt x="246" y="128"/>
                    </a:lnTo>
                    <a:lnTo>
                      <a:pt x="256" y="129"/>
                    </a:lnTo>
                    <a:lnTo>
                      <a:pt x="266" y="133"/>
                    </a:lnTo>
                    <a:lnTo>
                      <a:pt x="276" y="13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95000" y="1879560"/>
                <a:ext cx="64440" cy="291600"/>
              </a:xfrm>
              <a:custGeom>
                <a:avLst/>
                <a:gdLst/>
                <a:ahLst/>
                <a:rect l="l" t="t" r="r" b="b"/>
                <a:pathLst>
                  <a:path w="42" h="189">
                    <a:moveTo>
                      <a:pt x="0" y="189"/>
                    </a:moveTo>
                    <a:lnTo>
                      <a:pt x="0" y="183"/>
                    </a:lnTo>
                    <a:lnTo>
                      <a:pt x="0" y="178"/>
                    </a:lnTo>
                    <a:lnTo>
                      <a:pt x="2" y="173"/>
                    </a:lnTo>
                    <a:lnTo>
                      <a:pt x="2" y="168"/>
                    </a:lnTo>
                    <a:lnTo>
                      <a:pt x="2" y="163"/>
                    </a:lnTo>
                    <a:lnTo>
                      <a:pt x="4" y="157"/>
                    </a:lnTo>
                    <a:lnTo>
                      <a:pt x="7" y="150"/>
                    </a:lnTo>
                    <a:lnTo>
                      <a:pt x="9" y="142"/>
                    </a:lnTo>
                    <a:lnTo>
                      <a:pt x="12" y="142"/>
                    </a:lnTo>
                    <a:lnTo>
                      <a:pt x="16" y="141"/>
                    </a:lnTo>
                    <a:lnTo>
                      <a:pt x="19" y="141"/>
                    </a:lnTo>
                    <a:lnTo>
                      <a:pt x="22" y="139"/>
                    </a:lnTo>
                    <a:lnTo>
                      <a:pt x="27" y="136"/>
                    </a:lnTo>
                    <a:lnTo>
                      <a:pt x="32" y="133"/>
                    </a:lnTo>
                    <a:lnTo>
                      <a:pt x="36" y="128"/>
                    </a:lnTo>
                    <a:lnTo>
                      <a:pt x="42" y="121"/>
                    </a:lnTo>
                    <a:lnTo>
                      <a:pt x="39" y="113"/>
                    </a:lnTo>
                    <a:lnTo>
                      <a:pt x="37" y="105"/>
                    </a:lnTo>
                    <a:lnTo>
                      <a:pt x="37" y="97"/>
                    </a:lnTo>
                    <a:lnTo>
                      <a:pt x="39" y="90"/>
                    </a:lnTo>
                    <a:lnTo>
                      <a:pt x="37" y="82"/>
                    </a:lnTo>
                    <a:lnTo>
                      <a:pt x="34" y="76"/>
                    </a:lnTo>
                    <a:lnTo>
                      <a:pt x="27" y="66"/>
                    </a:lnTo>
                    <a:lnTo>
                      <a:pt x="16" y="55"/>
                    </a:lnTo>
                    <a:lnTo>
                      <a:pt x="12" y="48"/>
                    </a:lnTo>
                    <a:lnTo>
                      <a:pt x="10" y="42"/>
                    </a:lnTo>
                    <a:lnTo>
                      <a:pt x="10" y="35"/>
                    </a:lnTo>
                    <a:lnTo>
                      <a:pt x="9" y="30"/>
                    </a:lnTo>
                    <a:lnTo>
                      <a:pt x="9" y="24"/>
                    </a:lnTo>
                    <a:lnTo>
                      <a:pt x="9" y="18"/>
                    </a:lnTo>
                    <a:lnTo>
                      <a:pt x="9" y="9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453400" y="2351520"/>
                <a:ext cx="4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3000" y="2351880"/>
                <a:ext cx="144720" cy="5688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37"/>
                    </a:moveTo>
                    <a:lnTo>
                      <a:pt x="7" y="27"/>
                    </a:lnTo>
                    <a:lnTo>
                      <a:pt x="15" y="18"/>
                    </a:lnTo>
                    <a:lnTo>
                      <a:pt x="23" y="10"/>
                    </a:lnTo>
                    <a:lnTo>
                      <a:pt x="35" y="5"/>
                    </a:lnTo>
                    <a:lnTo>
                      <a:pt x="49" y="1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4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98520" y="1517400"/>
                <a:ext cx="1010160" cy="891360"/>
              </a:xfrm>
              <a:custGeom>
                <a:avLst/>
                <a:gdLst/>
                <a:ahLst/>
                <a:rect l="l" t="t" r="r" b="b"/>
                <a:pathLst>
                  <a:path w="655" h="578">
                    <a:moveTo>
                      <a:pt x="655" y="235"/>
                    </a:moveTo>
                    <a:lnTo>
                      <a:pt x="646" y="235"/>
                    </a:lnTo>
                    <a:lnTo>
                      <a:pt x="640" y="235"/>
                    </a:lnTo>
                    <a:lnTo>
                      <a:pt x="635" y="233"/>
                    </a:lnTo>
                    <a:lnTo>
                      <a:pt x="628" y="231"/>
                    </a:lnTo>
                    <a:lnTo>
                      <a:pt x="623" y="231"/>
                    </a:lnTo>
                    <a:lnTo>
                      <a:pt x="618" y="228"/>
                    </a:lnTo>
                    <a:lnTo>
                      <a:pt x="611" y="227"/>
                    </a:lnTo>
                    <a:lnTo>
                      <a:pt x="604" y="223"/>
                    </a:lnTo>
                    <a:lnTo>
                      <a:pt x="576" y="225"/>
                    </a:lnTo>
                    <a:lnTo>
                      <a:pt x="550" y="228"/>
                    </a:lnTo>
                    <a:lnTo>
                      <a:pt x="530" y="233"/>
                    </a:lnTo>
                    <a:lnTo>
                      <a:pt x="512" y="238"/>
                    </a:lnTo>
                    <a:lnTo>
                      <a:pt x="503" y="240"/>
                    </a:lnTo>
                    <a:lnTo>
                      <a:pt x="493" y="240"/>
                    </a:lnTo>
                    <a:lnTo>
                      <a:pt x="485" y="238"/>
                    </a:lnTo>
                    <a:lnTo>
                      <a:pt x="475" y="236"/>
                    </a:lnTo>
                    <a:lnTo>
                      <a:pt x="465" y="231"/>
                    </a:lnTo>
                    <a:lnTo>
                      <a:pt x="454" y="227"/>
                    </a:lnTo>
                    <a:lnTo>
                      <a:pt x="443" y="219"/>
                    </a:lnTo>
                    <a:lnTo>
                      <a:pt x="429" y="207"/>
                    </a:lnTo>
                    <a:lnTo>
                      <a:pt x="429" y="197"/>
                    </a:lnTo>
                    <a:lnTo>
                      <a:pt x="429" y="188"/>
                    </a:lnTo>
                    <a:lnTo>
                      <a:pt x="429" y="176"/>
                    </a:lnTo>
                    <a:lnTo>
                      <a:pt x="431" y="165"/>
                    </a:lnTo>
                    <a:lnTo>
                      <a:pt x="431" y="154"/>
                    </a:lnTo>
                    <a:lnTo>
                      <a:pt x="434" y="142"/>
                    </a:lnTo>
                    <a:lnTo>
                      <a:pt x="438" y="129"/>
                    </a:lnTo>
                    <a:lnTo>
                      <a:pt x="443" y="118"/>
                    </a:lnTo>
                    <a:lnTo>
                      <a:pt x="439" y="115"/>
                    </a:lnTo>
                    <a:lnTo>
                      <a:pt x="436" y="112"/>
                    </a:lnTo>
                    <a:lnTo>
                      <a:pt x="433" y="108"/>
                    </a:lnTo>
                    <a:lnTo>
                      <a:pt x="429" y="105"/>
                    </a:lnTo>
                    <a:lnTo>
                      <a:pt x="426" y="100"/>
                    </a:lnTo>
                    <a:lnTo>
                      <a:pt x="424" y="97"/>
                    </a:lnTo>
                    <a:lnTo>
                      <a:pt x="421" y="94"/>
                    </a:lnTo>
                    <a:lnTo>
                      <a:pt x="417" y="91"/>
                    </a:lnTo>
                    <a:lnTo>
                      <a:pt x="409" y="95"/>
                    </a:lnTo>
                    <a:lnTo>
                      <a:pt x="401" y="99"/>
                    </a:lnTo>
                    <a:lnTo>
                      <a:pt x="395" y="102"/>
                    </a:lnTo>
                    <a:lnTo>
                      <a:pt x="389" y="104"/>
                    </a:lnTo>
                    <a:lnTo>
                      <a:pt x="384" y="105"/>
                    </a:lnTo>
                    <a:lnTo>
                      <a:pt x="379" y="107"/>
                    </a:lnTo>
                    <a:lnTo>
                      <a:pt x="374" y="107"/>
                    </a:lnTo>
                    <a:lnTo>
                      <a:pt x="365" y="107"/>
                    </a:lnTo>
                    <a:lnTo>
                      <a:pt x="363" y="105"/>
                    </a:lnTo>
                    <a:lnTo>
                      <a:pt x="363" y="104"/>
                    </a:lnTo>
                    <a:lnTo>
                      <a:pt x="362" y="102"/>
                    </a:lnTo>
                    <a:lnTo>
                      <a:pt x="360" y="100"/>
                    </a:lnTo>
                    <a:lnTo>
                      <a:pt x="360" y="99"/>
                    </a:lnTo>
                    <a:lnTo>
                      <a:pt x="358" y="97"/>
                    </a:lnTo>
                    <a:lnTo>
                      <a:pt x="358" y="95"/>
                    </a:lnTo>
                    <a:lnTo>
                      <a:pt x="357" y="94"/>
                    </a:lnTo>
                    <a:lnTo>
                      <a:pt x="340" y="92"/>
                    </a:lnTo>
                    <a:lnTo>
                      <a:pt x="326" y="87"/>
                    </a:lnTo>
                    <a:lnTo>
                      <a:pt x="315" y="82"/>
                    </a:lnTo>
                    <a:lnTo>
                      <a:pt x="306" y="74"/>
                    </a:lnTo>
                    <a:lnTo>
                      <a:pt x="298" y="65"/>
                    </a:lnTo>
                    <a:lnTo>
                      <a:pt x="289" y="53"/>
                    </a:lnTo>
                    <a:lnTo>
                      <a:pt x="283" y="42"/>
                    </a:lnTo>
                    <a:lnTo>
                      <a:pt x="274" y="29"/>
                    </a:lnTo>
                    <a:lnTo>
                      <a:pt x="246" y="19"/>
                    </a:lnTo>
                    <a:lnTo>
                      <a:pt x="215" y="11"/>
                    </a:lnTo>
                    <a:lnTo>
                      <a:pt x="187" y="3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0"/>
                    </a:lnTo>
                    <a:lnTo>
                      <a:pt x="121" y="3"/>
                    </a:lnTo>
                    <a:lnTo>
                      <a:pt x="109" y="8"/>
                    </a:lnTo>
                    <a:lnTo>
                      <a:pt x="99" y="14"/>
                    </a:lnTo>
                    <a:lnTo>
                      <a:pt x="89" y="24"/>
                    </a:lnTo>
                    <a:lnTo>
                      <a:pt x="82" y="36"/>
                    </a:lnTo>
                    <a:lnTo>
                      <a:pt x="74" y="48"/>
                    </a:lnTo>
                    <a:lnTo>
                      <a:pt x="70" y="50"/>
                    </a:lnTo>
                    <a:lnTo>
                      <a:pt x="67" y="52"/>
                    </a:lnTo>
                    <a:lnTo>
                      <a:pt x="64" y="53"/>
                    </a:lnTo>
                    <a:lnTo>
                      <a:pt x="60" y="55"/>
                    </a:lnTo>
                    <a:lnTo>
                      <a:pt x="57" y="57"/>
                    </a:lnTo>
                    <a:lnTo>
                      <a:pt x="52" y="58"/>
                    </a:lnTo>
                    <a:lnTo>
                      <a:pt x="49" y="60"/>
                    </a:lnTo>
                    <a:lnTo>
                      <a:pt x="44" y="61"/>
                    </a:lnTo>
                    <a:lnTo>
                      <a:pt x="33" y="65"/>
                    </a:lnTo>
                    <a:lnTo>
                      <a:pt x="27" y="68"/>
                    </a:lnTo>
                    <a:lnTo>
                      <a:pt x="20" y="71"/>
                    </a:lnTo>
                    <a:lnTo>
                      <a:pt x="15" y="74"/>
                    </a:lnTo>
                    <a:lnTo>
                      <a:pt x="12" y="79"/>
                    </a:lnTo>
                    <a:lnTo>
                      <a:pt x="8" y="82"/>
                    </a:lnTo>
                    <a:lnTo>
                      <a:pt x="5" y="86"/>
                    </a:lnTo>
                    <a:lnTo>
                      <a:pt x="1" y="89"/>
                    </a:lnTo>
                    <a:lnTo>
                      <a:pt x="3" y="95"/>
                    </a:lnTo>
                    <a:lnTo>
                      <a:pt x="3" y="99"/>
                    </a:lnTo>
                    <a:lnTo>
                      <a:pt x="5" y="102"/>
                    </a:lnTo>
                    <a:lnTo>
                      <a:pt x="5" y="105"/>
                    </a:lnTo>
                    <a:lnTo>
                      <a:pt x="6" y="105"/>
                    </a:lnTo>
                    <a:lnTo>
                      <a:pt x="8" y="107"/>
                    </a:lnTo>
                    <a:lnTo>
                      <a:pt x="10" y="108"/>
                    </a:lnTo>
                    <a:lnTo>
                      <a:pt x="13" y="112"/>
                    </a:lnTo>
                    <a:lnTo>
                      <a:pt x="12" y="113"/>
                    </a:lnTo>
                    <a:lnTo>
                      <a:pt x="12" y="115"/>
                    </a:lnTo>
                    <a:lnTo>
                      <a:pt x="12" y="116"/>
                    </a:lnTo>
                    <a:lnTo>
                      <a:pt x="12" y="120"/>
                    </a:lnTo>
                    <a:lnTo>
                      <a:pt x="12" y="121"/>
                    </a:lnTo>
                    <a:lnTo>
                      <a:pt x="12" y="123"/>
                    </a:lnTo>
                    <a:lnTo>
                      <a:pt x="12" y="125"/>
                    </a:lnTo>
                    <a:lnTo>
                      <a:pt x="12" y="126"/>
                    </a:lnTo>
                    <a:lnTo>
                      <a:pt x="6" y="134"/>
                    </a:lnTo>
                    <a:lnTo>
                      <a:pt x="3" y="144"/>
                    </a:lnTo>
                    <a:lnTo>
                      <a:pt x="1" y="155"/>
                    </a:lnTo>
                    <a:lnTo>
                      <a:pt x="0" y="167"/>
                    </a:lnTo>
                    <a:lnTo>
                      <a:pt x="1" y="178"/>
                    </a:lnTo>
                    <a:lnTo>
                      <a:pt x="3" y="191"/>
                    </a:lnTo>
                    <a:lnTo>
                      <a:pt x="6" y="202"/>
                    </a:lnTo>
                    <a:lnTo>
                      <a:pt x="10" y="214"/>
                    </a:lnTo>
                    <a:lnTo>
                      <a:pt x="20" y="236"/>
                    </a:lnTo>
                    <a:lnTo>
                      <a:pt x="32" y="257"/>
                    </a:lnTo>
                    <a:lnTo>
                      <a:pt x="38" y="265"/>
                    </a:lnTo>
                    <a:lnTo>
                      <a:pt x="45" y="274"/>
                    </a:lnTo>
                    <a:lnTo>
                      <a:pt x="54" y="280"/>
                    </a:lnTo>
                    <a:lnTo>
                      <a:pt x="60" y="285"/>
                    </a:lnTo>
                    <a:lnTo>
                      <a:pt x="62" y="311"/>
                    </a:lnTo>
                    <a:lnTo>
                      <a:pt x="62" y="334"/>
                    </a:lnTo>
                    <a:lnTo>
                      <a:pt x="59" y="355"/>
                    </a:lnTo>
                    <a:lnTo>
                      <a:pt x="54" y="372"/>
                    </a:lnTo>
                    <a:lnTo>
                      <a:pt x="47" y="390"/>
                    </a:lnTo>
                    <a:lnTo>
                      <a:pt x="38" y="405"/>
                    </a:lnTo>
                    <a:lnTo>
                      <a:pt x="27" y="418"/>
                    </a:lnTo>
                    <a:lnTo>
                      <a:pt x="13" y="431"/>
                    </a:lnTo>
                    <a:lnTo>
                      <a:pt x="15" y="455"/>
                    </a:lnTo>
                    <a:lnTo>
                      <a:pt x="17" y="478"/>
                    </a:lnTo>
                    <a:lnTo>
                      <a:pt x="17" y="497"/>
                    </a:lnTo>
                    <a:lnTo>
                      <a:pt x="18" y="515"/>
                    </a:lnTo>
                    <a:lnTo>
                      <a:pt x="22" y="523"/>
                    </a:lnTo>
                    <a:lnTo>
                      <a:pt x="23" y="531"/>
                    </a:lnTo>
                    <a:lnTo>
                      <a:pt x="28" y="539"/>
                    </a:lnTo>
                    <a:lnTo>
                      <a:pt x="33" y="547"/>
                    </a:lnTo>
                    <a:lnTo>
                      <a:pt x="40" y="554"/>
                    </a:lnTo>
                    <a:lnTo>
                      <a:pt x="50" y="562"/>
                    </a:lnTo>
                    <a:lnTo>
                      <a:pt x="60" y="570"/>
                    </a:lnTo>
                    <a:lnTo>
                      <a:pt x="74" y="57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57720" y="2129760"/>
                <a:ext cx="736920" cy="221760"/>
              </a:xfrm>
              <a:custGeom>
                <a:avLst/>
                <a:gdLst/>
                <a:ahLst/>
                <a:rect l="l" t="t" r="r" b="b"/>
                <a:pathLst>
                  <a:path w="478" h="144">
                    <a:moveTo>
                      <a:pt x="0" y="144"/>
                    </a:moveTo>
                    <a:lnTo>
                      <a:pt x="0" y="139"/>
                    </a:lnTo>
                    <a:lnTo>
                      <a:pt x="2" y="134"/>
                    </a:lnTo>
                    <a:lnTo>
                      <a:pt x="2" y="129"/>
                    </a:lnTo>
                    <a:lnTo>
                      <a:pt x="2" y="124"/>
                    </a:lnTo>
                    <a:lnTo>
                      <a:pt x="4" y="118"/>
                    </a:lnTo>
                    <a:lnTo>
                      <a:pt x="4" y="113"/>
                    </a:lnTo>
                    <a:lnTo>
                      <a:pt x="5" y="108"/>
                    </a:lnTo>
                    <a:lnTo>
                      <a:pt x="5" y="103"/>
                    </a:lnTo>
                    <a:lnTo>
                      <a:pt x="10" y="102"/>
                    </a:lnTo>
                    <a:lnTo>
                      <a:pt x="14" y="100"/>
                    </a:lnTo>
                    <a:lnTo>
                      <a:pt x="19" y="98"/>
                    </a:lnTo>
                    <a:lnTo>
                      <a:pt x="22" y="97"/>
                    </a:lnTo>
                    <a:lnTo>
                      <a:pt x="27" y="95"/>
                    </a:lnTo>
                    <a:lnTo>
                      <a:pt x="30" y="94"/>
                    </a:lnTo>
                    <a:lnTo>
                      <a:pt x="36" y="92"/>
                    </a:lnTo>
                    <a:lnTo>
                      <a:pt x="39" y="90"/>
                    </a:lnTo>
                    <a:lnTo>
                      <a:pt x="51" y="77"/>
                    </a:lnTo>
                    <a:lnTo>
                      <a:pt x="62" y="63"/>
                    </a:lnTo>
                    <a:lnTo>
                      <a:pt x="73" y="51"/>
                    </a:lnTo>
                    <a:lnTo>
                      <a:pt x="84" y="42"/>
                    </a:lnTo>
                    <a:lnTo>
                      <a:pt x="91" y="37"/>
                    </a:lnTo>
                    <a:lnTo>
                      <a:pt x="98" y="35"/>
                    </a:lnTo>
                    <a:lnTo>
                      <a:pt x="106" y="32"/>
                    </a:lnTo>
                    <a:lnTo>
                      <a:pt x="115" y="30"/>
                    </a:lnTo>
                    <a:lnTo>
                      <a:pt x="125" y="30"/>
                    </a:lnTo>
                    <a:lnTo>
                      <a:pt x="135" y="32"/>
                    </a:lnTo>
                    <a:lnTo>
                      <a:pt x="147" y="35"/>
                    </a:lnTo>
                    <a:lnTo>
                      <a:pt x="158" y="39"/>
                    </a:lnTo>
                    <a:lnTo>
                      <a:pt x="175" y="30"/>
                    </a:lnTo>
                    <a:lnTo>
                      <a:pt x="192" y="24"/>
                    </a:lnTo>
                    <a:lnTo>
                      <a:pt x="209" y="17"/>
                    </a:lnTo>
                    <a:lnTo>
                      <a:pt x="226" y="14"/>
                    </a:lnTo>
                    <a:lnTo>
                      <a:pt x="244" y="11"/>
                    </a:lnTo>
                    <a:lnTo>
                      <a:pt x="263" y="8"/>
                    </a:lnTo>
                    <a:lnTo>
                      <a:pt x="283" y="5"/>
                    </a:lnTo>
                    <a:lnTo>
                      <a:pt x="307" y="0"/>
                    </a:lnTo>
                    <a:lnTo>
                      <a:pt x="317" y="0"/>
                    </a:lnTo>
                    <a:lnTo>
                      <a:pt x="327" y="0"/>
                    </a:lnTo>
                    <a:lnTo>
                      <a:pt x="337" y="0"/>
                    </a:lnTo>
                    <a:lnTo>
                      <a:pt x="347" y="1"/>
                    </a:lnTo>
                    <a:lnTo>
                      <a:pt x="369" y="6"/>
                    </a:lnTo>
                    <a:lnTo>
                      <a:pt x="389" y="13"/>
                    </a:lnTo>
                    <a:lnTo>
                      <a:pt x="411" y="19"/>
                    </a:lnTo>
                    <a:lnTo>
                      <a:pt x="433" y="24"/>
                    </a:lnTo>
                    <a:lnTo>
                      <a:pt x="453" y="27"/>
                    </a:lnTo>
                    <a:lnTo>
                      <a:pt x="475" y="27"/>
                    </a:lnTo>
                    <a:lnTo>
                      <a:pt x="478" y="2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60240" y="2404080"/>
                <a:ext cx="752400" cy="488880"/>
              </a:xfrm>
              <a:custGeom>
                <a:avLst/>
                <a:gdLst/>
                <a:ahLst/>
                <a:rect l="l" t="t" r="r" b="b"/>
                <a:pathLst>
                  <a:path w="488" h="317">
                    <a:moveTo>
                      <a:pt x="488" y="3"/>
                    </a:moveTo>
                    <a:lnTo>
                      <a:pt x="476" y="6"/>
                    </a:lnTo>
                    <a:lnTo>
                      <a:pt x="464" y="8"/>
                    </a:lnTo>
                    <a:lnTo>
                      <a:pt x="452" y="10"/>
                    </a:lnTo>
                    <a:lnTo>
                      <a:pt x="441" y="13"/>
                    </a:lnTo>
                    <a:lnTo>
                      <a:pt x="429" y="14"/>
                    </a:lnTo>
                    <a:lnTo>
                      <a:pt x="417" y="18"/>
                    </a:lnTo>
                    <a:lnTo>
                      <a:pt x="405" y="19"/>
                    </a:lnTo>
                    <a:lnTo>
                      <a:pt x="394" y="21"/>
                    </a:lnTo>
                    <a:lnTo>
                      <a:pt x="385" y="14"/>
                    </a:lnTo>
                    <a:lnTo>
                      <a:pt x="377" y="8"/>
                    </a:lnTo>
                    <a:lnTo>
                      <a:pt x="367" y="3"/>
                    </a:lnTo>
                    <a:lnTo>
                      <a:pt x="358" y="1"/>
                    </a:lnTo>
                    <a:lnTo>
                      <a:pt x="350" y="0"/>
                    </a:lnTo>
                    <a:lnTo>
                      <a:pt x="340" y="0"/>
                    </a:lnTo>
                    <a:lnTo>
                      <a:pt x="331" y="0"/>
                    </a:lnTo>
                    <a:lnTo>
                      <a:pt x="321" y="3"/>
                    </a:lnTo>
                    <a:lnTo>
                      <a:pt x="303" y="8"/>
                    </a:lnTo>
                    <a:lnTo>
                      <a:pt x="284" y="18"/>
                    </a:lnTo>
                    <a:lnTo>
                      <a:pt x="266" y="26"/>
                    </a:lnTo>
                    <a:lnTo>
                      <a:pt x="249" y="35"/>
                    </a:lnTo>
                    <a:lnTo>
                      <a:pt x="230" y="55"/>
                    </a:lnTo>
                    <a:lnTo>
                      <a:pt x="218" y="69"/>
                    </a:lnTo>
                    <a:lnTo>
                      <a:pt x="208" y="79"/>
                    </a:lnTo>
                    <a:lnTo>
                      <a:pt x="202" y="87"/>
                    </a:lnTo>
                    <a:lnTo>
                      <a:pt x="193" y="92"/>
                    </a:lnTo>
                    <a:lnTo>
                      <a:pt x="183" y="97"/>
                    </a:lnTo>
                    <a:lnTo>
                      <a:pt x="170" y="100"/>
                    </a:lnTo>
                    <a:lnTo>
                      <a:pt x="149" y="105"/>
                    </a:lnTo>
                    <a:lnTo>
                      <a:pt x="129" y="116"/>
                    </a:lnTo>
                    <a:lnTo>
                      <a:pt x="111" y="125"/>
                    </a:lnTo>
                    <a:lnTo>
                      <a:pt x="94" y="134"/>
                    </a:lnTo>
                    <a:lnTo>
                      <a:pt x="75" y="141"/>
                    </a:lnTo>
                    <a:lnTo>
                      <a:pt x="58" y="147"/>
                    </a:lnTo>
                    <a:lnTo>
                      <a:pt x="40" y="154"/>
                    </a:lnTo>
                    <a:lnTo>
                      <a:pt x="23" y="159"/>
                    </a:lnTo>
                    <a:lnTo>
                      <a:pt x="5" y="165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1" y="231"/>
                    </a:lnTo>
                    <a:lnTo>
                      <a:pt x="5" y="239"/>
                    </a:lnTo>
                    <a:lnTo>
                      <a:pt x="8" y="248"/>
                    </a:lnTo>
                    <a:lnTo>
                      <a:pt x="13" y="254"/>
                    </a:lnTo>
                    <a:lnTo>
                      <a:pt x="18" y="259"/>
                    </a:lnTo>
                    <a:lnTo>
                      <a:pt x="25" y="265"/>
                    </a:lnTo>
                    <a:lnTo>
                      <a:pt x="33" y="270"/>
                    </a:lnTo>
                    <a:lnTo>
                      <a:pt x="53" y="282"/>
                    </a:lnTo>
                    <a:lnTo>
                      <a:pt x="77" y="291"/>
                    </a:lnTo>
                    <a:lnTo>
                      <a:pt x="80" y="296"/>
                    </a:lnTo>
                    <a:lnTo>
                      <a:pt x="84" y="298"/>
                    </a:lnTo>
                    <a:lnTo>
                      <a:pt x="85" y="301"/>
                    </a:lnTo>
                    <a:lnTo>
                      <a:pt x="87" y="303"/>
                    </a:lnTo>
                    <a:lnTo>
                      <a:pt x="89" y="306"/>
                    </a:lnTo>
                    <a:lnTo>
                      <a:pt x="90" y="309"/>
                    </a:lnTo>
                    <a:lnTo>
                      <a:pt x="92" y="312"/>
                    </a:lnTo>
                    <a:lnTo>
                      <a:pt x="95" y="3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28240" y="2602800"/>
                <a:ext cx="371520" cy="19584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241" y="85"/>
                    </a:moveTo>
                    <a:lnTo>
                      <a:pt x="241" y="86"/>
                    </a:lnTo>
                    <a:lnTo>
                      <a:pt x="241" y="88"/>
                    </a:lnTo>
                    <a:lnTo>
                      <a:pt x="241" y="89"/>
                    </a:lnTo>
                    <a:lnTo>
                      <a:pt x="241" y="91"/>
                    </a:lnTo>
                    <a:lnTo>
                      <a:pt x="239" y="93"/>
                    </a:lnTo>
                    <a:lnTo>
                      <a:pt x="239" y="96"/>
                    </a:lnTo>
                    <a:lnTo>
                      <a:pt x="239" y="98"/>
                    </a:lnTo>
                    <a:lnTo>
                      <a:pt x="237" y="99"/>
                    </a:lnTo>
                    <a:lnTo>
                      <a:pt x="229" y="102"/>
                    </a:lnTo>
                    <a:lnTo>
                      <a:pt x="221" y="106"/>
                    </a:lnTo>
                    <a:lnTo>
                      <a:pt x="212" y="109"/>
                    </a:lnTo>
                    <a:lnTo>
                      <a:pt x="204" y="112"/>
                    </a:lnTo>
                    <a:lnTo>
                      <a:pt x="195" y="114"/>
                    </a:lnTo>
                    <a:lnTo>
                      <a:pt x="189" y="114"/>
                    </a:lnTo>
                    <a:lnTo>
                      <a:pt x="182" y="114"/>
                    </a:lnTo>
                    <a:lnTo>
                      <a:pt x="175" y="112"/>
                    </a:lnTo>
                    <a:lnTo>
                      <a:pt x="173" y="106"/>
                    </a:lnTo>
                    <a:lnTo>
                      <a:pt x="170" y="99"/>
                    </a:lnTo>
                    <a:lnTo>
                      <a:pt x="167" y="96"/>
                    </a:lnTo>
                    <a:lnTo>
                      <a:pt x="162" y="93"/>
                    </a:lnTo>
                    <a:lnTo>
                      <a:pt x="151" y="89"/>
                    </a:lnTo>
                    <a:lnTo>
                      <a:pt x="140" y="89"/>
                    </a:lnTo>
                    <a:lnTo>
                      <a:pt x="128" y="93"/>
                    </a:lnTo>
                    <a:lnTo>
                      <a:pt x="114" y="96"/>
                    </a:lnTo>
                    <a:lnTo>
                      <a:pt x="103" y="99"/>
                    </a:lnTo>
                    <a:lnTo>
                      <a:pt x="93" y="102"/>
                    </a:lnTo>
                    <a:lnTo>
                      <a:pt x="93" y="106"/>
                    </a:lnTo>
                    <a:lnTo>
                      <a:pt x="91" y="109"/>
                    </a:lnTo>
                    <a:lnTo>
                      <a:pt x="89" y="112"/>
                    </a:lnTo>
                    <a:lnTo>
                      <a:pt x="89" y="115"/>
                    </a:lnTo>
                    <a:lnTo>
                      <a:pt x="88" y="119"/>
                    </a:lnTo>
                    <a:lnTo>
                      <a:pt x="86" y="120"/>
                    </a:lnTo>
                    <a:lnTo>
                      <a:pt x="86" y="123"/>
                    </a:lnTo>
                    <a:lnTo>
                      <a:pt x="84" y="127"/>
                    </a:lnTo>
                    <a:lnTo>
                      <a:pt x="81" y="127"/>
                    </a:lnTo>
                    <a:lnTo>
                      <a:pt x="77" y="125"/>
                    </a:lnTo>
                    <a:lnTo>
                      <a:pt x="76" y="123"/>
                    </a:lnTo>
                    <a:lnTo>
                      <a:pt x="74" y="122"/>
                    </a:lnTo>
                    <a:lnTo>
                      <a:pt x="74" y="119"/>
                    </a:lnTo>
                    <a:lnTo>
                      <a:pt x="72" y="115"/>
                    </a:lnTo>
                    <a:lnTo>
                      <a:pt x="72" y="112"/>
                    </a:lnTo>
                    <a:lnTo>
                      <a:pt x="71" y="109"/>
                    </a:lnTo>
                    <a:lnTo>
                      <a:pt x="69" y="109"/>
                    </a:lnTo>
                    <a:lnTo>
                      <a:pt x="67" y="109"/>
                    </a:lnTo>
                    <a:lnTo>
                      <a:pt x="66" y="109"/>
                    </a:lnTo>
                    <a:lnTo>
                      <a:pt x="64" y="109"/>
                    </a:lnTo>
                    <a:lnTo>
                      <a:pt x="62" y="109"/>
                    </a:lnTo>
                    <a:lnTo>
                      <a:pt x="61" y="107"/>
                    </a:lnTo>
                    <a:lnTo>
                      <a:pt x="59" y="107"/>
                    </a:lnTo>
                    <a:lnTo>
                      <a:pt x="57" y="107"/>
                    </a:lnTo>
                    <a:lnTo>
                      <a:pt x="57" y="101"/>
                    </a:lnTo>
                    <a:lnTo>
                      <a:pt x="56" y="93"/>
                    </a:lnTo>
                    <a:lnTo>
                      <a:pt x="56" y="86"/>
                    </a:lnTo>
                    <a:lnTo>
                      <a:pt x="54" y="80"/>
                    </a:lnTo>
                    <a:lnTo>
                      <a:pt x="54" y="72"/>
                    </a:lnTo>
                    <a:lnTo>
                      <a:pt x="52" y="65"/>
                    </a:lnTo>
                    <a:lnTo>
                      <a:pt x="52" y="59"/>
                    </a:lnTo>
                    <a:lnTo>
                      <a:pt x="52" y="51"/>
                    </a:lnTo>
                    <a:lnTo>
                      <a:pt x="44" y="46"/>
                    </a:lnTo>
                    <a:lnTo>
                      <a:pt x="39" y="42"/>
                    </a:lnTo>
                    <a:lnTo>
                      <a:pt x="35" y="39"/>
                    </a:lnTo>
                    <a:lnTo>
                      <a:pt x="32" y="36"/>
                    </a:lnTo>
                    <a:lnTo>
                      <a:pt x="29" y="31"/>
                    </a:lnTo>
                    <a:lnTo>
                      <a:pt x="27" y="26"/>
                    </a:lnTo>
                    <a:lnTo>
                      <a:pt x="24" y="20"/>
                    </a:lnTo>
                    <a:lnTo>
                      <a:pt x="20" y="12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7" y="8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71960" y="2206800"/>
                <a:ext cx="204840" cy="527400"/>
              </a:xfrm>
              <a:custGeom>
                <a:avLst/>
                <a:gdLst/>
                <a:ahLst/>
                <a:rect l="l" t="t" r="r" b="b"/>
                <a:pathLst>
                  <a:path w="133" h="342">
                    <a:moveTo>
                      <a:pt x="88" y="0"/>
                    </a:moveTo>
                    <a:lnTo>
                      <a:pt x="89" y="19"/>
                    </a:lnTo>
                    <a:lnTo>
                      <a:pt x="91" y="34"/>
                    </a:lnTo>
                    <a:lnTo>
                      <a:pt x="93" y="45"/>
                    </a:lnTo>
                    <a:lnTo>
                      <a:pt x="98" y="53"/>
                    </a:lnTo>
                    <a:lnTo>
                      <a:pt x="105" y="61"/>
                    </a:lnTo>
                    <a:lnTo>
                      <a:pt x="111" y="70"/>
                    </a:lnTo>
                    <a:lnTo>
                      <a:pt x="121" y="81"/>
                    </a:lnTo>
                    <a:lnTo>
                      <a:pt x="133" y="95"/>
                    </a:lnTo>
                    <a:lnTo>
                      <a:pt x="132" y="99"/>
                    </a:lnTo>
                    <a:lnTo>
                      <a:pt x="130" y="100"/>
                    </a:lnTo>
                    <a:lnTo>
                      <a:pt x="128" y="104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5" y="112"/>
                    </a:lnTo>
                    <a:lnTo>
                      <a:pt x="123" y="113"/>
                    </a:lnTo>
                    <a:lnTo>
                      <a:pt x="121" y="116"/>
                    </a:lnTo>
                    <a:lnTo>
                      <a:pt x="115" y="116"/>
                    </a:lnTo>
                    <a:lnTo>
                      <a:pt x="108" y="116"/>
                    </a:lnTo>
                    <a:lnTo>
                      <a:pt x="100" y="118"/>
                    </a:lnTo>
                    <a:lnTo>
                      <a:pt x="93" y="120"/>
                    </a:lnTo>
                    <a:lnTo>
                      <a:pt x="84" y="121"/>
                    </a:lnTo>
                    <a:lnTo>
                      <a:pt x="78" y="125"/>
                    </a:lnTo>
                    <a:lnTo>
                      <a:pt x="71" y="126"/>
                    </a:lnTo>
                    <a:lnTo>
                      <a:pt x="64" y="128"/>
                    </a:lnTo>
                    <a:lnTo>
                      <a:pt x="49" y="139"/>
                    </a:lnTo>
                    <a:lnTo>
                      <a:pt x="37" y="152"/>
                    </a:lnTo>
                    <a:lnTo>
                      <a:pt x="25" y="165"/>
                    </a:lnTo>
                    <a:lnTo>
                      <a:pt x="17" y="180"/>
                    </a:lnTo>
                    <a:lnTo>
                      <a:pt x="10" y="194"/>
                    </a:lnTo>
                    <a:lnTo>
                      <a:pt x="5" y="207"/>
                    </a:lnTo>
                    <a:lnTo>
                      <a:pt x="2" y="222"/>
                    </a:lnTo>
                    <a:lnTo>
                      <a:pt x="0" y="233"/>
                    </a:lnTo>
                    <a:lnTo>
                      <a:pt x="4" y="233"/>
                    </a:lnTo>
                    <a:lnTo>
                      <a:pt x="7" y="233"/>
                    </a:lnTo>
                    <a:lnTo>
                      <a:pt x="10" y="233"/>
                    </a:lnTo>
                    <a:lnTo>
                      <a:pt x="14" y="233"/>
                    </a:lnTo>
                    <a:lnTo>
                      <a:pt x="19" y="233"/>
                    </a:lnTo>
                    <a:lnTo>
                      <a:pt x="22" y="233"/>
                    </a:lnTo>
                    <a:lnTo>
                      <a:pt x="25" y="233"/>
                    </a:lnTo>
                    <a:lnTo>
                      <a:pt x="29" y="233"/>
                    </a:lnTo>
                    <a:lnTo>
                      <a:pt x="31" y="238"/>
                    </a:lnTo>
                    <a:lnTo>
                      <a:pt x="31" y="243"/>
                    </a:lnTo>
                    <a:lnTo>
                      <a:pt x="32" y="246"/>
                    </a:lnTo>
                    <a:lnTo>
                      <a:pt x="32" y="251"/>
                    </a:lnTo>
                    <a:lnTo>
                      <a:pt x="32" y="254"/>
                    </a:lnTo>
                    <a:lnTo>
                      <a:pt x="34" y="259"/>
                    </a:lnTo>
                    <a:lnTo>
                      <a:pt x="34" y="262"/>
                    </a:lnTo>
                    <a:lnTo>
                      <a:pt x="36" y="267"/>
                    </a:lnTo>
                    <a:lnTo>
                      <a:pt x="44" y="269"/>
                    </a:lnTo>
                    <a:lnTo>
                      <a:pt x="49" y="272"/>
                    </a:lnTo>
                    <a:lnTo>
                      <a:pt x="54" y="277"/>
                    </a:lnTo>
                    <a:lnTo>
                      <a:pt x="57" y="280"/>
                    </a:lnTo>
                    <a:lnTo>
                      <a:pt x="63" y="285"/>
                    </a:lnTo>
                    <a:lnTo>
                      <a:pt x="66" y="288"/>
                    </a:lnTo>
                    <a:lnTo>
                      <a:pt x="69" y="291"/>
                    </a:lnTo>
                    <a:lnTo>
                      <a:pt x="76" y="295"/>
                    </a:lnTo>
                    <a:lnTo>
                      <a:pt x="79" y="303"/>
                    </a:lnTo>
                    <a:lnTo>
                      <a:pt x="81" y="309"/>
                    </a:lnTo>
                    <a:lnTo>
                      <a:pt x="83" y="314"/>
                    </a:lnTo>
                    <a:lnTo>
                      <a:pt x="84" y="321"/>
                    </a:lnTo>
                    <a:lnTo>
                      <a:pt x="84" y="325"/>
                    </a:lnTo>
                    <a:lnTo>
                      <a:pt x="84" y="330"/>
                    </a:lnTo>
                    <a:lnTo>
                      <a:pt x="84" y="335"/>
                    </a:lnTo>
                    <a:lnTo>
                      <a:pt x="83" y="3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07680" y="2158560"/>
                <a:ext cx="277560" cy="84960"/>
              </a:xfrm>
              <a:custGeom>
                <a:avLst/>
                <a:gdLst/>
                <a:ahLst/>
                <a:rect l="l" t="t" r="r" b="b"/>
                <a:pathLst>
                  <a:path w="180" h="55">
                    <a:moveTo>
                      <a:pt x="180" y="55"/>
                    </a:moveTo>
                    <a:lnTo>
                      <a:pt x="170" y="50"/>
                    </a:lnTo>
                    <a:lnTo>
                      <a:pt x="160" y="49"/>
                    </a:lnTo>
                    <a:lnTo>
                      <a:pt x="150" y="47"/>
                    </a:lnTo>
                    <a:lnTo>
                      <a:pt x="138" y="49"/>
                    </a:lnTo>
                    <a:lnTo>
                      <a:pt x="126" y="49"/>
                    </a:lnTo>
                    <a:lnTo>
                      <a:pt x="116" y="50"/>
                    </a:lnTo>
                    <a:lnTo>
                      <a:pt x="104" y="52"/>
                    </a:lnTo>
                    <a:lnTo>
                      <a:pt x="92" y="52"/>
                    </a:lnTo>
                    <a:lnTo>
                      <a:pt x="92" y="49"/>
                    </a:lnTo>
                    <a:lnTo>
                      <a:pt x="92" y="44"/>
                    </a:lnTo>
                    <a:lnTo>
                      <a:pt x="92" y="37"/>
                    </a:lnTo>
                    <a:lnTo>
                      <a:pt x="94" y="28"/>
                    </a:lnTo>
                    <a:lnTo>
                      <a:pt x="94" y="20"/>
                    </a:lnTo>
                    <a:lnTo>
                      <a:pt x="92" y="11"/>
                    </a:lnTo>
                    <a:lnTo>
                      <a:pt x="91" y="5"/>
                    </a:lnTo>
                    <a:lnTo>
                      <a:pt x="87" y="0"/>
                    </a:lnTo>
                    <a:lnTo>
                      <a:pt x="77" y="2"/>
                    </a:lnTo>
                    <a:lnTo>
                      <a:pt x="69" y="3"/>
                    </a:lnTo>
                    <a:lnTo>
                      <a:pt x="60" y="3"/>
                    </a:lnTo>
                    <a:lnTo>
                      <a:pt x="50" y="3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7" y="2"/>
                    </a:lnTo>
                    <a:lnTo>
                      <a:pt x="18" y="0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12" y="11"/>
                    </a:lnTo>
                    <a:lnTo>
                      <a:pt x="10" y="16"/>
                    </a:lnTo>
                    <a:lnTo>
                      <a:pt x="7" y="20"/>
                    </a:lnTo>
                    <a:lnTo>
                      <a:pt x="5" y="23"/>
                    </a:lnTo>
                    <a:lnTo>
                      <a:pt x="3" y="26"/>
                    </a:lnTo>
                    <a:lnTo>
                      <a:pt x="0" y="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54640" y="2243880"/>
                <a:ext cx="98280" cy="411480"/>
              </a:xfrm>
              <a:custGeom>
                <a:avLst/>
                <a:gdLst/>
                <a:ahLst/>
                <a:rect l="l" t="t" r="r" b="b"/>
                <a:pathLst>
                  <a:path w="64" h="267">
                    <a:moveTo>
                      <a:pt x="40" y="267"/>
                    </a:moveTo>
                    <a:lnTo>
                      <a:pt x="40" y="267"/>
                    </a:lnTo>
                    <a:lnTo>
                      <a:pt x="40" y="266"/>
                    </a:lnTo>
                    <a:lnTo>
                      <a:pt x="39" y="266"/>
                    </a:lnTo>
                    <a:lnTo>
                      <a:pt x="37" y="266"/>
                    </a:lnTo>
                    <a:lnTo>
                      <a:pt x="37" y="264"/>
                    </a:lnTo>
                    <a:lnTo>
                      <a:pt x="35" y="263"/>
                    </a:lnTo>
                    <a:lnTo>
                      <a:pt x="32" y="261"/>
                    </a:lnTo>
                    <a:lnTo>
                      <a:pt x="30" y="259"/>
                    </a:lnTo>
                    <a:lnTo>
                      <a:pt x="32" y="253"/>
                    </a:lnTo>
                    <a:lnTo>
                      <a:pt x="33" y="248"/>
                    </a:lnTo>
                    <a:lnTo>
                      <a:pt x="35" y="241"/>
                    </a:lnTo>
                    <a:lnTo>
                      <a:pt x="39" y="235"/>
                    </a:lnTo>
                    <a:lnTo>
                      <a:pt x="42" y="230"/>
                    </a:lnTo>
                    <a:lnTo>
                      <a:pt x="47" y="225"/>
                    </a:lnTo>
                    <a:lnTo>
                      <a:pt x="54" y="222"/>
                    </a:lnTo>
                    <a:lnTo>
                      <a:pt x="64" y="220"/>
                    </a:lnTo>
                    <a:lnTo>
                      <a:pt x="60" y="209"/>
                    </a:lnTo>
                    <a:lnTo>
                      <a:pt x="57" y="199"/>
                    </a:lnTo>
                    <a:lnTo>
                      <a:pt x="52" y="188"/>
                    </a:lnTo>
                    <a:lnTo>
                      <a:pt x="49" y="177"/>
                    </a:lnTo>
                    <a:lnTo>
                      <a:pt x="44" y="165"/>
                    </a:lnTo>
                    <a:lnTo>
                      <a:pt x="40" y="152"/>
                    </a:lnTo>
                    <a:lnTo>
                      <a:pt x="39" y="141"/>
                    </a:lnTo>
                    <a:lnTo>
                      <a:pt x="37" y="126"/>
                    </a:lnTo>
                    <a:lnTo>
                      <a:pt x="30" y="122"/>
                    </a:lnTo>
                    <a:lnTo>
                      <a:pt x="27" y="114"/>
                    </a:lnTo>
                    <a:lnTo>
                      <a:pt x="23" y="104"/>
                    </a:lnTo>
                    <a:lnTo>
                      <a:pt x="22" y="91"/>
                    </a:lnTo>
                    <a:lnTo>
                      <a:pt x="18" y="78"/>
                    </a:lnTo>
                    <a:lnTo>
                      <a:pt x="13" y="65"/>
                    </a:lnTo>
                    <a:lnTo>
                      <a:pt x="8" y="54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3" y="18"/>
                    </a:lnTo>
                    <a:lnTo>
                      <a:pt x="7" y="13"/>
                    </a:lnTo>
                    <a:lnTo>
                      <a:pt x="10" y="8"/>
                    </a:lnTo>
                    <a:lnTo>
                      <a:pt x="13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5880" y="2485800"/>
                <a:ext cx="72360" cy="11700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47" y="76"/>
                    </a:moveTo>
                    <a:lnTo>
                      <a:pt x="45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2" y="76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39" y="75"/>
                    </a:lnTo>
                    <a:lnTo>
                      <a:pt x="37" y="75"/>
                    </a:lnTo>
                    <a:lnTo>
                      <a:pt x="33" y="65"/>
                    </a:lnTo>
                    <a:lnTo>
                      <a:pt x="30" y="57"/>
                    </a:lnTo>
                    <a:lnTo>
                      <a:pt x="27" y="54"/>
                    </a:lnTo>
                    <a:lnTo>
                      <a:pt x="23" y="50"/>
                    </a:lnTo>
                    <a:lnTo>
                      <a:pt x="18" y="49"/>
                    </a:lnTo>
                    <a:lnTo>
                      <a:pt x="13" y="46"/>
                    </a:lnTo>
                    <a:lnTo>
                      <a:pt x="7" y="42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96160" y="2602800"/>
                <a:ext cx="531720" cy="257760"/>
              </a:xfrm>
              <a:custGeom>
                <a:avLst/>
                <a:gdLst/>
                <a:ahLst/>
                <a:rect l="l" t="t" r="r" b="b"/>
                <a:pathLst>
                  <a:path w="345" h="167">
                    <a:moveTo>
                      <a:pt x="0" y="167"/>
                    </a:moveTo>
                    <a:lnTo>
                      <a:pt x="1" y="161"/>
                    </a:lnTo>
                    <a:lnTo>
                      <a:pt x="3" y="157"/>
                    </a:lnTo>
                    <a:lnTo>
                      <a:pt x="8" y="154"/>
                    </a:lnTo>
                    <a:lnTo>
                      <a:pt x="13" y="151"/>
                    </a:lnTo>
                    <a:lnTo>
                      <a:pt x="18" y="148"/>
                    </a:lnTo>
                    <a:lnTo>
                      <a:pt x="23" y="145"/>
                    </a:lnTo>
                    <a:lnTo>
                      <a:pt x="28" y="138"/>
                    </a:lnTo>
                    <a:lnTo>
                      <a:pt x="32" y="130"/>
                    </a:lnTo>
                    <a:lnTo>
                      <a:pt x="35" y="130"/>
                    </a:lnTo>
                    <a:lnTo>
                      <a:pt x="40" y="130"/>
                    </a:lnTo>
                    <a:lnTo>
                      <a:pt x="44" y="130"/>
                    </a:lnTo>
                    <a:lnTo>
                      <a:pt x="49" y="130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9" y="133"/>
                    </a:lnTo>
                    <a:lnTo>
                      <a:pt x="79" y="135"/>
                    </a:lnTo>
                    <a:lnTo>
                      <a:pt x="87" y="138"/>
                    </a:lnTo>
                    <a:lnTo>
                      <a:pt x="97" y="143"/>
                    </a:lnTo>
                    <a:lnTo>
                      <a:pt x="109" y="148"/>
                    </a:lnTo>
                    <a:lnTo>
                      <a:pt x="123" y="154"/>
                    </a:lnTo>
                    <a:lnTo>
                      <a:pt x="134" y="159"/>
                    </a:lnTo>
                    <a:lnTo>
                      <a:pt x="146" y="162"/>
                    </a:lnTo>
                    <a:lnTo>
                      <a:pt x="155" y="166"/>
                    </a:lnTo>
                    <a:lnTo>
                      <a:pt x="163" y="166"/>
                    </a:lnTo>
                    <a:lnTo>
                      <a:pt x="165" y="159"/>
                    </a:lnTo>
                    <a:lnTo>
                      <a:pt x="165" y="154"/>
                    </a:lnTo>
                    <a:lnTo>
                      <a:pt x="165" y="149"/>
                    </a:lnTo>
                    <a:lnTo>
                      <a:pt x="166" y="145"/>
                    </a:lnTo>
                    <a:lnTo>
                      <a:pt x="168" y="141"/>
                    </a:lnTo>
                    <a:lnTo>
                      <a:pt x="173" y="138"/>
                    </a:lnTo>
                    <a:lnTo>
                      <a:pt x="178" y="136"/>
                    </a:lnTo>
                    <a:lnTo>
                      <a:pt x="188" y="133"/>
                    </a:lnTo>
                    <a:lnTo>
                      <a:pt x="188" y="128"/>
                    </a:lnTo>
                    <a:lnTo>
                      <a:pt x="190" y="123"/>
                    </a:lnTo>
                    <a:lnTo>
                      <a:pt x="190" y="119"/>
                    </a:lnTo>
                    <a:lnTo>
                      <a:pt x="192" y="115"/>
                    </a:lnTo>
                    <a:lnTo>
                      <a:pt x="195" y="110"/>
                    </a:lnTo>
                    <a:lnTo>
                      <a:pt x="198" y="107"/>
                    </a:lnTo>
                    <a:lnTo>
                      <a:pt x="205" y="102"/>
                    </a:lnTo>
                    <a:lnTo>
                      <a:pt x="214" y="99"/>
                    </a:lnTo>
                    <a:lnTo>
                      <a:pt x="214" y="98"/>
                    </a:lnTo>
                    <a:lnTo>
                      <a:pt x="214" y="96"/>
                    </a:lnTo>
                    <a:lnTo>
                      <a:pt x="214" y="94"/>
                    </a:lnTo>
                    <a:lnTo>
                      <a:pt x="214" y="93"/>
                    </a:lnTo>
                    <a:lnTo>
                      <a:pt x="214" y="91"/>
                    </a:lnTo>
                    <a:lnTo>
                      <a:pt x="214" y="89"/>
                    </a:lnTo>
                    <a:lnTo>
                      <a:pt x="214" y="88"/>
                    </a:lnTo>
                    <a:lnTo>
                      <a:pt x="214" y="86"/>
                    </a:lnTo>
                    <a:lnTo>
                      <a:pt x="227" y="85"/>
                    </a:lnTo>
                    <a:lnTo>
                      <a:pt x="242" y="81"/>
                    </a:lnTo>
                    <a:lnTo>
                      <a:pt x="256" y="76"/>
                    </a:lnTo>
                    <a:lnTo>
                      <a:pt x="271" y="70"/>
                    </a:lnTo>
                    <a:lnTo>
                      <a:pt x="286" y="65"/>
                    </a:lnTo>
                    <a:lnTo>
                      <a:pt x="301" y="60"/>
                    </a:lnTo>
                    <a:lnTo>
                      <a:pt x="316" y="57"/>
                    </a:lnTo>
                    <a:lnTo>
                      <a:pt x="331" y="55"/>
                    </a:lnTo>
                    <a:lnTo>
                      <a:pt x="333" y="49"/>
                    </a:lnTo>
                    <a:lnTo>
                      <a:pt x="335" y="42"/>
                    </a:lnTo>
                    <a:lnTo>
                      <a:pt x="337" y="36"/>
                    </a:lnTo>
                    <a:lnTo>
                      <a:pt x="338" y="30"/>
                    </a:lnTo>
                    <a:lnTo>
                      <a:pt x="340" y="21"/>
                    </a:lnTo>
                    <a:lnTo>
                      <a:pt x="342" y="15"/>
                    </a:lnTo>
                    <a:lnTo>
                      <a:pt x="343" y="8"/>
                    </a:lnTo>
                    <a:lnTo>
                      <a:pt x="3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57720" y="2351880"/>
                <a:ext cx="394560" cy="133920"/>
              </a:xfrm>
              <a:custGeom>
                <a:avLst/>
                <a:gdLst/>
                <a:ahLst/>
                <a:rect l="l" t="t" r="r" b="b"/>
                <a:pathLst>
                  <a:path w="256" h="87">
                    <a:moveTo>
                      <a:pt x="256" y="87"/>
                    </a:moveTo>
                    <a:lnTo>
                      <a:pt x="229" y="71"/>
                    </a:lnTo>
                    <a:lnTo>
                      <a:pt x="199" y="55"/>
                    </a:lnTo>
                    <a:lnTo>
                      <a:pt x="167" y="42"/>
                    </a:lnTo>
                    <a:lnTo>
                      <a:pt x="131" y="29"/>
                    </a:lnTo>
                    <a:lnTo>
                      <a:pt x="96" y="19"/>
                    </a:lnTo>
                    <a:lnTo>
                      <a:pt x="62" y="11"/>
                    </a:lnTo>
                    <a:lnTo>
                      <a:pt x="3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52640" y="2171160"/>
                <a:ext cx="349920" cy="357480"/>
              </a:xfrm>
              <a:custGeom>
                <a:avLst/>
                <a:gdLst/>
                <a:ahLst/>
                <a:rect l="l" t="t" r="r" b="b"/>
                <a:pathLst>
                  <a:path w="227" h="232">
                    <a:moveTo>
                      <a:pt x="222" y="0"/>
                    </a:moveTo>
                    <a:lnTo>
                      <a:pt x="227" y="13"/>
                    </a:lnTo>
                    <a:lnTo>
                      <a:pt x="224" y="24"/>
                    </a:lnTo>
                    <a:lnTo>
                      <a:pt x="222" y="36"/>
                    </a:lnTo>
                    <a:lnTo>
                      <a:pt x="219" y="47"/>
                    </a:lnTo>
                    <a:lnTo>
                      <a:pt x="217" y="58"/>
                    </a:lnTo>
                    <a:lnTo>
                      <a:pt x="216" y="70"/>
                    </a:lnTo>
                    <a:lnTo>
                      <a:pt x="214" y="80"/>
                    </a:lnTo>
                    <a:lnTo>
                      <a:pt x="211" y="89"/>
                    </a:lnTo>
                    <a:lnTo>
                      <a:pt x="207" y="99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2" y="99"/>
                    </a:lnTo>
                    <a:lnTo>
                      <a:pt x="200" y="101"/>
                    </a:lnTo>
                    <a:lnTo>
                      <a:pt x="199" y="101"/>
                    </a:lnTo>
                    <a:lnTo>
                      <a:pt x="197" y="101"/>
                    </a:lnTo>
                    <a:lnTo>
                      <a:pt x="195" y="101"/>
                    </a:lnTo>
                    <a:lnTo>
                      <a:pt x="194" y="101"/>
                    </a:lnTo>
                    <a:lnTo>
                      <a:pt x="187" y="114"/>
                    </a:lnTo>
                    <a:lnTo>
                      <a:pt x="182" y="125"/>
                    </a:lnTo>
                    <a:lnTo>
                      <a:pt x="179" y="135"/>
                    </a:lnTo>
                    <a:lnTo>
                      <a:pt x="177" y="141"/>
                    </a:lnTo>
                    <a:lnTo>
                      <a:pt x="172" y="148"/>
                    </a:lnTo>
                    <a:lnTo>
                      <a:pt x="163" y="152"/>
                    </a:lnTo>
                    <a:lnTo>
                      <a:pt x="150" y="157"/>
                    </a:lnTo>
                    <a:lnTo>
                      <a:pt x="128" y="162"/>
                    </a:lnTo>
                    <a:lnTo>
                      <a:pt x="128" y="169"/>
                    </a:lnTo>
                    <a:lnTo>
                      <a:pt x="130" y="177"/>
                    </a:lnTo>
                    <a:lnTo>
                      <a:pt x="130" y="183"/>
                    </a:lnTo>
                    <a:lnTo>
                      <a:pt x="131" y="190"/>
                    </a:lnTo>
                    <a:lnTo>
                      <a:pt x="131" y="196"/>
                    </a:lnTo>
                    <a:lnTo>
                      <a:pt x="133" y="203"/>
                    </a:lnTo>
                    <a:lnTo>
                      <a:pt x="133" y="209"/>
                    </a:lnTo>
                    <a:lnTo>
                      <a:pt x="135" y="216"/>
                    </a:lnTo>
                    <a:lnTo>
                      <a:pt x="130" y="217"/>
                    </a:lnTo>
                    <a:lnTo>
                      <a:pt x="125" y="220"/>
                    </a:lnTo>
                    <a:lnTo>
                      <a:pt x="120" y="222"/>
                    </a:lnTo>
                    <a:lnTo>
                      <a:pt x="116" y="224"/>
                    </a:lnTo>
                    <a:lnTo>
                      <a:pt x="111" y="225"/>
                    </a:lnTo>
                    <a:lnTo>
                      <a:pt x="106" y="227"/>
                    </a:lnTo>
                    <a:lnTo>
                      <a:pt x="103" y="229"/>
                    </a:lnTo>
                    <a:lnTo>
                      <a:pt x="98" y="232"/>
                    </a:lnTo>
                    <a:lnTo>
                      <a:pt x="93" y="227"/>
                    </a:lnTo>
                    <a:lnTo>
                      <a:pt x="88" y="225"/>
                    </a:lnTo>
                    <a:lnTo>
                      <a:pt x="83" y="224"/>
                    </a:lnTo>
                    <a:lnTo>
                      <a:pt x="79" y="224"/>
                    </a:lnTo>
                    <a:lnTo>
                      <a:pt x="76" y="224"/>
                    </a:lnTo>
                    <a:lnTo>
                      <a:pt x="74" y="225"/>
                    </a:lnTo>
                    <a:lnTo>
                      <a:pt x="71" y="229"/>
                    </a:lnTo>
                    <a:lnTo>
                      <a:pt x="67" y="232"/>
                    </a:lnTo>
                    <a:lnTo>
                      <a:pt x="56" y="227"/>
                    </a:lnTo>
                    <a:lnTo>
                      <a:pt x="51" y="222"/>
                    </a:lnTo>
                    <a:lnTo>
                      <a:pt x="46" y="217"/>
                    </a:lnTo>
                    <a:lnTo>
                      <a:pt x="44" y="214"/>
                    </a:lnTo>
                    <a:lnTo>
                      <a:pt x="39" y="211"/>
                    </a:lnTo>
                    <a:lnTo>
                      <a:pt x="32" y="207"/>
                    </a:lnTo>
                    <a:lnTo>
                      <a:pt x="20" y="206"/>
                    </a:lnTo>
                    <a:lnTo>
                      <a:pt x="0" y="20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95000" y="2171160"/>
                <a:ext cx="112320" cy="3528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3" y="23"/>
                    </a:moveTo>
                    <a:lnTo>
                      <a:pt x="63" y="20"/>
                    </a:lnTo>
                    <a:lnTo>
                      <a:pt x="54" y="18"/>
                    </a:lnTo>
                    <a:lnTo>
                      <a:pt x="44" y="16"/>
                    </a:lnTo>
                    <a:lnTo>
                      <a:pt x="34" y="13"/>
                    </a:lnTo>
                    <a:lnTo>
                      <a:pt x="26" y="12"/>
                    </a:lnTo>
                    <a:lnTo>
                      <a:pt x="17" y="8"/>
                    </a:lnTo>
                    <a:lnTo>
                      <a:pt x="9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66440" y="2976120"/>
                <a:ext cx="61560" cy="2160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40" y="14"/>
                    </a:moveTo>
                    <a:lnTo>
                      <a:pt x="35" y="13"/>
                    </a:lnTo>
                    <a:lnTo>
                      <a:pt x="28" y="11"/>
                    </a:lnTo>
                    <a:lnTo>
                      <a:pt x="25" y="9"/>
                    </a:lnTo>
                    <a:lnTo>
                      <a:pt x="20" y="8"/>
                    </a:lnTo>
                    <a:lnTo>
                      <a:pt x="15" y="6"/>
                    </a:lnTo>
                    <a:lnTo>
                      <a:pt x="10" y="5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28360" y="2965680"/>
                <a:ext cx="261720" cy="50400"/>
              </a:xfrm>
              <a:custGeom>
                <a:avLst/>
                <a:gdLst/>
                <a:ahLst/>
                <a:rect l="l" t="t" r="r" b="b"/>
                <a:pathLst>
                  <a:path w="170" h="33">
                    <a:moveTo>
                      <a:pt x="170" y="0"/>
                    </a:moveTo>
                    <a:lnTo>
                      <a:pt x="160" y="2"/>
                    </a:lnTo>
                    <a:lnTo>
                      <a:pt x="151" y="5"/>
                    </a:lnTo>
                    <a:lnTo>
                      <a:pt x="145" y="8"/>
                    </a:lnTo>
                    <a:lnTo>
                      <a:pt x="136" y="13"/>
                    </a:lnTo>
                    <a:lnTo>
                      <a:pt x="130" y="18"/>
                    </a:lnTo>
                    <a:lnTo>
                      <a:pt x="125" y="24"/>
                    </a:lnTo>
                    <a:lnTo>
                      <a:pt x="119" y="29"/>
                    </a:lnTo>
                    <a:lnTo>
                      <a:pt x="113" y="33"/>
                    </a:lnTo>
                    <a:lnTo>
                      <a:pt x="103" y="28"/>
                    </a:lnTo>
                    <a:lnTo>
                      <a:pt x="89" y="24"/>
                    </a:lnTo>
                    <a:lnTo>
                      <a:pt x="72" y="23"/>
                    </a:lnTo>
                    <a:lnTo>
                      <a:pt x="54" y="21"/>
                    </a:lnTo>
                    <a:lnTo>
                      <a:pt x="37" y="21"/>
                    </a:lnTo>
                    <a:lnTo>
                      <a:pt x="20" y="21"/>
                    </a:lnTo>
                    <a:lnTo>
                      <a:pt x="8" y="21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85240" y="2243880"/>
                <a:ext cx="345240" cy="397800"/>
              </a:xfrm>
              <a:custGeom>
                <a:avLst/>
                <a:gdLst/>
                <a:ahLst/>
                <a:rect l="l" t="t" r="r" b="b"/>
                <a:pathLst>
                  <a:path w="224" h="258">
                    <a:moveTo>
                      <a:pt x="187" y="258"/>
                    </a:moveTo>
                    <a:lnTo>
                      <a:pt x="200" y="253"/>
                    </a:lnTo>
                    <a:lnTo>
                      <a:pt x="210" y="245"/>
                    </a:lnTo>
                    <a:lnTo>
                      <a:pt x="216" y="237"/>
                    </a:lnTo>
                    <a:lnTo>
                      <a:pt x="217" y="227"/>
                    </a:lnTo>
                    <a:lnTo>
                      <a:pt x="219" y="216"/>
                    </a:lnTo>
                    <a:lnTo>
                      <a:pt x="219" y="203"/>
                    </a:lnTo>
                    <a:lnTo>
                      <a:pt x="221" y="188"/>
                    </a:lnTo>
                    <a:lnTo>
                      <a:pt x="224" y="172"/>
                    </a:lnTo>
                    <a:lnTo>
                      <a:pt x="216" y="165"/>
                    </a:lnTo>
                    <a:lnTo>
                      <a:pt x="207" y="159"/>
                    </a:lnTo>
                    <a:lnTo>
                      <a:pt x="199" y="154"/>
                    </a:lnTo>
                    <a:lnTo>
                      <a:pt x="192" y="148"/>
                    </a:lnTo>
                    <a:lnTo>
                      <a:pt x="184" y="141"/>
                    </a:lnTo>
                    <a:lnTo>
                      <a:pt x="175" y="135"/>
                    </a:lnTo>
                    <a:lnTo>
                      <a:pt x="168" y="128"/>
                    </a:lnTo>
                    <a:lnTo>
                      <a:pt x="160" y="122"/>
                    </a:lnTo>
                    <a:lnTo>
                      <a:pt x="160" y="118"/>
                    </a:lnTo>
                    <a:lnTo>
                      <a:pt x="160" y="115"/>
                    </a:lnTo>
                    <a:lnTo>
                      <a:pt x="158" y="112"/>
                    </a:lnTo>
                    <a:lnTo>
                      <a:pt x="158" y="107"/>
                    </a:lnTo>
                    <a:lnTo>
                      <a:pt x="158" y="104"/>
                    </a:lnTo>
                    <a:lnTo>
                      <a:pt x="158" y="101"/>
                    </a:lnTo>
                    <a:lnTo>
                      <a:pt x="157" y="97"/>
                    </a:lnTo>
                    <a:lnTo>
                      <a:pt x="157" y="92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16200" y="2633760"/>
                <a:ext cx="252720" cy="27720"/>
              </a:xfrm>
              <a:custGeom>
                <a:avLst/>
                <a:gdLst/>
                <a:ahLst/>
                <a:rect l="l" t="t" r="r" b="b"/>
                <a:pathLst>
                  <a:path w="164" h="18">
                    <a:moveTo>
                      <a:pt x="0" y="14"/>
                    </a:moveTo>
                    <a:lnTo>
                      <a:pt x="7" y="14"/>
                    </a:lnTo>
                    <a:lnTo>
                      <a:pt x="15" y="14"/>
                    </a:lnTo>
                    <a:lnTo>
                      <a:pt x="22" y="14"/>
                    </a:lnTo>
                    <a:lnTo>
                      <a:pt x="29" y="13"/>
                    </a:lnTo>
                    <a:lnTo>
                      <a:pt x="37" y="11"/>
                    </a:lnTo>
                    <a:lnTo>
                      <a:pt x="44" y="11"/>
                    </a:lnTo>
                    <a:lnTo>
                      <a:pt x="51" y="10"/>
                    </a:lnTo>
                    <a:lnTo>
                      <a:pt x="57" y="8"/>
                    </a:lnTo>
                    <a:lnTo>
                      <a:pt x="59" y="10"/>
                    </a:lnTo>
                    <a:lnTo>
                      <a:pt x="61" y="11"/>
                    </a:lnTo>
                    <a:lnTo>
                      <a:pt x="62" y="11"/>
                    </a:lnTo>
                    <a:lnTo>
                      <a:pt x="64" y="13"/>
                    </a:lnTo>
                    <a:lnTo>
                      <a:pt x="68" y="14"/>
                    </a:lnTo>
                    <a:lnTo>
                      <a:pt x="69" y="16"/>
                    </a:lnTo>
                    <a:lnTo>
                      <a:pt x="71" y="16"/>
                    </a:lnTo>
                    <a:lnTo>
                      <a:pt x="73" y="18"/>
                    </a:lnTo>
                    <a:lnTo>
                      <a:pt x="79" y="14"/>
                    </a:lnTo>
                    <a:lnTo>
                      <a:pt x="91" y="11"/>
                    </a:lnTo>
                    <a:lnTo>
                      <a:pt x="103" y="8"/>
                    </a:lnTo>
                    <a:lnTo>
                      <a:pt x="118" y="5"/>
                    </a:lnTo>
                    <a:lnTo>
                      <a:pt x="132" y="1"/>
                    </a:lnTo>
                    <a:lnTo>
                      <a:pt x="145" y="0"/>
                    </a:lnTo>
                    <a:lnTo>
                      <a:pt x="155" y="0"/>
                    </a:lnTo>
                    <a:lnTo>
                      <a:pt x="164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68920" y="26384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03080" y="2655360"/>
                <a:ext cx="216000" cy="124560"/>
              </a:xfrm>
              <a:custGeom>
                <a:avLst/>
                <a:gdLst/>
                <a:ahLst/>
                <a:rect l="l" t="t" r="r" b="b"/>
                <a:pathLst>
                  <a:path w="140" h="81">
                    <a:moveTo>
                      <a:pt x="0" y="81"/>
                    </a:moveTo>
                    <a:lnTo>
                      <a:pt x="2" y="81"/>
                    </a:lnTo>
                    <a:lnTo>
                      <a:pt x="3" y="80"/>
                    </a:lnTo>
                    <a:lnTo>
                      <a:pt x="5" y="80"/>
                    </a:lnTo>
                    <a:lnTo>
                      <a:pt x="7" y="80"/>
                    </a:lnTo>
                    <a:lnTo>
                      <a:pt x="9" y="80"/>
                    </a:lnTo>
                    <a:lnTo>
                      <a:pt x="10" y="78"/>
                    </a:lnTo>
                    <a:lnTo>
                      <a:pt x="14" y="78"/>
                    </a:lnTo>
                    <a:lnTo>
                      <a:pt x="15" y="78"/>
                    </a:lnTo>
                    <a:lnTo>
                      <a:pt x="25" y="6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2"/>
                    </a:lnTo>
                    <a:lnTo>
                      <a:pt x="84" y="34"/>
                    </a:lnTo>
                    <a:lnTo>
                      <a:pt x="101" y="30"/>
                    </a:lnTo>
                    <a:lnTo>
                      <a:pt x="120" y="25"/>
                    </a:lnTo>
                    <a:lnTo>
                      <a:pt x="138" y="20"/>
                    </a:lnTo>
                    <a:lnTo>
                      <a:pt x="138" y="15"/>
                    </a:lnTo>
                    <a:lnTo>
                      <a:pt x="138" y="10"/>
                    </a:lnTo>
                    <a:lnTo>
                      <a:pt x="138" y="7"/>
                    </a:lnTo>
                    <a:lnTo>
                      <a:pt x="140" y="5"/>
                    </a:lnTo>
                    <a:lnTo>
                      <a:pt x="140" y="4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300120" y="2736000"/>
                <a:ext cx="102960" cy="44280"/>
              </a:xfrm>
              <a:custGeom>
                <a:avLst/>
                <a:gdLst/>
                <a:ahLst/>
                <a:rect l="l" t="t" r="r" b="b"/>
                <a:pathLst>
                  <a:path w="67" h="29">
                    <a:moveTo>
                      <a:pt x="0" y="0"/>
                    </a:moveTo>
                    <a:lnTo>
                      <a:pt x="3" y="2"/>
                    </a:lnTo>
                    <a:lnTo>
                      <a:pt x="6" y="5"/>
                    </a:lnTo>
                    <a:lnTo>
                      <a:pt x="10" y="7"/>
                    </a:lnTo>
                    <a:lnTo>
                      <a:pt x="15" y="10"/>
                    </a:lnTo>
                    <a:lnTo>
                      <a:pt x="18" y="12"/>
                    </a:lnTo>
                    <a:lnTo>
                      <a:pt x="23" y="13"/>
                    </a:lnTo>
                    <a:lnTo>
                      <a:pt x="28" y="13"/>
                    </a:lnTo>
                    <a:lnTo>
                      <a:pt x="35" y="15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40" y="5"/>
                    </a:lnTo>
                    <a:lnTo>
                      <a:pt x="44" y="7"/>
                    </a:lnTo>
                    <a:lnTo>
                      <a:pt x="49" y="10"/>
                    </a:lnTo>
                    <a:lnTo>
                      <a:pt x="52" y="15"/>
                    </a:lnTo>
                    <a:lnTo>
                      <a:pt x="57" y="20"/>
                    </a:lnTo>
                    <a:lnTo>
                      <a:pt x="60" y="23"/>
                    </a:lnTo>
                    <a:lnTo>
                      <a:pt x="64" y="26"/>
                    </a:lnTo>
                    <a:lnTo>
                      <a:pt x="67" y="2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89080" y="2763360"/>
                <a:ext cx="231480" cy="52200"/>
              </a:xfrm>
              <a:custGeom>
                <a:avLst/>
                <a:gdLst/>
                <a:ahLst/>
                <a:rect l="l" t="t" r="r" b="b"/>
                <a:pathLst>
                  <a:path w="150" h="34">
                    <a:moveTo>
                      <a:pt x="150" y="8"/>
                    </a:move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5"/>
                    </a:lnTo>
                    <a:lnTo>
                      <a:pt x="141" y="3"/>
                    </a:lnTo>
                    <a:lnTo>
                      <a:pt x="140" y="2"/>
                    </a:lnTo>
                    <a:lnTo>
                      <a:pt x="136" y="2"/>
                    </a:lnTo>
                    <a:lnTo>
                      <a:pt x="135" y="0"/>
                    </a:lnTo>
                    <a:lnTo>
                      <a:pt x="120" y="2"/>
                    </a:lnTo>
                    <a:lnTo>
                      <a:pt x="104" y="5"/>
                    </a:lnTo>
                    <a:lnTo>
                      <a:pt x="89" y="8"/>
                    </a:lnTo>
                    <a:lnTo>
                      <a:pt x="74" y="11"/>
                    </a:lnTo>
                    <a:lnTo>
                      <a:pt x="59" y="15"/>
                    </a:lnTo>
                    <a:lnTo>
                      <a:pt x="44" y="18"/>
                    </a:lnTo>
                    <a:lnTo>
                      <a:pt x="30" y="19"/>
                    </a:lnTo>
                    <a:lnTo>
                      <a:pt x="17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3" y="31"/>
                    </a:lnTo>
                    <a:lnTo>
                      <a:pt x="12" y="32"/>
                    </a:lnTo>
                    <a:lnTo>
                      <a:pt x="12" y="34"/>
                    </a:lnTo>
                    <a:lnTo>
                      <a:pt x="10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0" y="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21920" y="2299320"/>
                <a:ext cx="163080" cy="476280"/>
              </a:xfrm>
              <a:custGeom>
                <a:avLst/>
                <a:gdLst/>
                <a:ahLst/>
                <a:rect l="l" t="t" r="r" b="b"/>
                <a:pathLst>
                  <a:path w="106" h="309">
                    <a:moveTo>
                      <a:pt x="106" y="0"/>
                    </a:moveTo>
                    <a:lnTo>
                      <a:pt x="103" y="5"/>
                    </a:lnTo>
                    <a:lnTo>
                      <a:pt x="101" y="10"/>
                    </a:lnTo>
                    <a:lnTo>
                      <a:pt x="99" y="14"/>
                    </a:lnTo>
                    <a:lnTo>
                      <a:pt x="99" y="19"/>
                    </a:lnTo>
                    <a:lnTo>
                      <a:pt x="99" y="26"/>
                    </a:lnTo>
                    <a:lnTo>
                      <a:pt x="101" y="31"/>
                    </a:lnTo>
                    <a:lnTo>
                      <a:pt x="101" y="35"/>
                    </a:lnTo>
                    <a:lnTo>
                      <a:pt x="101" y="42"/>
                    </a:lnTo>
                    <a:lnTo>
                      <a:pt x="98" y="40"/>
                    </a:lnTo>
                    <a:lnTo>
                      <a:pt x="94" y="39"/>
                    </a:lnTo>
                    <a:lnTo>
                      <a:pt x="91" y="34"/>
                    </a:lnTo>
                    <a:lnTo>
                      <a:pt x="89" y="31"/>
                    </a:lnTo>
                    <a:lnTo>
                      <a:pt x="87" y="26"/>
                    </a:lnTo>
                    <a:lnTo>
                      <a:pt x="87" y="21"/>
                    </a:lnTo>
                    <a:lnTo>
                      <a:pt x="87" y="16"/>
                    </a:lnTo>
                    <a:lnTo>
                      <a:pt x="86" y="11"/>
                    </a:lnTo>
                    <a:lnTo>
                      <a:pt x="74" y="16"/>
                    </a:lnTo>
                    <a:lnTo>
                      <a:pt x="64" y="21"/>
                    </a:lnTo>
                    <a:lnTo>
                      <a:pt x="55" y="26"/>
                    </a:lnTo>
                    <a:lnTo>
                      <a:pt x="49" y="32"/>
                    </a:lnTo>
                    <a:lnTo>
                      <a:pt x="44" y="40"/>
                    </a:lnTo>
                    <a:lnTo>
                      <a:pt x="39" y="48"/>
                    </a:lnTo>
                    <a:lnTo>
                      <a:pt x="35" y="56"/>
                    </a:lnTo>
                    <a:lnTo>
                      <a:pt x="32" y="66"/>
                    </a:lnTo>
                    <a:lnTo>
                      <a:pt x="29" y="86"/>
                    </a:lnTo>
                    <a:lnTo>
                      <a:pt x="27" y="103"/>
                    </a:lnTo>
                    <a:lnTo>
                      <a:pt x="29" y="121"/>
                    </a:lnTo>
                    <a:lnTo>
                      <a:pt x="29" y="137"/>
                    </a:lnTo>
                    <a:lnTo>
                      <a:pt x="25" y="142"/>
                    </a:lnTo>
                    <a:lnTo>
                      <a:pt x="20" y="147"/>
                    </a:lnTo>
                    <a:lnTo>
                      <a:pt x="17" y="150"/>
                    </a:lnTo>
                    <a:lnTo>
                      <a:pt x="12" y="154"/>
                    </a:lnTo>
                    <a:lnTo>
                      <a:pt x="8" y="157"/>
                    </a:lnTo>
                    <a:lnTo>
                      <a:pt x="5" y="158"/>
                    </a:lnTo>
                    <a:lnTo>
                      <a:pt x="3" y="160"/>
                    </a:lnTo>
                    <a:lnTo>
                      <a:pt x="0" y="160"/>
                    </a:lnTo>
                    <a:lnTo>
                      <a:pt x="0" y="162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5" y="168"/>
                    </a:lnTo>
                    <a:lnTo>
                      <a:pt x="8" y="168"/>
                    </a:lnTo>
                    <a:lnTo>
                      <a:pt x="13" y="168"/>
                    </a:lnTo>
                    <a:lnTo>
                      <a:pt x="18" y="168"/>
                    </a:lnTo>
                    <a:lnTo>
                      <a:pt x="22" y="168"/>
                    </a:lnTo>
                    <a:lnTo>
                      <a:pt x="27" y="168"/>
                    </a:lnTo>
                    <a:lnTo>
                      <a:pt x="32" y="168"/>
                    </a:lnTo>
                    <a:lnTo>
                      <a:pt x="35" y="168"/>
                    </a:lnTo>
                    <a:lnTo>
                      <a:pt x="40" y="176"/>
                    </a:lnTo>
                    <a:lnTo>
                      <a:pt x="42" y="183"/>
                    </a:lnTo>
                    <a:lnTo>
                      <a:pt x="44" y="191"/>
                    </a:lnTo>
                    <a:lnTo>
                      <a:pt x="44" y="197"/>
                    </a:lnTo>
                    <a:lnTo>
                      <a:pt x="44" y="212"/>
                    </a:lnTo>
                    <a:lnTo>
                      <a:pt x="42" y="225"/>
                    </a:lnTo>
                    <a:lnTo>
                      <a:pt x="42" y="231"/>
                    </a:lnTo>
                    <a:lnTo>
                      <a:pt x="42" y="236"/>
                    </a:lnTo>
                    <a:lnTo>
                      <a:pt x="44" y="243"/>
                    </a:lnTo>
                    <a:lnTo>
                      <a:pt x="47" y="248"/>
                    </a:lnTo>
                    <a:lnTo>
                      <a:pt x="50" y="251"/>
                    </a:lnTo>
                    <a:lnTo>
                      <a:pt x="55" y="256"/>
                    </a:lnTo>
                    <a:lnTo>
                      <a:pt x="62" y="259"/>
                    </a:lnTo>
                    <a:lnTo>
                      <a:pt x="72" y="262"/>
                    </a:lnTo>
                    <a:lnTo>
                      <a:pt x="71" y="269"/>
                    </a:lnTo>
                    <a:lnTo>
                      <a:pt x="71" y="275"/>
                    </a:lnTo>
                    <a:lnTo>
                      <a:pt x="69" y="282"/>
                    </a:lnTo>
                    <a:lnTo>
                      <a:pt x="69" y="288"/>
                    </a:lnTo>
                    <a:lnTo>
                      <a:pt x="67" y="295"/>
                    </a:lnTo>
                    <a:lnTo>
                      <a:pt x="66" y="301"/>
                    </a:lnTo>
                    <a:lnTo>
                      <a:pt x="64" y="306"/>
                    </a:lnTo>
                    <a:lnTo>
                      <a:pt x="64" y="30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85000" y="2274480"/>
                <a:ext cx="181800" cy="380880"/>
              </a:xfrm>
              <a:custGeom>
                <a:avLst/>
                <a:gdLst/>
                <a:ahLst/>
                <a:rect l="l" t="t" r="r" b="b"/>
                <a:pathLst>
                  <a:path w="118" h="247">
                    <a:moveTo>
                      <a:pt x="118" y="247"/>
                    </a:moveTo>
                    <a:lnTo>
                      <a:pt x="111" y="241"/>
                    </a:lnTo>
                    <a:lnTo>
                      <a:pt x="106" y="234"/>
                    </a:lnTo>
                    <a:lnTo>
                      <a:pt x="104" y="228"/>
                    </a:lnTo>
                    <a:lnTo>
                      <a:pt x="103" y="221"/>
                    </a:lnTo>
                    <a:lnTo>
                      <a:pt x="101" y="215"/>
                    </a:lnTo>
                    <a:lnTo>
                      <a:pt x="101" y="209"/>
                    </a:lnTo>
                    <a:lnTo>
                      <a:pt x="99" y="200"/>
                    </a:lnTo>
                    <a:lnTo>
                      <a:pt x="99" y="192"/>
                    </a:lnTo>
                    <a:lnTo>
                      <a:pt x="94" y="187"/>
                    </a:lnTo>
                    <a:lnTo>
                      <a:pt x="89" y="183"/>
                    </a:lnTo>
                    <a:lnTo>
                      <a:pt x="84" y="179"/>
                    </a:lnTo>
                    <a:lnTo>
                      <a:pt x="79" y="174"/>
                    </a:lnTo>
                    <a:lnTo>
                      <a:pt x="74" y="171"/>
                    </a:lnTo>
                    <a:lnTo>
                      <a:pt x="71" y="166"/>
                    </a:lnTo>
                    <a:lnTo>
                      <a:pt x="66" y="163"/>
                    </a:lnTo>
                    <a:lnTo>
                      <a:pt x="64" y="158"/>
                    </a:lnTo>
                    <a:lnTo>
                      <a:pt x="67" y="147"/>
                    </a:lnTo>
                    <a:lnTo>
                      <a:pt x="71" y="131"/>
                    </a:lnTo>
                    <a:lnTo>
                      <a:pt x="76" y="108"/>
                    </a:lnTo>
                    <a:lnTo>
                      <a:pt x="79" y="82"/>
                    </a:lnTo>
                    <a:lnTo>
                      <a:pt x="82" y="58"/>
                    </a:lnTo>
                    <a:lnTo>
                      <a:pt x="82" y="34"/>
                    </a:lnTo>
                    <a:lnTo>
                      <a:pt x="82" y="24"/>
                    </a:lnTo>
                    <a:lnTo>
                      <a:pt x="82" y="14"/>
                    </a:lnTo>
                    <a:lnTo>
                      <a:pt x="81" y="8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2" y="3"/>
                    </a:lnTo>
                    <a:lnTo>
                      <a:pt x="71" y="1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9" y="1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50" y="0"/>
                    </a:lnTo>
                    <a:lnTo>
                      <a:pt x="39" y="13"/>
                    </a:lnTo>
                    <a:lnTo>
                      <a:pt x="32" y="19"/>
                    </a:lnTo>
                    <a:lnTo>
                      <a:pt x="25" y="22"/>
                    </a:lnTo>
                    <a:lnTo>
                      <a:pt x="22" y="22"/>
                    </a:lnTo>
                    <a:lnTo>
                      <a:pt x="17" y="21"/>
                    </a:lnTo>
                    <a:lnTo>
                      <a:pt x="13" y="17"/>
                    </a:lnTo>
                    <a:lnTo>
                      <a:pt x="7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3480" y="2655360"/>
                <a:ext cx="24480" cy="131040"/>
              </a:xfrm>
              <a:custGeom>
                <a:avLst/>
                <a:gdLst/>
                <a:ahLst/>
                <a:rect l="l" t="t" r="r" b="b"/>
                <a:pathLst>
                  <a:path w="16" h="85">
                    <a:moveTo>
                      <a:pt x="14" y="85"/>
                    </a:moveTo>
                    <a:lnTo>
                      <a:pt x="16" y="76"/>
                    </a:lnTo>
                    <a:lnTo>
                      <a:pt x="12" y="68"/>
                    </a:lnTo>
                    <a:lnTo>
                      <a:pt x="9" y="60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20560" y="2778840"/>
                <a:ext cx="254520" cy="16920"/>
              </a:xfrm>
              <a:custGeom>
                <a:avLst/>
                <a:gdLst/>
                <a:ahLst/>
                <a:rect l="l" t="t" r="r" b="b"/>
                <a:pathLst>
                  <a:path w="165" h="11">
                    <a:moveTo>
                      <a:pt x="0" y="0"/>
                    </a:moveTo>
                    <a:lnTo>
                      <a:pt x="20" y="6"/>
                    </a:lnTo>
                    <a:lnTo>
                      <a:pt x="40" y="9"/>
                    </a:lnTo>
                    <a:lnTo>
                      <a:pt x="60" y="11"/>
                    </a:lnTo>
                    <a:lnTo>
                      <a:pt x="81" y="11"/>
                    </a:lnTo>
                    <a:lnTo>
                      <a:pt x="101" y="9"/>
                    </a:lnTo>
                    <a:lnTo>
                      <a:pt x="123" y="8"/>
                    </a:lnTo>
                    <a:lnTo>
                      <a:pt x="143" y="6"/>
                    </a:lnTo>
                    <a:lnTo>
                      <a:pt x="165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09040" y="1859760"/>
                <a:ext cx="1036080" cy="144720"/>
              </a:xfrm>
              <a:custGeom>
                <a:avLst/>
                <a:gdLst/>
                <a:ahLst/>
                <a:rect l="l" t="t" r="r" b="b"/>
                <a:pathLst>
                  <a:path w="672" h="94">
                    <a:moveTo>
                      <a:pt x="672" y="87"/>
                    </a:moveTo>
                    <a:lnTo>
                      <a:pt x="668" y="87"/>
                    </a:lnTo>
                    <a:lnTo>
                      <a:pt x="655" y="92"/>
                    </a:lnTo>
                    <a:lnTo>
                      <a:pt x="641" y="94"/>
                    </a:lnTo>
                    <a:lnTo>
                      <a:pt x="630" y="94"/>
                    </a:lnTo>
                    <a:lnTo>
                      <a:pt x="616" y="94"/>
                    </a:lnTo>
                    <a:lnTo>
                      <a:pt x="603" y="94"/>
                    </a:lnTo>
                    <a:lnTo>
                      <a:pt x="591" y="92"/>
                    </a:lnTo>
                    <a:lnTo>
                      <a:pt x="577" y="90"/>
                    </a:lnTo>
                    <a:lnTo>
                      <a:pt x="562" y="89"/>
                    </a:lnTo>
                    <a:lnTo>
                      <a:pt x="556" y="81"/>
                    </a:lnTo>
                    <a:lnTo>
                      <a:pt x="545" y="76"/>
                    </a:lnTo>
                    <a:lnTo>
                      <a:pt x="535" y="71"/>
                    </a:lnTo>
                    <a:lnTo>
                      <a:pt x="525" y="66"/>
                    </a:lnTo>
                    <a:lnTo>
                      <a:pt x="502" y="63"/>
                    </a:lnTo>
                    <a:lnTo>
                      <a:pt x="478" y="61"/>
                    </a:lnTo>
                    <a:lnTo>
                      <a:pt x="454" y="61"/>
                    </a:lnTo>
                    <a:lnTo>
                      <a:pt x="433" y="65"/>
                    </a:lnTo>
                    <a:lnTo>
                      <a:pt x="411" y="68"/>
                    </a:lnTo>
                    <a:lnTo>
                      <a:pt x="392" y="71"/>
                    </a:lnTo>
                    <a:lnTo>
                      <a:pt x="379" y="65"/>
                    </a:lnTo>
                    <a:lnTo>
                      <a:pt x="362" y="56"/>
                    </a:lnTo>
                    <a:lnTo>
                      <a:pt x="343" y="50"/>
                    </a:lnTo>
                    <a:lnTo>
                      <a:pt x="323" y="43"/>
                    </a:lnTo>
                    <a:lnTo>
                      <a:pt x="303" y="39"/>
                    </a:lnTo>
                    <a:lnTo>
                      <a:pt x="284" y="34"/>
                    </a:lnTo>
                    <a:lnTo>
                      <a:pt x="268" y="32"/>
                    </a:lnTo>
                    <a:lnTo>
                      <a:pt x="252" y="32"/>
                    </a:lnTo>
                    <a:lnTo>
                      <a:pt x="247" y="35"/>
                    </a:lnTo>
                    <a:lnTo>
                      <a:pt x="241" y="37"/>
                    </a:lnTo>
                    <a:lnTo>
                      <a:pt x="234" y="37"/>
                    </a:lnTo>
                    <a:lnTo>
                      <a:pt x="229" y="37"/>
                    </a:lnTo>
                    <a:lnTo>
                      <a:pt x="217" y="34"/>
                    </a:lnTo>
                    <a:lnTo>
                      <a:pt x="207" y="29"/>
                    </a:lnTo>
                    <a:lnTo>
                      <a:pt x="197" y="21"/>
                    </a:lnTo>
                    <a:lnTo>
                      <a:pt x="187" y="14"/>
                    </a:lnTo>
                    <a:lnTo>
                      <a:pt x="178" y="6"/>
                    </a:lnTo>
                    <a:lnTo>
                      <a:pt x="170" y="0"/>
                    </a:lnTo>
                    <a:lnTo>
                      <a:pt x="148" y="0"/>
                    </a:lnTo>
                    <a:lnTo>
                      <a:pt x="124" y="0"/>
                    </a:lnTo>
                    <a:lnTo>
                      <a:pt x="103" y="0"/>
                    </a:lnTo>
                    <a:lnTo>
                      <a:pt x="79" y="1"/>
                    </a:lnTo>
                    <a:lnTo>
                      <a:pt x="57" y="3"/>
                    </a:lnTo>
                    <a:lnTo>
                      <a:pt x="37" y="5"/>
                    </a:lnTo>
                    <a:lnTo>
                      <a:pt x="17" y="8"/>
                    </a:lnTo>
                    <a:lnTo>
                      <a:pt x="0" y="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37560" y="1993680"/>
                <a:ext cx="35280" cy="129600"/>
              </a:xfrm>
              <a:custGeom>
                <a:avLst/>
                <a:gdLst/>
                <a:ahLst/>
                <a:rect l="l" t="t" r="r" b="b"/>
                <a:pathLst>
                  <a:path w="23" h="84">
                    <a:moveTo>
                      <a:pt x="23" y="84"/>
                    </a:moveTo>
                    <a:lnTo>
                      <a:pt x="20" y="81"/>
                    </a:lnTo>
                    <a:lnTo>
                      <a:pt x="16" y="80"/>
                    </a:lnTo>
                    <a:lnTo>
                      <a:pt x="13" y="76"/>
                    </a:lnTo>
                    <a:lnTo>
                      <a:pt x="10" y="73"/>
                    </a:lnTo>
                    <a:lnTo>
                      <a:pt x="8" y="71"/>
                    </a:lnTo>
                    <a:lnTo>
                      <a:pt x="5" y="68"/>
                    </a:lnTo>
                    <a:lnTo>
                      <a:pt x="1" y="65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1"/>
                    </a:lnTo>
                    <a:lnTo>
                      <a:pt x="3" y="23"/>
                    </a:lnTo>
                    <a:lnTo>
                      <a:pt x="3" y="16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85000" y="2123280"/>
                <a:ext cx="87480" cy="17568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0" y="114"/>
                    </a:moveTo>
                    <a:lnTo>
                      <a:pt x="0" y="114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2"/>
                    </a:lnTo>
                    <a:lnTo>
                      <a:pt x="2" y="112"/>
                    </a:lnTo>
                    <a:lnTo>
                      <a:pt x="2" y="112"/>
                    </a:lnTo>
                    <a:lnTo>
                      <a:pt x="2" y="112"/>
                    </a:lnTo>
                    <a:lnTo>
                      <a:pt x="2" y="111"/>
                    </a:lnTo>
                    <a:lnTo>
                      <a:pt x="5" y="93"/>
                    </a:lnTo>
                    <a:lnTo>
                      <a:pt x="10" y="78"/>
                    </a:lnTo>
                    <a:lnTo>
                      <a:pt x="15" y="67"/>
                    </a:lnTo>
                    <a:lnTo>
                      <a:pt x="22" y="57"/>
                    </a:lnTo>
                    <a:lnTo>
                      <a:pt x="29" y="47"/>
                    </a:lnTo>
                    <a:lnTo>
                      <a:pt x="37" y="36"/>
                    </a:lnTo>
                    <a:lnTo>
                      <a:pt x="45" y="21"/>
                    </a:lnTo>
                    <a:lnTo>
                      <a:pt x="56" y="4"/>
                    </a:lnTo>
                    <a:lnTo>
                      <a:pt x="5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26880" y="3812400"/>
                <a:ext cx="171000" cy="204840"/>
              </a:xfrm>
              <a:custGeom>
                <a:avLst/>
                <a:gdLst/>
                <a:ahLst/>
                <a:rect l="l" t="t" r="r" b="b"/>
                <a:pathLst>
                  <a:path w="111" h="133">
                    <a:moveTo>
                      <a:pt x="111" y="133"/>
                    </a:moveTo>
                    <a:lnTo>
                      <a:pt x="106" y="128"/>
                    </a:lnTo>
                    <a:lnTo>
                      <a:pt x="99" y="123"/>
                    </a:lnTo>
                    <a:lnTo>
                      <a:pt x="94" y="118"/>
                    </a:lnTo>
                    <a:lnTo>
                      <a:pt x="89" y="112"/>
                    </a:lnTo>
                    <a:lnTo>
                      <a:pt x="86" y="105"/>
                    </a:lnTo>
                    <a:lnTo>
                      <a:pt x="84" y="99"/>
                    </a:lnTo>
                    <a:lnTo>
                      <a:pt x="82" y="91"/>
                    </a:lnTo>
                    <a:lnTo>
                      <a:pt x="81" y="81"/>
                    </a:lnTo>
                    <a:lnTo>
                      <a:pt x="74" y="78"/>
                    </a:lnTo>
                    <a:lnTo>
                      <a:pt x="69" y="75"/>
                    </a:lnTo>
                    <a:lnTo>
                      <a:pt x="66" y="71"/>
                    </a:lnTo>
                    <a:lnTo>
                      <a:pt x="66" y="68"/>
                    </a:lnTo>
                    <a:lnTo>
                      <a:pt x="66" y="63"/>
                    </a:lnTo>
                    <a:lnTo>
                      <a:pt x="66" y="57"/>
                    </a:lnTo>
                    <a:lnTo>
                      <a:pt x="67" y="49"/>
                    </a:lnTo>
                    <a:lnTo>
                      <a:pt x="67" y="39"/>
                    </a:lnTo>
                    <a:lnTo>
                      <a:pt x="61" y="41"/>
                    </a:lnTo>
                    <a:lnTo>
                      <a:pt x="55" y="41"/>
                    </a:lnTo>
                    <a:lnTo>
                      <a:pt x="52" y="42"/>
                    </a:lnTo>
                    <a:lnTo>
                      <a:pt x="50" y="44"/>
                    </a:lnTo>
                    <a:lnTo>
                      <a:pt x="49" y="46"/>
                    </a:lnTo>
                    <a:lnTo>
                      <a:pt x="47" y="47"/>
                    </a:lnTo>
                    <a:lnTo>
                      <a:pt x="45" y="49"/>
                    </a:lnTo>
                    <a:lnTo>
                      <a:pt x="45" y="50"/>
                    </a:lnTo>
                    <a:lnTo>
                      <a:pt x="37" y="49"/>
                    </a:lnTo>
                    <a:lnTo>
                      <a:pt x="30" y="46"/>
                    </a:lnTo>
                    <a:lnTo>
                      <a:pt x="23" y="41"/>
                    </a:lnTo>
                    <a:lnTo>
                      <a:pt x="18" y="34"/>
                    </a:lnTo>
                    <a:lnTo>
                      <a:pt x="13" y="26"/>
                    </a:lnTo>
                    <a:lnTo>
                      <a:pt x="8" y="1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97880" y="4017600"/>
                <a:ext cx="251280" cy="136800"/>
              </a:xfrm>
              <a:custGeom>
                <a:avLst/>
                <a:gdLst/>
                <a:ahLst/>
                <a:rect l="l" t="t" r="r" b="b"/>
                <a:pathLst>
                  <a:path w="163" h="89">
                    <a:moveTo>
                      <a:pt x="163" y="89"/>
                    </a:moveTo>
                    <a:lnTo>
                      <a:pt x="34" y="34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27" y="13"/>
                    </a:lnTo>
                    <a:lnTo>
                      <a:pt x="22" y="11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42760" y="4110120"/>
                <a:ext cx="171000" cy="351360"/>
              </a:xfrm>
              <a:custGeom>
                <a:avLst/>
                <a:gdLst/>
                <a:ahLst/>
                <a:rect l="l" t="t" r="r" b="b"/>
                <a:pathLst>
                  <a:path w="111" h="228">
                    <a:moveTo>
                      <a:pt x="0" y="0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8" y="6"/>
                    </a:lnTo>
                    <a:lnTo>
                      <a:pt x="23" y="10"/>
                    </a:lnTo>
                    <a:lnTo>
                      <a:pt x="28" y="13"/>
                    </a:lnTo>
                    <a:lnTo>
                      <a:pt x="32" y="16"/>
                    </a:lnTo>
                    <a:lnTo>
                      <a:pt x="35" y="19"/>
                    </a:lnTo>
                    <a:lnTo>
                      <a:pt x="35" y="36"/>
                    </a:lnTo>
                    <a:lnTo>
                      <a:pt x="37" y="50"/>
                    </a:lnTo>
                    <a:lnTo>
                      <a:pt x="40" y="61"/>
                    </a:lnTo>
                    <a:lnTo>
                      <a:pt x="43" y="70"/>
                    </a:lnTo>
                    <a:lnTo>
                      <a:pt x="49" y="78"/>
                    </a:lnTo>
                    <a:lnTo>
                      <a:pt x="54" y="83"/>
                    </a:lnTo>
                    <a:lnTo>
                      <a:pt x="59" y="87"/>
                    </a:lnTo>
                    <a:lnTo>
                      <a:pt x="64" y="92"/>
                    </a:lnTo>
                    <a:lnTo>
                      <a:pt x="75" y="99"/>
                    </a:lnTo>
                    <a:lnTo>
                      <a:pt x="87" y="105"/>
                    </a:lnTo>
                    <a:lnTo>
                      <a:pt x="92" y="110"/>
                    </a:lnTo>
                    <a:lnTo>
                      <a:pt x="96" y="117"/>
                    </a:lnTo>
                    <a:lnTo>
                      <a:pt x="99" y="123"/>
                    </a:lnTo>
                    <a:lnTo>
                      <a:pt x="101" y="131"/>
                    </a:lnTo>
                    <a:lnTo>
                      <a:pt x="102" y="133"/>
                    </a:lnTo>
                    <a:lnTo>
                      <a:pt x="102" y="134"/>
                    </a:lnTo>
                    <a:lnTo>
                      <a:pt x="104" y="136"/>
                    </a:lnTo>
                    <a:lnTo>
                      <a:pt x="106" y="138"/>
                    </a:lnTo>
                    <a:lnTo>
                      <a:pt x="107" y="139"/>
                    </a:lnTo>
                    <a:lnTo>
                      <a:pt x="107" y="141"/>
                    </a:lnTo>
                    <a:lnTo>
                      <a:pt x="109" y="142"/>
                    </a:lnTo>
                    <a:lnTo>
                      <a:pt x="111" y="144"/>
                    </a:lnTo>
                    <a:lnTo>
                      <a:pt x="106" y="157"/>
                    </a:lnTo>
                    <a:lnTo>
                      <a:pt x="101" y="168"/>
                    </a:lnTo>
                    <a:lnTo>
                      <a:pt x="97" y="178"/>
                    </a:lnTo>
                    <a:lnTo>
                      <a:pt x="96" y="188"/>
                    </a:lnTo>
                    <a:lnTo>
                      <a:pt x="94" y="196"/>
                    </a:lnTo>
                    <a:lnTo>
                      <a:pt x="94" y="206"/>
                    </a:lnTo>
                    <a:lnTo>
                      <a:pt x="94" y="215"/>
                    </a:lnTo>
                    <a:lnTo>
                      <a:pt x="94" y="2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1960" y="4032720"/>
                <a:ext cx="41400" cy="8604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7" y="56"/>
                    </a:moveTo>
                    <a:lnTo>
                      <a:pt x="13" y="50"/>
                    </a:lnTo>
                    <a:lnTo>
                      <a:pt x="15" y="45"/>
                    </a:lnTo>
                    <a:lnTo>
                      <a:pt x="17" y="37"/>
                    </a:lnTo>
                    <a:lnTo>
                      <a:pt x="20" y="27"/>
                    </a:lnTo>
                    <a:lnTo>
                      <a:pt x="22" y="19"/>
                    </a:lnTo>
                    <a:lnTo>
                      <a:pt x="25" y="11"/>
                    </a:lnTo>
                    <a:lnTo>
                      <a:pt x="27" y="5"/>
                    </a:lnTo>
                    <a:lnTo>
                      <a:pt x="27" y="1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8"/>
                    </a:lnTo>
                    <a:lnTo>
                      <a:pt x="8" y="16"/>
                    </a:lnTo>
                    <a:lnTo>
                      <a:pt x="7" y="24"/>
                    </a:lnTo>
                    <a:lnTo>
                      <a:pt x="3" y="34"/>
                    </a:lnTo>
                    <a:lnTo>
                      <a:pt x="2" y="40"/>
                    </a:lnTo>
                    <a:lnTo>
                      <a:pt x="0" y="47"/>
                    </a:lnTo>
                    <a:lnTo>
                      <a:pt x="7" y="43"/>
                    </a:lnTo>
                    <a:lnTo>
                      <a:pt x="7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16080" y="379980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53640" y="3799800"/>
                <a:ext cx="269640" cy="246600"/>
              </a:xfrm>
              <a:custGeom>
                <a:avLst/>
                <a:gdLst/>
                <a:ahLst/>
                <a:rect l="l" t="t" r="r" b="b"/>
                <a:pathLst>
                  <a:path w="175" h="160">
                    <a:moveTo>
                      <a:pt x="7" y="160"/>
                    </a:moveTo>
                    <a:lnTo>
                      <a:pt x="14" y="156"/>
                    </a:lnTo>
                    <a:lnTo>
                      <a:pt x="27" y="123"/>
                    </a:lnTo>
                    <a:lnTo>
                      <a:pt x="37" y="94"/>
                    </a:lnTo>
                    <a:lnTo>
                      <a:pt x="46" y="68"/>
                    </a:lnTo>
                    <a:lnTo>
                      <a:pt x="56" y="47"/>
                    </a:lnTo>
                    <a:lnTo>
                      <a:pt x="62" y="39"/>
                    </a:lnTo>
                    <a:lnTo>
                      <a:pt x="69" y="31"/>
                    </a:lnTo>
                    <a:lnTo>
                      <a:pt x="79" y="26"/>
                    </a:lnTo>
                    <a:lnTo>
                      <a:pt x="91" y="20"/>
                    </a:lnTo>
                    <a:lnTo>
                      <a:pt x="106" y="16"/>
                    </a:lnTo>
                    <a:lnTo>
                      <a:pt x="125" y="15"/>
                    </a:lnTo>
                    <a:lnTo>
                      <a:pt x="148" y="13"/>
                    </a:lnTo>
                    <a:lnTo>
                      <a:pt x="174" y="13"/>
                    </a:lnTo>
                    <a:lnTo>
                      <a:pt x="175" y="0"/>
                    </a:lnTo>
                    <a:lnTo>
                      <a:pt x="148" y="0"/>
                    </a:lnTo>
                    <a:lnTo>
                      <a:pt x="125" y="0"/>
                    </a:lnTo>
                    <a:lnTo>
                      <a:pt x="104" y="3"/>
                    </a:lnTo>
                    <a:lnTo>
                      <a:pt x="88" y="8"/>
                    </a:lnTo>
                    <a:lnTo>
                      <a:pt x="73" y="13"/>
                    </a:lnTo>
                    <a:lnTo>
                      <a:pt x="61" y="21"/>
                    </a:lnTo>
                    <a:lnTo>
                      <a:pt x="51" y="29"/>
                    </a:lnTo>
                    <a:lnTo>
                      <a:pt x="42" y="41"/>
                    </a:lnTo>
                    <a:lnTo>
                      <a:pt x="32" y="63"/>
                    </a:lnTo>
                    <a:lnTo>
                      <a:pt x="24" y="89"/>
                    </a:lnTo>
                    <a:lnTo>
                      <a:pt x="14" y="118"/>
                    </a:lnTo>
                    <a:lnTo>
                      <a:pt x="0" y="151"/>
                    </a:lnTo>
                    <a:lnTo>
                      <a:pt x="7" y="146"/>
                    </a:lnTo>
                    <a:lnTo>
                      <a:pt x="7" y="160"/>
                    </a:lnTo>
                    <a:lnTo>
                      <a:pt x="12" y="160"/>
                    </a:lnTo>
                    <a:lnTo>
                      <a:pt x="14" y="156"/>
                    </a:lnTo>
                    <a:lnTo>
                      <a:pt x="7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52120" y="4021920"/>
                <a:ext cx="112320" cy="24480"/>
              </a:xfrm>
              <a:custGeom>
                <a:avLst/>
                <a:gdLst/>
                <a:ahLst/>
                <a:rect l="l" t="t" r="r" b="b"/>
                <a:pathLst>
                  <a:path w="73" h="16">
                    <a:moveTo>
                      <a:pt x="14" y="7"/>
                    </a:moveTo>
                    <a:lnTo>
                      <a:pt x="9" y="15"/>
                    </a:lnTo>
                    <a:lnTo>
                      <a:pt x="17" y="15"/>
                    </a:lnTo>
                    <a:lnTo>
                      <a:pt x="26" y="15"/>
                    </a:lnTo>
                    <a:lnTo>
                      <a:pt x="37" y="15"/>
                    </a:lnTo>
                    <a:lnTo>
                      <a:pt x="49" y="15"/>
                    </a:lnTo>
                    <a:lnTo>
                      <a:pt x="61" y="15"/>
                    </a:lnTo>
                    <a:lnTo>
                      <a:pt x="69" y="16"/>
                    </a:lnTo>
                    <a:lnTo>
                      <a:pt x="73" y="16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1" y="2"/>
                    </a:lnTo>
                    <a:lnTo>
                      <a:pt x="51" y="2"/>
                    </a:lnTo>
                    <a:lnTo>
                      <a:pt x="39" y="2"/>
                    </a:lnTo>
                    <a:lnTo>
                      <a:pt x="27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04320" y="3537720"/>
                <a:ext cx="121680" cy="62640"/>
              </a:xfrm>
              <a:custGeom>
                <a:avLst/>
                <a:gdLst/>
                <a:ahLst/>
                <a:rect l="l" t="t" r="r" b="b"/>
                <a:pathLst>
                  <a:path w="79" h="41">
                    <a:moveTo>
                      <a:pt x="79" y="32"/>
                    </a:moveTo>
                    <a:lnTo>
                      <a:pt x="74" y="28"/>
                    </a:lnTo>
                    <a:lnTo>
                      <a:pt x="66" y="26"/>
                    </a:lnTo>
                    <a:lnTo>
                      <a:pt x="57" y="23"/>
                    </a:lnTo>
                    <a:lnTo>
                      <a:pt x="49" y="19"/>
                    </a:lnTo>
                    <a:lnTo>
                      <a:pt x="39" y="16"/>
                    </a:lnTo>
                    <a:lnTo>
                      <a:pt x="30" y="11"/>
                    </a:lnTo>
                    <a:lnTo>
                      <a:pt x="22" y="8"/>
                    </a:lnTo>
                    <a:lnTo>
                      <a:pt x="15" y="3"/>
                    </a:lnTo>
                    <a:lnTo>
                      <a:pt x="7" y="0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17" y="19"/>
                    </a:lnTo>
                    <a:lnTo>
                      <a:pt x="25" y="24"/>
                    </a:lnTo>
                    <a:lnTo>
                      <a:pt x="34" y="28"/>
                    </a:lnTo>
                    <a:lnTo>
                      <a:pt x="42" y="32"/>
                    </a:lnTo>
                    <a:lnTo>
                      <a:pt x="52" y="36"/>
                    </a:lnTo>
                    <a:lnTo>
                      <a:pt x="62" y="39"/>
                    </a:lnTo>
                    <a:lnTo>
                      <a:pt x="73" y="41"/>
                    </a:lnTo>
                    <a:lnTo>
                      <a:pt x="66" y="36"/>
                    </a:lnTo>
                    <a:lnTo>
                      <a:pt x="79" y="32"/>
                    </a:lnTo>
                    <a:lnTo>
                      <a:pt x="78" y="28"/>
                    </a:lnTo>
                    <a:lnTo>
                      <a:pt x="74" y="28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06200" y="3587040"/>
                <a:ext cx="149400" cy="79920"/>
              </a:xfrm>
              <a:custGeom>
                <a:avLst/>
                <a:gdLst/>
                <a:ahLst/>
                <a:rect l="l" t="t" r="r" b="b"/>
                <a:pathLst>
                  <a:path w="97" h="52">
                    <a:moveTo>
                      <a:pt x="94" y="41"/>
                    </a:moveTo>
                    <a:lnTo>
                      <a:pt x="97" y="46"/>
                    </a:lnTo>
                    <a:lnTo>
                      <a:pt x="94" y="38"/>
                    </a:lnTo>
                    <a:lnTo>
                      <a:pt x="91" y="31"/>
                    </a:lnTo>
                    <a:lnTo>
                      <a:pt x="84" y="26"/>
                    </a:lnTo>
                    <a:lnTo>
                      <a:pt x="77" y="23"/>
                    </a:lnTo>
                    <a:lnTo>
                      <a:pt x="65" y="18"/>
                    </a:lnTo>
                    <a:lnTo>
                      <a:pt x="50" y="17"/>
                    </a:lnTo>
                    <a:lnTo>
                      <a:pt x="37" y="15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8" y="7"/>
                    </a:lnTo>
                    <a:lnTo>
                      <a:pt x="15" y="4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1"/>
                    </a:lnTo>
                    <a:lnTo>
                      <a:pt x="22" y="25"/>
                    </a:lnTo>
                    <a:lnTo>
                      <a:pt x="35" y="28"/>
                    </a:lnTo>
                    <a:lnTo>
                      <a:pt x="49" y="30"/>
                    </a:lnTo>
                    <a:lnTo>
                      <a:pt x="62" y="31"/>
                    </a:lnTo>
                    <a:lnTo>
                      <a:pt x="72" y="36"/>
                    </a:lnTo>
                    <a:lnTo>
                      <a:pt x="76" y="38"/>
                    </a:lnTo>
                    <a:lnTo>
                      <a:pt x="79" y="41"/>
                    </a:lnTo>
                    <a:lnTo>
                      <a:pt x="82" y="44"/>
                    </a:lnTo>
                    <a:lnTo>
                      <a:pt x="84" y="49"/>
                    </a:lnTo>
                    <a:lnTo>
                      <a:pt x="87" y="52"/>
                    </a:lnTo>
                    <a:lnTo>
                      <a:pt x="9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40480" y="3650040"/>
                <a:ext cx="47520" cy="2772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31" y="8"/>
                    </a:moveTo>
                    <a:lnTo>
                      <a:pt x="26" y="5"/>
                    </a:lnTo>
                    <a:lnTo>
                      <a:pt x="21" y="5"/>
                    </a:lnTo>
                    <a:lnTo>
                      <a:pt x="17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5" y="18"/>
                    </a:lnTo>
                    <a:lnTo>
                      <a:pt x="19" y="18"/>
                    </a:lnTo>
                    <a:lnTo>
                      <a:pt x="24" y="18"/>
                    </a:lnTo>
                    <a:lnTo>
                      <a:pt x="19" y="15"/>
                    </a:lnTo>
                    <a:lnTo>
                      <a:pt x="31" y="8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3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69640" y="3662640"/>
                <a:ext cx="98640" cy="8136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64" y="47"/>
                    </a:moveTo>
                    <a:lnTo>
                      <a:pt x="60" y="42"/>
                    </a:lnTo>
                    <a:lnTo>
                      <a:pt x="54" y="39"/>
                    </a:lnTo>
                    <a:lnTo>
                      <a:pt x="45" y="34"/>
                    </a:lnTo>
                    <a:lnTo>
                      <a:pt x="39" y="29"/>
                    </a:lnTo>
                    <a:lnTo>
                      <a:pt x="32" y="24"/>
                    </a:lnTo>
                    <a:lnTo>
                      <a:pt x="27" y="18"/>
                    </a:lnTo>
                    <a:lnTo>
                      <a:pt x="20" y="13"/>
                    </a:lnTo>
                    <a:lnTo>
                      <a:pt x="15" y="7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5" y="15"/>
                    </a:lnTo>
                    <a:lnTo>
                      <a:pt x="10" y="21"/>
                    </a:lnTo>
                    <a:lnTo>
                      <a:pt x="17" y="28"/>
                    </a:lnTo>
                    <a:lnTo>
                      <a:pt x="23" y="34"/>
                    </a:lnTo>
                    <a:lnTo>
                      <a:pt x="30" y="41"/>
                    </a:lnTo>
                    <a:lnTo>
                      <a:pt x="39" y="45"/>
                    </a:lnTo>
                    <a:lnTo>
                      <a:pt x="45" y="50"/>
                    </a:lnTo>
                    <a:lnTo>
                      <a:pt x="54" y="53"/>
                    </a:lnTo>
                    <a:lnTo>
                      <a:pt x="50" y="49"/>
                    </a:lnTo>
                    <a:lnTo>
                      <a:pt x="64" y="47"/>
                    </a:lnTo>
                    <a:lnTo>
                      <a:pt x="64" y="44"/>
                    </a:lnTo>
                    <a:lnTo>
                      <a:pt x="60" y="42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6680" y="3735000"/>
                <a:ext cx="29160" cy="601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9"/>
                    </a:moveTo>
                    <a:lnTo>
                      <a:pt x="17" y="31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4" y="34"/>
                    </a:lnTo>
                    <a:lnTo>
                      <a:pt x="7" y="26"/>
                    </a:lnTo>
                    <a:lnTo>
                      <a:pt x="14" y="39"/>
                    </a:lnTo>
                    <a:lnTo>
                      <a:pt x="19" y="36"/>
                    </a:lnTo>
                    <a:lnTo>
                      <a:pt x="17" y="31"/>
                    </a:lnTo>
                    <a:lnTo>
                      <a:pt x="1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19320" y="3775320"/>
                <a:ext cx="48960" cy="446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0" y="29"/>
                    </a:moveTo>
                    <a:lnTo>
                      <a:pt x="12" y="27"/>
                    </a:lnTo>
                    <a:lnTo>
                      <a:pt x="15" y="26"/>
                    </a:lnTo>
                    <a:lnTo>
                      <a:pt x="17" y="23"/>
                    </a:lnTo>
                    <a:lnTo>
                      <a:pt x="20" y="21"/>
                    </a:lnTo>
                    <a:lnTo>
                      <a:pt x="23" y="18"/>
                    </a:lnTo>
                    <a:lnTo>
                      <a:pt x="28" y="14"/>
                    </a:lnTo>
                    <a:lnTo>
                      <a:pt x="32" y="13"/>
                    </a:lnTo>
                    <a:lnTo>
                      <a:pt x="25" y="0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2" y="10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45120" y="1969200"/>
                <a:ext cx="907920" cy="277560"/>
              </a:xfrm>
              <a:custGeom>
                <a:avLst/>
                <a:gdLst/>
                <a:ahLst/>
                <a:rect l="l" t="t" r="r" b="b"/>
                <a:pathLst>
                  <a:path w="589" h="180">
                    <a:moveTo>
                      <a:pt x="589" y="180"/>
                    </a:moveTo>
                    <a:lnTo>
                      <a:pt x="586" y="178"/>
                    </a:lnTo>
                    <a:lnTo>
                      <a:pt x="581" y="175"/>
                    </a:lnTo>
                    <a:lnTo>
                      <a:pt x="574" y="173"/>
                    </a:lnTo>
                    <a:lnTo>
                      <a:pt x="569" y="173"/>
                    </a:lnTo>
                    <a:lnTo>
                      <a:pt x="562" y="172"/>
                    </a:lnTo>
                    <a:lnTo>
                      <a:pt x="557" y="172"/>
                    </a:lnTo>
                    <a:lnTo>
                      <a:pt x="552" y="172"/>
                    </a:lnTo>
                    <a:lnTo>
                      <a:pt x="550" y="172"/>
                    </a:lnTo>
                    <a:lnTo>
                      <a:pt x="534" y="162"/>
                    </a:lnTo>
                    <a:lnTo>
                      <a:pt x="518" y="152"/>
                    </a:lnTo>
                    <a:lnTo>
                      <a:pt x="502" y="141"/>
                    </a:lnTo>
                    <a:lnTo>
                      <a:pt x="488" y="130"/>
                    </a:lnTo>
                    <a:lnTo>
                      <a:pt x="473" y="117"/>
                    </a:lnTo>
                    <a:lnTo>
                      <a:pt x="461" y="104"/>
                    </a:lnTo>
                    <a:lnTo>
                      <a:pt x="451" y="91"/>
                    </a:lnTo>
                    <a:lnTo>
                      <a:pt x="443" y="76"/>
                    </a:lnTo>
                    <a:lnTo>
                      <a:pt x="417" y="76"/>
                    </a:lnTo>
                    <a:lnTo>
                      <a:pt x="397" y="76"/>
                    </a:lnTo>
                    <a:lnTo>
                      <a:pt x="384" y="78"/>
                    </a:lnTo>
                    <a:lnTo>
                      <a:pt x="374" y="78"/>
                    </a:lnTo>
                    <a:lnTo>
                      <a:pt x="363" y="76"/>
                    </a:lnTo>
                    <a:lnTo>
                      <a:pt x="353" y="75"/>
                    </a:lnTo>
                    <a:lnTo>
                      <a:pt x="340" y="68"/>
                    </a:lnTo>
                    <a:lnTo>
                      <a:pt x="323" y="58"/>
                    </a:lnTo>
                    <a:lnTo>
                      <a:pt x="303" y="57"/>
                    </a:lnTo>
                    <a:lnTo>
                      <a:pt x="279" y="53"/>
                    </a:lnTo>
                    <a:lnTo>
                      <a:pt x="252" y="49"/>
                    </a:lnTo>
                    <a:lnTo>
                      <a:pt x="225" y="42"/>
                    </a:lnTo>
                    <a:lnTo>
                      <a:pt x="198" y="36"/>
                    </a:lnTo>
                    <a:lnTo>
                      <a:pt x="173" y="26"/>
                    </a:lnTo>
                    <a:lnTo>
                      <a:pt x="163" y="23"/>
                    </a:lnTo>
                    <a:lnTo>
                      <a:pt x="155" y="16"/>
                    </a:lnTo>
                    <a:lnTo>
                      <a:pt x="148" y="11"/>
                    </a:lnTo>
                    <a:lnTo>
                      <a:pt x="141" y="6"/>
                    </a:lnTo>
                    <a:lnTo>
                      <a:pt x="138" y="5"/>
                    </a:lnTo>
                    <a:lnTo>
                      <a:pt x="133" y="5"/>
                    </a:lnTo>
                    <a:lnTo>
                      <a:pt x="128" y="3"/>
                    </a:lnTo>
                    <a:lnTo>
                      <a:pt x="123" y="3"/>
                    </a:lnTo>
                    <a:lnTo>
                      <a:pt x="118" y="2"/>
                    </a:lnTo>
                    <a:lnTo>
                      <a:pt x="114" y="2"/>
                    </a:lnTo>
                    <a:lnTo>
                      <a:pt x="109" y="2"/>
                    </a:lnTo>
                    <a:lnTo>
                      <a:pt x="104" y="0"/>
                    </a:lnTo>
                    <a:lnTo>
                      <a:pt x="97" y="5"/>
                    </a:lnTo>
                    <a:lnTo>
                      <a:pt x="87" y="6"/>
                    </a:lnTo>
                    <a:lnTo>
                      <a:pt x="75" y="8"/>
                    </a:lnTo>
                    <a:lnTo>
                      <a:pt x="64" y="8"/>
                    </a:lnTo>
                    <a:lnTo>
                      <a:pt x="52" y="8"/>
                    </a:lnTo>
                    <a:lnTo>
                      <a:pt x="40" y="6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5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1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20320" y="3045600"/>
                <a:ext cx="92520" cy="39960"/>
              </a:xfrm>
              <a:custGeom>
                <a:avLst/>
                <a:gdLst/>
                <a:ahLst/>
                <a:rect l="l" t="t" r="r" b="b"/>
                <a:pathLst>
                  <a:path w="60" h="26">
                    <a:moveTo>
                      <a:pt x="47" y="5"/>
                    </a:moveTo>
                    <a:lnTo>
                      <a:pt x="52" y="0"/>
                    </a:lnTo>
                    <a:lnTo>
                      <a:pt x="44" y="2"/>
                    </a:lnTo>
                    <a:lnTo>
                      <a:pt x="35" y="3"/>
                    </a:lnTo>
                    <a:lnTo>
                      <a:pt x="28" y="5"/>
                    </a:lnTo>
                    <a:lnTo>
                      <a:pt x="22" y="6"/>
                    </a:lnTo>
                    <a:lnTo>
                      <a:pt x="15" y="8"/>
                    </a:lnTo>
                    <a:lnTo>
                      <a:pt x="10" y="10"/>
                    </a:lnTo>
                    <a:lnTo>
                      <a:pt x="5" y="13"/>
                    </a:lnTo>
                    <a:lnTo>
                      <a:pt x="0" y="15"/>
                    </a:lnTo>
                    <a:lnTo>
                      <a:pt x="8" y="26"/>
                    </a:lnTo>
                    <a:lnTo>
                      <a:pt x="12" y="24"/>
                    </a:lnTo>
                    <a:lnTo>
                      <a:pt x="15" y="23"/>
                    </a:lnTo>
                    <a:lnTo>
                      <a:pt x="20" y="21"/>
                    </a:lnTo>
                    <a:lnTo>
                      <a:pt x="25" y="19"/>
                    </a:lnTo>
                    <a:lnTo>
                      <a:pt x="32" y="18"/>
                    </a:lnTo>
                    <a:lnTo>
                      <a:pt x="39" y="16"/>
                    </a:lnTo>
                    <a:lnTo>
                      <a:pt x="45" y="15"/>
                    </a:lnTo>
                    <a:lnTo>
                      <a:pt x="54" y="15"/>
                    </a:lnTo>
                    <a:lnTo>
                      <a:pt x="60" y="10"/>
                    </a:lnTo>
                    <a:lnTo>
                      <a:pt x="54" y="15"/>
                    </a:lnTo>
                    <a:lnTo>
                      <a:pt x="59" y="13"/>
                    </a:lnTo>
                    <a:lnTo>
                      <a:pt x="60" y="1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93040" y="2896200"/>
                <a:ext cx="79920" cy="164880"/>
              </a:xfrm>
              <a:custGeom>
                <a:avLst/>
                <a:gdLst/>
                <a:ahLst/>
                <a:rect l="l" t="t" r="r" b="b"/>
                <a:pathLst>
                  <a:path w="52" h="107">
                    <a:moveTo>
                      <a:pt x="45" y="0"/>
                    </a:moveTo>
                    <a:lnTo>
                      <a:pt x="44" y="1"/>
                    </a:lnTo>
                    <a:lnTo>
                      <a:pt x="30" y="14"/>
                    </a:lnTo>
                    <a:lnTo>
                      <a:pt x="22" y="29"/>
                    </a:lnTo>
                    <a:lnTo>
                      <a:pt x="15" y="42"/>
                    </a:lnTo>
                    <a:lnTo>
                      <a:pt x="10" y="55"/>
                    </a:lnTo>
                    <a:lnTo>
                      <a:pt x="7" y="66"/>
                    </a:lnTo>
                    <a:lnTo>
                      <a:pt x="5" y="79"/>
                    </a:lnTo>
                    <a:lnTo>
                      <a:pt x="3" y="91"/>
                    </a:lnTo>
                    <a:lnTo>
                      <a:pt x="0" y="102"/>
                    </a:lnTo>
                    <a:lnTo>
                      <a:pt x="13" y="107"/>
                    </a:lnTo>
                    <a:lnTo>
                      <a:pt x="17" y="94"/>
                    </a:lnTo>
                    <a:lnTo>
                      <a:pt x="19" y="81"/>
                    </a:lnTo>
                    <a:lnTo>
                      <a:pt x="22" y="69"/>
                    </a:lnTo>
                    <a:lnTo>
                      <a:pt x="24" y="58"/>
                    </a:lnTo>
                    <a:lnTo>
                      <a:pt x="29" y="47"/>
                    </a:lnTo>
                    <a:lnTo>
                      <a:pt x="34" y="35"/>
                    </a:lnTo>
                    <a:lnTo>
                      <a:pt x="42" y="24"/>
                    </a:lnTo>
                    <a:lnTo>
                      <a:pt x="52" y="11"/>
                    </a:lnTo>
                    <a:lnTo>
                      <a:pt x="51" y="1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62160" y="2533680"/>
                <a:ext cx="150840" cy="381960"/>
              </a:xfrm>
              <a:custGeom>
                <a:avLst/>
                <a:gdLst/>
                <a:ahLst/>
                <a:rect l="l" t="t" r="r" b="b"/>
                <a:pathLst>
                  <a:path w="98" h="248">
                    <a:moveTo>
                      <a:pt x="88" y="13"/>
                    </a:moveTo>
                    <a:lnTo>
                      <a:pt x="83" y="6"/>
                    </a:lnTo>
                    <a:lnTo>
                      <a:pt x="83" y="36"/>
                    </a:lnTo>
                    <a:lnTo>
                      <a:pt x="80" y="68"/>
                    </a:lnTo>
                    <a:lnTo>
                      <a:pt x="73" y="104"/>
                    </a:lnTo>
                    <a:lnTo>
                      <a:pt x="64" y="139"/>
                    </a:lnTo>
                    <a:lnTo>
                      <a:pt x="59" y="155"/>
                    </a:lnTo>
                    <a:lnTo>
                      <a:pt x="53" y="172"/>
                    </a:lnTo>
                    <a:lnTo>
                      <a:pt x="46" y="186"/>
                    </a:lnTo>
                    <a:lnTo>
                      <a:pt x="38" y="199"/>
                    </a:lnTo>
                    <a:lnTo>
                      <a:pt x="29" y="212"/>
                    </a:lnTo>
                    <a:lnTo>
                      <a:pt x="21" y="222"/>
                    </a:lnTo>
                    <a:lnTo>
                      <a:pt x="11" y="230"/>
                    </a:lnTo>
                    <a:lnTo>
                      <a:pt x="0" y="235"/>
                    </a:lnTo>
                    <a:lnTo>
                      <a:pt x="6" y="248"/>
                    </a:lnTo>
                    <a:lnTo>
                      <a:pt x="19" y="241"/>
                    </a:lnTo>
                    <a:lnTo>
                      <a:pt x="31" y="232"/>
                    </a:lnTo>
                    <a:lnTo>
                      <a:pt x="41" y="220"/>
                    </a:lnTo>
                    <a:lnTo>
                      <a:pt x="49" y="207"/>
                    </a:lnTo>
                    <a:lnTo>
                      <a:pt x="58" y="193"/>
                    </a:lnTo>
                    <a:lnTo>
                      <a:pt x="66" y="177"/>
                    </a:lnTo>
                    <a:lnTo>
                      <a:pt x="71" y="160"/>
                    </a:lnTo>
                    <a:lnTo>
                      <a:pt x="78" y="143"/>
                    </a:lnTo>
                    <a:lnTo>
                      <a:pt x="86" y="107"/>
                    </a:lnTo>
                    <a:lnTo>
                      <a:pt x="93" y="71"/>
                    </a:lnTo>
                    <a:lnTo>
                      <a:pt x="96" y="37"/>
                    </a:lnTo>
                    <a:lnTo>
                      <a:pt x="98" y="6"/>
                    </a:lnTo>
                    <a:lnTo>
                      <a:pt x="93" y="0"/>
                    </a:lnTo>
                    <a:lnTo>
                      <a:pt x="98" y="6"/>
                    </a:lnTo>
                    <a:lnTo>
                      <a:pt x="98" y="2"/>
                    </a:lnTo>
                    <a:lnTo>
                      <a:pt x="93" y="0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48560" y="2320560"/>
                <a:ext cx="61200" cy="232920"/>
              </a:xfrm>
              <a:custGeom>
                <a:avLst/>
                <a:gdLst/>
                <a:ahLst/>
                <a:rect l="l" t="t" r="r" b="b"/>
                <a:pathLst>
                  <a:path w="40" h="151">
                    <a:moveTo>
                      <a:pt x="37" y="2"/>
                    </a:moveTo>
                    <a:lnTo>
                      <a:pt x="30" y="4"/>
                    </a:lnTo>
                    <a:lnTo>
                      <a:pt x="24" y="12"/>
                    </a:lnTo>
                    <a:lnTo>
                      <a:pt x="17" y="20"/>
                    </a:lnTo>
                    <a:lnTo>
                      <a:pt x="14" y="30"/>
                    </a:lnTo>
                    <a:lnTo>
                      <a:pt x="8" y="39"/>
                    </a:lnTo>
                    <a:lnTo>
                      <a:pt x="3" y="60"/>
                    </a:lnTo>
                    <a:lnTo>
                      <a:pt x="0" y="83"/>
                    </a:lnTo>
                    <a:lnTo>
                      <a:pt x="0" y="94"/>
                    </a:lnTo>
                    <a:lnTo>
                      <a:pt x="2" y="106"/>
                    </a:lnTo>
                    <a:lnTo>
                      <a:pt x="3" y="115"/>
                    </a:lnTo>
                    <a:lnTo>
                      <a:pt x="7" y="125"/>
                    </a:lnTo>
                    <a:lnTo>
                      <a:pt x="12" y="133"/>
                    </a:lnTo>
                    <a:lnTo>
                      <a:pt x="17" y="141"/>
                    </a:lnTo>
                    <a:lnTo>
                      <a:pt x="24" y="148"/>
                    </a:lnTo>
                    <a:lnTo>
                      <a:pt x="32" y="151"/>
                    </a:lnTo>
                    <a:lnTo>
                      <a:pt x="37" y="138"/>
                    </a:lnTo>
                    <a:lnTo>
                      <a:pt x="32" y="136"/>
                    </a:lnTo>
                    <a:lnTo>
                      <a:pt x="27" y="132"/>
                    </a:lnTo>
                    <a:lnTo>
                      <a:pt x="24" y="127"/>
                    </a:lnTo>
                    <a:lnTo>
                      <a:pt x="20" y="120"/>
                    </a:lnTo>
                    <a:lnTo>
                      <a:pt x="17" y="112"/>
                    </a:lnTo>
                    <a:lnTo>
                      <a:pt x="15" y="104"/>
                    </a:lnTo>
                    <a:lnTo>
                      <a:pt x="15" y="94"/>
                    </a:lnTo>
                    <a:lnTo>
                      <a:pt x="15" y="85"/>
                    </a:lnTo>
                    <a:lnTo>
                      <a:pt x="17" y="64"/>
                    </a:lnTo>
                    <a:lnTo>
                      <a:pt x="22" y="42"/>
                    </a:lnTo>
                    <a:lnTo>
                      <a:pt x="25" y="34"/>
                    </a:lnTo>
                    <a:lnTo>
                      <a:pt x="30" y="26"/>
                    </a:lnTo>
                    <a:lnTo>
                      <a:pt x="35" y="20"/>
                    </a:lnTo>
                    <a:lnTo>
                      <a:pt x="40" y="13"/>
                    </a:lnTo>
                    <a:lnTo>
                      <a:pt x="34" y="15"/>
                    </a:lnTo>
                    <a:lnTo>
                      <a:pt x="37" y="2"/>
                    </a:lnTo>
                    <a:lnTo>
                      <a:pt x="32" y="0"/>
                    </a:lnTo>
                    <a:lnTo>
                      <a:pt x="30" y="4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001120" y="2323800"/>
                <a:ext cx="30600" cy="2916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8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20" y="15"/>
                    </a:lnTo>
                    <a:lnTo>
                      <a:pt x="12" y="16"/>
                    </a:lnTo>
                    <a:lnTo>
                      <a:pt x="18" y="19"/>
                    </a:lnTo>
                    <a:lnTo>
                      <a:pt x="20" y="15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13360" y="230076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17" y="2"/>
                    </a:moveTo>
                    <a:lnTo>
                      <a:pt x="9" y="7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0" y="21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14" y="1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9" y="7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034960" y="2243880"/>
                <a:ext cx="129240" cy="9216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70" y="0"/>
                    </a:moveTo>
                    <a:lnTo>
                      <a:pt x="62" y="18"/>
                    </a:lnTo>
                    <a:lnTo>
                      <a:pt x="55" y="33"/>
                    </a:lnTo>
                    <a:lnTo>
                      <a:pt x="50" y="41"/>
                    </a:lnTo>
                    <a:lnTo>
                      <a:pt x="47" y="46"/>
                    </a:lnTo>
                    <a:lnTo>
                      <a:pt x="42" y="47"/>
                    </a:lnTo>
                    <a:lnTo>
                      <a:pt x="33" y="46"/>
                    </a:lnTo>
                    <a:lnTo>
                      <a:pt x="20" y="44"/>
                    </a:lnTo>
                    <a:lnTo>
                      <a:pt x="3" y="39"/>
                    </a:lnTo>
                    <a:lnTo>
                      <a:pt x="0" y="52"/>
                    </a:lnTo>
                    <a:lnTo>
                      <a:pt x="16" y="57"/>
                    </a:lnTo>
                    <a:lnTo>
                      <a:pt x="32" y="60"/>
                    </a:lnTo>
                    <a:lnTo>
                      <a:pt x="43" y="60"/>
                    </a:lnTo>
                    <a:lnTo>
                      <a:pt x="54" y="57"/>
                    </a:lnTo>
                    <a:lnTo>
                      <a:pt x="62" y="49"/>
                    </a:lnTo>
                    <a:lnTo>
                      <a:pt x="69" y="39"/>
                    </a:lnTo>
                    <a:lnTo>
                      <a:pt x="75" y="24"/>
                    </a:lnTo>
                    <a:lnTo>
                      <a:pt x="84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50760" y="3173760"/>
                <a:ext cx="120240" cy="118440"/>
              </a:xfrm>
              <a:custGeom>
                <a:avLst/>
                <a:gdLst/>
                <a:ahLst/>
                <a:rect l="l" t="t" r="r" b="b"/>
                <a:pathLst>
                  <a:path w="78" h="77">
                    <a:moveTo>
                      <a:pt x="66" y="0"/>
                    </a:moveTo>
                    <a:lnTo>
                      <a:pt x="64" y="1"/>
                    </a:lnTo>
                    <a:lnTo>
                      <a:pt x="59" y="13"/>
                    </a:lnTo>
                    <a:lnTo>
                      <a:pt x="53" y="24"/>
                    </a:lnTo>
                    <a:lnTo>
                      <a:pt x="44" y="32"/>
                    </a:lnTo>
                    <a:lnTo>
                      <a:pt x="36" y="40"/>
                    </a:lnTo>
                    <a:lnTo>
                      <a:pt x="27" y="48"/>
                    </a:lnTo>
                    <a:lnTo>
                      <a:pt x="19" y="55"/>
                    </a:lnTo>
                    <a:lnTo>
                      <a:pt x="11" y="60"/>
                    </a:lnTo>
                    <a:lnTo>
                      <a:pt x="0" y="66"/>
                    </a:lnTo>
                    <a:lnTo>
                      <a:pt x="9" y="77"/>
                    </a:lnTo>
                    <a:lnTo>
                      <a:pt x="17" y="71"/>
                    </a:lnTo>
                    <a:lnTo>
                      <a:pt x="27" y="64"/>
                    </a:lnTo>
                    <a:lnTo>
                      <a:pt x="37" y="58"/>
                    </a:lnTo>
                    <a:lnTo>
                      <a:pt x="46" y="50"/>
                    </a:lnTo>
                    <a:lnTo>
                      <a:pt x="54" y="42"/>
                    </a:lnTo>
                    <a:lnTo>
                      <a:pt x="64" y="32"/>
                    </a:lnTo>
                    <a:lnTo>
                      <a:pt x="71" y="19"/>
                    </a:lnTo>
                    <a:lnTo>
                      <a:pt x="78" y="6"/>
                    </a:lnTo>
                    <a:lnTo>
                      <a:pt x="76" y="9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52280" y="3069000"/>
                <a:ext cx="80280" cy="11880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44" y="0"/>
                    </a:moveTo>
                    <a:lnTo>
                      <a:pt x="35" y="6"/>
                    </a:lnTo>
                    <a:lnTo>
                      <a:pt x="27" y="14"/>
                    </a:lnTo>
                    <a:lnTo>
                      <a:pt x="24" y="24"/>
                    </a:lnTo>
                    <a:lnTo>
                      <a:pt x="20" y="32"/>
                    </a:lnTo>
                    <a:lnTo>
                      <a:pt x="17" y="40"/>
                    </a:lnTo>
                    <a:lnTo>
                      <a:pt x="14" y="50"/>
                    </a:lnTo>
                    <a:lnTo>
                      <a:pt x="9" y="58"/>
                    </a:lnTo>
                    <a:lnTo>
                      <a:pt x="0" y="68"/>
                    </a:lnTo>
                    <a:lnTo>
                      <a:pt x="10" y="77"/>
                    </a:lnTo>
                    <a:lnTo>
                      <a:pt x="20" y="66"/>
                    </a:lnTo>
                    <a:lnTo>
                      <a:pt x="27" y="55"/>
                    </a:lnTo>
                    <a:lnTo>
                      <a:pt x="30" y="45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0" y="22"/>
                    </a:lnTo>
                    <a:lnTo>
                      <a:pt x="44" y="16"/>
                    </a:lnTo>
                    <a:lnTo>
                      <a:pt x="52" y="1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73600" y="2641680"/>
                <a:ext cx="15120" cy="173880"/>
              </a:xfrm>
              <a:custGeom>
                <a:avLst/>
                <a:gdLst/>
                <a:ahLst/>
                <a:rect l="l" t="t" r="r" b="b"/>
                <a:pathLst>
                  <a:path w="10" h="113">
                    <a:moveTo>
                      <a:pt x="10" y="113"/>
                    </a:moveTo>
                    <a:lnTo>
                      <a:pt x="10" y="98"/>
                    </a:lnTo>
                    <a:lnTo>
                      <a:pt x="8" y="85"/>
                    </a:lnTo>
                    <a:lnTo>
                      <a:pt x="7" y="71"/>
                    </a:lnTo>
                    <a:lnTo>
                      <a:pt x="3" y="56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90440" y="2815920"/>
                <a:ext cx="110880" cy="149400"/>
              </a:xfrm>
              <a:custGeom>
                <a:avLst/>
                <a:gdLst/>
                <a:ahLst/>
                <a:rect l="l" t="t" r="r" b="b"/>
                <a:pathLst>
                  <a:path w="72" h="97">
                    <a:moveTo>
                      <a:pt x="0" y="97"/>
                    </a:moveTo>
                    <a:lnTo>
                      <a:pt x="2" y="94"/>
                    </a:lnTo>
                    <a:lnTo>
                      <a:pt x="5" y="91"/>
                    </a:lnTo>
                    <a:lnTo>
                      <a:pt x="10" y="87"/>
                    </a:lnTo>
                    <a:lnTo>
                      <a:pt x="17" y="84"/>
                    </a:lnTo>
                    <a:lnTo>
                      <a:pt x="24" y="81"/>
                    </a:lnTo>
                    <a:lnTo>
                      <a:pt x="30" y="79"/>
                    </a:lnTo>
                    <a:lnTo>
                      <a:pt x="35" y="76"/>
                    </a:lnTo>
                    <a:lnTo>
                      <a:pt x="39" y="75"/>
                    </a:lnTo>
                    <a:lnTo>
                      <a:pt x="49" y="73"/>
                    </a:lnTo>
                    <a:lnTo>
                      <a:pt x="56" y="71"/>
                    </a:lnTo>
                    <a:lnTo>
                      <a:pt x="61" y="68"/>
                    </a:lnTo>
                    <a:lnTo>
                      <a:pt x="66" y="65"/>
                    </a:lnTo>
                    <a:lnTo>
                      <a:pt x="69" y="62"/>
                    </a:lnTo>
                    <a:lnTo>
                      <a:pt x="71" y="57"/>
                    </a:lnTo>
                    <a:lnTo>
                      <a:pt x="71" y="53"/>
                    </a:lnTo>
                    <a:lnTo>
                      <a:pt x="72" y="49"/>
                    </a:lnTo>
                    <a:lnTo>
                      <a:pt x="71" y="37"/>
                    </a:lnTo>
                    <a:lnTo>
                      <a:pt x="67" y="26"/>
                    </a:lnTo>
                    <a:lnTo>
                      <a:pt x="66" y="15"/>
                    </a:lnTo>
                    <a:lnTo>
                      <a:pt x="6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61960" y="3849120"/>
                <a:ext cx="300600" cy="183600"/>
              </a:xfrm>
              <a:custGeom>
                <a:avLst/>
                <a:gdLst/>
                <a:ahLst/>
                <a:rect l="l" t="t" r="r" b="b"/>
                <a:pathLst>
                  <a:path w="195" h="119">
                    <a:moveTo>
                      <a:pt x="195" y="119"/>
                    </a:moveTo>
                    <a:lnTo>
                      <a:pt x="155" y="115"/>
                    </a:lnTo>
                    <a:lnTo>
                      <a:pt x="123" y="112"/>
                    </a:lnTo>
                    <a:lnTo>
                      <a:pt x="108" y="112"/>
                    </a:lnTo>
                    <a:lnTo>
                      <a:pt x="94" y="111"/>
                    </a:lnTo>
                    <a:lnTo>
                      <a:pt x="82" y="107"/>
                    </a:lnTo>
                    <a:lnTo>
                      <a:pt x="71" y="104"/>
                    </a:lnTo>
                    <a:lnTo>
                      <a:pt x="60" y="99"/>
                    </a:lnTo>
                    <a:lnTo>
                      <a:pt x="50" y="93"/>
                    </a:lnTo>
                    <a:lnTo>
                      <a:pt x="42" y="83"/>
                    </a:lnTo>
                    <a:lnTo>
                      <a:pt x="33" y="73"/>
                    </a:lnTo>
                    <a:lnTo>
                      <a:pt x="25" y="59"/>
                    </a:lnTo>
                    <a:lnTo>
                      <a:pt x="17" y="43"/>
                    </a:lnTo>
                    <a:lnTo>
                      <a:pt x="8" y="2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99960" y="3810600"/>
                <a:ext cx="161640" cy="38160"/>
              </a:xfrm>
              <a:custGeom>
                <a:avLst/>
                <a:gdLst/>
                <a:ahLst/>
                <a:rect l="l" t="t" r="r" b="b"/>
                <a:pathLst>
                  <a:path w="105" h="25">
                    <a:moveTo>
                      <a:pt x="105" y="25"/>
                    </a:moveTo>
                    <a:lnTo>
                      <a:pt x="96" y="24"/>
                    </a:lnTo>
                    <a:lnTo>
                      <a:pt x="90" y="22"/>
                    </a:lnTo>
                    <a:lnTo>
                      <a:pt x="81" y="19"/>
                    </a:lnTo>
                    <a:lnTo>
                      <a:pt x="75" y="17"/>
                    </a:lnTo>
                    <a:lnTo>
                      <a:pt x="68" y="14"/>
                    </a:lnTo>
                    <a:lnTo>
                      <a:pt x="61" y="13"/>
                    </a:lnTo>
                    <a:lnTo>
                      <a:pt x="53" y="11"/>
                    </a:lnTo>
                    <a:lnTo>
                      <a:pt x="44" y="11"/>
                    </a:lnTo>
                    <a:lnTo>
                      <a:pt x="37" y="9"/>
                    </a:lnTo>
                    <a:lnTo>
                      <a:pt x="32" y="9"/>
                    </a:lnTo>
                    <a:lnTo>
                      <a:pt x="27" y="8"/>
                    </a:lnTo>
                    <a:lnTo>
                      <a:pt x="22" y="6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61960" y="3548520"/>
                <a:ext cx="346680" cy="300600"/>
              </a:xfrm>
              <a:custGeom>
                <a:avLst/>
                <a:gdLst/>
                <a:ahLst/>
                <a:rect l="l" t="t" r="r" b="b"/>
                <a:pathLst>
                  <a:path w="225" h="195">
                    <a:moveTo>
                      <a:pt x="225" y="0"/>
                    </a:moveTo>
                    <a:lnTo>
                      <a:pt x="222" y="0"/>
                    </a:lnTo>
                    <a:lnTo>
                      <a:pt x="204" y="6"/>
                    </a:lnTo>
                    <a:lnTo>
                      <a:pt x="187" y="9"/>
                    </a:lnTo>
                    <a:lnTo>
                      <a:pt x="172" y="9"/>
                    </a:lnTo>
                    <a:lnTo>
                      <a:pt x="156" y="9"/>
                    </a:lnTo>
                    <a:lnTo>
                      <a:pt x="143" y="9"/>
                    </a:lnTo>
                    <a:lnTo>
                      <a:pt x="128" y="11"/>
                    </a:lnTo>
                    <a:lnTo>
                      <a:pt x="116" y="16"/>
                    </a:lnTo>
                    <a:lnTo>
                      <a:pt x="103" y="22"/>
                    </a:lnTo>
                    <a:lnTo>
                      <a:pt x="103" y="35"/>
                    </a:lnTo>
                    <a:lnTo>
                      <a:pt x="106" y="46"/>
                    </a:lnTo>
                    <a:lnTo>
                      <a:pt x="108" y="55"/>
                    </a:lnTo>
                    <a:lnTo>
                      <a:pt x="111" y="63"/>
                    </a:lnTo>
                    <a:lnTo>
                      <a:pt x="111" y="71"/>
                    </a:lnTo>
                    <a:lnTo>
                      <a:pt x="109" y="79"/>
                    </a:lnTo>
                    <a:lnTo>
                      <a:pt x="103" y="90"/>
                    </a:lnTo>
                    <a:lnTo>
                      <a:pt x="92" y="103"/>
                    </a:lnTo>
                    <a:lnTo>
                      <a:pt x="76" y="111"/>
                    </a:lnTo>
                    <a:lnTo>
                      <a:pt x="60" y="121"/>
                    </a:lnTo>
                    <a:lnTo>
                      <a:pt x="47" y="131"/>
                    </a:lnTo>
                    <a:lnTo>
                      <a:pt x="33" y="142"/>
                    </a:lnTo>
                    <a:lnTo>
                      <a:pt x="23" y="155"/>
                    </a:lnTo>
                    <a:lnTo>
                      <a:pt x="13" y="168"/>
                    </a:lnTo>
                    <a:lnTo>
                      <a:pt x="5" y="183"/>
                    </a:lnTo>
                    <a:lnTo>
                      <a:pt x="0" y="1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92080" y="3283200"/>
                <a:ext cx="76680" cy="189360"/>
              </a:xfrm>
              <a:custGeom>
                <a:avLst/>
                <a:gdLst/>
                <a:ahLst/>
                <a:rect l="l" t="t" r="r" b="b"/>
                <a:pathLst>
                  <a:path w="50" h="123">
                    <a:moveTo>
                      <a:pt x="15" y="123"/>
                    </a:moveTo>
                    <a:lnTo>
                      <a:pt x="15" y="120"/>
                    </a:lnTo>
                    <a:lnTo>
                      <a:pt x="17" y="107"/>
                    </a:lnTo>
                    <a:lnTo>
                      <a:pt x="20" y="94"/>
                    </a:lnTo>
                    <a:lnTo>
                      <a:pt x="25" y="81"/>
                    </a:lnTo>
                    <a:lnTo>
                      <a:pt x="32" y="68"/>
                    </a:lnTo>
                    <a:lnTo>
                      <a:pt x="38" y="53"/>
                    </a:lnTo>
                    <a:lnTo>
                      <a:pt x="43" y="37"/>
                    </a:lnTo>
                    <a:lnTo>
                      <a:pt x="49" y="19"/>
                    </a:lnTo>
                    <a:lnTo>
                      <a:pt x="50" y="0"/>
                    </a:lnTo>
                    <a:lnTo>
                      <a:pt x="37" y="0"/>
                    </a:lnTo>
                    <a:lnTo>
                      <a:pt x="35" y="18"/>
                    </a:lnTo>
                    <a:lnTo>
                      <a:pt x="30" y="34"/>
                    </a:lnTo>
                    <a:lnTo>
                      <a:pt x="25" y="48"/>
                    </a:lnTo>
                    <a:lnTo>
                      <a:pt x="18" y="61"/>
                    </a:lnTo>
                    <a:lnTo>
                      <a:pt x="13" y="76"/>
                    </a:lnTo>
                    <a:lnTo>
                      <a:pt x="6" y="89"/>
                    </a:lnTo>
                    <a:lnTo>
                      <a:pt x="1" y="105"/>
                    </a:lnTo>
                    <a:lnTo>
                      <a:pt x="0" y="120"/>
                    </a:lnTo>
                    <a:lnTo>
                      <a:pt x="1" y="118"/>
                    </a:lnTo>
                    <a:lnTo>
                      <a:pt x="15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89200" y="3465000"/>
                <a:ext cx="30600" cy="8316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20" y="52"/>
                    </a:moveTo>
                    <a:lnTo>
                      <a:pt x="19" y="45"/>
                    </a:lnTo>
                    <a:lnTo>
                      <a:pt x="17" y="37"/>
                    </a:lnTo>
                    <a:lnTo>
                      <a:pt x="15" y="32"/>
                    </a:lnTo>
                    <a:lnTo>
                      <a:pt x="13" y="28"/>
                    </a:lnTo>
                    <a:lnTo>
                      <a:pt x="13" y="23"/>
                    </a:lnTo>
                    <a:lnTo>
                      <a:pt x="13" y="18"/>
                    </a:lnTo>
                    <a:lnTo>
                      <a:pt x="13" y="11"/>
                    </a:lnTo>
                    <a:lnTo>
                      <a:pt x="17" y="5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2" y="36"/>
                    </a:lnTo>
                    <a:lnTo>
                      <a:pt x="3" y="42"/>
                    </a:lnTo>
                    <a:lnTo>
                      <a:pt x="5" y="47"/>
                    </a:lnTo>
                    <a:lnTo>
                      <a:pt x="7" y="54"/>
                    </a:lnTo>
                    <a:lnTo>
                      <a:pt x="2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55760" y="3150720"/>
                <a:ext cx="502560" cy="132480"/>
              </a:xfrm>
              <a:custGeom>
                <a:avLst/>
                <a:gdLst/>
                <a:ahLst/>
                <a:rect l="l" t="t" r="r" b="b"/>
                <a:pathLst>
                  <a:path w="326" h="86">
                    <a:moveTo>
                      <a:pt x="0" y="44"/>
                    </a:moveTo>
                    <a:lnTo>
                      <a:pt x="13" y="42"/>
                    </a:lnTo>
                    <a:lnTo>
                      <a:pt x="23" y="41"/>
                    </a:lnTo>
                    <a:lnTo>
                      <a:pt x="33" y="37"/>
                    </a:lnTo>
                    <a:lnTo>
                      <a:pt x="40" y="34"/>
                    </a:lnTo>
                    <a:lnTo>
                      <a:pt x="49" y="28"/>
                    </a:lnTo>
                    <a:lnTo>
                      <a:pt x="55" y="21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89" y="2"/>
                    </a:lnTo>
                    <a:lnTo>
                      <a:pt x="102" y="8"/>
                    </a:lnTo>
                    <a:lnTo>
                      <a:pt x="118" y="18"/>
                    </a:lnTo>
                    <a:lnTo>
                      <a:pt x="133" y="29"/>
                    </a:lnTo>
                    <a:lnTo>
                      <a:pt x="148" y="41"/>
                    </a:lnTo>
                    <a:lnTo>
                      <a:pt x="165" y="49"/>
                    </a:lnTo>
                    <a:lnTo>
                      <a:pt x="172" y="52"/>
                    </a:lnTo>
                    <a:lnTo>
                      <a:pt x="180" y="55"/>
                    </a:lnTo>
                    <a:lnTo>
                      <a:pt x="187" y="55"/>
                    </a:lnTo>
                    <a:lnTo>
                      <a:pt x="193" y="55"/>
                    </a:lnTo>
                    <a:lnTo>
                      <a:pt x="198" y="49"/>
                    </a:lnTo>
                    <a:lnTo>
                      <a:pt x="204" y="44"/>
                    </a:lnTo>
                    <a:lnTo>
                      <a:pt x="210" y="39"/>
                    </a:lnTo>
                    <a:lnTo>
                      <a:pt x="217" y="36"/>
                    </a:lnTo>
                    <a:lnTo>
                      <a:pt x="225" y="32"/>
                    </a:lnTo>
                    <a:lnTo>
                      <a:pt x="234" y="29"/>
                    </a:lnTo>
                    <a:lnTo>
                      <a:pt x="244" y="28"/>
                    </a:lnTo>
                    <a:lnTo>
                      <a:pt x="256" y="26"/>
                    </a:lnTo>
                    <a:lnTo>
                      <a:pt x="262" y="44"/>
                    </a:lnTo>
                    <a:lnTo>
                      <a:pt x="268" y="57"/>
                    </a:lnTo>
                    <a:lnTo>
                      <a:pt x="271" y="65"/>
                    </a:lnTo>
                    <a:lnTo>
                      <a:pt x="274" y="71"/>
                    </a:lnTo>
                    <a:lnTo>
                      <a:pt x="281" y="76"/>
                    </a:lnTo>
                    <a:lnTo>
                      <a:pt x="289" y="79"/>
                    </a:lnTo>
                    <a:lnTo>
                      <a:pt x="305" y="83"/>
                    </a:lnTo>
                    <a:lnTo>
                      <a:pt x="326" y="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7000" y="3219840"/>
                <a:ext cx="98280" cy="317880"/>
              </a:xfrm>
              <a:custGeom>
                <a:avLst/>
                <a:gdLst/>
                <a:ahLst/>
                <a:rect l="l" t="t" r="r" b="b"/>
                <a:pathLst>
                  <a:path w="64" h="206">
                    <a:moveTo>
                      <a:pt x="54" y="0"/>
                    </a:moveTo>
                    <a:lnTo>
                      <a:pt x="54" y="8"/>
                    </a:lnTo>
                    <a:lnTo>
                      <a:pt x="55" y="15"/>
                    </a:lnTo>
                    <a:lnTo>
                      <a:pt x="57" y="21"/>
                    </a:lnTo>
                    <a:lnTo>
                      <a:pt x="59" y="26"/>
                    </a:lnTo>
                    <a:lnTo>
                      <a:pt x="61" y="33"/>
                    </a:lnTo>
                    <a:lnTo>
                      <a:pt x="62" y="38"/>
                    </a:lnTo>
                    <a:lnTo>
                      <a:pt x="62" y="44"/>
                    </a:lnTo>
                    <a:lnTo>
                      <a:pt x="64" y="49"/>
                    </a:lnTo>
                    <a:lnTo>
                      <a:pt x="52" y="65"/>
                    </a:lnTo>
                    <a:lnTo>
                      <a:pt x="40" y="83"/>
                    </a:lnTo>
                    <a:lnTo>
                      <a:pt x="29" y="102"/>
                    </a:lnTo>
                    <a:lnTo>
                      <a:pt x="17" y="123"/>
                    </a:lnTo>
                    <a:lnTo>
                      <a:pt x="8" y="145"/>
                    </a:lnTo>
                    <a:lnTo>
                      <a:pt x="3" y="166"/>
                    </a:lnTo>
                    <a:lnTo>
                      <a:pt x="0" y="175"/>
                    </a:lnTo>
                    <a:lnTo>
                      <a:pt x="0" y="187"/>
                    </a:lnTo>
                    <a:lnTo>
                      <a:pt x="0" y="196"/>
                    </a:lnTo>
                    <a:lnTo>
                      <a:pt x="2" y="20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87120" y="3662640"/>
                <a:ext cx="312840" cy="147600"/>
              </a:xfrm>
              <a:custGeom>
                <a:avLst/>
                <a:gdLst/>
                <a:ahLst/>
                <a:rect l="l" t="t" r="r" b="b"/>
                <a:pathLst>
                  <a:path w="203" h="96">
                    <a:moveTo>
                      <a:pt x="203" y="96"/>
                    </a:moveTo>
                    <a:lnTo>
                      <a:pt x="188" y="91"/>
                    </a:lnTo>
                    <a:lnTo>
                      <a:pt x="173" y="84"/>
                    </a:lnTo>
                    <a:lnTo>
                      <a:pt x="158" y="78"/>
                    </a:lnTo>
                    <a:lnTo>
                      <a:pt x="144" y="70"/>
                    </a:lnTo>
                    <a:lnTo>
                      <a:pt x="131" y="62"/>
                    </a:lnTo>
                    <a:lnTo>
                      <a:pt x="118" y="52"/>
                    </a:lnTo>
                    <a:lnTo>
                      <a:pt x="106" y="42"/>
                    </a:lnTo>
                    <a:lnTo>
                      <a:pt x="92" y="32"/>
                    </a:lnTo>
                    <a:lnTo>
                      <a:pt x="77" y="34"/>
                    </a:lnTo>
                    <a:lnTo>
                      <a:pt x="64" y="32"/>
                    </a:lnTo>
                    <a:lnTo>
                      <a:pt x="52" y="29"/>
                    </a:lnTo>
                    <a:lnTo>
                      <a:pt x="42" y="24"/>
                    </a:lnTo>
                    <a:lnTo>
                      <a:pt x="32" y="18"/>
                    </a:lnTo>
                    <a:lnTo>
                      <a:pt x="22" y="13"/>
                    </a:lnTo>
                    <a:lnTo>
                      <a:pt x="11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77680" y="3810600"/>
                <a:ext cx="422280" cy="419400"/>
              </a:xfrm>
              <a:custGeom>
                <a:avLst/>
                <a:gdLst/>
                <a:ahLst/>
                <a:rect l="l" t="t" r="r" b="b"/>
                <a:pathLst>
                  <a:path w="274" h="272">
                    <a:moveTo>
                      <a:pt x="5" y="272"/>
                    </a:moveTo>
                    <a:lnTo>
                      <a:pt x="3" y="264"/>
                    </a:lnTo>
                    <a:lnTo>
                      <a:pt x="2" y="257"/>
                    </a:lnTo>
                    <a:lnTo>
                      <a:pt x="2" y="249"/>
                    </a:lnTo>
                    <a:lnTo>
                      <a:pt x="0" y="241"/>
                    </a:lnTo>
                    <a:lnTo>
                      <a:pt x="0" y="233"/>
                    </a:lnTo>
                    <a:lnTo>
                      <a:pt x="0" y="225"/>
                    </a:lnTo>
                    <a:lnTo>
                      <a:pt x="0" y="218"/>
                    </a:lnTo>
                    <a:lnTo>
                      <a:pt x="2" y="212"/>
                    </a:lnTo>
                    <a:lnTo>
                      <a:pt x="12" y="212"/>
                    </a:lnTo>
                    <a:lnTo>
                      <a:pt x="24" y="210"/>
                    </a:lnTo>
                    <a:lnTo>
                      <a:pt x="35" y="208"/>
                    </a:lnTo>
                    <a:lnTo>
                      <a:pt x="47" y="205"/>
                    </a:lnTo>
                    <a:lnTo>
                      <a:pt x="59" y="204"/>
                    </a:lnTo>
                    <a:lnTo>
                      <a:pt x="71" y="200"/>
                    </a:lnTo>
                    <a:lnTo>
                      <a:pt x="82" y="197"/>
                    </a:lnTo>
                    <a:lnTo>
                      <a:pt x="96" y="196"/>
                    </a:lnTo>
                    <a:lnTo>
                      <a:pt x="98" y="187"/>
                    </a:lnTo>
                    <a:lnTo>
                      <a:pt x="99" y="179"/>
                    </a:lnTo>
                    <a:lnTo>
                      <a:pt x="103" y="168"/>
                    </a:lnTo>
                    <a:lnTo>
                      <a:pt x="104" y="158"/>
                    </a:lnTo>
                    <a:lnTo>
                      <a:pt x="108" y="147"/>
                    </a:lnTo>
                    <a:lnTo>
                      <a:pt x="113" y="136"/>
                    </a:lnTo>
                    <a:lnTo>
                      <a:pt x="116" y="126"/>
                    </a:lnTo>
                    <a:lnTo>
                      <a:pt x="119" y="116"/>
                    </a:lnTo>
                    <a:lnTo>
                      <a:pt x="123" y="116"/>
                    </a:lnTo>
                    <a:lnTo>
                      <a:pt x="125" y="116"/>
                    </a:lnTo>
                    <a:lnTo>
                      <a:pt x="126" y="116"/>
                    </a:lnTo>
                    <a:lnTo>
                      <a:pt x="130" y="116"/>
                    </a:lnTo>
                    <a:lnTo>
                      <a:pt x="131" y="116"/>
                    </a:lnTo>
                    <a:lnTo>
                      <a:pt x="135" y="116"/>
                    </a:lnTo>
                    <a:lnTo>
                      <a:pt x="136" y="115"/>
                    </a:lnTo>
                    <a:lnTo>
                      <a:pt x="138" y="115"/>
                    </a:lnTo>
                    <a:lnTo>
                      <a:pt x="138" y="113"/>
                    </a:lnTo>
                    <a:lnTo>
                      <a:pt x="140" y="113"/>
                    </a:lnTo>
                    <a:lnTo>
                      <a:pt x="140" y="111"/>
                    </a:lnTo>
                    <a:lnTo>
                      <a:pt x="140" y="110"/>
                    </a:lnTo>
                    <a:lnTo>
                      <a:pt x="141" y="108"/>
                    </a:lnTo>
                    <a:lnTo>
                      <a:pt x="141" y="106"/>
                    </a:lnTo>
                    <a:lnTo>
                      <a:pt x="141" y="105"/>
                    </a:lnTo>
                    <a:lnTo>
                      <a:pt x="143" y="103"/>
                    </a:lnTo>
                    <a:lnTo>
                      <a:pt x="146" y="105"/>
                    </a:lnTo>
                    <a:lnTo>
                      <a:pt x="150" y="105"/>
                    </a:lnTo>
                    <a:lnTo>
                      <a:pt x="157" y="105"/>
                    </a:lnTo>
                    <a:lnTo>
                      <a:pt x="163" y="105"/>
                    </a:lnTo>
                    <a:lnTo>
                      <a:pt x="170" y="105"/>
                    </a:lnTo>
                    <a:lnTo>
                      <a:pt x="175" y="105"/>
                    </a:lnTo>
                    <a:lnTo>
                      <a:pt x="182" y="105"/>
                    </a:lnTo>
                    <a:lnTo>
                      <a:pt x="187" y="103"/>
                    </a:lnTo>
                    <a:lnTo>
                      <a:pt x="187" y="100"/>
                    </a:lnTo>
                    <a:lnTo>
                      <a:pt x="185" y="95"/>
                    </a:lnTo>
                    <a:lnTo>
                      <a:pt x="185" y="90"/>
                    </a:lnTo>
                    <a:lnTo>
                      <a:pt x="183" y="85"/>
                    </a:lnTo>
                    <a:lnTo>
                      <a:pt x="182" y="81"/>
                    </a:lnTo>
                    <a:lnTo>
                      <a:pt x="182" y="74"/>
                    </a:lnTo>
                    <a:lnTo>
                      <a:pt x="183" y="68"/>
                    </a:lnTo>
                    <a:lnTo>
                      <a:pt x="185" y="63"/>
                    </a:lnTo>
                    <a:lnTo>
                      <a:pt x="190" y="63"/>
                    </a:lnTo>
                    <a:lnTo>
                      <a:pt x="195" y="61"/>
                    </a:lnTo>
                    <a:lnTo>
                      <a:pt x="199" y="61"/>
                    </a:lnTo>
                    <a:lnTo>
                      <a:pt x="204" y="61"/>
                    </a:lnTo>
                    <a:lnTo>
                      <a:pt x="209" y="60"/>
                    </a:lnTo>
                    <a:lnTo>
                      <a:pt x="212" y="60"/>
                    </a:lnTo>
                    <a:lnTo>
                      <a:pt x="217" y="58"/>
                    </a:lnTo>
                    <a:lnTo>
                      <a:pt x="222" y="58"/>
                    </a:lnTo>
                    <a:lnTo>
                      <a:pt x="222" y="55"/>
                    </a:lnTo>
                    <a:lnTo>
                      <a:pt x="222" y="51"/>
                    </a:lnTo>
                    <a:lnTo>
                      <a:pt x="224" y="48"/>
                    </a:lnTo>
                    <a:lnTo>
                      <a:pt x="224" y="45"/>
                    </a:lnTo>
                    <a:lnTo>
                      <a:pt x="226" y="42"/>
                    </a:lnTo>
                    <a:lnTo>
                      <a:pt x="226" y="38"/>
                    </a:lnTo>
                    <a:lnTo>
                      <a:pt x="227" y="34"/>
                    </a:lnTo>
                    <a:lnTo>
                      <a:pt x="231" y="27"/>
                    </a:lnTo>
                    <a:lnTo>
                      <a:pt x="239" y="25"/>
                    </a:lnTo>
                    <a:lnTo>
                      <a:pt x="246" y="24"/>
                    </a:lnTo>
                    <a:lnTo>
                      <a:pt x="251" y="22"/>
                    </a:lnTo>
                    <a:lnTo>
                      <a:pt x="256" y="19"/>
                    </a:lnTo>
                    <a:lnTo>
                      <a:pt x="259" y="14"/>
                    </a:lnTo>
                    <a:lnTo>
                      <a:pt x="264" y="11"/>
                    </a:lnTo>
                    <a:lnTo>
                      <a:pt x="268" y="6"/>
                    </a:lnTo>
                    <a:lnTo>
                      <a:pt x="27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10160" y="3219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10160" y="3218400"/>
                <a:ext cx="365400" cy="93960"/>
              </a:xfrm>
              <a:custGeom>
                <a:avLst/>
                <a:gdLst/>
                <a:ahLst/>
                <a:rect l="l" t="t" r="r" b="b"/>
                <a:pathLst>
                  <a:path w="237" h="61">
                    <a:moveTo>
                      <a:pt x="224" y="0"/>
                    </a:moveTo>
                    <a:lnTo>
                      <a:pt x="225" y="9"/>
                    </a:lnTo>
                    <a:lnTo>
                      <a:pt x="225" y="16"/>
                    </a:lnTo>
                    <a:lnTo>
                      <a:pt x="227" y="22"/>
                    </a:lnTo>
                    <a:lnTo>
                      <a:pt x="227" y="27"/>
                    </a:lnTo>
                    <a:lnTo>
                      <a:pt x="229" y="31"/>
                    </a:lnTo>
                    <a:lnTo>
                      <a:pt x="231" y="35"/>
                    </a:lnTo>
                    <a:lnTo>
                      <a:pt x="232" y="40"/>
                    </a:lnTo>
                    <a:lnTo>
                      <a:pt x="237" y="47"/>
                    </a:lnTo>
                    <a:lnTo>
                      <a:pt x="231" y="52"/>
                    </a:lnTo>
                    <a:lnTo>
                      <a:pt x="225" y="56"/>
                    </a:lnTo>
                    <a:lnTo>
                      <a:pt x="219" y="58"/>
                    </a:lnTo>
                    <a:lnTo>
                      <a:pt x="212" y="60"/>
                    </a:lnTo>
                    <a:lnTo>
                      <a:pt x="199" y="60"/>
                    </a:lnTo>
                    <a:lnTo>
                      <a:pt x="183" y="60"/>
                    </a:lnTo>
                    <a:lnTo>
                      <a:pt x="170" y="58"/>
                    </a:lnTo>
                    <a:lnTo>
                      <a:pt x="155" y="56"/>
                    </a:lnTo>
                    <a:lnTo>
                      <a:pt x="143" y="56"/>
                    </a:lnTo>
                    <a:lnTo>
                      <a:pt x="131" y="61"/>
                    </a:lnTo>
                    <a:lnTo>
                      <a:pt x="129" y="61"/>
                    </a:lnTo>
                    <a:lnTo>
                      <a:pt x="129" y="61"/>
                    </a:lnTo>
                    <a:lnTo>
                      <a:pt x="128" y="61"/>
                    </a:lnTo>
                    <a:lnTo>
                      <a:pt x="126" y="61"/>
                    </a:lnTo>
                    <a:lnTo>
                      <a:pt x="124" y="61"/>
                    </a:lnTo>
                    <a:lnTo>
                      <a:pt x="124" y="61"/>
                    </a:lnTo>
                    <a:lnTo>
                      <a:pt x="123" y="61"/>
                    </a:lnTo>
                    <a:lnTo>
                      <a:pt x="121" y="61"/>
                    </a:lnTo>
                    <a:lnTo>
                      <a:pt x="111" y="50"/>
                    </a:lnTo>
                    <a:lnTo>
                      <a:pt x="99" y="43"/>
                    </a:lnTo>
                    <a:lnTo>
                      <a:pt x="87" y="39"/>
                    </a:lnTo>
                    <a:lnTo>
                      <a:pt x="77" y="35"/>
                    </a:lnTo>
                    <a:lnTo>
                      <a:pt x="65" y="32"/>
                    </a:lnTo>
                    <a:lnTo>
                      <a:pt x="55" y="27"/>
                    </a:lnTo>
                    <a:lnTo>
                      <a:pt x="52" y="24"/>
                    </a:lnTo>
                    <a:lnTo>
                      <a:pt x="47" y="19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25120" y="2997720"/>
                <a:ext cx="184680" cy="228240"/>
              </a:xfrm>
              <a:custGeom>
                <a:avLst/>
                <a:gdLst/>
                <a:ahLst/>
                <a:rect l="l" t="t" r="r" b="b"/>
                <a:pathLst>
                  <a:path w="120" h="148">
                    <a:moveTo>
                      <a:pt x="120" y="144"/>
                    </a:moveTo>
                    <a:lnTo>
                      <a:pt x="115" y="144"/>
                    </a:lnTo>
                    <a:lnTo>
                      <a:pt x="110" y="144"/>
                    </a:lnTo>
                    <a:lnTo>
                      <a:pt x="106" y="146"/>
                    </a:lnTo>
                    <a:lnTo>
                      <a:pt x="101" y="146"/>
                    </a:lnTo>
                    <a:lnTo>
                      <a:pt x="96" y="146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3" y="148"/>
                    </a:lnTo>
                    <a:lnTo>
                      <a:pt x="83" y="141"/>
                    </a:lnTo>
                    <a:lnTo>
                      <a:pt x="81" y="135"/>
                    </a:lnTo>
                    <a:lnTo>
                      <a:pt x="79" y="127"/>
                    </a:lnTo>
                    <a:lnTo>
                      <a:pt x="78" y="120"/>
                    </a:lnTo>
                    <a:lnTo>
                      <a:pt x="76" y="114"/>
                    </a:lnTo>
                    <a:lnTo>
                      <a:pt x="73" y="106"/>
                    </a:lnTo>
                    <a:lnTo>
                      <a:pt x="71" y="97"/>
                    </a:lnTo>
                    <a:lnTo>
                      <a:pt x="71" y="89"/>
                    </a:lnTo>
                    <a:lnTo>
                      <a:pt x="66" y="91"/>
                    </a:lnTo>
                    <a:lnTo>
                      <a:pt x="63" y="91"/>
                    </a:lnTo>
                    <a:lnTo>
                      <a:pt x="59" y="91"/>
                    </a:lnTo>
                    <a:lnTo>
                      <a:pt x="56" y="93"/>
                    </a:lnTo>
                    <a:lnTo>
                      <a:pt x="51" y="93"/>
                    </a:lnTo>
                    <a:lnTo>
                      <a:pt x="47" y="93"/>
                    </a:lnTo>
                    <a:lnTo>
                      <a:pt x="44" y="93"/>
                    </a:lnTo>
                    <a:lnTo>
                      <a:pt x="41" y="94"/>
                    </a:lnTo>
                    <a:lnTo>
                      <a:pt x="39" y="89"/>
                    </a:lnTo>
                    <a:lnTo>
                      <a:pt x="39" y="84"/>
                    </a:lnTo>
                    <a:lnTo>
                      <a:pt x="39" y="81"/>
                    </a:lnTo>
                    <a:lnTo>
                      <a:pt x="41" y="78"/>
                    </a:lnTo>
                    <a:lnTo>
                      <a:pt x="41" y="73"/>
                    </a:lnTo>
                    <a:lnTo>
                      <a:pt x="42" y="68"/>
                    </a:lnTo>
                    <a:lnTo>
                      <a:pt x="42" y="62"/>
                    </a:lnTo>
                    <a:lnTo>
                      <a:pt x="42" y="54"/>
                    </a:lnTo>
                    <a:lnTo>
                      <a:pt x="31" y="50"/>
                    </a:lnTo>
                    <a:lnTo>
                      <a:pt x="20" y="47"/>
                    </a:lnTo>
                    <a:lnTo>
                      <a:pt x="12" y="42"/>
                    </a:lnTo>
                    <a:lnTo>
                      <a:pt x="5" y="37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90440" y="2965680"/>
                <a:ext cx="265320" cy="252720"/>
              </a:xfrm>
              <a:custGeom>
                <a:avLst/>
                <a:gdLst/>
                <a:ahLst/>
                <a:rect l="l" t="t" r="r" b="b"/>
                <a:pathLst>
                  <a:path w="172" h="164">
                    <a:moveTo>
                      <a:pt x="0" y="0"/>
                    </a:moveTo>
                    <a:lnTo>
                      <a:pt x="10" y="7"/>
                    </a:lnTo>
                    <a:lnTo>
                      <a:pt x="20" y="12"/>
                    </a:lnTo>
                    <a:lnTo>
                      <a:pt x="29" y="15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7" y="24"/>
                    </a:lnTo>
                    <a:lnTo>
                      <a:pt x="67" y="28"/>
                    </a:lnTo>
                    <a:lnTo>
                      <a:pt x="77" y="33"/>
                    </a:lnTo>
                    <a:lnTo>
                      <a:pt x="79" y="41"/>
                    </a:lnTo>
                    <a:lnTo>
                      <a:pt x="83" y="46"/>
                    </a:lnTo>
                    <a:lnTo>
                      <a:pt x="86" y="50"/>
                    </a:lnTo>
                    <a:lnTo>
                      <a:pt x="91" y="54"/>
                    </a:lnTo>
                    <a:lnTo>
                      <a:pt x="94" y="57"/>
                    </a:lnTo>
                    <a:lnTo>
                      <a:pt x="99" y="62"/>
                    </a:lnTo>
                    <a:lnTo>
                      <a:pt x="103" y="65"/>
                    </a:lnTo>
                    <a:lnTo>
                      <a:pt x="106" y="71"/>
                    </a:lnTo>
                    <a:lnTo>
                      <a:pt x="109" y="71"/>
                    </a:lnTo>
                    <a:lnTo>
                      <a:pt x="115" y="71"/>
                    </a:lnTo>
                    <a:lnTo>
                      <a:pt x="118" y="71"/>
                    </a:lnTo>
                    <a:lnTo>
                      <a:pt x="123" y="71"/>
                    </a:lnTo>
                    <a:lnTo>
                      <a:pt x="128" y="71"/>
                    </a:lnTo>
                    <a:lnTo>
                      <a:pt x="131" y="71"/>
                    </a:lnTo>
                    <a:lnTo>
                      <a:pt x="136" y="71"/>
                    </a:lnTo>
                    <a:lnTo>
                      <a:pt x="141" y="71"/>
                    </a:lnTo>
                    <a:lnTo>
                      <a:pt x="145" y="81"/>
                    </a:lnTo>
                    <a:lnTo>
                      <a:pt x="148" y="93"/>
                    </a:lnTo>
                    <a:lnTo>
                      <a:pt x="152" y="104"/>
                    </a:lnTo>
                    <a:lnTo>
                      <a:pt x="157" y="115"/>
                    </a:lnTo>
                    <a:lnTo>
                      <a:pt x="160" y="128"/>
                    </a:lnTo>
                    <a:lnTo>
                      <a:pt x="165" y="139"/>
                    </a:lnTo>
                    <a:lnTo>
                      <a:pt x="168" y="152"/>
                    </a:lnTo>
                    <a:lnTo>
                      <a:pt x="172" y="16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56640" y="2248200"/>
                <a:ext cx="171360" cy="152640"/>
              </a:xfrm>
              <a:custGeom>
                <a:avLst/>
                <a:gdLst/>
                <a:ahLst/>
                <a:rect l="l" t="t" r="r" b="b"/>
                <a:pathLst>
                  <a:path w="111" h="99">
                    <a:moveTo>
                      <a:pt x="109" y="99"/>
                    </a:moveTo>
                    <a:lnTo>
                      <a:pt x="111" y="94"/>
                    </a:lnTo>
                    <a:lnTo>
                      <a:pt x="111" y="89"/>
                    </a:lnTo>
                    <a:lnTo>
                      <a:pt x="109" y="83"/>
                    </a:lnTo>
                    <a:lnTo>
                      <a:pt x="108" y="77"/>
                    </a:lnTo>
                    <a:lnTo>
                      <a:pt x="101" y="64"/>
                    </a:lnTo>
                    <a:lnTo>
                      <a:pt x="92" y="51"/>
                    </a:lnTo>
                    <a:lnTo>
                      <a:pt x="81" y="38"/>
                    </a:lnTo>
                    <a:lnTo>
                      <a:pt x="70" y="26"/>
                    </a:lnTo>
                    <a:lnTo>
                      <a:pt x="62" y="15"/>
                    </a:lnTo>
                    <a:lnTo>
                      <a:pt x="55" y="7"/>
                    </a:lnTo>
                    <a:lnTo>
                      <a:pt x="47" y="7"/>
                    </a:lnTo>
                    <a:lnTo>
                      <a:pt x="38" y="7"/>
                    </a:lnTo>
                    <a:lnTo>
                      <a:pt x="32" y="5"/>
                    </a:lnTo>
                    <a:lnTo>
                      <a:pt x="25" y="5"/>
                    </a:lnTo>
                    <a:lnTo>
                      <a:pt x="18" y="5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64560" y="2401200"/>
                <a:ext cx="246600" cy="729000"/>
              </a:xfrm>
              <a:custGeom>
                <a:avLst/>
                <a:gdLst/>
                <a:ahLst/>
                <a:rect l="l" t="t" r="r" b="b"/>
                <a:pathLst>
                  <a:path w="160" h="473">
                    <a:moveTo>
                      <a:pt x="160" y="473"/>
                    </a:moveTo>
                    <a:lnTo>
                      <a:pt x="155" y="468"/>
                    </a:lnTo>
                    <a:lnTo>
                      <a:pt x="151" y="467"/>
                    </a:lnTo>
                    <a:lnTo>
                      <a:pt x="148" y="463"/>
                    </a:lnTo>
                    <a:lnTo>
                      <a:pt x="146" y="460"/>
                    </a:lnTo>
                    <a:lnTo>
                      <a:pt x="146" y="459"/>
                    </a:lnTo>
                    <a:lnTo>
                      <a:pt x="145" y="455"/>
                    </a:lnTo>
                    <a:lnTo>
                      <a:pt x="145" y="452"/>
                    </a:lnTo>
                    <a:lnTo>
                      <a:pt x="143" y="447"/>
                    </a:lnTo>
                    <a:lnTo>
                      <a:pt x="131" y="437"/>
                    </a:lnTo>
                    <a:lnTo>
                      <a:pt x="123" y="429"/>
                    </a:lnTo>
                    <a:lnTo>
                      <a:pt x="119" y="420"/>
                    </a:lnTo>
                    <a:lnTo>
                      <a:pt x="118" y="408"/>
                    </a:lnTo>
                    <a:lnTo>
                      <a:pt x="118" y="399"/>
                    </a:lnTo>
                    <a:lnTo>
                      <a:pt x="119" y="387"/>
                    </a:lnTo>
                    <a:lnTo>
                      <a:pt x="124" y="374"/>
                    </a:lnTo>
                    <a:lnTo>
                      <a:pt x="128" y="363"/>
                    </a:lnTo>
                    <a:lnTo>
                      <a:pt x="140" y="337"/>
                    </a:lnTo>
                    <a:lnTo>
                      <a:pt x="148" y="311"/>
                    </a:lnTo>
                    <a:lnTo>
                      <a:pt x="151" y="297"/>
                    </a:lnTo>
                    <a:lnTo>
                      <a:pt x="151" y="282"/>
                    </a:lnTo>
                    <a:lnTo>
                      <a:pt x="151" y="267"/>
                    </a:lnTo>
                    <a:lnTo>
                      <a:pt x="146" y="251"/>
                    </a:lnTo>
                    <a:lnTo>
                      <a:pt x="140" y="251"/>
                    </a:lnTo>
                    <a:lnTo>
                      <a:pt x="135" y="251"/>
                    </a:lnTo>
                    <a:lnTo>
                      <a:pt x="128" y="251"/>
                    </a:lnTo>
                    <a:lnTo>
                      <a:pt x="121" y="251"/>
                    </a:lnTo>
                    <a:lnTo>
                      <a:pt x="114" y="251"/>
                    </a:lnTo>
                    <a:lnTo>
                      <a:pt x="109" y="251"/>
                    </a:lnTo>
                    <a:lnTo>
                      <a:pt x="103" y="251"/>
                    </a:lnTo>
                    <a:lnTo>
                      <a:pt x="97" y="251"/>
                    </a:lnTo>
                    <a:lnTo>
                      <a:pt x="96" y="240"/>
                    </a:lnTo>
                    <a:lnTo>
                      <a:pt x="96" y="229"/>
                    </a:lnTo>
                    <a:lnTo>
                      <a:pt x="94" y="219"/>
                    </a:lnTo>
                    <a:lnTo>
                      <a:pt x="94" y="211"/>
                    </a:lnTo>
                    <a:lnTo>
                      <a:pt x="96" y="199"/>
                    </a:lnTo>
                    <a:lnTo>
                      <a:pt x="97" y="190"/>
                    </a:lnTo>
                    <a:lnTo>
                      <a:pt x="99" y="177"/>
                    </a:lnTo>
                    <a:lnTo>
                      <a:pt x="104" y="162"/>
                    </a:lnTo>
                    <a:lnTo>
                      <a:pt x="101" y="161"/>
                    </a:lnTo>
                    <a:lnTo>
                      <a:pt x="96" y="161"/>
                    </a:lnTo>
                    <a:lnTo>
                      <a:pt x="92" y="159"/>
                    </a:lnTo>
                    <a:lnTo>
                      <a:pt x="89" y="159"/>
                    </a:lnTo>
                    <a:lnTo>
                      <a:pt x="84" y="159"/>
                    </a:lnTo>
                    <a:lnTo>
                      <a:pt x="81" y="159"/>
                    </a:lnTo>
                    <a:lnTo>
                      <a:pt x="77" y="157"/>
                    </a:lnTo>
                    <a:lnTo>
                      <a:pt x="72" y="157"/>
                    </a:lnTo>
                    <a:lnTo>
                      <a:pt x="55" y="157"/>
                    </a:lnTo>
                    <a:lnTo>
                      <a:pt x="40" y="156"/>
                    </a:lnTo>
                    <a:lnTo>
                      <a:pt x="27" y="154"/>
                    </a:lnTo>
                    <a:lnTo>
                      <a:pt x="17" y="149"/>
                    </a:lnTo>
                    <a:lnTo>
                      <a:pt x="13" y="146"/>
                    </a:lnTo>
                    <a:lnTo>
                      <a:pt x="10" y="141"/>
                    </a:lnTo>
                    <a:lnTo>
                      <a:pt x="7" y="136"/>
                    </a:lnTo>
                    <a:lnTo>
                      <a:pt x="5" y="130"/>
                    </a:lnTo>
                    <a:lnTo>
                      <a:pt x="2" y="114"/>
                    </a:lnTo>
                    <a:lnTo>
                      <a:pt x="0" y="92"/>
                    </a:lnTo>
                    <a:lnTo>
                      <a:pt x="15" y="83"/>
                    </a:lnTo>
                    <a:lnTo>
                      <a:pt x="28" y="71"/>
                    </a:lnTo>
                    <a:lnTo>
                      <a:pt x="40" y="60"/>
                    </a:lnTo>
                    <a:lnTo>
                      <a:pt x="52" y="47"/>
                    </a:lnTo>
                    <a:lnTo>
                      <a:pt x="64" y="36"/>
                    </a:lnTo>
                    <a:lnTo>
                      <a:pt x="76" y="24"/>
                    </a:lnTo>
                    <a:lnTo>
                      <a:pt x="89" y="13"/>
                    </a:lnTo>
                    <a:lnTo>
                      <a:pt x="10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11160" y="3020760"/>
                <a:ext cx="892800" cy="114120"/>
              </a:xfrm>
              <a:custGeom>
                <a:avLst/>
                <a:gdLst/>
                <a:ahLst/>
                <a:rect l="l" t="t" r="r" b="b"/>
                <a:pathLst>
                  <a:path w="579" h="74">
                    <a:moveTo>
                      <a:pt x="579" y="48"/>
                    </a:moveTo>
                    <a:lnTo>
                      <a:pt x="569" y="55"/>
                    </a:lnTo>
                    <a:lnTo>
                      <a:pt x="559" y="60"/>
                    </a:lnTo>
                    <a:lnTo>
                      <a:pt x="549" y="63"/>
                    </a:lnTo>
                    <a:lnTo>
                      <a:pt x="539" y="65"/>
                    </a:lnTo>
                    <a:lnTo>
                      <a:pt x="529" y="65"/>
                    </a:lnTo>
                    <a:lnTo>
                      <a:pt x="518" y="63"/>
                    </a:lnTo>
                    <a:lnTo>
                      <a:pt x="507" y="60"/>
                    </a:lnTo>
                    <a:lnTo>
                      <a:pt x="497" y="57"/>
                    </a:lnTo>
                    <a:lnTo>
                      <a:pt x="478" y="48"/>
                    </a:lnTo>
                    <a:lnTo>
                      <a:pt x="460" y="40"/>
                    </a:lnTo>
                    <a:lnTo>
                      <a:pt x="443" y="32"/>
                    </a:lnTo>
                    <a:lnTo>
                      <a:pt x="428" y="27"/>
                    </a:lnTo>
                    <a:lnTo>
                      <a:pt x="394" y="24"/>
                    </a:lnTo>
                    <a:lnTo>
                      <a:pt x="394" y="21"/>
                    </a:lnTo>
                    <a:lnTo>
                      <a:pt x="394" y="19"/>
                    </a:lnTo>
                    <a:lnTo>
                      <a:pt x="394" y="16"/>
                    </a:lnTo>
                    <a:lnTo>
                      <a:pt x="394" y="13"/>
                    </a:lnTo>
                    <a:lnTo>
                      <a:pt x="394" y="10"/>
                    </a:lnTo>
                    <a:lnTo>
                      <a:pt x="394" y="6"/>
                    </a:lnTo>
                    <a:lnTo>
                      <a:pt x="394" y="3"/>
                    </a:lnTo>
                    <a:lnTo>
                      <a:pt x="396" y="0"/>
                    </a:lnTo>
                    <a:lnTo>
                      <a:pt x="382" y="1"/>
                    </a:lnTo>
                    <a:lnTo>
                      <a:pt x="369" y="3"/>
                    </a:lnTo>
                    <a:lnTo>
                      <a:pt x="355" y="8"/>
                    </a:lnTo>
                    <a:lnTo>
                      <a:pt x="340" y="13"/>
                    </a:lnTo>
                    <a:lnTo>
                      <a:pt x="311" y="26"/>
                    </a:lnTo>
                    <a:lnTo>
                      <a:pt x="283" y="40"/>
                    </a:lnTo>
                    <a:lnTo>
                      <a:pt x="254" y="53"/>
                    </a:lnTo>
                    <a:lnTo>
                      <a:pt x="225" y="65"/>
                    </a:lnTo>
                    <a:lnTo>
                      <a:pt x="212" y="69"/>
                    </a:lnTo>
                    <a:lnTo>
                      <a:pt x="198" y="73"/>
                    </a:lnTo>
                    <a:lnTo>
                      <a:pt x="187" y="74"/>
                    </a:lnTo>
                    <a:lnTo>
                      <a:pt x="175" y="73"/>
                    </a:lnTo>
                    <a:lnTo>
                      <a:pt x="173" y="73"/>
                    </a:lnTo>
                    <a:lnTo>
                      <a:pt x="173" y="71"/>
                    </a:lnTo>
                    <a:lnTo>
                      <a:pt x="173" y="69"/>
                    </a:lnTo>
                    <a:lnTo>
                      <a:pt x="173" y="69"/>
                    </a:lnTo>
                    <a:lnTo>
                      <a:pt x="173" y="68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5"/>
                    </a:lnTo>
                    <a:lnTo>
                      <a:pt x="151" y="63"/>
                    </a:lnTo>
                    <a:lnTo>
                      <a:pt x="136" y="60"/>
                    </a:lnTo>
                    <a:lnTo>
                      <a:pt x="124" y="55"/>
                    </a:lnTo>
                    <a:lnTo>
                      <a:pt x="114" y="48"/>
                    </a:lnTo>
                    <a:lnTo>
                      <a:pt x="104" y="40"/>
                    </a:lnTo>
                    <a:lnTo>
                      <a:pt x="94" y="34"/>
                    </a:lnTo>
                    <a:lnTo>
                      <a:pt x="81" y="26"/>
                    </a:lnTo>
                    <a:lnTo>
                      <a:pt x="65" y="21"/>
                    </a:lnTo>
                    <a:lnTo>
                      <a:pt x="60" y="24"/>
                    </a:lnTo>
                    <a:lnTo>
                      <a:pt x="52" y="32"/>
                    </a:lnTo>
                    <a:lnTo>
                      <a:pt x="40" y="40"/>
                    </a:lnTo>
                    <a:lnTo>
                      <a:pt x="30" y="50"/>
                    </a:lnTo>
                    <a:lnTo>
                      <a:pt x="20" y="58"/>
                    </a:lnTo>
                    <a:lnTo>
                      <a:pt x="10" y="65"/>
                    </a:lnTo>
                    <a:lnTo>
                      <a:pt x="3" y="69"/>
                    </a:lnTo>
                    <a:lnTo>
                      <a:pt x="0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04320" y="3093840"/>
                <a:ext cx="431640" cy="374400"/>
              </a:xfrm>
              <a:custGeom>
                <a:avLst/>
                <a:gdLst/>
                <a:ahLst/>
                <a:rect l="l" t="t" r="r" b="b"/>
                <a:pathLst>
                  <a:path w="280" h="243">
                    <a:moveTo>
                      <a:pt x="162" y="243"/>
                    </a:moveTo>
                    <a:lnTo>
                      <a:pt x="165" y="228"/>
                    </a:lnTo>
                    <a:lnTo>
                      <a:pt x="167" y="212"/>
                    </a:lnTo>
                    <a:lnTo>
                      <a:pt x="170" y="197"/>
                    </a:lnTo>
                    <a:lnTo>
                      <a:pt x="174" y="181"/>
                    </a:lnTo>
                    <a:lnTo>
                      <a:pt x="175" y="167"/>
                    </a:lnTo>
                    <a:lnTo>
                      <a:pt x="179" y="152"/>
                    </a:lnTo>
                    <a:lnTo>
                      <a:pt x="180" y="136"/>
                    </a:lnTo>
                    <a:lnTo>
                      <a:pt x="184" y="121"/>
                    </a:lnTo>
                    <a:lnTo>
                      <a:pt x="190" y="120"/>
                    </a:lnTo>
                    <a:lnTo>
                      <a:pt x="199" y="118"/>
                    </a:lnTo>
                    <a:lnTo>
                      <a:pt x="206" y="116"/>
                    </a:lnTo>
                    <a:lnTo>
                      <a:pt x="214" y="115"/>
                    </a:lnTo>
                    <a:lnTo>
                      <a:pt x="222" y="113"/>
                    </a:lnTo>
                    <a:lnTo>
                      <a:pt x="231" y="110"/>
                    </a:lnTo>
                    <a:lnTo>
                      <a:pt x="241" y="108"/>
                    </a:lnTo>
                    <a:lnTo>
                      <a:pt x="251" y="107"/>
                    </a:lnTo>
                    <a:lnTo>
                      <a:pt x="259" y="102"/>
                    </a:lnTo>
                    <a:lnTo>
                      <a:pt x="268" y="94"/>
                    </a:lnTo>
                    <a:lnTo>
                      <a:pt x="273" y="86"/>
                    </a:lnTo>
                    <a:lnTo>
                      <a:pt x="278" y="76"/>
                    </a:lnTo>
                    <a:lnTo>
                      <a:pt x="280" y="66"/>
                    </a:lnTo>
                    <a:lnTo>
                      <a:pt x="280" y="55"/>
                    </a:lnTo>
                    <a:lnTo>
                      <a:pt x="278" y="45"/>
                    </a:lnTo>
                    <a:lnTo>
                      <a:pt x="276" y="35"/>
                    </a:lnTo>
                    <a:lnTo>
                      <a:pt x="273" y="26"/>
                    </a:lnTo>
                    <a:lnTo>
                      <a:pt x="266" y="18"/>
                    </a:lnTo>
                    <a:lnTo>
                      <a:pt x="259" y="11"/>
                    </a:lnTo>
                    <a:lnTo>
                      <a:pt x="253" y="8"/>
                    </a:lnTo>
                    <a:lnTo>
                      <a:pt x="243" y="5"/>
                    </a:lnTo>
                    <a:lnTo>
                      <a:pt x="232" y="6"/>
                    </a:lnTo>
                    <a:lnTo>
                      <a:pt x="222" y="10"/>
                    </a:lnTo>
                    <a:lnTo>
                      <a:pt x="209" y="16"/>
                    </a:lnTo>
                    <a:lnTo>
                      <a:pt x="195" y="18"/>
                    </a:lnTo>
                    <a:lnTo>
                      <a:pt x="184" y="18"/>
                    </a:lnTo>
                    <a:lnTo>
                      <a:pt x="174" y="16"/>
                    </a:lnTo>
                    <a:lnTo>
                      <a:pt x="163" y="16"/>
                    </a:lnTo>
                    <a:lnTo>
                      <a:pt x="153" y="14"/>
                    </a:lnTo>
                    <a:lnTo>
                      <a:pt x="145" y="11"/>
                    </a:lnTo>
                    <a:lnTo>
                      <a:pt x="135" y="6"/>
                    </a:lnTo>
                    <a:lnTo>
                      <a:pt x="126" y="0"/>
                    </a:lnTo>
                    <a:lnTo>
                      <a:pt x="118" y="0"/>
                    </a:lnTo>
                    <a:lnTo>
                      <a:pt x="113" y="1"/>
                    </a:lnTo>
                    <a:lnTo>
                      <a:pt x="108" y="3"/>
                    </a:lnTo>
                    <a:lnTo>
                      <a:pt x="106" y="6"/>
                    </a:lnTo>
                    <a:lnTo>
                      <a:pt x="104" y="8"/>
                    </a:lnTo>
                    <a:lnTo>
                      <a:pt x="103" y="13"/>
                    </a:lnTo>
                    <a:lnTo>
                      <a:pt x="101" y="16"/>
                    </a:lnTo>
                    <a:lnTo>
                      <a:pt x="99" y="19"/>
                    </a:lnTo>
                    <a:lnTo>
                      <a:pt x="84" y="22"/>
                    </a:lnTo>
                    <a:lnTo>
                      <a:pt x="71" y="24"/>
                    </a:lnTo>
                    <a:lnTo>
                      <a:pt x="57" y="22"/>
                    </a:lnTo>
                    <a:lnTo>
                      <a:pt x="46" y="21"/>
                    </a:lnTo>
                    <a:lnTo>
                      <a:pt x="34" y="18"/>
                    </a:lnTo>
                    <a:lnTo>
                      <a:pt x="22" y="13"/>
                    </a:lnTo>
                    <a:lnTo>
                      <a:pt x="10" y="8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71400" y="2111040"/>
                <a:ext cx="311400" cy="543960"/>
              </a:xfrm>
              <a:custGeom>
                <a:avLst/>
                <a:gdLst/>
                <a:ahLst/>
                <a:rect l="l" t="t" r="r" b="b"/>
                <a:pathLst>
                  <a:path w="202" h="353">
                    <a:moveTo>
                      <a:pt x="0" y="12"/>
                    </a:moveTo>
                    <a:lnTo>
                      <a:pt x="6" y="8"/>
                    </a:lnTo>
                    <a:lnTo>
                      <a:pt x="13" y="7"/>
                    </a:lnTo>
                    <a:lnTo>
                      <a:pt x="20" y="4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7" y="2"/>
                    </a:lnTo>
                    <a:lnTo>
                      <a:pt x="82" y="5"/>
                    </a:lnTo>
                    <a:lnTo>
                      <a:pt x="101" y="7"/>
                    </a:lnTo>
                    <a:lnTo>
                      <a:pt x="122" y="12"/>
                    </a:lnTo>
                    <a:lnTo>
                      <a:pt x="143" y="17"/>
                    </a:lnTo>
                    <a:lnTo>
                      <a:pt x="163" y="23"/>
                    </a:lnTo>
                    <a:lnTo>
                      <a:pt x="180" y="33"/>
                    </a:lnTo>
                    <a:lnTo>
                      <a:pt x="188" y="38"/>
                    </a:lnTo>
                    <a:lnTo>
                      <a:pt x="193" y="42"/>
                    </a:lnTo>
                    <a:lnTo>
                      <a:pt x="198" y="49"/>
                    </a:lnTo>
                    <a:lnTo>
                      <a:pt x="202" y="55"/>
                    </a:lnTo>
                    <a:lnTo>
                      <a:pt x="200" y="65"/>
                    </a:lnTo>
                    <a:lnTo>
                      <a:pt x="198" y="75"/>
                    </a:lnTo>
                    <a:lnTo>
                      <a:pt x="197" y="85"/>
                    </a:lnTo>
                    <a:lnTo>
                      <a:pt x="195" y="94"/>
                    </a:lnTo>
                    <a:lnTo>
                      <a:pt x="193" y="104"/>
                    </a:lnTo>
                    <a:lnTo>
                      <a:pt x="192" y="114"/>
                    </a:lnTo>
                    <a:lnTo>
                      <a:pt x="190" y="122"/>
                    </a:lnTo>
                    <a:lnTo>
                      <a:pt x="188" y="132"/>
                    </a:lnTo>
                    <a:lnTo>
                      <a:pt x="171" y="138"/>
                    </a:lnTo>
                    <a:lnTo>
                      <a:pt x="160" y="144"/>
                    </a:lnTo>
                    <a:lnTo>
                      <a:pt x="149" y="149"/>
                    </a:lnTo>
                    <a:lnTo>
                      <a:pt x="143" y="156"/>
                    </a:lnTo>
                    <a:lnTo>
                      <a:pt x="139" y="162"/>
                    </a:lnTo>
                    <a:lnTo>
                      <a:pt x="136" y="170"/>
                    </a:lnTo>
                    <a:lnTo>
                      <a:pt x="133" y="182"/>
                    </a:lnTo>
                    <a:lnTo>
                      <a:pt x="133" y="193"/>
                    </a:lnTo>
                    <a:lnTo>
                      <a:pt x="129" y="195"/>
                    </a:lnTo>
                    <a:lnTo>
                      <a:pt x="126" y="196"/>
                    </a:lnTo>
                    <a:lnTo>
                      <a:pt x="122" y="198"/>
                    </a:lnTo>
                    <a:lnTo>
                      <a:pt x="121" y="200"/>
                    </a:lnTo>
                    <a:lnTo>
                      <a:pt x="117" y="201"/>
                    </a:lnTo>
                    <a:lnTo>
                      <a:pt x="114" y="203"/>
                    </a:lnTo>
                    <a:lnTo>
                      <a:pt x="111" y="204"/>
                    </a:lnTo>
                    <a:lnTo>
                      <a:pt x="109" y="206"/>
                    </a:lnTo>
                    <a:lnTo>
                      <a:pt x="109" y="209"/>
                    </a:lnTo>
                    <a:lnTo>
                      <a:pt x="109" y="212"/>
                    </a:lnTo>
                    <a:lnTo>
                      <a:pt x="109" y="214"/>
                    </a:lnTo>
                    <a:lnTo>
                      <a:pt x="109" y="217"/>
                    </a:lnTo>
                    <a:lnTo>
                      <a:pt x="109" y="221"/>
                    </a:lnTo>
                    <a:lnTo>
                      <a:pt x="109" y="222"/>
                    </a:lnTo>
                    <a:lnTo>
                      <a:pt x="109" y="225"/>
                    </a:lnTo>
                    <a:lnTo>
                      <a:pt x="109" y="229"/>
                    </a:lnTo>
                    <a:lnTo>
                      <a:pt x="109" y="229"/>
                    </a:lnTo>
                    <a:lnTo>
                      <a:pt x="111" y="230"/>
                    </a:lnTo>
                    <a:lnTo>
                      <a:pt x="112" y="230"/>
                    </a:lnTo>
                    <a:lnTo>
                      <a:pt x="114" y="232"/>
                    </a:lnTo>
                    <a:lnTo>
                      <a:pt x="116" y="232"/>
                    </a:lnTo>
                    <a:lnTo>
                      <a:pt x="117" y="234"/>
                    </a:lnTo>
                    <a:lnTo>
                      <a:pt x="119" y="234"/>
                    </a:lnTo>
                    <a:lnTo>
                      <a:pt x="119" y="235"/>
                    </a:lnTo>
                    <a:lnTo>
                      <a:pt x="119" y="240"/>
                    </a:lnTo>
                    <a:lnTo>
                      <a:pt x="119" y="245"/>
                    </a:lnTo>
                    <a:lnTo>
                      <a:pt x="119" y="248"/>
                    </a:lnTo>
                    <a:lnTo>
                      <a:pt x="119" y="253"/>
                    </a:lnTo>
                    <a:lnTo>
                      <a:pt x="119" y="258"/>
                    </a:lnTo>
                    <a:lnTo>
                      <a:pt x="119" y="263"/>
                    </a:lnTo>
                    <a:lnTo>
                      <a:pt x="119" y="266"/>
                    </a:lnTo>
                    <a:lnTo>
                      <a:pt x="119" y="271"/>
                    </a:lnTo>
                    <a:lnTo>
                      <a:pt x="104" y="280"/>
                    </a:lnTo>
                    <a:lnTo>
                      <a:pt x="92" y="287"/>
                    </a:lnTo>
                    <a:lnTo>
                      <a:pt x="85" y="290"/>
                    </a:lnTo>
                    <a:lnTo>
                      <a:pt x="80" y="295"/>
                    </a:lnTo>
                    <a:lnTo>
                      <a:pt x="77" y="300"/>
                    </a:lnTo>
                    <a:lnTo>
                      <a:pt x="75" y="306"/>
                    </a:lnTo>
                    <a:lnTo>
                      <a:pt x="74" y="318"/>
                    </a:lnTo>
                    <a:lnTo>
                      <a:pt x="74" y="336"/>
                    </a:lnTo>
                    <a:lnTo>
                      <a:pt x="72" y="337"/>
                    </a:lnTo>
                    <a:lnTo>
                      <a:pt x="70" y="340"/>
                    </a:lnTo>
                    <a:lnTo>
                      <a:pt x="69" y="342"/>
                    </a:lnTo>
                    <a:lnTo>
                      <a:pt x="67" y="345"/>
                    </a:lnTo>
                    <a:lnTo>
                      <a:pt x="65" y="347"/>
                    </a:lnTo>
                    <a:lnTo>
                      <a:pt x="64" y="349"/>
                    </a:lnTo>
                    <a:lnTo>
                      <a:pt x="64" y="352"/>
                    </a:lnTo>
                    <a:lnTo>
                      <a:pt x="62" y="3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24760" y="2280960"/>
                <a:ext cx="812520" cy="150840"/>
              </a:xfrm>
              <a:custGeom>
                <a:avLst/>
                <a:gdLst/>
                <a:ahLst/>
                <a:rect l="l" t="t" r="r" b="b"/>
                <a:pathLst>
                  <a:path w="527" h="98">
                    <a:moveTo>
                      <a:pt x="527" y="0"/>
                    </a:moveTo>
                    <a:lnTo>
                      <a:pt x="512" y="5"/>
                    </a:lnTo>
                    <a:lnTo>
                      <a:pt x="500" y="10"/>
                    </a:lnTo>
                    <a:lnTo>
                      <a:pt x="495" y="12"/>
                    </a:lnTo>
                    <a:lnTo>
                      <a:pt x="490" y="12"/>
                    </a:lnTo>
                    <a:lnTo>
                      <a:pt x="487" y="12"/>
                    </a:lnTo>
                    <a:lnTo>
                      <a:pt x="482" y="10"/>
                    </a:lnTo>
                    <a:lnTo>
                      <a:pt x="473" y="5"/>
                    </a:lnTo>
                    <a:lnTo>
                      <a:pt x="462" y="0"/>
                    </a:lnTo>
                    <a:lnTo>
                      <a:pt x="452" y="7"/>
                    </a:lnTo>
                    <a:lnTo>
                      <a:pt x="438" y="17"/>
                    </a:lnTo>
                    <a:lnTo>
                      <a:pt x="425" y="30"/>
                    </a:lnTo>
                    <a:lnTo>
                      <a:pt x="409" y="46"/>
                    </a:lnTo>
                    <a:lnTo>
                      <a:pt x="394" y="60"/>
                    </a:lnTo>
                    <a:lnTo>
                      <a:pt x="381" y="77"/>
                    </a:lnTo>
                    <a:lnTo>
                      <a:pt x="371" y="88"/>
                    </a:lnTo>
                    <a:lnTo>
                      <a:pt x="364" y="98"/>
                    </a:lnTo>
                    <a:lnTo>
                      <a:pt x="361" y="96"/>
                    </a:lnTo>
                    <a:lnTo>
                      <a:pt x="357" y="94"/>
                    </a:lnTo>
                    <a:lnTo>
                      <a:pt x="354" y="93"/>
                    </a:lnTo>
                    <a:lnTo>
                      <a:pt x="350" y="93"/>
                    </a:lnTo>
                    <a:lnTo>
                      <a:pt x="347" y="93"/>
                    </a:lnTo>
                    <a:lnTo>
                      <a:pt x="344" y="91"/>
                    </a:lnTo>
                    <a:lnTo>
                      <a:pt x="339" y="91"/>
                    </a:lnTo>
                    <a:lnTo>
                      <a:pt x="332" y="91"/>
                    </a:lnTo>
                    <a:lnTo>
                      <a:pt x="317" y="83"/>
                    </a:lnTo>
                    <a:lnTo>
                      <a:pt x="302" y="75"/>
                    </a:lnTo>
                    <a:lnTo>
                      <a:pt x="288" y="67"/>
                    </a:lnTo>
                    <a:lnTo>
                      <a:pt x="273" y="59"/>
                    </a:lnTo>
                    <a:lnTo>
                      <a:pt x="266" y="57"/>
                    </a:lnTo>
                    <a:lnTo>
                      <a:pt x="260" y="56"/>
                    </a:lnTo>
                    <a:lnTo>
                      <a:pt x="253" y="54"/>
                    </a:lnTo>
                    <a:lnTo>
                      <a:pt x="246" y="54"/>
                    </a:lnTo>
                    <a:lnTo>
                      <a:pt x="239" y="56"/>
                    </a:lnTo>
                    <a:lnTo>
                      <a:pt x="233" y="59"/>
                    </a:lnTo>
                    <a:lnTo>
                      <a:pt x="224" y="62"/>
                    </a:lnTo>
                    <a:lnTo>
                      <a:pt x="217" y="68"/>
                    </a:lnTo>
                    <a:lnTo>
                      <a:pt x="199" y="59"/>
                    </a:lnTo>
                    <a:lnTo>
                      <a:pt x="185" y="51"/>
                    </a:lnTo>
                    <a:lnTo>
                      <a:pt x="172" y="46"/>
                    </a:lnTo>
                    <a:lnTo>
                      <a:pt x="162" y="43"/>
                    </a:lnTo>
                    <a:lnTo>
                      <a:pt x="153" y="43"/>
                    </a:lnTo>
                    <a:lnTo>
                      <a:pt x="143" y="46"/>
                    </a:lnTo>
                    <a:lnTo>
                      <a:pt x="133" y="52"/>
                    </a:lnTo>
                    <a:lnTo>
                      <a:pt x="121" y="62"/>
                    </a:lnTo>
                    <a:lnTo>
                      <a:pt x="116" y="62"/>
                    </a:lnTo>
                    <a:lnTo>
                      <a:pt x="113" y="60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3" y="56"/>
                    </a:lnTo>
                    <a:lnTo>
                      <a:pt x="100" y="54"/>
                    </a:lnTo>
                    <a:lnTo>
                      <a:pt x="96" y="51"/>
                    </a:lnTo>
                    <a:lnTo>
                      <a:pt x="91" y="49"/>
                    </a:lnTo>
                    <a:lnTo>
                      <a:pt x="76" y="51"/>
                    </a:lnTo>
                    <a:lnTo>
                      <a:pt x="63" y="54"/>
                    </a:lnTo>
                    <a:lnTo>
                      <a:pt x="54" y="60"/>
                    </a:lnTo>
                    <a:lnTo>
                      <a:pt x="46" y="67"/>
                    </a:lnTo>
                    <a:lnTo>
                      <a:pt x="37" y="73"/>
                    </a:lnTo>
                    <a:lnTo>
                      <a:pt x="27" y="78"/>
                    </a:lnTo>
                    <a:lnTo>
                      <a:pt x="22" y="80"/>
                    </a:lnTo>
                    <a:lnTo>
                      <a:pt x="15" y="80"/>
                    </a:lnTo>
                    <a:lnTo>
                      <a:pt x="9" y="80"/>
                    </a:lnTo>
                    <a:lnTo>
                      <a:pt x="0" y="7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5120" y="2280960"/>
                <a:ext cx="258840" cy="813960"/>
              </a:xfrm>
              <a:custGeom>
                <a:avLst/>
                <a:gdLst/>
                <a:ahLst/>
                <a:rect l="l" t="t" r="r" b="b"/>
                <a:pathLst>
                  <a:path w="168" h="528">
                    <a:moveTo>
                      <a:pt x="168" y="528"/>
                    </a:moveTo>
                    <a:lnTo>
                      <a:pt x="158" y="522"/>
                    </a:lnTo>
                    <a:lnTo>
                      <a:pt x="148" y="515"/>
                    </a:lnTo>
                    <a:lnTo>
                      <a:pt x="138" y="507"/>
                    </a:lnTo>
                    <a:lnTo>
                      <a:pt x="128" y="499"/>
                    </a:lnTo>
                    <a:lnTo>
                      <a:pt x="118" y="491"/>
                    </a:lnTo>
                    <a:lnTo>
                      <a:pt x="107" y="483"/>
                    </a:lnTo>
                    <a:lnTo>
                      <a:pt x="97" y="477"/>
                    </a:lnTo>
                    <a:lnTo>
                      <a:pt x="87" y="468"/>
                    </a:lnTo>
                    <a:lnTo>
                      <a:pt x="74" y="456"/>
                    </a:lnTo>
                    <a:lnTo>
                      <a:pt x="67" y="446"/>
                    </a:lnTo>
                    <a:lnTo>
                      <a:pt x="67" y="441"/>
                    </a:lnTo>
                    <a:lnTo>
                      <a:pt x="67" y="438"/>
                    </a:lnTo>
                    <a:lnTo>
                      <a:pt x="67" y="433"/>
                    </a:lnTo>
                    <a:lnTo>
                      <a:pt x="69" y="430"/>
                    </a:lnTo>
                    <a:lnTo>
                      <a:pt x="72" y="422"/>
                    </a:lnTo>
                    <a:lnTo>
                      <a:pt x="77" y="413"/>
                    </a:lnTo>
                    <a:lnTo>
                      <a:pt x="81" y="404"/>
                    </a:lnTo>
                    <a:lnTo>
                      <a:pt x="82" y="392"/>
                    </a:lnTo>
                    <a:lnTo>
                      <a:pt x="77" y="389"/>
                    </a:lnTo>
                    <a:lnTo>
                      <a:pt x="74" y="386"/>
                    </a:lnTo>
                    <a:lnTo>
                      <a:pt x="72" y="384"/>
                    </a:lnTo>
                    <a:lnTo>
                      <a:pt x="72" y="381"/>
                    </a:lnTo>
                    <a:lnTo>
                      <a:pt x="74" y="375"/>
                    </a:lnTo>
                    <a:lnTo>
                      <a:pt x="77" y="368"/>
                    </a:lnTo>
                    <a:lnTo>
                      <a:pt x="82" y="363"/>
                    </a:lnTo>
                    <a:lnTo>
                      <a:pt x="89" y="357"/>
                    </a:lnTo>
                    <a:lnTo>
                      <a:pt x="96" y="352"/>
                    </a:lnTo>
                    <a:lnTo>
                      <a:pt x="101" y="349"/>
                    </a:lnTo>
                    <a:lnTo>
                      <a:pt x="101" y="345"/>
                    </a:lnTo>
                    <a:lnTo>
                      <a:pt x="101" y="342"/>
                    </a:lnTo>
                    <a:lnTo>
                      <a:pt x="101" y="339"/>
                    </a:lnTo>
                    <a:lnTo>
                      <a:pt x="102" y="337"/>
                    </a:lnTo>
                    <a:lnTo>
                      <a:pt x="102" y="334"/>
                    </a:lnTo>
                    <a:lnTo>
                      <a:pt x="102" y="331"/>
                    </a:lnTo>
                    <a:lnTo>
                      <a:pt x="102" y="328"/>
                    </a:lnTo>
                    <a:lnTo>
                      <a:pt x="102" y="324"/>
                    </a:lnTo>
                    <a:lnTo>
                      <a:pt x="109" y="318"/>
                    </a:lnTo>
                    <a:lnTo>
                      <a:pt x="114" y="310"/>
                    </a:lnTo>
                    <a:lnTo>
                      <a:pt x="114" y="302"/>
                    </a:lnTo>
                    <a:lnTo>
                      <a:pt x="112" y="292"/>
                    </a:lnTo>
                    <a:lnTo>
                      <a:pt x="109" y="282"/>
                    </a:lnTo>
                    <a:lnTo>
                      <a:pt x="104" y="273"/>
                    </a:lnTo>
                    <a:lnTo>
                      <a:pt x="96" y="263"/>
                    </a:lnTo>
                    <a:lnTo>
                      <a:pt x="87" y="253"/>
                    </a:lnTo>
                    <a:lnTo>
                      <a:pt x="89" y="242"/>
                    </a:lnTo>
                    <a:lnTo>
                      <a:pt x="94" y="232"/>
                    </a:lnTo>
                    <a:lnTo>
                      <a:pt x="97" y="224"/>
                    </a:lnTo>
                    <a:lnTo>
                      <a:pt x="101" y="216"/>
                    </a:lnTo>
                    <a:lnTo>
                      <a:pt x="102" y="211"/>
                    </a:lnTo>
                    <a:lnTo>
                      <a:pt x="102" y="208"/>
                    </a:lnTo>
                    <a:lnTo>
                      <a:pt x="101" y="203"/>
                    </a:lnTo>
                    <a:lnTo>
                      <a:pt x="97" y="198"/>
                    </a:lnTo>
                    <a:lnTo>
                      <a:pt x="89" y="188"/>
                    </a:lnTo>
                    <a:lnTo>
                      <a:pt x="72" y="177"/>
                    </a:lnTo>
                    <a:lnTo>
                      <a:pt x="67" y="167"/>
                    </a:lnTo>
                    <a:lnTo>
                      <a:pt x="59" y="154"/>
                    </a:lnTo>
                    <a:lnTo>
                      <a:pt x="50" y="141"/>
                    </a:lnTo>
                    <a:lnTo>
                      <a:pt x="40" y="127"/>
                    </a:lnTo>
                    <a:lnTo>
                      <a:pt x="30" y="114"/>
                    </a:lnTo>
                    <a:lnTo>
                      <a:pt x="20" y="102"/>
                    </a:lnTo>
                    <a:lnTo>
                      <a:pt x="10" y="93"/>
                    </a:lnTo>
                    <a:lnTo>
                      <a:pt x="0" y="88"/>
                    </a:lnTo>
                    <a:lnTo>
                      <a:pt x="1" y="83"/>
                    </a:lnTo>
                    <a:lnTo>
                      <a:pt x="3" y="78"/>
                    </a:lnTo>
                    <a:lnTo>
                      <a:pt x="5" y="73"/>
                    </a:lnTo>
                    <a:lnTo>
                      <a:pt x="6" y="68"/>
                    </a:lnTo>
                    <a:lnTo>
                      <a:pt x="8" y="64"/>
                    </a:lnTo>
                    <a:lnTo>
                      <a:pt x="10" y="59"/>
                    </a:lnTo>
                    <a:lnTo>
                      <a:pt x="11" y="54"/>
                    </a:lnTo>
                    <a:lnTo>
                      <a:pt x="11" y="49"/>
                    </a:lnTo>
                    <a:lnTo>
                      <a:pt x="17" y="46"/>
                    </a:lnTo>
                    <a:lnTo>
                      <a:pt x="23" y="43"/>
                    </a:lnTo>
                    <a:lnTo>
                      <a:pt x="30" y="38"/>
                    </a:lnTo>
                    <a:lnTo>
                      <a:pt x="38" y="33"/>
                    </a:lnTo>
                    <a:lnTo>
                      <a:pt x="45" y="26"/>
                    </a:lnTo>
                    <a:lnTo>
                      <a:pt x="52" y="18"/>
                    </a:lnTo>
                    <a:lnTo>
                      <a:pt x="57" y="10"/>
                    </a:lnTo>
                    <a:lnTo>
                      <a:pt x="6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7480" y="3130560"/>
                <a:ext cx="154080" cy="240480"/>
              </a:xfrm>
              <a:custGeom>
                <a:avLst/>
                <a:gdLst/>
                <a:ahLst/>
                <a:rect l="l" t="t" r="r" b="b"/>
                <a:pathLst>
                  <a:path w="100" h="156">
                    <a:moveTo>
                      <a:pt x="100" y="156"/>
                    </a:moveTo>
                    <a:lnTo>
                      <a:pt x="96" y="147"/>
                    </a:lnTo>
                    <a:lnTo>
                      <a:pt x="93" y="141"/>
                    </a:lnTo>
                    <a:lnTo>
                      <a:pt x="90" y="136"/>
                    </a:lnTo>
                    <a:lnTo>
                      <a:pt x="85" y="131"/>
                    </a:lnTo>
                    <a:lnTo>
                      <a:pt x="73" y="125"/>
                    </a:lnTo>
                    <a:lnTo>
                      <a:pt x="61" y="118"/>
                    </a:lnTo>
                    <a:lnTo>
                      <a:pt x="49" y="112"/>
                    </a:lnTo>
                    <a:lnTo>
                      <a:pt x="37" y="102"/>
                    </a:lnTo>
                    <a:lnTo>
                      <a:pt x="32" y="94"/>
                    </a:lnTo>
                    <a:lnTo>
                      <a:pt x="27" y="86"/>
                    </a:lnTo>
                    <a:lnTo>
                      <a:pt x="24" y="76"/>
                    </a:lnTo>
                    <a:lnTo>
                      <a:pt x="22" y="65"/>
                    </a:lnTo>
                    <a:lnTo>
                      <a:pt x="12" y="57"/>
                    </a:lnTo>
                    <a:lnTo>
                      <a:pt x="7" y="50"/>
                    </a:lnTo>
                    <a:lnTo>
                      <a:pt x="2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2" y="18"/>
                    </a:ln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46720" y="3371040"/>
                <a:ext cx="227880" cy="391680"/>
              </a:xfrm>
              <a:custGeom>
                <a:avLst/>
                <a:gdLst/>
                <a:ahLst/>
                <a:rect l="l" t="t" r="r" b="b"/>
                <a:pathLst>
                  <a:path w="148" h="254">
                    <a:moveTo>
                      <a:pt x="0" y="254"/>
                    </a:moveTo>
                    <a:lnTo>
                      <a:pt x="1" y="251"/>
                    </a:lnTo>
                    <a:lnTo>
                      <a:pt x="3" y="247"/>
                    </a:lnTo>
                    <a:lnTo>
                      <a:pt x="3" y="244"/>
                    </a:lnTo>
                    <a:lnTo>
                      <a:pt x="5" y="241"/>
                    </a:lnTo>
                    <a:lnTo>
                      <a:pt x="6" y="239"/>
                    </a:lnTo>
                    <a:lnTo>
                      <a:pt x="6" y="236"/>
                    </a:lnTo>
                    <a:lnTo>
                      <a:pt x="8" y="233"/>
                    </a:lnTo>
                    <a:lnTo>
                      <a:pt x="10" y="230"/>
                    </a:lnTo>
                    <a:lnTo>
                      <a:pt x="18" y="230"/>
                    </a:lnTo>
                    <a:lnTo>
                      <a:pt x="27" y="230"/>
                    </a:lnTo>
                    <a:lnTo>
                      <a:pt x="35" y="231"/>
                    </a:lnTo>
                    <a:lnTo>
                      <a:pt x="42" y="233"/>
                    </a:lnTo>
                    <a:lnTo>
                      <a:pt x="49" y="236"/>
                    </a:lnTo>
                    <a:lnTo>
                      <a:pt x="57" y="238"/>
                    </a:lnTo>
                    <a:lnTo>
                      <a:pt x="64" y="238"/>
                    </a:lnTo>
                    <a:lnTo>
                      <a:pt x="72" y="239"/>
                    </a:lnTo>
                    <a:lnTo>
                      <a:pt x="75" y="228"/>
                    </a:lnTo>
                    <a:lnTo>
                      <a:pt x="77" y="215"/>
                    </a:lnTo>
                    <a:lnTo>
                      <a:pt x="79" y="200"/>
                    </a:lnTo>
                    <a:lnTo>
                      <a:pt x="81" y="184"/>
                    </a:lnTo>
                    <a:lnTo>
                      <a:pt x="81" y="170"/>
                    </a:lnTo>
                    <a:lnTo>
                      <a:pt x="81" y="153"/>
                    </a:lnTo>
                    <a:lnTo>
                      <a:pt x="81" y="137"/>
                    </a:lnTo>
                    <a:lnTo>
                      <a:pt x="81" y="123"/>
                    </a:lnTo>
                    <a:lnTo>
                      <a:pt x="86" y="121"/>
                    </a:lnTo>
                    <a:lnTo>
                      <a:pt x="92" y="121"/>
                    </a:lnTo>
                    <a:lnTo>
                      <a:pt x="97" y="121"/>
                    </a:lnTo>
                    <a:lnTo>
                      <a:pt x="104" y="121"/>
                    </a:lnTo>
                    <a:lnTo>
                      <a:pt x="109" y="121"/>
                    </a:lnTo>
                    <a:lnTo>
                      <a:pt x="116" y="121"/>
                    </a:lnTo>
                    <a:lnTo>
                      <a:pt x="124" y="123"/>
                    </a:lnTo>
                    <a:lnTo>
                      <a:pt x="131" y="124"/>
                    </a:lnTo>
                    <a:lnTo>
                      <a:pt x="133" y="116"/>
                    </a:lnTo>
                    <a:lnTo>
                      <a:pt x="134" y="106"/>
                    </a:lnTo>
                    <a:lnTo>
                      <a:pt x="136" y="98"/>
                    </a:lnTo>
                    <a:lnTo>
                      <a:pt x="139" y="89"/>
                    </a:lnTo>
                    <a:lnTo>
                      <a:pt x="143" y="77"/>
                    </a:lnTo>
                    <a:lnTo>
                      <a:pt x="146" y="68"/>
                    </a:lnTo>
                    <a:lnTo>
                      <a:pt x="148" y="56"/>
                    </a:lnTo>
                    <a:lnTo>
                      <a:pt x="148" y="45"/>
                    </a:lnTo>
                    <a:lnTo>
                      <a:pt x="141" y="40"/>
                    </a:lnTo>
                    <a:lnTo>
                      <a:pt x="136" y="35"/>
                    </a:lnTo>
                    <a:lnTo>
                      <a:pt x="133" y="32"/>
                    </a:lnTo>
                    <a:lnTo>
                      <a:pt x="129" y="29"/>
                    </a:lnTo>
                    <a:lnTo>
                      <a:pt x="129" y="24"/>
                    </a:lnTo>
                    <a:lnTo>
                      <a:pt x="129" y="19"/>
                    </a:lnTo>
                    <a:lnTo>
                      <a:pt x="129" y="11"/>
                    </a:lnTo>
                    <a:lnTo>
                      <a:pt x="13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46720" y="3762720"/>
                <a:ext cx="190800" cy="69480"/>
              </a:xfrm>
              <a:custGeom>
                <a:avLst/>
                <a:gdLst/>
                <a:ahLst/>
                <a:rect l="l" t="t" r="r" b="b"/>
                <a:pathLst>
                  <a:path w="124" h="45">
                    <a:moveTo>
                      <a:pt x="0" y="0"/>
                    </a:moveTo>
                    <a:lnTo>
                      <a:pt x="13" y="3"/>
                    </a:lnTo>
                    <a:lnTo>
                      <a:pt x="30" y="6"/>
                    </a:lnTo>
                    <a:lnTo>
                      <a:pt x="49" y="10"/>
                    </a:lnTo>
                    <a:lnTo>
                      <a:pt x="67" y="14"/>
                    </a:lnTo>
                    <a:lnTo>
                      <a:pt x="86" y="19"/>
                    </a:lnTo>
                    <a:lnTo>
                      <a:pt x="101" y="26"/>
                    </a:lnTo>
                    <a:lnTo>
                      <a:pt x="109" y="31"/>
                    </a:lnTo>
                    <a:lnTo>
                      <a:pt x="116" y="35"/>
                    </a:lnTo>
                    <a:lnTo>
                      <a:pt x="121" y="40"/>
                    </a:lnTo>
                    <a:lnTo>
                      <a:pt x="124" y="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01120" y="3739680"/>
                <a:ext cx="345240" cy="277560"/>
              </a:xfrm>
              <a:custGeom>
                <a:avLst/>
                <a:gdLst/>
                <a:ahLst/>
                <a:rect l="l" t="t" r="r" b="b"/>
                <a:pathLst>
                  <a:path w="224" h="180">
                    <a:moveTo>
                      <a:pt x="0" y="180"/>
                    </a:moveTo>
                    <a:lnTo>
                      <a:pt x="1" y="167"/>
                    </a:lnTo>
                    <a:lnTo>
                      <a:pt x="6" y="154"/>
                    </a:lnTo>
                    <a:lnTo>
                      <a:pt x="12" y="140"/>
                    </a:lnTo>
                    <a:lnTo>
                      <a:pt x="18" y="125"/>
                    </a:lnTo>
                    <a:lnTo>
                      <a:pt x="23" y="110"/>
                    </a:lnTo>
                    <a:lnTo>
                      <a:pt x="30" y="94"/>
                    </a:lnTo>
                    <a:lnTo>
                      <a:pt x="33" y="78"/>
                    </a:lnTo>
                    <a:lnTo>
                      <a:pt x="35" y="60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8" y="59"/>
                    </a:lnTo>
                    <a:lnTo>
                      <a:pt x="27" y="57"/>
                    </a:lnTo>
                    <a:lnTo>
                      <a:pt x="23" y="57"/>
                    </a:lnTo>
                    <a:lnTo>
                      <a:pt x="22" y="57"/>
                    </a:lnTo>
                    <a:lnTo>
                      <a:pt x="20" y="55"/>
                    </a:lnTo>
                    <a:lnTo>
                      <a:pt x="18" y="55"/>
                    </a:lnTo>
                    <a:lnTo>
                      <a:pt x="18" y="52"/>
                    </a:lnTo>
                    <a:lnTo>
                      <a:pt x="18" y="49"/>
                    </a:lnTo>
                    <a:lnTo>
                      <a:pt x="17" y="46"/>
                    </a:lnTo>
                    <a:lnTo>
                      <a:pt x="17" y="42"/>
                    </a:lnTo>
                    <a:lnTo>
                      <a:pt x="17" y="41"/>
                    </a:lnTo>
                    <a:lnTo>
                      <a:pt x="17" y="37"/>
                    </a:lnTo>
                    <a:lnTo>
                      <a:pt x="17" y="34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8"/>
                    </a:lnTo>
                    <a:lnTo>
                      <a:pt x="27" y="25"/>
                    </a:lnTo>
                    <a:lnTo>
                      <a:pt x="30" y="21"/>
                    </a:lnTo>
                    <a:lnTo>
                      <a:pt x="33" y="18"/>
                    </a:lnTo>
                    <a:lnTo>
                      <a:pt x="35" y="13"/>
                    </a:lnTo>
                    <a:lnTo>
                      <a:pt x="38" y="8"/>
                    </a:lnTo>
                    <a:lnTo>
                      <a:pt x="40" y="2"/>
                    </a:lnTo>
                    <a:lnTo>
                      <a:pt x="64" y="0"/>
                    </a:lnTo>
                    <a:lnTo>
                      <a:pt x="87" y="2"/>
                    </a:lnTo>
                    <a:lnTo>
                      <a:pt x="108" y="5"/>
                    </a:lnTo>
                    <a:lnTo>
                      <a:pt x="129" y="10"/>
                    </a:lnTo>
                    <a:lnTo>
                      <a:pt x="150" y="13"/>
                    </a:lnTo>
                    <a:lnTo>
                      <a:pt x="173" y="16"/>
                    </a:lnTo>
                    <a:lnTo>
                      <a:pt x="197" y="16"/>
                    </a:lnTo>
                    <a:lnTo>
                      <a:pt x="224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20920" y="3917160"/>
                <a:ext cx="260640" cy="11736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76"/>
                    </a:moveTo>
                    <a:lnTo>
                      <a:pt x="19" y="76"/>
                    </a:lnTo>
                    <a:lnTo>
                      <a:pt x="34" y="75"/>
                    </a:lnTo>
                    <a:lnTo>
                      <a:pt x="49" y="73"/>
                    </a:lnTo>
                    <a:lnTo>
                      <a:pt x="61" y="70"/>
                    </a:lnTo>
                    <a:lnTo>
                      <a:pt x="74" y="65"/>
                    </a:lnTo>
                    <a:lnTo>
                      <a:pt x="86" y="59"/>
                    </a:lnTo>
                    <a:lnTo>
                      <a:pt x="101" y="50"/>
                    </a:lnTo>
                    <a:lnTo>
                      <a:pt x="116" y="39"/>
                    </a:lnTo>
                    <a:lnTo>
                      <a:pt x="121" y="37"/>
                    </a:lnTo>
                    <a:lnTo>
                      <a:pt x="126" y="37"/>
                    </a:lnTo>
                    <a:lnTo>
                      <a:pt x="132" y="36"/>
                    </a:lnTo>
                    <a:lnTo>
                      <a:pt x="138" y="36"/>
                    </a:lnTo>
                    <a:lnTo>
                      <a:pt x="143" y="34"/>
                    </a:lnTo>
                    <a:lnTo>
                      <a:pt x="150" y="33"/>
                    </a:lnTo>
                    <a:lnTo>
                      <a:pt x="157" y="31"/>
                    </a:lnTo>
                    <a:lnTo>
                      <a:pt x="162" y="28"/>
                    </a:lnTo>
                    <a:lnTo>
                      <a:pt x="162" y="23"/>
                    </a:lnTo>
                    <a:lnTo>
                      <a:pt x="164" y="18"/>
                    </a:lnTo>
                    <a:lnTo>
                      <a:pt x="164" y="15"/>
                    </a:lnTo>
                    <a:lnTo>
                      <a:pt x="164" y="10"/>
                    </a:lnTo>
                    <a:lnTo>
                      <a:pt x="165" y="8"/>
                    </a:lnTo>
                    <a:lnTo>
                      <a:pt x="167" y="5"/>
                    </a:lnTo>
                    <a:lnTo>
                      <a:pt x="169" y="2"/>
                    </a:lnTo>
                    <a:lnTo>
                      <a:pt x="16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32840" y="3770640"/>
                <a:ext cx="1287720" cy="263880"/>
              </a:xfrm>
              <a:custGeom>
                <a:avLst/>
                <a:gdLst/>
                <a:ahLst/>
                <a:rect l="l" t="t" r="r" b="b"/>
                <a:pathLst>
                  <a:path w="835" h="171">
                    <a:moveTo>
                      <a:pt x="0" y="42"/>
                    </a:moveTo>
                    <a:lnTo>
                      <a:pt x="13" y="42"/>
                    </a:lnTo>
                    <a:lnTo>
                      <a:pt x="25" y="42"/>
                    </a:lnTo>
                    <a:lnTo>
                      <a:pt x="37" y="42"/>
                    </a:lnTo>
                    <a:lnTo>
                      <a:pt x="49" y="42"/>
                    </a:lnTo>
                    <a:lnTo>
                      <a:pt x="62" y="42"/>
                    </a:lnTo>
                    <a:lnTo>
                      <a:pt x="74" y="40"/>
                    </a:lnTo>
                    <a:lnTo>
                      <a:pt x="86" y="39"/>
                    </a:lnTo>
                    <a:lnTo>
                      <a:pt x="98" y="37"/>
                    </a:lnTo>
                    <a:lnTo>
                      <a:pt x="98" y="32"/>
                    </a:lnTo>
                    <a:lnTo>
                      <a:pt x="99" y="29"/>
                    </a:lnTo>
                    <a:lnTo>
                      <a:pt x="99" y="24"/>
                    </a:lnTo>
                    <a:lnTo>
                      <a:pt x="101" y="21"/>
                    </a:lnTo>
                    <a:lnTo>
                      <a:pt x="101" y="16"/>
                    </a:lnTo>
                    <a:lnTo>
                      <a:pt x="103" y="11"/>
                    </a:lnTo>
                    <a:lnTo>
                      <a:pt x="104" y="6"/>
                    </a:lnTo>
                    <a:lnTo>
                      <a:pt x="108" y="0"/>
                    </a:lnTo>
                    <a:lnTo>
                      <a:pt x="118" y="1"/>
                    </a:lnTo>
                    <a:lnTo>
                      <a:pt x="130" y="5"/>
                    </a:lnTo>
                    <a:lnTo>
                      <a:pt x="140" y="9"/>
                    </a:lnTo>
                    <a:lnTo>
                      <a:pt x="150" y="14"/>
                    </a:lnTo>
                    <a:lnTo>
                      <a:pt x="160" y="21"/>
                    </a:lnTo>
                    <a:lnTo>
                      <a:pt x="170" y="29"/>
                    </a:lnTo>
                    <a:lnTo>
                      <a:pt x="178" y="37"/>
                    </a:lnTo>
                    <a:lnTo>
                      <a:pt x="185" y="45"/>
                    </a:lnTo>
                    <a:lnTo>
                      <a:pt x="204" y="50"/>
                    </a:lnTo>
                    <a:lnTo>
                      <a:pt x="227" y="58"/>
                    </a:lnTo>
                    <a:lnTo>
                      <a:pt x="253" y="66"/>
                    </a:lnTo>
                    <a:lnTo>
                      <a:pt x="281" y="73"/>
                    </a:lnTo>
                    <a:lnTo>
                      <a:pt x="295" y="76"/>
                    </a:lnTo>
                    <a:lnTo>
                      <a:pt x="308" y="79"/>
                    </a:lnTo>
                    <a:lnTo>
                      <a:pt x="323" y="79"/>
                    </a:lnTo>
                    <a:lnTo>
                      <a:pt x="335" y="79"/>
                    </a:lnTo>
                    <a:lnTo>
                      <a:pt x="349" y="79"/>
                    </a:lnTo>
                    <a:lnTo>
                      <a:pt x="359" y="76"/>
                    </a:lnTo>
                    <a:lnTo>
                      <a:pt x="369" y="71"/>
                    </a:lnTo>
                    <a:lnTo>
                      <a:pt x="377" y="64"/>
                    </a:lnTo>
                    <a:lnTo>
                      <a:pt x="386" y="60"/>
                    </a:lnTo>
                    <a:lnTo>
                      <a:pt x="394" y="58"/>
                    </a:lnTo>
                    <a:lnTo>
                      <a:pt x="404" y="56"/>
                    </a:lnTo>
                    <a:lnTo>
                      <a:pt x="413" y="56"/>
                    </a:lnTo>
                    <a:lnTo>
                      <a:pt x="431" y="58"/>
                    </a:lnTo>
                    <a:lnTo>
                      <a:pt x="451" y="64"/>
                    </a:lnTo>
                    <a:lnTo>
                      <a:pt x="470" y="71"/>
                    </a:lnTo>
                    <a:lnTo>
                      <a:pt x="490" y="79"/>
                    </a:lnTo>
                    <a:lnTo>
                      <a:pt x="510" y="87"/>
                    </a:lnTo>
                    <a:lnTo>
                      <a:pt x="530" y="92"/>
                    </a:lnTo>
                    <a:lnTo>
                      <a:pt x="540" y="110"/>
                    </a:lnTo>
                    <a:lnTo>
                      <a:pt x="549" y="123"/>
                    </a:lnTo>
                    <a:lnTo>
                      <a:pt x="556" y="132"/>
                    </a:lnTo>
                    <a:lnTo>
                      <a:pt x="561" y="141"/>
                    </a:lnTo>
                    <a:lnTo>
                      <a:pt x="569" y="144"/>
                    </a:lnTo>
                    <a:lnTo>
                      <a:pt x="581" y="147"/>
                    </a:lnTo>
                    <a:lnTo>
                      <a:pt x="594" y="147"/>
                    </a:lnTo>
                    <a:lnTo>
                      <a:pt x="616" y="147"/>
                    </a:lnTo>
                    <a:lnTo>
                      <a:pt x="623" y="152"/>
                    </a:lnTo>
                    <a:lnTo>
                      <a:pt x="633" y="155"/>
                    </a:lnTo>
                    <a:lnTo>
                      <a:pt x="643" y="157"/>
                    </a:lnTo>
                    <a:lnTo>
                      <a:pt x="657" y="160"/>
                    </a:lnTo>
                    <a:lnTo>
                      <a:pt x="687" y="163"/>
                    </a:lnTo>
                    <a:lnTo>
                      <a:pt x="719" y="166"/>
                    </a:lnTo>
                    <a:lnTo>
                      <a:pt x="753" y="168"/>
                    </a:lnTo>
                    <a:lnTo>
                      <a:pt x="785" y="170"/>
                    </a:lnTo>
                    <a:lnTo>
                      <a:pt x="813" y="171"/>
                    </a:lnTo>
                    <a:lnTo>
                      <a:pt x="835" y="1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55280" y="3835440"/>
                <a:ext cx="277560" cy="309600"/>
              </a:xfrm>
              <a:custGeom>
                <a:avLst/>
                <a:gdLst/>
                <a:ahLst/>
                <a:rect l="l" t="t" r="r" b="b"/>
                <a:pathLst>
                  <a:path w="180" h="201">
                    <a:moveTo>
                      <a:pt x="0" y="201"/>
                    </a:moveTo>
                    <a:lnTo>
                      <a:pt x="0" y="201"/>
                    </a:lnTo>
                    <a:lnTo>
                      <a:pt x="0" y="201"/>
                    </a:lnTo>
                    <a:lnTo>
                      <a:pt x="0" y="199"/>
                    </a:lnTo>
                    <a:lnTo>
                      <a:pt x="1" y="199"/>
                    </a:lnTo>
                    <a:lnTo>
                      <a:pt x="1" y="199"/>
                    </a:lnTo>
                    <a:lnTo>
                      <a:pt x="3" y="199"/>
                    </a:lnTo>
                    <a:lnTo>
                      <a:pt x="3" y="197"/>
                    </a:lnTo>
                    <a:lnTo>
                      <a:pt x="5" y="197"/>
                    </a:lnTo>
                    <a:lnTo>
                      <a:pt x="8" y="181"/>
                    </a:lnTo>
                    <a:lnTo>
                      <a:pt x="13" y="162"/>
                    </a:lnTo>
                    <a:lnTo>
                      <a:pt x="22" y="144"/>
                    </a:lnTo>
                    <a:lnTo>
                      <a:pt x="32" y="124"/>
                    </a:lnTo>
                    <a:lnTo>
                      <a:pt x="44" y="107"/>
                    </a:lnTo>
                    <a:lnTo>
                      <a:pt x="57" y="90"/>
                    </a:lnTo>
                    <a:lnTo>
                      <a:pt x="65" y="84"/>
                    </a:lnTo>
                    <a:lnTo>
                      <a:pt x="76" y="76"/>
                    </a:lnTo>
                    <a:lnTo>
                      <a:pt x="84" y="71"/>
                    </a:lnTo>
                    <a:lnTo>
                      <a:pt x="94" y="65"/>
                    </a:lnTo>
                    <a:lnTo>
                      <a:pt x="94" y="65"/>
                    </a:lnTo>
                    <a:lnTo>
                      <a:pt x="94" y="63"/>
                    </a:lnTo>
                    <a:lnTo>
                      <a:pt x="94" y="61"/>
                    </a:lnTo>
                    <a:lnTo>
                      <a:pt x="94" y="58"/>
                    </a:lnTo>
                    <a:lnTo>
                      <a:pt x="94" y="56"/>
                    </a:lnTo>
                    <a:lnTo>
                      <a:pt x="94" y="55"/>
                    </a:lnTo>
                    <a:lnTo>
                      <a:pt x="94" y="53"/>
                    </a:lnTo>
                    <a:lnTo>
                      <a:pt x="94" y="52"/>
                    </a:lnTo>
                    <a:lnTo>
                      <a:pt x="91" y="52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4" y="52"/>
                    </a:lnTo>
                    <a:lnTo>
                      <a:pt x="82" y="50"/>
                    </a:lnTo>
                    <a:lnTo>
                      <a:pt x="81" y="50"/>
                    </a:lnTo>
                    <a:lnTo>
                      <a:pt x="79" y="50"/>
                    </a:lnTo>
                    <a:lnTo>
                      <a:pt x="77" y="50"/>
                    </a:lnTo>
                    <a:lnTo>
                      <a:pt x="77" y="45"/>
                    </a:lnTo>
                    <a:lnTo>
                      <a:pt x="79" y="40"/>
                    </a:lnTo>
                    <a:lnTo>
                      <a:pt x="79" y="35"/>
                    </a:lnTo>
                    <a:lnTo>
                      <a:pt x="81" y="31"/>
                    </a:lnTo>
                    <a:lnTo>
                      <a:pt x="81" y="26"/>
                    </a:lnTo>
                    <a:lnTo>
                      <a:pt x="82" y="21"/>
                    </a:lnTo>
                    <a:lnTo>
                      <a:pt x="84" y="16"/>
                    </a:lnTo>
                    <a:lnTo>
                      <a:pt x="84" y="11"/>
                    </a:lnTo>
                    <a:lnTo>
                      <a:pt x="96" y="8"/>
                    </a:lnTo>
                    <a:lnTo>
                      <a:pt x="108" y="5"/>
                    </a:lnTo>
                    <a:lnTo>
                      <a:pt x="121" y="3"/>
                    </a:lnTo>
                    <a:lnTo>
                      <a:pt x="133" y="1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8" y="0"/>
                    </a:lnTo>
                    <a:lnTo>
                      <a:pt x="18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5280" y="4145400"/>
                <a:ext cx="166680" cy="16956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08"/>
                    </a:lnTo>
                    <a:lnTo>
                      <a:pt x="106" y="106"/>
                    </a:lnTo>
                    <a:lnTo>
                      <a:pt x="106" y="103"/>
                    </a:lnTo>
                    <a:lnTo>
                      <a:pt x="106" y="102"/>
                    </a:lnTo>
                    <a:lnTo>
                      <a:pt x="106" y="100"/>
                    </a:lnTo>
                    <a:lnTo>
                      <a:pt x="104" y="97"/>
                    </a:lnTo>
                    <a:lnTo>
                      <a:pt x="104" y="95"/>
                    </a:lnTo>
                    <a:lnTo>
                      <a:pt x="104" y="94"/>
                    </a:lnTo>
                    <a:lnTo>
                      <a:pt x="94" y="95"/>
                    </a:lnTo>
                    <a:lnTo>
                      <a:pt x="84" y="95"/>
                    </a:lnTo>
                    <a:lnTo>
                      <a:pt x="74" y="94"/>
                    </a:lnTo>
                    <a:lnTo>
                      <a:pt x="64" y="90"/>
                    </a:lnTo>
                    <a:lnTo>
                      <a:pt x="55" y="87"/>
                    </a:lnTo>
                    <a:lnTo>
                      <a:pt x="47" y="82"/>
                    </a:lnTo>
                    <a:lnTo>
                      <a:pt x="38" y="76"/>
                    </a:lnTo>
                    <a:lnTo>
                      <a:pt x="30" y="69"/>
                    </a:lnTo>
                    <a:lnTo>
                      <a:pt x="18" y="55"/>
                    </a:lnTo>
                    <a:lnTo>
                      <a:pt x="8" y="37"/>
                    </a:lnTo>
                    <a:lnTo>
                      <a:pt x="3" y="27"/>
                    </a:lnTo>
                    <a:lnTo>
                      <a:pt x="1" y="19"/>
                    </a:lnTo>
                    <a:lnTo>
                      <a:pt x="0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22320" y="4034520"/>
                <a:ext cx="1398240" cy="587520"/>
              </a:xfrm>
              <a:custGeom>
                <a:avLst/>
                <a:gdLst/>
                <a:ahLst/>
                <a:rect l="l" t="t" r="r" b="b"/>
                <a:pathLst>
                  <a:path w="907" h="381">
                    <a:moveTo>
                      <a:pt x="907" y="0"/>
                    </a:moveTo>
                    <a:lnTo>
                      <a:pt x="858" y="42"/>
                    </a:lnTo>
                    <a:lnTo>
                      <a:pt x="848" y="39"/>
                    </a:lnTo>
                    <a:lnTo>
                      <a:pt x="838" y="36"/>
                    </a:lnTo>
                    <a:lnTo>
                      <a:pt x="830" y="34"/>
                    </a:lnTo>
                    <a:lnTo>
                      <a:pt x="820" y="33"/>
                    </a:lnTo>
                    <a:lnTo>
                      <a:pt x="811" y="33"/>
                    </a:lnTo>
                    <a:lnTo>
                      <a:pt x="803" y="31"/>
                    </a:lnTo>
                    <a:lnTo>
                      <a:pt x="793" y="31"/>
                    </a:lnTo>
                    <a:lnTo>
                      <a:pt x="784" y="31"/>
                    </a:lnTo>
                    <a:lnTo>
                      <a:pt x="778" y="38"/>
                    </a:lnTo>
                    <a:lnTo>
                      <a:pt x="771" y="42"/>
                    </a:lnTo>
                    <a:lnTo>
                      <a:pt x="766" y="46"/>
                    </a:lnTo>
                    <a:lnTo>
                      <a:pt x="759" y="47"/>
                    </a:lnTo>
                    <a:lnTo>
                      <a:pt x="754" y="47"/>
                    </a:lnTo>
                    <a:lnTo>
                      <a:pt x="749" y="47"/>
                    </a:lnTo>
                    <a:lnTo>
                      <a:pt x="746" y="47"/>
                    </a:lnTo>
                    <a:lnTo>
                      <a:pt x="740" y="49"/>
                    </a:lnTo>
                    <a:lnTo>
                      <a:pt x="742" y="68"/>
                    </a:lnTo>
                    <a:lnTo>
                      <a:pt x="746" y="88"/>
                    </a:lnTo>
                    <a:lnTo>
                      <a:pt x="752" y="104"/>
                    </a:lnTo>
                    <a:lnTo>
                      <a:pt x="759" y="120"/>
                    </a:lnTo>
                    <a:lnTo>
                      <a:pt x="766" y="136"/>
                    </a:lnTo>
                    <a:lnTo>
                      <a:pt x="772" y="153"/>
                    </a:lnTo>
                    <a:lnTo>
                      <a:pt x="778" y="169"/>
                    </a:lnTo>
                    <a:lnTo>
                      <a:pt x="781" y="185"/>
                    </a:lnTo>
                    <a:lnTo>
                      <a:pt x="776" y="195"/>
                    </a:lnTo>
                    <a:lnTo>
                      <a:pt x="771" y="204"/>
                    </a:lnTo>
                    <a:lnTo>
                      <a:pt x="764" y="214"/>
                    </a:lnTo>
                    <a:lnTo>
                      <a:pt x="759" y="224"/>
                    </a:lnTo>
                    <a:lnTo>
                      <a:pt x="754" y="232"/>
                    </a:lnTo>
                    <a:lnTo>
                      <a:pt x="749" y="240"/>
                    </a:lnTo>
                    <a:lnTo>
                      <a:pt x="744" y="248"/>
                    </a:lnTo>
                    <a:lnTo>
                      <a:pt x="742" y="255"/>
                    </a:lnTo>
                    <a:lnTo>
                      <a:pt x="727" y="255"/>
                    </a:lnTo>
                    <a:lnTo>
                      <a:pt x="715" y="251"/>
                    </a:lnTo>
                    <a:lnTo>
                      <a:pt x="705" y="251"/>
                    </a:lnTo>
                    <a:lnTo>
                      <a:pt x="697" y="253"/>
                    </a:lnTo>
                    <a:lnTo>
                      <a:pt x="688" y="255"/>
                    </a:lnTo>
                    <a:lnTo>
                      <a:pt x="682" y="259"/>
                    </a:lnTo>
                    <a:lnTo>
                      <a:pt x="675" y="264"/>
                    </a:lnTo>
                    <a:lnTo>
                      <a:pt x="668" y="269"/>
                    </a:lnTo>
                    <a:lnTo>
                      <a:pt x="663" y="276"/>
                    </a:lnTo>
                    <a:lnTo>
                      <a:pt x="660" y="282"/>
                    </a:lnTo>
                    <a:lnTo>
                      <a:pt x="656" y="290"/>
                    </a:lnTo>
                    <a:lnTo>
                      <a:pt x="655" y="298"/>
                    </a:lnTo>
                    <a:lnTo>
                      <a:pt x="653" y="306"/>
                    </a:lnTo>
                    <a:lnTo>
                      <a:pt x="653" y="315"/>
                    </a:lnTo>
                    <a:lnTo>
                      <a:pt x="655" y="323"/>
                    </a:lnTo>
                    <a:lnTo>
                      <a:pt x="656" y="329"/>
                    </a:lnTo>
                    <a:lnTo>
                      <a:pt x="658" y="337"/>
                    </a:lnTo>
                    <a:lnTo>
                      <a:pt x="658" y="337"/>
                    </a:lnTo>
                    <a:lnTo>
                      <a:pt x="658" y="339"/>
                    </a:lnTo>
                    <a:lnTo>
                      <a:pt x="656" y="339"/>
                    </a:lnTo>
                    <a:lnTo>
                      <a:pt x="656" y="340"/>
                    </a:lnTo>
                    <a:lnTo>
                      <a:pt x="656" y="340"/>
                    </a:lnTo>
                    <a:lnTo>
                      <a:pt x="656" y="342"/>
                    </a:lnTo>
                    <a:lnTo>
                      <a:pt x="655" y="342"/>
                    </a:lnTo>
                    <a:lnTo>
                      <a:pt x="655" y="344"/>
                    </a:lnTo>
                    <a:lnTo>
                      <a:pt x="650" y="344"/>
                    </a:lnTo>
                    <a:lnTo>
                      <a:pt x="643" y="344"/>
                    </a:lnTo>
                    <a:lnTo>
                      <a:pt x="638" y="344"/>
                    </a:lnTo>
                    <a:lnTo>
                      <a:pt x="633" y="345"/>
                    </a:lnTo>
                    <a:lnTo>
                      <a:pt x="628" y="345"/>
                    </a:lnTo>
                    <a:lnTo>
                      <a:pt x="623" y="345"/>
                    </a:lnTo>
                    <a:lnTo>
                      <a:pt x="616" y="345"/>
                    </a:lnTo>
                    <a:lnTo>
                      <a:pt x="611" y="347"/>
                    </a:lnTo>
                    <a:lnTo>
                      <a:pt x="606" y="355"/>
                    </a:lnTo>
                    <a:lnTo>
                      <a:pt x="599" y="361"/>
                    </a:lnTo>
                    <a:lnTo>
                      <a:pt x="594" y="368"/>
                    </a:lnTo>
                    <a:lnTo>
                      <a:pt x="587" y="373"/>
                    </a:lnTo>
                    <a:lnTo>
                      <a:pt x="572" y="378"/>
                    </a:lnTo>
                    <a:lnTo>
                      <a:pt x="557" y="381"/>
                    </a:lnTo>
                    <a:lnTo>
                      <a:pt x="542" y="381"/>
                    </a:lnTo>
                    <a:lnTo>
                      <a:pt x="525" y="381"/>
                    </a:lnTo>
                    <a:lnTo>
                      <a:pt x="506" y="381"/>
                    </a:lnTo>
                    <a:lnTo>
                      <a:pt x="486" y="381"/>
                    </a:lnTo>
                    <a:lnTo>
                      <a:pt x="488" y="376"/>
                    </a:lnTo>
                    <a:lnTo>
                      <a:pt x="491" y="371"/>
                    </a:lnTo>
                    <a:lnTo>
                      <a:pt x="493" y="368"/>
                    </a:lnTo>
                    <a:lnTo>
                      <a:pt x="496" y="363"/>
                    </a:lnTo>
                    <a:lnTo>
                      <a:pt x="500" y="358"/>
                    </a:lnTo>
                    <a:lnTo>
                      <a:pt x="501" y="355"/>
                    </a:lnTo>
                    <a:lnTo>
                      <a:pt x="505" y="350"/>
                    </a:lnTo>
                    <a:lnTo>
                      <a:pt x="506" y="344"/>
                    </a:lnTo>
                    <a:lnTo>
                      <a:pt x="495" y="336"/>
                    </a:lnTo>
                    <a:lnTo>
                      <a:pt x="483" y="329"/>
                    </a:lnTo>
                    <a:lnTo>
                      <a:pt x="469" y="324"/>
                    </a:lnTo>
                    <a:lnTo>
                      <a:pt x="454" y="319"/>
                    </a:lnTo>
                    <a:lnTo>
                      <a:pt x="424" y="315"/>
                    </a:lnTo>
                    <a:lnTo>
                      <a:pt x="392" y="311"/>
                    </a:lnTo>
                    <a:lnTo>
                      <a:pt x="377" y="308"/>
                    </a:lnTo>
                    <a:lnTo>
                      <a:pt x="362" y="306"/>
                    </a:lnTo>
                    <a:lnTo>
                      <a:pt x="348" y="302"/>
                    </a:lnTo>
                    <a:lnTo>
                      <a:pt x="335" y="297"/>
                    </a:lnTo>
                    <a:lnTo>
                      <a:pt x="325" y="290"/>
                    </a:lnTo>
                    <a:lnTo>
                      <a:pt x="314" y="282"/>
                    </a:lnTo>
                    <a:lnTo>
                      <a:pt x="308" y="271"/>
                    </a:lnTo>
                    <a:lnTo>
                      <a:pt x="303" y="258"/>
                    </a:lnTo>
                    <a:lnTo>
                      <a:pt x="269" y="246"/>
                    </a:lnTo>
                    <a:lnTo>
                      <a:pt x="237" y="237"/>
                    </a:lnTo>
                    <a:lnTo>
                      <a:pt x="203" y="227"/>
                    </a:lnTo>
                    <a:lnTo>
                      <a:pt x="170" y="217"/>
                    </a:lnTo>
                    <a:lnTo>
                      <a:pt x="138" y="209"/>
                    </a:lnTo>
                    <a:lnTo>
                      <a:pt x="104" y="201"/>
                    </a:lnTo>
                    <a:lnTo>
                      <a:pt x="70" y="191"/>
                    </a:lnTo>
                    <a:lnTo>
                      <a:pt x="37" y="183"/>
                    </a:lnTo>
                    <a:lnTo>
                      <a:pt x="30" y="185"/>
                    </a:lnTo>
                    <a:lnTo>
                      <a:pt x="23" y="187"/>
                    </a:lnTo>
                    <a:lnTo>
                      <a:pt x="18" y="187"/>
                    </a:lnTo>
                    <a:lnTo>
                      <a:pt x="13" y="185"/>
                    </a:lnTo>
                    <a:lnTo>
                      <a:pt x="10" y="185"/>
                    </a:lnTo>
                    <a:lnTo>
                      <a:pt x="6" y="183"/>
                    </a:lnTo>
                    <a:lnTo>
                      <a:pt x="3" y="182"/>
                    </a:lnTo>
                    <a:lnTo>
                      <a:pt x="0" y="18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51560" y="3372840"/>
                <a:ext cx="1002240" cy="196920"/>
              </a:xfrm>
              <a:custGeom>
                <a:avLst/>
                <a:gdLst/>
                <a:ahLst/>
                <a:rect l="l" t="t" r="r" b="b"/>
                <a:pathLst>
                  <a:path w="650" h="128">
                    <a:moveTo>
                      <a:pt x="650" y="62"/>
                    </a:moveTo>
                    <a:lnTo>
                      <a:pt x="650" y="65"/>
                    </a:lnTo>
                    <a:lnTo>
                      <a:pt x="648" y="68"/>
                    </a:lnTo>
                    <a:lnTo>
                      <a:pt x="646" y="73"/>
                    </a:lnTo>
                    <a:lnTo>
                      <a:pt x="645" y="76"/>
                    </a:lnTo>
                    <a:lnTo>
                      <a:pt x="643" y="80"/>
                    </a:lnTo>
                    <a:lnTo>
                      <a:pt x="643" y="83"/>
                    </a:lnTo>
                    <a:lnTo>
                      <a:pt x="641" y="88"/>
                    </a:lnTo>
                    <a:lnTo>
                      <a:pt x="640" y="91"/>
                    </a:lnTo>
                    <a:lnTo>
                      <a:pt x="633" y="92"/>
                    </a:lnTo>
                    <a:lnTo>
                      <a:pt x="626" y="96"/>
                    </a:lnTo>
                    <a:lnTo>
                      <a:pt x="621" y="97"/>
                    </a:lnTo>
                    <a:lnTo>
                      <a:pt x="616" y="101"/>
                    </a:lnTo>
                    <a:lnTo>
                      <a:pt x="613" y="104"/>
                    </a:lnTo>
                    <a:lnTo>
                      <a:pt x="609" y="105"/>
                    </a:lnTo>
                    <a:lnTo>
                      <a:pt x="606" y="109"/>
                    </a:lnTo>
                    <a:lnTo>
                      <a:pt x="604" y="112"/>
                    </a:lnTo>
                    <a:lnTo>
                      <a:pt x="589" y="115"/>
                    </a:lnTo>
                    <a:lnTo>
                      <a:pt x="576" y="117"/>
                    </a:lnTo>
                    <a:lnTo>
                      <a:pt x="562" y="118"/>
                    </a:lnTo>
                    <a:lnTo>
                      <a:pt x="550" y="120"/>
                    </a:lnTo>
                    <a:lnTo>
                      <a:pt x="539" y="122"/>
                    </a:lnTo>
                    <a:lnTo>
                      <a:pt x="527" y="123"/>
                    </a:lnTo>
                    <a:lnTo>
                      <a:pt x="515" y="125"/>
                    </a:lnTo>
                    <a:lnTo>
                      <a:pt x="505" y="128"/>
                    </a:lnTo>
                    <a:lnTo>
                      <a:pt x="503" y="126"/>
                    </a:lnTo>
                    <a:lnTo>
                      <a:pt x="502" y="125"/>
                    </a:lnTo>
                    <a:lnTo>
                      <a:pt x="502" y="123"/>
                    </a:lnTo>
                    <a:lnTo>
                      <a:pt x="500" y="122"/>
                    </a:lnTo>
                    <a:lnTo>
                      <a:pt x="498" y="120"/>
                    </a:lnTo>
                    <a:lnTo>
                      <a:pt x="498" y="118"/>
                    </a:lnTo>
                    <a:lnTo>
                      <a:pt x="496" y="118"/>
                    </a:lnTo>
                    <a:lnTo>
                      <a:pt x="495" y="117"/>
                    </a:lnTo>
                    <a:lnTo>
                      <a:pt x="485" y="117"/>
                    </a:lnTo>
                    <a:lnTo>
                      <a:pt x="475" y="115"/>
                    </a:lnTo>
                    <a:lnTo>
                      <a:pt x="466" y="115"/>
                    </a:lnTo>
                    <a:lnTo>
                      <a:pt x="458" y="115"/>
                    </a:lnTo>
                    <a:lnTo>
                      <a:pt x="451" y="114"/>
                    </a:lnTo>
                    <a:lnTo>
                      <a:pt x="443" y="114"/>
                    </a:lnTo>
                    <a:lnTo>
                      <a:pt x="436" y="112"/>
                    </a:lnTo>
                    <a:lnTo>
                      <a:pt x="429" y="110"/>
                    </a:lnTo>
                    <a:lnTo>
                      <a:pt x="419" y="114"/>
                    </a:lnTo>
                    <a:lnTo>
                      <a:pt x="407" y="114"/>
                    </a:lnTo>
                    <a:lnTo>
                      <a:pt x="394" y="112"/>
                    </a:lnTo>
                    <a:lnTo>
                      <a:pt x="380" y="109"/>
                    </a:lnTo>
                    <a:lnTo>
                      <a:pt x="347" y="97"/>
                    </a:lnTo>
                    <a:lnTo>
                      <a:pt x="313" y="83"/>
                    </a:lnTo>
                    <a:lnTo>
                      <a:pt x="278" y="67"/>
                    </a:lnTo>
                    <a:lnTo>
                      <a:pt x="246" y="50"/>
                    </a:lnTo>
                    <a:lnTo>
                      <a:pt x="219" y="39"/>
                    </a:lnTo>
                    <a:lnTo>
                      <a:pt x="198" y="33"/>
                    </a:lnTo>
                    <a:lnTo>
                      <a:pt x="197" y="26"/>
                    </a:lnTo>
                    <a:lnTo>
                      <a:pt x="193" y="21"/>
                    </a:lnTo>
                    <a:lnTo>
                      <a:pt x="190" y="16"/>
                    </a:lnTo>
                    <a:lnTo>
                      <a:pt x="187" y="13"/>
                    </a:lnTo>
                    <a:lnTo>
                      <a:pt x="183" y="10"/>
                    </a:lnTo>
                    <a:lnTo>
                      <a:pt x="178" y="7"/>
                    </a:lnTo>
                    <a:lnTo>
                      <a:pt x="175" y="5"/>
                    </a:lnTo>
                    <a:lnTo>
                      <a:pt x="170" y="2"/>
                    </a:lnTo>
                    <a:lnTo>
                      <a:pt x="161" y="13"/>
                    </a:lnTo>
                    <a:lnTo>
                      <a:pt x="153" y="20"/>
                    </a:lnTo>
                    <a:lnTo>
                      <a:pt x="146" y="24"/>
                    </a:lnTo>
                    <a:lnTo>
                      <a:pt x="141" y="26"/>
                    </a:lnTo>
                    <a:lnTo>
                      <a:pt x="134" y="24"/>
                    </a:lnTo>
                    <a:lnTo>
                      <a:pt x="128" y="20"/>
                    </a:lnTo>
                    <a:lnTo>
                      <a:pt x="121" y="12"/>
                    </a:lnTo>
                    <a:lnTo>
                      <a:pt x="114" y="2"/>
                    </a:lnTo>
                    <a:lnTo>
                      <a:pt x="99" y="2"/>
                    </a:lnTo>
                    <a:lnTo>
                      <a:pt x="84" y="3"/>
                    </a:lnTo>
                    <a:lnTo>
                      <a:pt x="69" y="3"/>
                    </a:lnTo>
                    <a:lnTo>
                      <a:pt x="54" y="3"/>
                    </a:lnTo>
                    <a:lnTo>
                      <a:pt x="40" y="2"/>
                    </a:lnTo>
                    <a:lnTo>
                      <a:pt x="27" y="2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53800" y="3468240"/>
                <a:ext cx="285120" cy="150840"/>
              </a:xfrm>
              <a:custGeom>
                <a:avLst/>
                <a:gdLst/>
                <a:ahLst/>
                <a:rect l="l" t="t" r="r" b="b"/>
                <a:pathLst>
                  <a:path w="185" h="98">
                    <a:moveTo>
                      <a:pt x="185" y="97"/>
                    </a:moveTo>
                    <a:lnTo>
                      <a:pt x="180" y="98"/>
                    </a:lnTo>
                    <a:lnTo>
                      <a:pt x="171" y="98"/>
                    </a:lnTo>
                    <a:lnTo>
                      <a:pt x="163" y="95"/>
                    </a:lnTo>
                    <a:lnTo>
                      <a:pt x="151" y="90"/>
                    </a:lnTo>
                    <a:lnTo>
                      <a:pt x="126" y="76"/>
                    </a:lnTo>
                    <a:lnTo>
                      <a:pt x="96" y="56"/>
                    </a:lnTo>
                    <a:lnTo>
                      <a:pt x="67" y="37"/>
                    </a:lnTo>
                    <a:lnTo>
                      <a:pt x="40" y="19"/>
                    </a:ln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39280" y="3618000"/>
                <a:ext cx="242280" cy="298800"/>
              </a:xfrm>
              <a:custGeom>
                <a:avLst/>
                <a:gdLst/>
                <a:ahLst/>
                <a:rect l="l" t="t" r="r" b="b"/>
                <a:pathLst>
                  <a:path w="157" h="194">
                    <a:moveTo>
                      <a:pt x="157" y="194"/>
                    </a:moveTo>
                    <a:lnTo>
                      <a:pt x="148" y="186"/>
                    </a:lnTo>
                    <a:lnTo>
                      <a:pt x="140" y="176"/>
                    </a:lnTo>
                    <a:lnTo>
                      <a:pt x="133" y="167"/>
                    </a:lnTo>
                    <a:lnTo>
                      <a:pt x="126" y="155"/>
                    </a:lnTo>
                    <a:lnTo>
                      <a:pt x="118" y="133"/>
                    </a:lnTo>
                    <a:lnTo>
                      <a:pt x="109" y="110"/>
                    </a:lnTo>
                    <a:lnTo>
                      <a:pt x="103" y="86"/>
                    </a:lnTo>
                    <a:lnTo>
                      <a:pt x="94" y="65"/>
                    </a:lnTo>
                    <a:lnTo>
                      <a:pt x="88" y="53"/>
                    </a:lnTo>
                    <a:lnTo>
                      <a:pt x="82" y="44"/>
                    </a:lnTo>
                    <a:lnTo>
                      <a:pt x="74" y="36"/>
                    </a:lnTo>
                    <a:lnTo>
                      <a:pt x="64" y="27"/>
                    </a:lnTo>
                    <a:lnTo>
                      <a:pt x="54" y="26"/>
                    </a:lnTo>
                    <a:lnTo>
                      <a:pt x="44" y="23"/>
                    </a:lnTo>
                    <a:lnTo>
                      <a:pt x="34" y="19"/>
                    </a:lnTo>
                    <a:lnTo>
                      <a:pt x="25" y="16"/>
                    </a:lnTo>
                    <a:lnTo>
                      <a:pt x="17" y="13"/>
                    </a:lnTo>
                    <a:lnTo>
                      <a:pt x="10" y="8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81560" y="2441160"/>
                <a:ext cx="1272240" cy="1476000"/>
              </a:xfrm>
              <a:custGeom>
                <a:avLst/>
                <a:gdLst/>
                <a:ahLst/>
                <a:rect l="l" t="t" r="r" b="b"/>
                <a:pathLst>
                  <a:path w="825" h="957">
                    <a:moveTo>
                      <a:pt x="27" y="31"/>
                    </a:moveTo>
                    <a:lnTo>
                      <a:pt x="32" y="29"/>
                    </a:lnTo>
                    <a:lnTo>
                      <a:pt x="38" y="28"/>
                    </a:lnTo>
                    <a:lnTo>
                      <a:pt x="45" y="26"/>
                    </a:lnTo>
                    <a:lnTo>
                      <a:pt x="52" y="24"/>
                    </a:lnTo>
                    <a:lnTo>
                      <a:pt x="60" y="23"/>
                    </a:lnTo>
                    <a:lnTo>
                      <a:pt x="69" y="21"/>
                    </a:lnTo>
                    <a:lnTo>
                      <a:pt x="79" y="20"/>
                    </a:lnTo>
                    <a:lnTo>
                      <a:pt x="87" y="18"/>
                    </a:lnTo>
                    <a:lnTo>
                      <a:pt x="102" y="8"/>
                    </a:lnTo>
                    <a:lnTo>
                      <a:pt x="114" y="3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46" y="5"/>
                    </a:lnTo>
                    <a:lnTo>
                      <a:pt x="158" y="8"/>
                    </a:lnTo>
                    <a:lnTo>
                      <a:pt x="173" y="11"/>
                    </a:lnTo>
                    <a:lnTo>
                      <a:pt x="190" y="13"/>
                    </a:lnTo>
                    <a:lnTo>
                      <a:pt x="198" y="16"/>
                    </a:lnTo>
                    <a:lnTo>
                      <a:pt x="203" y="21"/>
                    </a:lnTo>
                    <a:lnTo>
                      <a:pt x="210" y="26"/>
                    </a:lnTo>
                    <a:lnTo>
                      <a:pt x="213" y="31"/>
                    </a:lnTo>
                    <a:lnTo>
                      <a:pt x="218" y="41"/>
                    </a:lnTo>
                    <a:lnTo>
                      <a:pt x="222" y="50"/>
                    </a:lnTo>
                    <a:lnTo>
                      <a:pt x="224" y="62"/>
                    </a:lnTo>
                    <a:lnTo>
                      <a:pt x="225" y="71"/>
                    </a:lnTo>
                    <a:lnTo>
                      <a:pt x="227" y="79"/>
                    </a:lnTo>
                    <a:lnTo>
                      <a:pt x="232" y="88"/>
                    </a:lnTo>
                    <a:lnTo>
                      <a:pt x="244" y="86"/>
                    </a:lnTo>
                    <a:lnTo>
                      <a:pt x="254" y="86"/>
                    </a:lnTo>
                    <a:lnTo>
                      <a:pt x="261" y="84"/>
                    </a:lnTo>
                    <a:lnTo>
                      <a:pt x="267" y="83"/>
                    </a:lnTo>
                    <a:lnTo>
                      <a:pt x="274" y="78"/>
                    </a:lnTo>
                    <a:lnTo>
                      <a:pt x="281" y="71"/>
                    </a:lnTo>
                    <a:lnTo>
                      <a:pt x="288" y="63"/>
                    </a:lnTo>
                    <a:lnTo>
                      <a:pt x="298" y="50"/>
                    </a:lnTo>
                    <a:lnTo>
                      <a:pt x="308" y="47"/>
                    </a:lnTo>
                    <a:lnTo>
                      <a:pt x="320" y="47"/>
                    </a:lnTo>
                    <a:lnTo>
                      <a:pt x="331" y="49"/>
                    </a:lnTo>
                    <a:lnTo>
                      <a:pt x="343" y="52"/>
                    </a:lnTo>
                    <a:lnTo>
                      <a:pt x="357" y="55"/>
                    </a:lnTo>
                    <a:lnTo>
                      <a:pt x="372" y="58"/>
                    </a:lnTo>
                    <a:lnTo>
                      <a:pt x="385" y="62"/>
                    </a:lnTo>
                    <a:lnTo>
                      <a:pt x="400" y="63"/>
                    </a:lnTo>
                    <a:lnTo>
                      <a:pt x="421" y="68"/>
                    </a:lnTo>
                    <a:lnTo>
                      <a:pt x="441" y="75"/>
                    </a:lnTo>
                    <a:lnTo>
                      <a:pt x="461" y="83"/>
                    </a:lnTo>
                    <a:lnTo>
                      <a:pt x="481" y="94"/>
                    </a:lnTo>
                    <a:lnTo>
                      <a:pt x="523" y="117"/>
                    </a:lnTo>
                    <a:lnTo>
                      <a:pt x="565" y="143"/>
                    </a:lnTo>
                    <a:lnTo>
                      <a:pt x="587" y="154"/>
                    </a:lnTo>
                    <a:lnTo>
                      <a:pt x="609" y="164"/>
                    </a:lnTo>
                    <a:lnTo>
                      <a:pt x="631" y="173"/>
                    </a:lnTo>
                    <a:lnTo>
                      <a:pt x="651" y="180"/>
                    </a:lnTo>
                    <a:lnTo>
                      <a:pt x="671" y="185"/>
                    </a:lnTo>
                    <a:lnTo>
                      <a:pt x="693" y="186"/>
                    </a:lnTo>
                    <a:lnTo>
                      <a:pt x="703" y="186"/>
                    </a:lnTo>
                    <a:lnTo>
                      <a:pt x="714" y="186"/>
                    </a:lnTo>
                    <a:lnTo>
                      <a:pt x="722" y="183"/>
                    </a:lnTo>
                    <a:lnTo>
                      <a:pt x="732" y="181"/>
                    </a:lnTo>
                    <a:lnTo>
                      <a:pt x="742" y="183"/>
                    </a:lnTo>
                    <a:lnTo>
                      <a:pt x="751" y="185"/>
                    </a:lnTo>
                    <a:lnTo>
                      <a:pt x="757" y="186"/>
                    </a:lnTo>
                    <a:lnTo>
                      <a:pt x="766" y="188"/>
                    </a:lnTo>
                    <a:lnTo>
                      <a:pt x="774" y="188"/>
                    </a:lnTo>
                    <a:lnTo>
                      <a:pt x="783" y="188"/>
                    </a:lnTo>
                    <a:lnTo>
                      <a:pt x="793" y="188"/>
                    </a:lnTo>
                    <a:lnTo>
                      <a:pt x="804" y="186"/>
                    </a:lnTo>
                    <a:lnTo>
                      <a:pt x="806" y="194"/>
                    </a:lnTo>
                    <a:lnTo>
                      <a:pt x="808" y="201"/>
                    </a:lnTo>
                    <a:lnTo>
                      <a:pt x="811" y="206"/>
                    </a:lnTo>
                    <a:lnTo>
                      <a:pt x="815" y="212"/>
                    </a:lnTo>
                    <a:lnTo>
                      <a:pt x="816" y="217"/>
                    </a:lnTo>
                    <a:lnTo>
                      <a:pt x="820" y="224"/>
                    </a:lnTo>
                    <a:lnTo>
                      <a:pt x="821" y="230"/>
                    </a:lnTo>
                    <a:lnTo>
                      <a:pt x="825" y="237"/>
                    </a:lnTo>
                    <a:lnTo>
                      <a:pt x="815" y="251"/>
                    </a:lnTo>
                    <a:lnTo>
                      <a:pt x="806" y="267"/>
                    </a:lnTo>
                    <a:lnTo>
                      <a:pt x="798" y="279"/>
                    </a:lnTo>
                    <a:lnTo>
                      <a:pt x="788" y="287"/>
                    </a:lnTo>
                    <a:lnTo>
                      <a:pt x="779" y="293"/>
                    </a:lnTo>
                    <a:lnTo>
                      <a:pt x="771" y="300"/>
                    </a:lnTo>
                    <a:lnTo>
                      <a:pt x="764" y="306"/>
                    </a:lnTo>
                    <a:lnTo>
                      <a:pt x="762" y="311"/>
                    </a:lnTo>
                    <a:lnTo>
                      <a:pt x="761" y="318"/>
                    </a:lnTo>
                    <a:lnTo>
                      <a:pt x="761" y="324"/>
                    </a:lnTo>
                    <a:lnTo>
                      <a:pt x="761" y="332"/>
                    </a:lnTo>
                    <a:lnTo>
                      <a:pt x="764" y="340"/>
                    </a:lnTo>
                    <a:lnTo>
                      <a:pt x="766" y="348"/>
                    </a:lnTo>
                    <a:lnTo>
                      <a:pt x="766" y="358"/>
                    </a:lnTo>
                    <a:lnTo>
                      <a:pt x="766" y="366"/>
                    </a:lnTo>
                    <a:lnTo>
                      <a:pt x="764" y="376"/>
                    </a:lnTo>
                    <a:lnTo>
                      <a:pt x="762" y="384"/>
                    </a:lnTo>
                    <a:lnTo>
                      <a:pt x="762" y="392"/>
                    </a:lnTo>
                    <a:lnTo>
                      <a:pt x="761" y="398"/>
                    </a:lnTo>
                    <a:lnTo>
                      <a:pt x="764" y="400"/>
                    </a:lnTo>
                    <a:lnTo>
                      <a:pt x="766" y="403"/>
                    </a:lnTo>
                    <a:lnTo>
                      <a:pt x="769" y="405"/>
                    </a:lnTo>
                    <a:lnTo>
                      <a:pt x="771" y="407"/>
                    </a:lnTo>
                    <a:lnTo>
                      <a:pt x="774" y="410"/>
                    </a:lnTo>
                    <a:lnTo>
                      <a:pt x="776" y="411"/>
                    </a:lnTo>
                    <a:lnTo>
                      <a:pt x="779" y="413"/>
                    </a:lnTo>
                    <a:lnTo>
                      <a:pt x="781" y="415"/>
                    </a:lnTo>
                    <a:lnTo>
                      <a:pt x="781" y="423"/>
                    </a:lnTo>
                    <a:lnTo>
                      <a:pt x="778" y="429"/>
                    </a:lnTo>
                    <a:lnTo>
                      <a:pt x="774" y="436"/>
                    </a:lnTo>
                    <a:lnTo>
                      <a:pt x="767" y="442"/>
                    </a:lnTo>
                    <a:lnTo>
                      <a:pt x="756" y="455"/>
                    </a:lnTo>
                    <a:lnTo>
                      <a:pt x="742" y="467"/>
                    </a:lnTo>
                    <a:lnTo>
                      <a:pt x="729" y="479"/>
                    </a:lnTo>
                    <a:lnTo>
                      <a:pt x="720" y="492"/>
                    </a:lnTo>
                    <a:lnTo>
                      <a:pt x="719" y="499"/>
                    </a:lnTo>
                    <a:lnTo>
                      <a:pt x="719" y="505"/>
                    </a:lnTo>
                    <a:lnTo>
                      <a:pt x="720" y="513"/>
                    </a:lnTo>
                    <a:lnTo>
                      <a:pt x="724" y="520"/>
                    </a:lnTo>
                    <a:lnTo>
                      <a:pt x="727" y="543"/>
                    </a:lnTo>
                    <a:lnTo>
                      <a:pt x="725" y="569"/>
                    </a:lnTo>
                    <a:lnTo>
                      <a:pt x="724" y="581"/>
                    </a:lnTo>
                    <a:lnTo>
                      <a:pt x="722" y="594"/>
                    </a:lnTo>
                    <a:lnTo>
                      <a:pt x="719" y="606"/>
                    </a:lnTo>
                    <a:lnTo>
                      <a:pt x="714" y="619"/>
                    </a:lnTo>
                    <a:lnTo>
                      <a:pt x="709" y="628"/>
                    </a:lnTo>
                    <a:lnTo>
                      <a:pt x="702" y="638"/>
                    </a:lnTo>
                    <a:lnTo>
                      <a:pt x="695" y="646"/>
                    </a:lnTo>
                    <a:lnTo>
                      <a:pt x="687" y="651"/>
                    </a:lnTo>
                    <a:lnTo>
                      <a:pt x="678" y="654"/>
                    </a:lnTo>
                    <a:lnTo>
                      <a:pt x="668" y="654"/>
                    </a:lnTo>
                    <a:lnTo>
                      <a:pt x="656" y="653"/>
                    </a:lnTo>
                    <a:lnTo>
                      <a:pt x="645" y="646"/>
                    </a:lnTo>
                    <a:lnTo>
                      <a:pt x="633" y="646"/>
                    </a:lnTo>
                    <a:lnTo>
                      <a:pt x="621" y="646"/>
                    </a:lnTo>
                    <a:lnTo>
                      <a:pt x="609" y="646"/>
                    </a:lnTo>
                    <a:lnTo>
                      <a:pt x="599" y="645"/>
                    </a:lnTo>
                    <a:lnTo>
                      <a:pt x="587" y="645"/>
                    </a:lnTo>
                    <a:lnTo>
                      <a:pt x="575" y="645"/>
                    </a:lnTo>
                    <a:lnTo>
                      <a:pt x="565" y="645"/>
                    </a:lnTo>
                    <a:lnTo>
                      <a:pt x="554" y="643"/>
                    </a:lnTo>
                    <a:lnTo>
                      <a:pt x="554" y="635"/>
                    </a:lnTo>
                    <a:lnTo>
                      <a:pt x="552" y="627"/>
                    </a:lnTo>
                    <a:lnTo>
                      <a:pt x="549" y="622"/>
                    </a:lnTo>
                    <a:lnTo>
                      <a:pt x="545" y="617"/>
                    </a:lnTo>
                    <a:lnTo>
                      <a:pt x="540" y="614"/>
                    </a:lnTo>
                    <a:lnTo>
                      <a:pt x="535" y="612"/>
                    </a:lnTo>
                    <a:lnTo>
                      <a:pt x="528" y="612"/>
                    </a:lnTo>
                    <a:lnTo>
                      <a:pt x="522" y="612"/>
                    </a:lnTo>
                    <a:lnTo>
                      <a:pt x="508" y="616"/>
                    </a:lnTo>
                    <a:lnTo>
                      <a:pt x="495" y="620"/>
                    </a:lnTo>
                    <a:lnTo>
                      <a:pt x="481" y="627"/>
                    </a:lnTo>
                    <a:lnTo>
                      <a:pt x="471" y="632"/>
                    </a:lnTo>
                    <a:lnTo>
                      <a:pt x="453" y="630"/>
                    </a:lnTo>
                    <a:lnTo>
                      <a:pt x="434" y="633"/>
                    </a:lnTo>
                    <a:lnTo>
                      <a:pt x="415" y="637"/>
                    </a:lnTo>
                    <a:lnTo>
                      <a:pt x="397" y="640"/>
                    </a:lnTo>
                    <a:lnTo>
                      <a:pt x="378" y="645"/>
                    </a:lnTo>
                    <a:lnTo>
                      <a:pt x="360" y="648"/>
                    </a:lnTo>
                    <a:lnTo>
                      <a:pt x="341" y="648"/>
                    </a:lnTo>
                    <a:lnTo>
                      <a:pt x="325" y="648"/>
                    </a:lnTo>
                    <a:lnTo>
                      <a:pt x="316" y="656"/>
                    </a:lnTo>
                    <a:lnTo>
                      <a:pt x="308" y="666"/>
                    </a:lnTo>
                    <a:lnTo>
                      <a:pt x="301" y="672"/>
                    </a:lnTo>
                    <a:lnTo>
                      <a:pt x="296" y="680"/>
                    </a:lnTo>
                    <a:lnTo>
                      <a:pt x="289" y="685"/>
                    </a:lnTo>
                    <a:lnTo>
                      <a:pt x="282" y="690"/>
                    </a:lnTo>
                    <a:lnTo>
                      <a:pt x="276" y="693"/>
                    </a:lnTo>
                    <a:lnTo>
                      <a:pt x="269" y="695"/>
                    </a:lnTo>
                    <a:lnTo>
                      <a:pt x="262" y="708"/>
                    </a:lnTo>
                    <a:lnTo>
                      <a:pt x="256" y="721"/>
                    </a:lnTo>
                    <a:lnTo>
                      <a:pt x="252" y="734"/>
                    </a:lnTo>
                    <a:lnTo>
                      <a:pt x="247" y="747"/>
                    </a:lnTo>
                    <a:lnTo>
                      <a:pt x="242" y="774"/>
                    </a:lnTo>
                    <a:lnTo>
                      <a:pt x="235" y="802"/>
                    </a:lnTo>
                    <a:lnTo>
                      <a:pt x="232" y="815"/>
                    </a:lnTo>
                    <a:lnTo>
                      <a:pt x="229" y="828"/>
                    </a:lnTo>
                    <a:lnTo>
                      <a:pt x="224" y="839"/>
                    </a:lnTo>
                    <a:lnTo>
                      <a:pt x="217" y="849"/>
                    </a:lnTo>
                    <a:lnTo>
                      <a:pt x="210" y="857"/>
                    </a:lnTo>
                    <a:lnTo>
                      <a:pt x="200" y="863"/>
                    </a:lnTo>
                    <a:lnTo>
                      <a:pt x="188" y="870"/>
                    </a:lnTo>
                    <a:lnTo>
                      <a:pt x="175" y="873"/>
                    </a:lnTo>
                    <a:lnTo>
                      <a:pt x="168" y="875"/>
                    </a:lnTo>
                    <a:lnTo>
                      <a:pt x="161" y="879"/>
                    </a:lnTo>
                    <a:lnTo>
                      <a:pt x="154" y="884"/>
                    </a:lnTo>
                    <a:lnTo>
                      <a:pt x="149" y="889"/>
                    </a:lnTo>
                    <a:lnTo>
                      <a:pt x="144" y="894"/>
                    </a:lnTo>
                    <a:lnTo>
                      <a:pt x="139" y="897"/>
                    </a:lnTo>
                    <a:lnTo>
                      <a:pt x="136" y="902"/>
                    </a:lnTo>
                    <a:lnTo>
                      <a:pt x="134" y="904"/>
                    </a:lnTo>
                    <a:lnTo>
                      <a:pt x="124" y="905"/>
                    </a:lnTo>
                    <a:lnTo>
                      <a:pt x="116" y="907"/>
                    </a:lnTo>
                    <a:lnTo>
                      <a:pt x="109" y="910"/>
                    </a:lnTo>
                    <a:lnTo>
                      <a:pt x="102" y="913"/>
                    </a:lnTo>
                    <a:lnTo>
                      <a:pt x="90" y="923"/>
                    </a:lnTo>
                    <a:lnTo>
                      <a:pt x="80" y="931"/>
                    </a:lnTo>
                    <a:lnTo>
                      <a:pt x="72" y="938"/>
                    </a:lnTo>
                    <a:lnTo>
                      <a:pt x="62" y="941"/>
                    </a:lnTo>
                    <a:lnTo>
                      <a:pt x="57" y="941"/>
                    </a:lnTo>
                    <a:lnTo>
                      <a:pt x="50" y="939"/>
                    </a:lnTo>
                    <a:lnTo>
                      <a:pt x="42" y="936"/>
                    </a:lnTo>
                    <a:lnTo>
                      <a:pt x="33" y="931"/>
                    </a:lnTo>
                    <a:lnTo>
                      <a:pt x="28" y="935"/>
                    </a:lnTo>
                    <a:lnTo>
                      <a:pt x="23" y="939"/>
                    </a:lnTo>
                    <a:lnTo>
                      <a:pt x="18" y="943"/>
                    </a:lnTo>
                    <a:lnTo>
                      <a:pt x="15" y="944"/>
                    </a:lnTo>
                    <a:lnTo>
                      <a:pt x="10" y="948"/>
                    </a:lnTo>
                    <a:lnTo>
                      <a:pt x="6" y="951"/>
                    </a:lnTo>
                    <a:lnTo>
                      <a:pt x="3" y="954"/>
                    </a:lnTo>
                    <a:lnTo>
                      <a:pt x="0" y="9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39280" y="2489040"/>
                <a:ext cx="285120" cy="1128960"/>
              </a:xfrm>
              <a:custGeom>
                <a:avLst/>
                <a:gdLst/>
                <a:ahLst/>
                <a:rect l="l" t="t" r="r" b="b"/>
                <a:pathLst>
                  <a:path w="185" h="732">
                    <a:moveTo>
                      <a:pt x="2" y="732"/>
                    </a:moveTo>
                    <a:lnTo>
                      <a:pt x="0" y="727"/>
                    </a:lnTo>
                    <a:lnTo>
                      <a:pt x="0" y="724"/>
                    </a:lnTo>
                    <a:lnTo>
                      <a:pt x="3" y="719"/>
                    </a:lnTo>
                    <a:lnTo>
                      <a:pt x="8" y="716"/>
                    </a:lnTo>
                    <a:lnTo>
                      <a:pt x="15" y="711"/>
                    </a:lnTo>
                    <a:lnTo>
                      <a:pt x="25" y="708"/>
                    </a:lnTo>
                    <a:lnTo>
                      <a:pt x="39" y="703"/>
                    </a:lnTo>
                    <a:lnTo>
                      <a:pt x="54" y="699"/>
                    </a:lnTo>
                    <a:lnTo>
                      <a:pt x="59" y="690"/>
                    </a:lnTo>
                    <a:lnTo>
                      <a:pt x="64" y="682"/>
                    </a:lnTo>
                    <a:lnTo>
                      <a:pt x="66" y="674"/>
                    </a:lnTo>
                    <a:lnTo>
                      <a:pt x="67" y="667"/>
                    </a:lnTo>
                    <a:lnTo>
                      <a:pt x="66" y="656"/>
                    </a:lnTo>
                    <a:lnTo>
                      <a:pt x="62" y="646"/>
                    </a:lnTo>
                    <a:lnTo>
                      <a:pt x="57" y="636"/>
                    </a:lnTo>
                    <a:lnTo>
                      <a:pt x="52" y="625"/>
                    </a:lnTo>
                    <a:lnTo>
                      <a:pt x="47" y="612"/>
                    </a:lnTo>
                    <a:lnTo>
                      <a:pt x="45" y="594"/>
                    </a:lnTo>
                    <a:lnTo>
                      <a:pt x="52" y="575"/>
                    </a:lnTo>
                    <a:lnTo>
                      <a:pt x="57" y="555"/>
                    </a:lnTo>
                    <a:lnTo>
                      <a:pt x="61" y="534"/>
                    </a:lnTo>
                    <a:lnTo>
                      <a:pt x="64" y="515"/>
                    </a:lnTo>
                    <a:lnTo>
                      <a:pt x="67" y="473"/>
                    </a:lnTo>
                    <a:lnTo>
                      <a:pt x="69" y="431"/>
                    </a:lnTo>
                    <a:lnTo>
                      <a:pt x="71" y="389"/>
                    </a:lnTo>
                    <a:lnTo>
                      <a:pt x="74" y="346"/>
                    </a:lnTo>
                    <a:lnTo>
                      <a:pt x="79" y="304"/>
                    </a:lnTo>
                    <a:lnTo>
                      <a:pt x="88" y="261"/>
                    </a:lnTo>
                    <a:lnTo>
                      <a:pt x="71" y="235"/>
                    </a:lnTo>
                    <a:lnTo>
                      <a:pt x="74" y="231"/>
                    </a:lnTo>
                    <a:lnTo>
                      <a:pt x="77" y="230"/>
                    </a:lnTo>
                    <a:lnTo>
                      <a:pt x="81" y="227"/>
                    </a:lnTo>
                    <a:lnTo>
                      <a:pt x="84" y="223"/>
                    </a:lnTo>
                    <a:lnTo>
                      <a:pt x="89" y="220"/>
                    </a:lnTo>
                    <a:lnTo>
                      <a:pt x="93" y="217"/>
                    </a:lnTo>
                    <a:lnTo>
                      <a:pt x="96" y="214"/>
                    </a:lnTo>
                    <a:lnTo>
                      <a:pt x="99" y="212"/>
                    </a:lnTo>
                    <a:lnTo>
                      <a:pt x="98" y="210"/>
                    </a:lnTo>
                    <a:lnTo>
                      <a:pt x="94" y="209"/>
                    </a:lnTo>
                    <a:lnTo>
                      <a:pt x="93" y="209"/>
                    </a:lnTo>
                    <a:lnTo>
                      <a:pt x="89" y="207"/>
                    </a:lnTo>
                    <a:lnTo>
                      <a:pt x="88" y="206"/>
                    </a:lnTo>
                    <a:lnTo>
                      <a:pt x="86" y="204"/>
                    </a:lnTo>
                    <a:lnTo>
                      <a:pt x="82" y="204"/>
                    </a:lnTo>
                    <a:lnTo>
                      <a:pt x="81" y="202"/>
                    </a:lnTo>
                    <a:lnTo>
                      <a:pt x="79" y="194"/>
                    </a:lnTo>
                    <a:lnTo>
                      <a:pt x="77" y="186"/>
                    </a:lnTo>
                    <a:lnTo>
                      <a:pt x="76" y="181"/>
                    </a:lnTo>
                    <a:lnTo>
                      <a:pt x="74" y="176"/>
                    </a:lnTo>
                    <a:lnTo>
                      <a:pt x="71" y="172"/>
                    </a:lnTo>
                    <a:lnTo>
                      <a:pt x="67" y="167"/>
                    </a:lnTo>
                    <a:lnTo>
                      <a:pt x="61" y="163"/>
                    </a:lnTo>
                    <a:lnTo>
                      <a:pt x="54" y="160"/>
                    </a:lnTo>
                    <a:lnTo>
                      <a:pt x="54" y="157"/>
                    </a:lnTo>
                    <a:lnTo>
                      <a:pt x="54" y="154"/>
                    </a:lnTo>
                    <a:lnTo>
                      <a:pt x="56" y="150"/>
                    </a:lnTo>
                    <a:lnTo>
                      <a:pt x="56" y="146"/>
                    </a:lnTo>
                    <a:lnTo>
                      <a:pt x="57" y="142"/>
                    </a:lnTo>
                    <a:lnTo>
                      <a:pt x="61" y="138"/>
                    </a:lnTo>
                    <a:lnTo>
                      <a:pt x="62" y="133"/>
                    </a:lnTo>
                    <a:lnTo>
                      <a:pt x="66" y="126"/>
                    </a:lnTo>
                    <a:lnTo>
                      <a:pt x="69" y="126"/>
                    </a:lnTo>
                    <a:lnTo>
                      <a:pt x="72" y="126"/>
                    </a:lnTo>
                    <a:lnTo>
                      <a:pt x="76" y="125"/>
                    </a:lnTo>
                    <a:lnTo>
                      <a:pt x="77" y="125"/>
                    </a:lnTo>
                    <a:lnTo>
                      <a:pt x="81" y="125"/>
                    </a:lnTo>
                    <a:lnTo>
                      <a:pt x="86" y="125"/>
                    </a:lnTo>
                    <a:lnTo>
                      <a:pt x="89" y="123"/>
                    </a:lnTo>
                    <a:lnTo>
                      <a:pt x="93" y="123"/>
                    </a:lnTo>
                    <a:lnTo>
                      <a:pt x="108" y="116"/>
                    </a:lnTo>
                    <a:lnTo>
                      <a:pt x="120" y="113"/>
                    </a:lnTo>
                    <a:lnTo>
                      <a:pt x="126" y="110"/>
                    </a:lnTo>
                    <a:lnTo>
                      <a:pt x="130" y="107"/>
                    </a:lnTo>
                    <a:lnTo>
                      <a:pt x="133" y="102"/>
                    </a:lnTo>
                    <a:lnTo>
                      <a:pt x="136" y="94"/>
                    </a:lnTo>
                    <a:lnTo>
                      <a:pt x="141" y="81"/>
                    </a:lnTo>
                    <a:lnTo>
                      <a:pt x="150" y="63"/>
                    </a:lnTo>
                    <a:lnTo>
                      <a:pt x="162" y="60"/>
                    </a:lnTo>
                    <a:lnTo>
                      <a:pt x="170" y="57"/>
                    </a:lnTo>
                    <a:lnTo>
                      <a:pt x="177" y="53"/>
                    </a:lnTo>
                    <a:lnTo>
                      <a:pt x="182" y="48"/>
                    </a:lnTo>
                    <a:lnTo>
                      <a:pt x="184" y="40"/>
                    </a:lnTo>
                    <a:lnTo>
                      <a:pt x="185" y="31"/>
                    </a:lnTo>
                    <a:lnTo>
                      <a:pt x="185" y="18"/>
                    </a:lnTo>
                    <a:lnTo>
                      <a:pt x="18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40880" y="2198880"/>
                <a:ext cx="975960" cy="289800"/>
              </a:xfrm>
              <a:custGeom>
                <a:avLst/>
                <a:gdLst/>
                <a:ahLst/>
                <a:rect l="l" t="t" r="r" b="b"/>
                <a:pathLst>
                  <a:path w="633" h="188">
                    <a:moveTo>
                      <a:pt x="633" y="188"/>
                    </a:moveTo>
                    <a:lnTo>
                      <a:pt x="626" y="183"/>
                    </a:lnTo>
                    <a:lnTo>
                      <a:pt x="620" y="177"/>
                    </a:lnTo>
                    <a:lnTo>
                      <a:pt x="613" y="170"/>
                    </a:lnTo>
                    <a:lnTo>
                      <a:pt x="608" y="164"/>
                    </a:lnTo>
                    <a:lnTo>
                      <a:pt x="603" y="157"/>
                    </a:lnTo>
                    <a:lnTo>
                      <a:pt x="596" y="151"/>
                    </a:lnTo>
                    <a:lnTo>
                      <a:pt x="591" y="143"/>
                    </a:lnTo>
                    <a:lnTo>
                      <a:pt x="584" y="136"/>
                    </a:lnTo>
                    <a:lnTo>
                      <a:pt x="581" y="120"/>
                    </a:lnTo>
                    <a:lnTo>
                      <a:pt x="578" y="105"/>
                    </a:lnTo>
                    <a:lnTo>
                      <a:pt x="573" y="96"/>
                    </a:lnTo>
                    <a:lnTo>
                      <a:pt x="567" y="89"/>
                    </a:lnTo>
                    <a:lnTo>
                      <a:pt x="561" y="84"/>
                    </a:lnTo>
                    <a:lnTo>
                      <a:pt x="554" y="81"/>
                    </a:lnTo>
                    <a:lnTo>
                      <a:pt x="547" y="81"/>
                    </a:lnTo>
                    <a:lnTo>
                      <a:pt x="539" y="83"/>
                    </a:lnTo>
                    <a:lnTo>
                      <a:pt x="519" y="91"/>
                    </a:lnTo>
                    <a:lnTo>
                      <a:pt x="498" y="102"/>
                    </a:lnTo>
                    <a:lnTo>
                      <a:pt x="473" y="113"/>
                    </a:lnTo>
                    <a:lnTo>
                      <a:pt x="446" y="123"/>
                    </a:lnTo>
                    <a:lnTo>
                      <a:pt x="439" y="123"/>
                    </a:lnTo>
                    <a:lnTo>
                      <a:pt x="433" y="121"/>
                    </a:lnTo>
                    <a:lnTo>
                      <a:pt x="426" y="120"/>
                    </a:lnTo>
                    <a:lnTo>
                      <a:pt x="419" y="120"/>
                    </a:lnTo>
                    <a:lnTo>
                      <a:pt x="411" y="118"/>
                    </a:lnTo>
                    <a:lnTo>
                      <a:pt x="404" y="117"/>
                    </a:lnTo>
                    <a:lnTo>
                      <a:pt x="397" y="115"/>
                    </a:lnTo>
                    <a:lnTo>
                      <a:pt x="391" y="113"/>
                    </a:lnTo>
                    <a:lnTo>
                      <a:pt x="370" y="117"/>
                    </a:lnTo>
                    <a:lnTo>
                      <a:pt x="350" y="118"/>
                    </a:lnTo>
                    <a:lnTo>
                      <a:pt x="328" y="121"/>
                    </a:lnTo>
                    <a:lnTo>
                      <a:pt x="308" y="121"/>
                    </a:lnTo>
                    <a:lnTo>
                      <a:pt x="286" y="121"/>
                    </a:lnTo>
                    <a:lnTo>
                      <a:pt x="268" y="120"/>
                    </a:lnTo>
                    <a:lnTo>
                      <a:pt x="248" y="115"/>
                    </a:lnTo>
                    <a:lnTo>
                      <a:pt x="231" y="107"/>
                    </a:lnTo>
                    <a:lnTo>
                      <a:pt x="226" y="107"/>
                    </a:lnTo>
                    <a:lnTo>
                      <a:pt x="219" y="105"/>
                    </a:lnTo>
                    <a:lnTo>
                      <a:pt x="214" y="104"/>
                    </a:lnTo>
                    <a:lnTo>
                      <a:pt x="209" y="102"/>
                    </a:lnTo>
                    <a:lnTo>
                      <a:pt x="204" y="102"/>
                    </a:lnTo>
                    <a:lnTo>
                      <a:pt x="197" y="100"/>
                    </a:lnTo>
                    <a:lnTo>
                      <a:pt x="192" y="99"/>
                    </a:lnTo>
                    <a:lnTo>
                      <a:pt x="187" y="97"/>
                    </a:lnTo>
                    <a:lnTo>
                      <a:pt x="187" y="91"/>
                    </a:lnTo>
                    <a:lnTo>
                      <a:pt x="187" y="83"/>
                    </a:lnTo>
                    <a:lnTo>
                      <a:pt x="189" y="76"/>
                    </a:lnTo>
                    <a:lnTo>
                      <a:pt x="189" y="68"/>
                    </a:lnTo>
                    <a:lnTo>
                      <a:pt x="189" y="60"/>
                    </a:lnTo>
                    <a:lnTo>
                      <a:pt x="189" y="53"/>
                    </a:lnTo>
                    <a:lnTo>
                      <a:pt x="190" y="45"/>
                    </a:lnTo>
                    <a:lnTo>
                      <a:pt x="190" y="39"/>
                    </a:lnTo>
                    <a:lnTo>
                      <a:pt x="172" y="36"/>
                    </a:lnTo>
                    <a:lnTo>
                      <a:pt x="153" y="31"/>
                    </a:lnTo>
                    <a:lnTo>
                      <a:pt x="135" y="26"/>
                    </a:lnTo>
                    <a:lnTo>
                      <a:pt x="118" y="19"/>
                    </a:lnTo>
                    <a:lnTo>
                      <a:pt x="101" y="13"/>
                    </a:lnTo>
                    <a:lnTo>
                      <a:pt x="84" y="6"/>
                    </a:lnTo>
                    <a:lnTo>
                      <a:pt x="67" y="3"/>
                    </a:lnTo>
                    <a:lnTo>
                      <a:pt x="49" y="0"/>
                    </a:lnTo>
                    <a:lnTo>
                      <a:pt x="42" y="10"/>
                    </a:lnTo>
                    <a:lnTo>
                      <a:pt x="37" y="18"/>
                    </a:lnTo>
                    <a:lnTo>
                      <a:pt x="35" y="24"/>
                    </a:lnTo>
                    <a:lnTo>
                      <a:pt x="34" y="32"/>
                    </a:lnTo>
                    <a:lnTo>
                      <a:pt x="34" y="39"/>
                    </a:lnTo>
                    <a:lnTo>
                      <a:pt x="34" y="45"/>
                    </a:lnTo>
                    <a:lnTo>
                      <a:pt x="34" y="52"/>
                    </a:lnTo>
                    <a:lnTo>
                      <a:pt x="35" y="60"/>
                    </a:lnTo>
                    <a:lnTo>
                      <a:pt x="29" y="57"/>
                    </a:lnTo>
                    <a:lnTo>
                      <a:pt x="24" y="57"/>
                    </a:lnTo>
                    <a:lnTo>
                      <a:pt x="19" y="55"/>
                    </a:lnTo>
                    <a:lnTo>
                      <a:pt x="15" y="53"/>
                    </a:lnTo>
                    <a:lnTo>
                      <a:pt x="10" y="53"/>
                    </a:lnTo>
                    <a:lnTo>
                      <a:pt x="7" y="53"/>
                    </a:lnTo>
                    <a:lnTo>
                      <a:pt x="3" y="53"/>
                    </a:lnTo>
                    <a:lnTo>
                      <a:pt x="0" y="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04320" y="4464720"/>
                <a:ext cx="79920" cy="10800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0"/>
                    </a:moveTo>
                    <a:lnTo>
                      <a:pt x="49" y="13"/>
                    </a:lnTo>
                    <a:lnTo>
                      <a:pt x="42" y="23"/>
                    </a:lnTo>
                    <a:lnTo>
                      <a:pt x="37" y="32"/>
                    </a:lnTo>
                    <a:lnTo>
                      <a:pt x="29" y="40"/>
                    </a:lnTo>
                    <a:lnTo>
                      <a:pt x="22" y="48"/>
                    </a:lnTo>
                    <a:lnTo>
                      <a:pt x="14" y="57"/>
                    </a:lnTo>
                    <a:lnTo>
                      <a:pt x="7" y="63"/>
                    </a:lnTo>
                    <a:lnTo>
                      <a:pt x="0" y="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84600" y="4387680"/>
                <a:ext cx="781920" cy="77040"/>
              </a:xfrm>
              <a:custGeom>
                <a:avLst/>
                <a:gdLst/>
                <a:ahLst/>
                <a:rect l="l" t="t" r="r" b="b"/>
                <a:pathLst>
                  <a:path w="507" h="50">
                    <a:moveTo>
                      <a:pt x="507" y="37"/>
                    </a:moveTo>
                    <a:lnTo>
                      <a:pt x="489" y="29"/>
                    </a:lnTo>
                    <a:lnTo>
                      <a:pt x="472" y="21"/>
                    </a:lnTo>
                    <a:lnTo>
                      <a:pt x="453" y="16"/>
                    </a:lnTo>
                    <a:lnTo>
                      <a:pt x="436" y="11"/>
                    </a:lnTo>
                    <a:lnTo>
                      <a:pt x="399" y="5"/>
                    </a:lnTo>
                    <a:lnTo>
                      <a:pt x="362" y="1"/>
                    </a:lnTo>
                    <a:lnTo>
                      <a:pt x="325" y="0"/>
                    </a:lnTo>
                    <a:lnTo>
                      <a:pt x="288" y="0"/>
                    </a:lnTo>
                    <a:lnTo>
                      <a:pt x="251" y="1"/>
                    </a:lnTo>
                    <a:lnTo>
                      <a:pt x="214" y="1"/>
                    </a:lnTo>
                    <a:lnTo>
                      <a:pt x="207" y="1"/>
                    </a:lnTo>
                    <a:lnTo>
                      <a:pt x="201" y="1"/>
                    </a:lnTo>
                    <a:lnTo>
                      <a:pt x="192" y="3"/>
                    </a:lnTo>
                    <a:lnTo>
                      <a:pt x="184" y="5"/>
                    </a:lnTo>
                    <a:lnTo>
                      <a:pt x="167" y="11"/>
                    </a:lnTo>
                    <a:lnTo>
                      <a:pt x="148" y="19"/>
                    </a:lnTo>
                    <a:lnTo>
                      <a:pt x="132" y="27"/>
                    </a:lnTo>
                    <a:lnTo>
                      <a:pt x="116" y="37"/>
                    </a:lnTo>
                    <a:lnTo>
                      <a:pt x="105" y="45"/>
                    </a:lnTo>
                    <a:lnTo>
                      <a:pt x="98" y="50"/>
                    </a:lnTo>
                    <a:lnTo>
                      <a:pt x="84" y="50"/>
                    </a:lnTo>
                    <a:lnTo>
                      <a:pt x="73" y="50"/>
                    </a:lnTo>
                    <a:lnTo>
                      <a:pt x="61" y="50"/>
                    </a:lnTo>
                    <a:lnTo>
                      <a:pt x="49" y="50"/>
                    </a:lnTo>
                    <a:lnTo>
                      <a:pt x="36" y="50"/>
                    </a:lnTo>
                    <a:lnTo>
                      <a:pt x="24" y="50"/>
                    </a:lnTo>
                    <a:lnTo>
                      <a:pt x="12" y="50"/>
                    </a:lnTo>
                    <a:lnTo>
                      <a:pt x="0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0360" y="4572720"/>
                <a:ext cx="93960" cy="15084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61" y="0"/>
                    </a:moveTo>
                    <a:lnTo>
                      <a:pt x="58" y="1"/>
                    </a:lnTo>
                    <a:lnTo>
                      <a:pt x="56" y="3"/>
                    </a:lnTo>
                    <a:lnTo>
                      <a:pt x="54" y="4"/>
                    </a:lnTo>
                    <a:lnTo>
                      <a:pt x="53" y="6"/>
                    </a:lnTo>
                    <a:lnTo>
                      <a:pt x="51" y="8"/>
                    </a:lnTo>
                    <a:lnTo>
                      <a:pt x="49" y="9"/>
                    </a:lnTo>
                    <a:lnTo>
                      <a:pt x="48" y="11"/>
                    </a:lnTo>
                    <a:lnTo>
                      <a:pt x="46" y="12"/>
                    </a:lnTo>
                    <a:lnTo>
                      <a:pt x="41" y="24"/>
                    </a:lnTo>
                    <a:lnTo>
                      <a:pt x="34" y="34"/>
                    </a:lnTo>
                    <a:lnTo>
                      <a:pt x="29" y="45"/>
                    </a:lnTo>
                    <a:lnTo>
                      <a:pt x="24" y="56"/>
                    </a:lnTo>
                    <a:lnTo>
                      <a:pt x="17" y="66"/>
                    </a:lnTo>
                    <a:lnTo>
                      <a:pt x="12" y="77"/>
                    </a:lnTo>
                    <a:lnTo>
                      <a:pt x="6" y="87"/>
                    </a:lnTo>
                    <a:lnTo>
                      <a:pt x="0" y="9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60600" y="4282560"/>
                <a:ext cx="243720" cy="290160"/>
              </a:xfrm>
              <a:custGeom>
                <a:avLst/>
                <a:gdLst/>
                <a:ahLst/>
                <a:rect l="l" t="t" r="r" b="b"/>
                <a:pathLst>
                  <a:path w="158" h="188">
                    <a:moveTo>
                      <a:pt x="44" y="0"/>
                    </a:moveTo>
                    <a:lnTo>
                      <a:pt x="45" y="6"/>
                    </a:lnTo>
                    <a:lnTo>
                      <a:pt x="45" y="13"/>
                    </a:lnTo>
                    <a:lnTo>
                      <a:pt x="45" y="19"/>
                    </a:lnTo>
                    <a:lnTo>
                      <a:pt x="44" y="24"/>
                    </a:lnTo>
                    <a:lnTo>
                      <a:pt x="39" y="35"/>
                    </a:lnTo>
                    <a:lnTo>
                      <a:pt x="32" y="47"/>
                    </a:lnTo>
                    <a:lnTo>
                      <a:pt x="25" y="56"/>
                    </a:lnTo>
                    <a:lnTo>
                      <a:pt x="17" y="64"/>
                    </a:lnTo>
                    <a:lnTo>
                      <a:pt x="8" y="71"/>
                    </a:lnTo>
                    <a:lnTo>
                      <a:pt x="0" y="76"/>
                    </a:lnTo>
                    <a:lnTo>
                      <a:pt x="1" y="79"/>
                    </a:lnTo>
                    <a:lnTo>
                      <a:pt x="5" y="81"/>
                    </a:lnTo>
                    <a:lnTo>
                      <a:pt x="8" y="82"/>
                    </a:lnTo>
                    <a:lnTo>
                      <a:pt x="13" y="84"/>
                    </a:lnTo>
                    <a:lnTo>
                      <a:pt x="18" y="87"/>
                    </a:lnTo>
                    <a:lnTo>
                      <a:pt x="23" y="89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2" y="113"/>
                    </a:lnTo>
                    <a:lnTo>
                      <a:pt x="30" y="126"/>
                    </a:lnTo>
                    <a:lnTo>
                      <a:pt x="30" y="136"/>
                    </a:lnTo>
                    <a:lnTo>
                      <a:pt x="32" y="144"/>
                    </a:lnTo>
                    <a:lnTo>
                      <a:pt x="33" y="152"/>
                    </a:lnTo>
                    <a:lnTo>
                      <a:pt x="37" y="160"/>
                    </a:lnTo>
                    <a:lnTo>
                      <a:pt x="44" y="170"/>
                    </a:lnTo>
                    <a:lnTo>
                      <a:pt x="54" y="183"/>
                    </a:lnTo>
                    <a:lnTo>
                      <a:pt x="65" y="183"/>
                    </a:lnTo>
                    <a:lnTo>
                      <a:pt x="79" y="181"/>
                    </a:lnTo>
                    <a:lnTo>
                      <a:pt x="92" y="178"/>
                    </a:lnTo>
                    <a:lnTo>
                      <a:pt x="108" y="176"/>
                    </a:lnTo>
                    <a:lnTo>
                      <a:pt x="121" y="176"/>
                    </a:lnTo>
                    <a:lnTo>
                      <a:pt x="133" y="176"/>
                    </a:lnTo>
                    <a:lnTo>
                      <a:pt x="146" y="181"/>
                    </a:lnTo>
                    <a:lnTo>
                      <a:pt x="158" y="1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94880" y="4723920"/>
                <a:ext cx="44640" cy="329760"/>
              </a:xfrm>
              <a:custGeom>
                <a:avLst/>
                <a:gdLst/>
                <a:ahLst/>
                <a:rect l="l" t="t" r="r" b="b"/>
                <a:pathLst>
                  <a:path w="29" h="214">
                    <a:moveTo>
                      <a:pt x="10" y="0"/>
                    </a:moveTo>
                    <a:lnTo>
                      <a:pt x="19" y="8"/>
                    </a:lnTo>
                    <a:lnTo>
                      <a:pt x="24" y="18"/>
                    </a:lnTo>
                    <a:lnTo>
                      <a:pt x="27" y="31"/>
                    </a:lnTo>
                    <a:lnTo>
                      <a:pt x="29" y="46"/>
                    </a:lnTo>
                    <a:lnTo>
                      <a:pt x="29" y="60"/>
                    </a:lnTo>
                    <a:lnTo>
                      <a:pt x="29" y="76"/>
                    </a:lnTo>
                    <a:lnTo>
                      <a:pt x="26" y="93"/>
                    </a:lnTo>
                    <a:lnTo>
                      <a:pt x="22" y="110"/>
                    </a:lnTo>
                    <a:lnTo>
                      <a:pt x="14" y="143"/>
                    </a:lnTo>
                    <a:lnTo>
                      <a:pt x="7" y="174"/>
                    </a:lnTo>
                    <a:lnTo>
                      <a:pt x="0" y="198"/>
                    </a:lnTo>
                    <a:lnTo>
                      <a:pt x="0" y="2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37040" y="4723920"/>
                <a:ext cx="372960" cy="414720"/>
              </a:xfrm>
              <a:custGeom>
                <a:avLst/>
                <a:gdLst/>
                <a:ahLst/>
                <a:rect l="l" t="t" r="r" b="b"/>
                <a:pathLst>
                  <a:path w="242" h="269">
                    <a:moveTo>
                      <a:pt x="0" y="269"/>
                    </a:moveTo>
                    <a:lnTo>
                      <a:pt x="5" y="250"/>
                    </a:lnTo>
                    <a:lnTo>
                      <a:pt x="10" y="232"/>
                    </a:lnTo>
                    <a:lnTo>
                      <a:pt x="17" y="212"/>
                    </a:lnTo>
                    <a:lnTo>
                      <a:pt x="25" y="193"/>
                    </a:lnTo>
                    <a:lnTo>
                      <a:pt x="35" y="174"/>
                    </a:lnTo>
                    <a:lnTo>
                      <a:pt x="45" y="156"/>
                    </a:lnTo>
                    <a:lnTo>
                      <a:pt x="59" y="138"/>
                    </a:lnTo>
                    <a:lnTo>
                      <a:pt x="76" y="120"/>
                    </a:lnTo>
                    <a:lnTo>
                      <a:pt x="89" y="120"/>
                    </a:lnTo>
                    <a:lnTo>
                      <a:pt x="99" y="119"/>
                    </a:lnTo>
                    <a:lnTo>
                      <a:pt x="108" y="115"/>
                    </a:lnTo>
                    <a:lnTo>
                      <a:pt x="114" y="114"/>
                    </a:lnTo>
                    <a:lnTo>
                      <a:pt x="126" y="106"/>
                    </a:lnTo>
                    <a:lnTo>
                      <a:pt x="135" y="96"/>
                    </a:lnTo>
                    <a:lnTo>
                      <a:pt x="143" y="85"/>
                    </a:lnTo>
                    <a:lnTo>
                      <a:pt x="153" y="73"/>
                    </a:lnTo>
                    <a:lnTo>
                      <a:pt x="160" y="67"/>
                    </a:lnTo>
                    <a:lnTo>
                      <a:pt x="168" y="60"/>
                    </a:lnTo>
                    <a:lnTo>
                      <a:pt x="178" y="54"/>
                    </a:lnTo>
                    <a:lnTo>
                      <a:pt x="189" y="47"/>
                    </a:lnTo>
                    <a:lnTo>
                      <a:pt x="195" y="39"/>
                    </a:lnTo>
                    <a:lnTo>
                      <a:pt x="202" y="33"/>
                    </a:lnTo>
                    <a:lnTo>
                      <a:pt x="207" y="28"/>
                    </a:lnTo>
                    <a:lnTo>
                      <a:pt x="216" y="21"/>
                    </a:lnTo>
                    <a:lnTo>
                      <a:pt x="222" y="17"/>
                    </a:lnTo>
                    <a:lnTo>
                      <a:pt x="229" y="12"/>
                    </a:lnTo>
                    <a:lnTo>
                      <a:pt x="236" y="7"/>
                    </a:lnTo>
                    <a:lnTo>
                      <a:pt x="2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33040" y="4319640"/>
                <a:ext cx="504000" cy="819000"/>
              </a:xfrm>
              <a:custGeom>
                <a:avLst/>
                <a:gdLst/>
                <a:ahLst/>
                <a:rect l="l" t="t" r="r" b="b"/>
                <a:pathLst>
                  <a:path w="327" h="531">
                    <a:moveTo>
                      <a:pt x="86" y="0"/>
                    </a:moveTo>
                    <a:lnTo>
                      <a:pt x="86" y="10"/>
                    </a:lnTo>
                    <a:lnTo>
                      <a:pt x="86" y="18"/>
                    </a:lnTo>
                    <a:lnTo>
                      <a:pt x="86" y="27"/>
                    </a:lnTo>
                    <a:lnTo>
                      <a:pt x="84" y="36"/>
                    </a:lnTo>
                    <a:lnTo>
                      <a:pt x="84" y="45"/>
                    </a:lnTo>
                    <a:lnTo>
                      <a:pt x="84" y="53"/>
                    </a:lnTo>
                    <a:lnTo>
                      <a:pt x="84" y="61"/>
                    </a:lnTo>
                    <a:lnTo>
                      <a:pt x="84" y="71"/>
                    </a:lnTo>
                    <a:lnTo>
                      <a:pt x="73" y="79"/>
                    </a:lnTo>
                    <a:lnTo>
                      <a:pt x="59" y="89"/>
                    </a:lnTo>
                    <a:lnTo>
                      <a:pt x="44" y="102"/>
                    </a:lnTo>
                    <a:lnTo>
                      <a:pt x="29" y="115"/>
                    </a:lnTo>
                    <a:lnTo>
                      <a:pt x="17" y="128"/>
                    </a:lnTo>
                    <a:lnTo>
                      <a:pt x="7" y="141"/>
                    </a:lnTo>
                    <a:lnTo>
                      <a:pt x="4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9"/>
                    </a:lnTo>
                    <a:lnTo>
                      <a:pt x="2" y="164"/>
                    </a:lnTo>
                    <a:lnTo>
                      <a:pt x="2" y="168"/>
                    </a:lnTo>
                    <a:lnTo>
                      <a:pt x="2" y="173"/>
                    </a:lnTo>
                    <a:lnTo>
                      <a:pt x="2" y="178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1"/>
                    </a:lnTo>
                    <a:lnTo>
                      <a:pt x="2" y="196"/>
                    </a:lnTo>
                    <a:lnTo>
                      <a:pt x="17" y="204"/>
                    </a:lnTo>
                    <a:lnTo>
                      <a:pt x="27" y="212"/>
                    </a:lnTo>
                    <a:lnTo>
                      <a:pt x="32" y="220"/>
                    </a:lnTo>
                    <a:lnTo>
                      <a:pt x="37" y="228"/>
                    </a:lnTo>
                    <a:lnTo>
                      <a:pt x="41" y="235"/>
                    </a:lnTo>
                    <a:lnTo>
                      <a:pt x="49" y="240"/>
                    </a:lnTo>
                    <a:lnTo>
                      <a:pt x="63" y="245"/>
                    </a:lnTo>
                    <a:lnTo>
                      <a:pt x="83" y="249"/>
                    </a:lnTo>
                    <a:lnTo>
                      <a:pt x="84" y="254"/>
                    </a:lnTo>
                    <a:lnTo>
                      <a:pt x="88" y="257"/>
                    </a:lnTo>
                    <a:lnTo>
                      <a:pt x="91" y="261"/>
                    </a:lnTo>
                    <a:lnTo>
                      <a:pt x="93" y="262"/>
                    </a:lnTo>
                    <a:lnTo>
                      <a:pt x="98" y="264"/>
                    </a:lnTo>
                    <a:lnTo>
                      <a:pt x="101" y="266"/>
                    </a:lnTo>
                    <a:lnTo>
                      <a:pt x="105" y="266"/>
                    </a:lnTo>
                    <a:lnTo>
                      <a:pt x="110" y="269"/>
                    </a:lnTo>
                    <a:lnTo>
                      <a:pt x="110" y="275"/>
                    </a:lnTo>
                    <a:lnTo>
                      <a:pt x="113" y="282"/>
                    </a:lnTo>
                    <a:lnTo>
                      <a:pt x="116" y="288"/>
                    </a:lnTo>
                    <a:lnTo>
                      <a:pt x="122" y="295"/>
                    </a:lnTo>
                    <a:lnTo>
                      <a:pt x="133" y="309"/>
                    </a:lnTo>
                    <a:lnTo>
                      <a:pt x="148" y="324"/>
                    </a:lnTo>
                    <a:lnTo>
                      <a:pt x="162" y="340"/>
                    </a:lnTo>
                    <a:lnTo>
                      <a:pt x="175" y="356"/>
                    </a:lnTo>
                    <a:lnTo>
                      <a:pt x="180" y="364"/>
                    </a:lnTo>
                    <a:lnTo>
                      <a:pt x="186" y="372"/>
                    </a:lnTo>
                    <a:lnTo>
                      <a:pt x="189" y="381"/>
                    </a:lnTo>
                    <a:lnTo>
                      <a:pt x="191" y="389"/>
                    </a:lnTo>
                    <a:lnTo>
                      <a:pt x="192" y="392"/>
                    </a:lnTo>
                    <a:lnTo>
                      <a:pt x="194" y="393"/>
                    </a:lnTo>
                    <a:lnTo>
                      <a:pt x="196" y="397"/>
                    </a:lnTo>
                    <a:lnTo>
                      <a:pt x="196" y="398"/>
                    </a:lnTo>
                    <a:lnTo>
                      <a:pt x="196" y="402"/>
                    </a:lnTo>
                    <a:lnTo>
                      <a:pt x="197" y="405"/>
                    </a:lnTo>
                    <a:lnTo>
                      <a:pt x="197" y="408"/>
                    </a:lnTo>
                    <a:lnTo>
                      <a:pt x="199" y="413"/>
                    </a:lnTo>
                    <a:lnTo>
                      <a:pt x="201" y="413"/>
                    </a:lnTo>
                    <a:lnTo>
                      <a:pt x="202" y="413"/>
                    </a:lnTo>
                    <a:lnTo>
                      <a:pt x="204" y="413"/>
                    </a:lnTo>
                    <a:lnTo>
                      <a:pt x="207" y="411"/>
                    </a:lnTo>
                    <a:lnTo>
                      <a:pt x="209" y="411"/>
                    </a:lnTo>
                    <a:lnTo>
                      <a:pt x="211" y="411"/>
                    </a:lnTo>
                    <a:lnTo>
                      <a:pt x="212" y="411"/>
                    </a:lnTo>
                    <a:lnTo>
                      <a:pt x="216" y="410"/>
                    </a:lnTo>
                    <a:lnTo>
                      <a:pt x="216" y="415"/>
                    </a:lnTo>
                    <a:lnTo>
                      <a:pt x="216" y="418"/>
                    </a:lnTo>
                    <a:lnTo>
                      <a:pt x="216" y="421"/>
                    </a:lnTo>
                    <a:lnTo>
                      <a:pt x="218" y="424"/>
                    </a:lnTo>
                    <a:lnTo>
                      <a:pt x="218" y="429"/>
                    </a:lnTo>
                    <a:lnTo>
                      <a:pt x="218" y="432"/>
                    </a:lnTo>
                    <a:lnTo>
                      <a:pt x="219" y="436"/>
                    </a:lnTo>
                    <a:lnTo>
                      <a:pt x="219" y="439"/>
                    </a:lnTo>
                    <a:lnTo>
                      <a:pt x="221" y="439"/>
                    </a:lnTo>
                    <a:lnTo>
                      <a:pt x="223" y="439"/>
                    </a:lnTo>
                    <a:lnTo>
                      <a:pt x="226" y="439"/>
                    </a:lnTo>
                    <a:lnTo>
                      <a:pt x="228" y="439"/>
                    </a:lnTo>
                    <a:lnTo>
                      <a:pt x="229" y="439"/>
                    </a:lnTo>
                    <a:lnTo>
                      <a:pt x="231" y="439"/>
                    </a:lnTo>
                    <a:lnTo>
                      <a:pt x="233" y="439"/>
                    </a:lnTo>
                    <a:lnTo>
                      <a:pt x="234" y="439"/>
                    </a:lnTo>
                    <a:lnTo>
                      <a:pt x="239" y="449"/>
                    </a:lnTo>
                    <a:lnTo>
                      <a:pt x="243" y="458"/>
                    </a:lnTo>
                    <a:lnTo>
                      <a:pt x="246" y="468"/>
                    </a:lnTo>
                    <a:lnTo>
                      <a:pt x="248" y="476"/>
                    </a:lnTo>
                    <a:lnTo>
                      <a:pt x="248" y="492"/>
                    </a:lnTo>
                    <a:lnTo>
                      <a:pt x="250" y="505"/>
                    </a:lnTo>
                    <a:lnTo>
                      <a:pt x="253" y="512"/>
                    </a:lnTo>
                    <a:lnTo>
                      <a:pt x="256" y="517"/>
                    </a:lnTo>
                    <a:lnTo>
                      <a:pt x="261" y="521"/>
                    </a:lnTo>
                    <a:lnTo>
                      <a:pt x="268" y="525"/>
                    </a:lnTo>
                    <a:lnTo>
                      <a:pt x="278" y="528"/>
                    </a:lnTo>
                    <a:lnTo>
                      <a:pt x="292" y="530"/>
                    </a:lnTo>
                    <a:lnTo>
                      <a:pt x="307" y="531"/>
                    </a:lnTo>
                    <a:lnTo>
                      <a:pt x="327" y="5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93080" y="505116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7" y="2"/>
                    </a:lnTo>
                    <a:lnTo>
                      <a:pt x="18" y="0"/>
                    </a:lnTo>
                    <a:lnTo>
                      <a:pt x="25" y="12"/>
                    </a:lnTo>
                    <a:lnTo>
                      <a:pt x="32" y="18"/>
                    </a:lnTo>
                    <a:lnTo>
                      <a:pt x="38" y="25"/>
                    </a:lnTo>
                    <a:lnTo>
                      <a:pt x="45" y="28"/>
                    </a:lnTo>
                    <a:lnTo>
                      <a:pt x="52" y="31"/>
                    </a:lnTo>
                    <a:lnTo>
                      <a:pt x="60" y="31"/>
                    </a:lnTo>
                    <a:lnTo>
                      <a:pt x="69" y="31"/>
                    </a:lnTo>
                    <a:lnTo>
                      <a:pt x="77" y="3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72600" y="5056920"/>
                <a:ext cx="420480" cy="279000"/>
              </a:xfrm>
              <a:custGeom>
                <a:avLst/>
                <a:gdLst/>
                <a:ahLst/>
                <a:rect l="l" t="t" r="r" b="b"/>
                <a:pathLst>
                  <a:path w="273" h="181">
                    <a:moveTo>
                      <a:pt x="40" y="53"/>
                    </a:moveTo>
                    <a:lnTo>
                      <a:pt x="39" y="71"/>
                    </a:lnTo>
                    <a:lnTo>
                      <a:pt x="37" y="86"/>
                    </a:lnTo>
                    <a:lnTo>
                      <a:pt x="35" y="97"/>
                    </a:lnTo>
                    <a:lnTo>
                      <a:pt x="32" y="108"/>
                    </a:lnTo>
                    <a:lnTo>
                      <a:pt x="29" y="118"/>
                    </a:lnTo>
                    <a:lnTo>
                      <a:pt x="23" y="126"/>
                    </a:lnTo>
                    <a:lnTo>
                      <a:pt x="13" y="136"/>
                    </a:lnTo>
                    <a:lnTo>
                      <a:pt x="0" y="147"/>
                    </a:lnTo>
                    <a:lnTo>
                      <a:pt x="12" y="178"/>
                    </a:lnTo>
                    <a:lnTo>
                      <a:pt x="12" y="178"/>
                    </a:lnTo>
                    <a:lnTo>
                      <a:pt x="12" y="176"/>
                    </a:lnTo>
                    <a:lnTo>
                      <a:pt x="13" y="176"/>
                    </a:lnTo>
                    <a:lnTo>
                      <a:pt x="13" y="176"/>
                    </a:lnTo>
                    <a:lnTo>
                      <a:pt x="15" y="176"/>
                    </a:lnTo>
                    <a:lnTo>
                      <a:pt x="15" y="176"/>
                    </a:lnTo>
                    <a:lnTo>
                      <a:pt x="17" y="175"/>
                    </a:lnTo>
                    <a:lnTo>
                      <a:pt x="17" y="175"/>
                    </a:lnTo>
                    <a:lnTo>
                      <a:pt x="22" y="178"/>
                    </a:lnTo>
                    <a:lnTo>
                      <a:pt x="25" y="181"/>
                    </a:lnTo>
                    <a:lnTo>
                      <a:pt x="30" y="181"/>
                    </a:lnTo>
                    <a:lnTo>
                      <a:pt x="34" y="181"/>
                    </a:lnTo>
                    <a:lnTo>
                      <a:pt x="39" y="179"/>
                    </a:lnTo>
                    <a:lnTo>
                      <a:pt x="44" y="178"/>
                    </a:lnTo>
                    <a:lnTo>
                      <a:pt x="50" y="176"/>
                    </a:lnTo>
                    <a:lnTo>
                      <a:pt x="59" y="176"/>
                    </a:lnTo>
                    <a:lnTo>
                      <a:pt x="62" y="176"/>
                    </a:lnTo>
                    <a:lnTo>
                      <a:pt x="67" y="176"/>
                    </a:lnTo>
                    <a:lnTo>
                      <a:pt x="71" y="176"/>
                    </a:lnTo>
                    <a:lnTo>
                      <a:pt x="72" y="176"/>
                    </a:lnTo>
                    <a:lnTo>
                      <a:pt x="76" y="176"/>
                    </a:lnTo>
                    <a:lnTo>
                      <a:pt x="79" y="176"/>
                    </a:lnTo>
                    <a:lnTo>
                      <a:pt x="82" y="176"/>
                    </a:lnTo>
                    <a:lnTo>
                      <a:pt x="84" y="176"/>
                    </a:lnTo>
                    <a:lnTo>
                      <a:pt x="84" y="176"/>
                    </a:lnTo>
                    <a:lnTo>
                      <a:pt x="86" y="175"/>
                    </a:lnTo>
                    <a:lnTo>
                      <a:pt x="86" y="175"/>
                    </a:lnTo>
                    <a:lnTo>
                      <a:pt x="86" y="173"/>
                    </a:lnTo>
                    <a:lnTo>
                      <a:pt x="86" y="171"/>
                    </a:lnTo>
                    <a:lnTo>
                      <a:pt x="87" y="171"/>
                    </a:lnTo>
                    <a:lnTo>
                      <a:pt x="87" y="170"/>
                    </a:lnTo>
                    <a:lnTo>
                      <a:pt x="89" y="168"/>
                    </a:lnTo>
                    <a:lnTo>
                      <a:pt x="98" y="167"/>
                    </a:lnTo>
                    <a:lnTo>
                      <a:pt x="108" y="165"/>
                    </a:lnTo>
                    <a:lnTo>
                      <a:pt x="118" y="160"/>
                    </a:lnTo>
                    <a:lnTo>
                      <a:pt x="130" y="157"/>
                    </a:lnTo>
                    <a:lnTo>
                      <a:pt x="141" y="154"/>
                    </a:lnTo>
                    <a:lnTo>
                      <a:pt x="153" y="150"/>
                    </a:lnTo>
                    <a:lnTo>
                      <a:pt x="165" y="147"/>
                    </a:lnTo>
                    <a:lnTo>
                      <a:pt x="177" y="147"/>
                    </a:lnTo>
                    <a:lnTo>
                      <a:pt x="183" y="133"/>
                    </a:lnTo>
                    <a:lnTo>
                      <a:pt x="194" y="115"/>
                    </a:lnTo>
                    <a:lnTo>
                      <a:pt x="204" y="92"/>
                    </a:lnTo>
                    <a:lnTo>
                      <a:pt x="217" y="69"/>
                    </a:lnTo>
                    <a:lnTo>
                      <a:pt x="231" y="47"/>
                    </a:lnTo>
                    <a:lnTo>
                      <a:pt x="244" y="26"/>
                    </a:lnTo>
                    <a:lnTo>
                      <a:pt x="251" y="18"/>
                    </a:lnTo>
                    <a:lnTo>
                      <a:pt x="259" y="9"/>
                    </a:lnTo>
                    <a:lnTo>
                      <a:pt x="266" y="3"/>
                    </a:lnTo>
                    <a:lnTo>
                      <a:pt x="2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66520" y="4314960"/>
                <a:ext cx="55440" cy="129600"/>
              </a:xfrm>
              <a:custGeom>
                <a:avLst/>
                <a:gdLst/>
                <a:ahLst/>
                <a:rect l="l" t="t" r="r" b="b"/>
                <a:pathLst>
                  <a:path w="36" h="84">
                    <a:moveTo>
                      <a:pt x="0" y="84"/>
                    </a:moveTo>
                    <a:lnTo>
                      <a:pt x="4" y="76"/>
                    </a:lnTo>
                    <a:lnTo>
                      <a:pt x="9" y="66"/>
                    </a:lnTo>
                    <a:lnTo>
                      <a:pt x="12" y="56"/>
                    </a:lnTo>
                    <a:lnTo>
                      <a:pt x="14" y="45"/>
                    </a:lnTo>
                    <a:lnTo>
                      <a:pt x="17" y="35"/>
                    </a:lnTo>
                    <a:lnTo>
                      <a:pt x="19" y="24"/>
                    </a:lnTo>
                    <a:lnTo>
                      <a:pt x="20" y="1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4" y="0"/>
                    </a:lnTo>
                    <a:lnTo>
                      <a:pt x="3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39640" y="4444920"/>
                <a:ext cx="326880" cy="279000"/>
              </a:xfrm>
              <a:custGeom>
                <a:avLst/>
                <a:gdLst/>
                <a:ahLst/>
                <a:rect l="l" t="t" r="r" b="b"/>
                <a:pathLst>
                  <a:path w="212" h="181">
                    <a:moveTo>
                      <a:pt x="0" y="181"/>
                    </a:moveTo>
                    <a:lnTo>
                      <a:pt x="2" y="176"/>
                    </a:lnTo>
                    <a:lnTo>
                      <a:pt x="5" y="170"/>
                    </a:lnTo>
                    <a:lnTo>
                      <a:pt x="10" y="162"/>
                    </a:lnTo>
                    <a:lnTo>
                      <a:pt x="15" y="155"/>
                    </a:lnTo>
                    <a:lnTo>
                      <a:pt x="22" y="146"/>
                    </a:lnTo>
                    <a:lnTo>
                      <a:pt x="29" y="138"/>
                    </a:lnTo>
                    <a:lnTo>
                      <a:pt x="34" y="128"/>
                    </a:lnTo>
                    <a:lnTo>
                      <a:pt x="40" y="118"/>
                    </a:lnTo>
                    <a:lnTo>
                      <a:pt x="44" y="118"/>
                    </a:lnTo>
                    <a:lnTo>
                      <a:pt x="47" y="118"/>
                    </a:lnTo>
                    <a:lnTo>
                      <a:pt x="51" y="118"/>
                    </a:lnTo>
                    <a:lnTo>
                      <a:pt x="54" y="120"/>
                    </a:lnTo>
                    <a:lnTo>
                      <a:pt x="57" y="120"/>
                    </a:lnTo>
                    <a:lnTo>
                      <a:pt x="61" y="120"/>
                    </a:lnTo>
                    <a:lnTo>
                      <a:pt x="64" y="121"/>
                    </a:lnTo>
                    <a:lnTo>
                      <a:pt x="69" y="121"/>
                    </a:lnTo>
                    <a:lnTo>
                      <a:pt x="74" y="123"/>
                    </a:lnTo>
                    <a:lnTo>
                      <a:pt x="81" y="123"/>
                    </a:lnTo>
                    <a:lnTo>
                      <a:pt x="89" y="123"/>
                    </a:lnTo>
                    <a:lnTo>
                      <a:pt x="98" y="123"/>
                    </a:lnTo>
                    <a:lnTo>
                      <a:pt x="106" y="123"/>
                    </a:lnTo>
                    <a:lnTo>
                      <a:pt x="116" y="123"/>
                    </a:lnTo>
                    <a:lnTo>
                      <a:pt x="125" y="123"/>
                    </a:lnTo>
                    <a:lnTo>
                      <a:pt x="133" y="123"/>
                    </a:lnTo>
                    <a:lnTo>
                      <a:pt x="135" y="121"/>
                    </a:lnTo>
                    <a:lnTo>
                      <a:pt x="136" y="118"/>
                    </a:lnTo>
                    <a:lnTo>
                      <a:pt x="138" y="115"/>
                    </a:lnTo>
                    <a:lnTo>
                      <a:pt x="140" y="112"/>
                    </a:lnTo>
                    <a:lnTo>
                      <a:pt x="141" y="107"/>
                    </a:lnTo>
                    <a:lnTo>
                      <a:pt x="143" y="104"/>
                    </a:lnTo>
                    <a:lnTo>
                      <a:pt x="145" y="97"/>
                    </a:lnTo>
                    <a:lnTo>
                      <a:pt x="146" y="92"/>
                    </a:lnTo>
                    <a:lnTo>
                      <a:pt x="162" y="86"/>
                    </a:lnTo>
                    <a:lnTo>
                      <a:pt x="170" y="79"/>
                    </a:lnTo>
                    <a:lnTo>
                      <a:pt x="175" y="74"/>
                    </a:lnTo>
                    <a:lnTo>
                      <a:pt x="177" y="66"/>
                    </a:lnTo>
                    <a:lnTo>
                      <a:pt x="178" y="58"/>
                    </a:lnTo>
                    <a:lnTo>
                      <a:pt x="180" y="49"/>
                    </a:lnTo>
                    <a:lnTo>
                      <a:pt x="185" y="36"/>
                    </a:lnTo>
                    <a:lnTo>
                      <a:pt x="194" y="21"/>
                    </a:lnTo>
                    <a:lnTo>
                      <a:pt x="197" y="19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4" y="13"/>
                    </a:lnTo>
                    <a:lnTo>
                      <a:pt x="205" y="10"/>
                    </a:lnTo>
                    <a:lnTo>
                      <a:pt x="209" y="6"/>
                    </a:lnTo>
                    <a:lnTo>
                      <a:pt x="210" y="3"/>
                    </a:lnTo>
                    <a:lnTo>
                      <a:pt x="21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60720" y="4723920"/>
                <a:ext cx="433080" cy="437760"/>
              </a:xfrm>
              <a:custGeom>
                <a:avLst/>
                <a:gdLst/>
                <a:ahLst/>
                <a:rect l="l" t="t" r="r" b="b"/>
                <a:pathLst>
                  <a:path w="281" h="284">
                    <a:moveTo>
                      <a:pt x="0" y="243"/>
                    </a:moveTo>
                    <a:lnTo>
                      <a:pt x="12" y="248"/>
                    </a:lnTo>
                    <a:lnTo>
                      <a:pt x="25" y="255"/>
                    </a:lnTo>
                    <a:lnTo>
                      <a:pt x="39" y="261"/>
                    </a:lnTo>
                    <a:lnTo>
                      <a:pt x="54" y="268"/>
                    </a:lnTo>
                    <a:lnTo>
                      <a:pt x="67" y="274"/>
                    </a:lnTo>
                    <a:lnTo>
                      <a:pt x="82" y="279"/>
                    </a:lnTo>
                    <a:lnTo>
                      <a:pt x="96" y="282"/>
                    </a:lnTo>
                    <a:lnTo>
                      <a:pt x="108" y="284"/>
                    </a:lnTo>
                    <a:lnTo>
                      <a:pt x="108" y="271"/>
                    </a:lnTo>
                    <a:lnTo>
                      <a:pt x="111" y="259"/>
                    </a:lnTo>
                    <a:lnTo>
                      <a:pt x="116" y="246"/>
                    </a:lnTo>
                    <a:lnTo>
                      <a:pt x="123" y="235"/>
                    </a:lnTo>
                    <a:lnTo>
                      <a:pt x="131" y="224"/>
                    </a:lnTo>
                    <a:lnTo>
                      <a:pt x="140" y="212"/>
                    </a:lnTo>
                    <a:lnTo>
                      <a:pt x="150" y="203"/>
                    </a:lnTo>
                    <a:lnTo>
                      <a:pt x="161" y="193"/>
                    </a:lnTo>
                    <a:lnTo>
                      <a:pt x="182" y="177"/>
                    </a:lnTo>
                    <a:lnTo>
                      <a:pt x="200" y="164"/>
                    </a:lnTo>
                    <a:lnTo>
                      <a:pt x="214" y="156"/>
                    </a:lnTo>
                    <a:lnTo>
                      <a:pt x="219" y="153"/>
                    </a:lnTo>
                    <a:lnTo>
                      <a:pt x="274" y="131"/>
                    </a:lnTo>
                    <a:lnTo>
                      <a:pt x="274" y="130"/>
                    </a:lnTo>
                    <a:lnTo>
                      <a:pt x="274" y="127"/>
                    </a:lnTo>
                    <a:lnTo>
                      <a:pt x="276" y="125"/>
                    </a:lnTo>
                    <a:lnTo>
                      <a:pt x="276" y="122"/>
                    </a:lnTo>
                    <a:lnTo>
                      <a:pt x="278" y="119"/>
                    </a:lnTo>
                    <a:lnTo>
                      <a:pt x="279" y="117"/>
                    </a:lnTo>
                    <a:lnTo>
                      <a:pt x="279" y="114"/>
                    </a:lnTo>
                    <a:lnTo>
                      <a:pt x="281" y="110"/>
                    </a:lnTo>
                    <a:lnTo>
                      <a:pt x="278" y="109"/>
                    </a:lnTo>
                    <a:lnTo>
                      <a:pt x="268" y="101"/>
                    </a:lnTo>
                    <a:lnTo>
                      <a:pt x="254" y="89"/>
                    </a:lnTo>
                    <a:lnTo>
                      <a:pt x="237" y="75"/>
                    </a:lnTo>
                    <a:lnTo>
                      <a:pt x="219" y="59"/>
                    </a:lnTo>
                    <a:lnTo>
                      <a:pt x="199" y="44"/>
                    </a:lnTo>
                    <a:lnTo>
                      <a:pt x="178" y="33"/>
                    </a:lnTo>
                    <a:lnTo>
                      <a:pt x="158" y="25"/>
                    </a:lnTo>
                    <a:lnTo>
                      <a:pt x="153" y="20"/>
                    </a:lnTo>
                    <a:lnTo>
                      <a:pt x="148" y="15"/>
                    </a:lnTo>
                    <a:lnTo>
                      <a:pt x="143" y="12"/>
                    </a:lnTo>
                    <a:lnTo>
                      <a:pt x="138" y="8"/>
                    </a:lnTo>
                    <a:lnTo>
                      <a:pt x="131" y="5"/>
                    </a:lnTo>
                    <a:lnTo>
                      <a:pt x="126" y="2"/>
                    </a:lnTo>
                    <a:lnTo>
                      <a:pt x="121" y="2"/>
                    </a:lnTo>
                    <a:lnTo>
                      <a:pt x="1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2520" y="4936680"/>
                <a:ext cx="87840" cy="161640"/>
              </a:xfrm>
              <a:custGeom>
                <a:avLst/>
                <a:gdLst/>
                <a:ahLst/>
                <a:rect l="l" t="t" r="r" b="b"/>
                <a:pathLst>
                  <a:path w="57" h="105">
                    <a:moveTo>
                      <a:pt x="0" y="0"/>
                    </a:moveTo>
                    <a:lnTo>
                      <a:pt x="10" y="8"/>
                    </a:lnTo>
                    <a:lnTo>
                      <a:pt x="16" y="16"/>
                    </a:lnTo>
                    <a:lnTo>
                      <a:pt x="20" y="23"/>
                    </a:lnTo>
                    <a:lnTo>
                      <a:pt x="21" y="29"/>
                    </a:lnTo>
                    <a:lnTo>
                      <a:pt x="21" y="36"/>
                    </a:lnTo>
                    <a:lnTo>
                      <a:pt x="20" y="44"/>
                    </a:lnTo>
                    <a:lnTo>
                      <a:pt x="18" y="52"/>
                    </a:lnTo>
                    <a:lnTo>
                      <a:pt x="18" y="60"/>
                    </a:lnTo>
                    <a:lnTo>
                      <a:pt x="20" y="62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6" y="65"/>
                    </a:lnTo>
                    <a:lnTo>
                      <a:pt x="28" y="66"/>
                    </a:lnTo>
                    <a:lnTo>
                      <a:pt x="30" y="66"/>
                    </a:lnTo>
                    <a:lnTo>
                      <a:pt x="32" y="68"/>
                    </a:lnTo>
                    <a:lnTo>
                      <a:pt x="33" y="68"/>
                    </a:lnTo>
                    <a:lnTo>
                      <a:pt x="33" y="71"/>
                    </a:lnTo>
                    <a:lnTo>
                      <a:pt x="33" y="74"/>
                    </a:lnTo>
                    <a:lnTo>
                      <a:pt x="33" y="78"/>
                    </a:lnTo>
                    <a:lnTo>
                      <a:pt x="33" y="79"/>
                    </a:lnTo>
                    <a:lnTo>
                      <a:pt x="33" y="83"/>
                    </a:lnTo>
                    <a:lnTo>
                      <a:pt x="33" y="86"/>
                    </a:lnTo>
                    <a:lnTo>
                      <a:pt x="33" y="89"/>
                    </a:lnTo>
                    <a:lnTo>
                      <a:pt x="33" y="92"/>
                    </a:lnTo>
                    <a:lnTo>
                      <a:pt x="38" y="92"/>
                    </a:lnTo>
                    <a:lnTo>
                      <a:pt x="43" y="92"/>
                    </a:lnTo>
                    <a:lnTo>
                      <a:pt x="47" y="94"/>
                    </a:lnTo>
                    <a:lnTo>
                      <a:pt x="50" y="96"/>
                    </a:lnTo>
                    <a:lnTo>
                      <a:pt x="53" y="97"/>
                    </a:lnTo>
                    <a:lnTo>
                      <a:pt x="55" y="99"/>
                    </a:lnTo>
                    <a:lnTo>
                      <a:pt x="57" y="102"/>
                    </a:lnTo>
                    <a:lnTo>
                      <a:pt x="57" y="10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72520" y="4723920"/>
                <a:ext cx="266760" cy="212400"/>
              </a:xfrm>
              <a:custGeom>
                <a:avLst/>
                <a:gdLst/>
                <a:ahLst/>
                <a:rect l="l" t="t" r="r" b="b"/>
                <a:pathLst>
                  <a:path w="173" h="138">
                    <a:moveTo>
                      <a:pt x="173" y="0"/>
                    </a:moveTo>
                    <a:lnTo>
                      <a:pt x="154" y="17"/>
                    </a:lnTo>
                    <a:lnTo>
                      <a:pt x="131" y="33"/>
                    </a:lnTo>
                    <a:lnTo>
                      <a:pt x="104" y="49"/>
                    </a:lnTo>
                    <a:lnTo>
                      <a:pt x="77" y="65"/>
                    </a:lnTo>
                    <a:lnTo>
                      <a:pt x="50" y="81"/>
                    </a:lnTo>
                    <a:lnTo>
                      <a:pt x="28" y="99"/>
                    </a:lnTo>
                    <a:lnTo>
                      <a:pt x="18" y="109"/>
                    </a:lnTo>
                    <a:lnTo>
                      <a:pt x="10" y="119"/>
                    </a:lnTo>
                    <a:lnTo>
                      <a:pt x="3" y="128"/>
                    </a:lnTo>
                    <a:lnTo>
                      <a:pt x="0" y="1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12240" y="4936680"/>
                <a:ext cx="260280" cy="160200"/>
              </a:xfrm>
              <a:custGeom>
                <a:avLst/>
                <a:gdLst/>
                <a:ahLst/>
                <a:rect l="l" t="t" r="r" b="b"/>
                <a:pathLst>
                  <a:path w="169" h="104">
                    <a:moveTo>
                      <a:pt x="0" y="104"/>
                    </a:moveTo>
                    <a:lnTo>
                      <a:pt x="4" y="104"/>
                    </a:lnTo>
                    <a:lnTo>
                      <a:pt x="9" y="102"/>
                    </a:lnTo>
                    <a:lnTo>
                      <a:pt x="12" y="102"/>
                    </a:lnTo>
                    <a:lnTo>
                      <a:pt x="15" y="100"/>
                    </a:lnTo>
                    <a:lnTo>
                      <a:pt x="20" y="99"/>
                    </a:lnTo>
                    <a:lnTo>
                      <a:pt x="24" y="99"/>
                    </a:lnTo>
                    <a:lnTo>
                      <a:pt x="29" y="97"/>
                    </a:lnTo>
                    <a:lnTo>
                      <a:pt x="34" y="96"/>
                    </a:lnTo>
                    <a:lnTo>
                      <a:pt x="37" y="87"/>
                    </a:lnTo>
                    <a:lnTo>
                      <a:pt x="44" y="78"/>
                    </a:lnTo>
                    <a:lnTo>
                      <a:pt x="52" y="66"/>
                    </a:lnTo>
                    <a:lnTo>
                      <a:pt x="62" y="55"/>
                    </a:lnTo>
                    <a:lnTo>
                      <a:pt x="74" y="44"/>
                    </a:lnTo>
                    <a:lnTo>
                      <a:pt x="86" y="34"/>
                    </a:lnTo>
                    <a:lnTo>
                      <a:pt x="98" y="28"/>
                    </a:lnTo>
                    <a:lnTo>
                      <a:pt x="111" y="23"/>
                    </a:lnTo>
                    <a:lnTo>
                      <a:pt x="116" y="23"/>
                    </a:lnTo>
                    <a:lnTo>
                      <a:pt x="120" y="23"/>
                    </a:lnTo>
                    <a:lnTo>
                      <a:pt x="125" y="21"/>
                    </a:lnTo>
                    <a:lnTo>
                      <a:pt x="128" y="21"/>
                    </a:lnTo>
                    <a:lnTo>
                      <a:pt x="131" y="21"/>
                    </a:lnTo>
                    <a:lnTo>
                      <a:pt x="135" y="19"/>
                    </a:lnTo>
                    <a:lnTo>
                      <a:pt x="138" y="19"/>
                    </a:lnTo>
                    <a:lnTo>
                      <a:pt x="142" y="18"/>
                    </a:lnTo>
                    <a:lnTo>
                      <a:pt x="143" y="13"/>
                    </a:lnTo>
                    <a:lnTo>
                      <a:pt x="145" y="10"/>
                    </a:lnTo>
                    <a:lnTo>
                      <a:pt x="148" y="6"/>
                    </a:lnTo>
                    <a:lnTo>
                      <a:pt x="150" y="5"/>
                    </a:lnTo>
                    <a:lnTo>
                      <a:pt x="153" y="2"/>
                    </a:lnTo>
                    <a:lnTo>
                      <a:pt x="158" y="2"/>
                    </a:lnTo>
                    <a:lnTo>
                      <a:pt x="162" y="0"/>
                    </a:lnTo>
                    <a:lnTo>
                      <a:pt x="16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12240" y="5097240"/>
                <a:ext cx="348480" cy="218880"/>
              </a:xfrm>
              <a:custGeom>
                <a:avLst/>
                <a:gdLst/>
                <a:ahLst/>
                <a:rect l="l" t="t" r="r" b="b"/>
                <a:pathLst>
                  <a:path w="226" h="142">
                    <a:moveTo>
                      <a:pt x="226" y="1"/>
                    </a:moveTo>
                    <a:lnTo>
                      <a:pt x="226" y="11"/>
                    </a:lnTo>
                    <a:lnTo>
                      <a:pt x="222" y="22"/>
                    </a:lnTo>
                    <a:lnTo>
                      <a:pt x="217" y="34"/>
                    </a:lnTo>
                    <a:lnTo>
                      <a:pt x="211" y="47"/>
                    </a:lnTo>
                    <a:lnTo>
                      <a:pt x="202" y="58"/>
                    </a:lnTo>
                    <a:lnTo>
                      <a:pt x="197" y="69"/>
                    </a:lnTo>
                    <a:lnTo>
                      <a:pt x="192" y="77"/>
                    </a:lnTo>
                    <a:lnTo>
                      <a:pt x="190" y="84"/>
                    </a:lnTo>
                    <a:lnTo>
                      <a:pt x="197" y="87"/>
                    </a:lnTo>
                    <a:lnTo>
                      <a:pt x="195" y="94"/>
                    </a:lnTo>
                    <a:lnTo>
                      <a:pt x="195" y="100"/>
                    </a:lnTo>
                    <a:lnTo>
                      <a:pt x="194" y="105"/>
                    </a:lnTo>
                    <a:lnTo>
                      <a:pt x="190" y="110"/>
                    </a:lnTo>
                    <a:lnTo>
                      <a:pt x="189" y="115"/>
                    </a:lnTo>
                    <a:lnTo>
                      <a:pt x="187" y="118"/>
                    </a:lnTo>
                    <a:lnTo>
                      <a:pt x="185" y="123"/>
                    </a:lnTo>
                    <a:lnTo>
                      <a:pt x="185" y="126"/>
                    </a:lnTo>
                    <a:lnTo>
                      <a:pt x="179" y="128"/>
                    </a:lnTo>
                    <a:lnTo>
                      <a:pt x="175" y="129"/>
                    </a:lnTo>
                    <a:lnTo>
                      <a:pt x="172" y="132"/>
                    </a:lnTo>
                    <a:lnTo>
                      <a:pt x="170" y="134"/>
                    </a:lnTo>
                    <a:lnTo>
                      <a:pt x="169" y="136"/>
                    </a:lnTo>
                    <a:lnTo>
                      <a:pt x="169" y="137"/>
                    </a:lnTo>
                    <a:lnTo>
                      <a:pt x="169" y="141"/>
                    </a:lnTo>
                    <a:lnTo>
                      <a:pt x="169" y="142"/>
                    </a:lnTo>
                    <a:lnTo>
                      <a:pt x="142" y="139"/>
                    </a:lnTo>
                    <a:lnTo>
                      <a:pt x="135" y="136"/>
                    </a:lnTo>
                    <a:lnTo>
                      <a:pt x="130" y="129"/>
                    </a:lnTo>
                    <a:lnTo>
                      <a:pt x="123" y="121"/>
                    </a:lnTo>
                    <a:lnTo>
                      <a:pt x="118" y="111"/>
                    </a:lnTo>
                    <a:lnTo>
                      <a:pt x="111" y="100"/>
                    </a:lnTo>
                    <a:lnTo>
                      <a:pt x="106" y="89"/>
                    </a:lnTo>
                    <a:lnTo>
                      <a:pt x="100" y="79"/>
                    </a:lnTo>
                    <a:lnTo>
                      <a:pt x="94" y="71"/>
                    </a:lnTo>
                    <a:lnTo>
                      <a:pt x="88" y="68"/>
                    </a:lnTo>
                    <a:lnTo>
                      <a:pt x="81" y="64"/>
                    </a:lnTo>
                    <a:lnTo>
                      <a:pt x="74" y="61"/>
                    </a:lnTo>
                    <a:lnTo>
                      <a:pt x="68" y="58"/>
                    </a:lnTo>
                    <a:lnTo>
                      <a:pt x="62" y="56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51" y="42"/>
                    </a:lnTo>
                    <a:lnTo>
                      <a:pt x="41" y="42"/>
                    </a:lnTo>
                    <a:lnTo>
                      <a:pt x="32" y="38"/>
                    </a:lnTo>
                    <a:lnTo>
                      <a:pt x="24" y="35"/>
                    </a:lnTo>
                    <a:lnTo>
                      <a:pt x="19" y="29"/>
                    </a:lnTo>
                    <a:lnTo>
                      <a:pt x="12" y="22"/>
                    </a:lnTo>
                    <a:lnTo>
                      <a:pt x="7" y="16"/>
                    </a:lnTo>
                    <a:lnTo>
                      <a:pt x="4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17840" y="4105080"/>
                <a:ext cx="132840" cy="182160"/>
              </a:xfrm>
              <a:custGeom>
                <a:avLst/>
                <a:gdLst/>
                <a:ahLst/>
                <a:rect l="l" t="t" r="r" b="b"/>
                <a:pathLst>
                  <a:path w="86" h="118">
                    <a:moveTo>
                      <a:pt x="74" y="0"/>
                    </a:moveTo>
                    <a:lnTo>
                      <a:pt x="66" y="11"/>
                    </a:lnTo>
                    <a:lnTo>
                      <a:pt x="54" y="26"/>
                    </a:lnTo>
                    <a:lnTo>
                      <a:pt x="44" y="42"/>
                    </a:lnTo>
                    <a:lnTo>
                      <a:pt x="32" y="56"/>
                    </a:lnTo>
                    <a:lnTo>
                      <a:pt x="22" y="73"/>
                    </a:lnTo>
                    <a:lnTo>
                      <a:pt x="13" y="87"/>
                    </a:lnTo>
                    <a:lnTo>
                      <a:pt x="5" y="100"/>
                    </a:lnTo>
                    <a:lnTo>
                      <a:pt x="0" y="113"/>
                    </a:lnTo>
                    <a:lnTo>
                      <a:pt x="13" y="118"/>
                    </a:lnTo>
                    <a:lnTo>
                      <a:pt x="18" y="107"/>
                    </a:lnTo>
                    <a:lnTo>
                      <a:pt x="25" y="94"/>
                    </a:lnTo>
                    <a:lnTo>
                      <a:pt x="34" y="79"/>
                    </a:lnTo>
                    <a:lnTo>
                      <a:pt x="44" y="64"/>
                    </a:lnTo>
                    <a:lnTo>
                      <a:pt x="55" y="48"/>
                    </a:lnTo>
                    <a:lnTo>
                      <a:pt x="66" y="34"/>
                    </a:lnTo>
                    <a:lnTo>
                      <a:pt x="76" y="19"/>
                    </a:lnTo>
                    <a:lnTo>
                      <a:pt x="8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71840" y="2786400"/>
                <a:ext cx="355680" cy="291240"/>
              </a:xfrm>
              <a:custGeom>
                <a:avLst/>
                <a:gdLst/>
                <a:ahLst/>
                <a:rect l="l" t="t" r="r" b="b"/>
                <a:pathLst>
                  <a:path w="231" h="189">
                    <a:moveTo>
                      <a:pt x="231" y="189"/>
                    </a:moveTo>
                    <a:lnTo>
                      <a:pt x="228" y="183"/>
                    </a:lnTo>
                    <a:lnTo>
                      <a:pt x="226" y="176"/>
                    </a:lnTo>
                    <a:lnTo>
                      <a:pt x="222" y="168"/>
                    </a:lnTo>
                    <a:lnTo>
                      <a:pt x="219" y="158"/>
                    </a:lnTo>
                    <a:lnTo>
                      <a:pt x="214" y="149"/>
                    </a:lnTo>
                    <a:lnTo>
                      <a:pt x="211" y="140"/>
                    </a:lnTo>
                    <a:lnTo>
                      <a:pt x="206" y="134"/>
                    </a:lnTo>
                    <a:lnTo>
                      <a:pt x="202" y="129"/>
                    </a:lnTo>
                    <a:lnTo>
                      <a:pt x="184" y="131"/>
                    </a:lnTo>
                    <a:lnTo>
                      <a:pt x="160" y="131"/>
                    </a:lnTo>
                    <a:lnTo>
                      <a:pt x="135" y="129"/>
                    </a:lnTo>
                    <a:lnTo>
                      <a:pt x="110" y="124"/>
                    </a:lnTo>
                    <a:lnTo>
                      <a:pt x="84" y="118"/>
                    </a:lnTo>
                    <a:lnTo>
                      <a:pt x="63" y="110"/>
                    </a:lnTo>
                    <a:lnTo>
                      <a:pt x="52" y="105"/>
                    </a:lnTo>
                    <a:lnTo>
                      <a:pt x="44" y="100"/>
                    </a:lnTo>
                    <a:lnTo>
                      <a:pt x="39" y="95"/>
                    </a:lnTo>
                    <a:lnTo>
                      <a:pt x="34" y="89"/>
                    </a:lnTo>
                    <a:lnTo>
                      <a:pt x="25" y="89"/>
                    </a:lnTo>
                    <a:lnTo>
                      <a:pt x="19" y="87"/>
                    </a:lnTo>
                    <a:lnTo>
                      <a:pt x="12" y="84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2" y="69"/>
                    </a:lnTo>
                    <a:lnTo>
                      <a:pt x="0" y="63"/>
                    </a:lnTo>
                    <a:lnTo>
                      <a:pt x="0" y="56"/>
                    </a:lnTo>
                    <a:lnTo>
                      <a:pt x="0" y="42"/>
                    </a:lnTo>
                    <a:lnTo>
                      <a:pt x="0" y="27"/>
                    </a:lnTo>
                    <a:lnTo>
                      <a:pt x="2" y="1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72840" y="3113640"/>
              <a:ext cx="349920" cy="184680"/>
            </a:xfrm>
            <a:custGeom>
              <a:avLst/>
              <a:gdLst/>
              <a:ahLst/>
              <a:rect l="l" t="t" r="r" b="b"/>
              <a:pathLst>
                <a:path w="227" h="120">
                  <a:moveTo>
                    <a:pt x="227" y="48"/>
                  </a:moveTo>
                  <a:lnTo>
                    <a:pt x="215" y="43"/>
                  </a:lnTo>
                  <a:lnTo>
                    <a:pt x="204" y="35"/>
                  </a:lnTo>
                  <a:lnTo>
                    <a:pt x="190" y="26"/>
                  </a:lnTo>
                  <a:lnTo>
                    <a:pt x="177" y="16"/>
                  </a:lnTo>
                  <a:lnTo>
                    <a:pt x="163" y="8"/>
                  </a:lnTo>
                  <a:lnTo>
                    <a:pt x="150" y="3"/>
                  </a:lnTo>
                  <a:lnTo>
                    <a:pt x="143" y="1"/>
                  </a:lnTo>
                  <a:lnTo>
                    <a:pt x="138" y="0"/>
                  </a:lnTo>
                  <a:lnTo>
                    <a:pt x="131" y="1"/>
                  </a:lnTo>
                  <a:lnTo>
                    <a:pt x="126" y="3"/>
                  </a:lnTo>
                  <a:lnTo>
                    <a:pt x="113" y="5"/>
                  </a:lnTo>
                  <a:lnTo>
                    <a:pt x="101" y="6"/>
                  </a:lnTo>
                  <a:lnTo>
                    <a:pt x="89" y="8"/>
                  </a:lnTo>
                  <a:lnTo>
                    <a:pt x="79" y="11"/>
                  </a:lnTo>
                  <a:lnTo>
                    <a:pt x="69" y="16"/>
                  </a:lnTo>
                  <a:lnTo>
                    <a:pt x="61" y="21"/>
                  </a:lnTo>
                  <a:lnTo>
                    <a:pt x="52" y="27"/>
                  </a:lnTo>
                  <a:lnTo>
                    <a:pt x="45" y="34"/>
                  </a:lnTo>
                  <a:lnTo>
                    <a:pt x="39" y="42"/>
                  </a:lnTo>
                  <a:lnTo>
                    <a:pt x="34" y="50"/>
                  </a:lnTo>
                  <a:lnTo>
                    <a:pt x="29" y="58"/>
                  </a:lnTo>
                  <a:lnTo>
                    <a:pt x="25" y="68"/>
                  </a:lnTo>
                  <a:lnTo>
                    <a:pt x="20" y="86"/>
                  </a:lnTo>
                  <a:lnTo>
                    <a:pt x="18" y="107"/>
                  </a:lnTo>
                  <a:lnTo>
                    <a:pt x="17" y="108"/>
                  </a:lnTo>
                  <a:lnTo>
                    <a:pt x="13" y="108"/>
                  </a:lnTo>
                  <a:lnTo>
                    <a:pt x="12" y="110"/>
                  </a:lnTo>
                  <a:lnTo>
                    <a:pt x="10" y="111"/>
                  </a:lnTo>
                  <a:lnTo>
                    <a:pt x="7" y="113"/>
                  </a:lnTo>
                  <a:lnTo>
                    <a:pt x="5" y="115"/>
                  </a:lnTo>
                  <a:lnTo>
                    <a:pt x="2" y="116"/>
                  </a:lnTo>
                  <a:lnTo>
                    <a:pt x="0" y="1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33160" y="2485800"/>
              <a:ext cx="41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Ravasclett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5360" y="3377520"/>
              <a:ext cx="68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 Black"/>
                </a:rPr>
                <a:t>Tolmez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97040" y="459432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 Black"/>
                </a:rPr>
                <a:t>Gemo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96400" y="301644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Tarvis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97480" y="3143160"/>
              <a:ext cx="4888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2760" y="4998600"/>
              <a:ext cx="27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Osopp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9760" y="214668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aluzz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1200" y="2275920"/>
              <a:ext cx="4780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6200" y="2587680"/>
              <a:ext cx="42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Comeglia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04720" y="1808640"/>
              <a:ext cx="46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Forni Avoltri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11000" y="368748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Amar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58840" y="41457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Venzon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59760" y="5066640"/>
              <a:ext cx="28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Artegn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5400" y="3250800"/>
              <a:ext cx="23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Dogn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91080" y="2631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onteb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91800" y="2760480"/>
              <a:ext cx="5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7520" y="2594160"/>
              <a:ext cx="48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Prato Carnic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640" y="3470040"/>
              <a:ext cx="51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Forni di Sopr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840" y="3807720"/>
              <a:ext cx="49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Forni di Sott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95920" y="342540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Ampezz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97360" y="3553560"/>
              <a:ext cx="5720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75640" y="3602880"/>
              <a:ext cx="46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Villa Santin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89760" y="318024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Lauc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1280" y="288396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Ovar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51640" y="3010320"/>
              <a:ext cx="3762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07480" y="2266920"/>
              <a:ext cx="30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Rigolat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39440" y="3752640"/>
              <a:ext cx="36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Socchiev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6360" y="3818520"/>
              <a:ext cx="50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Resiut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87440" y="3948480"/>
              <a:ext cx="511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06520" y="366300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Chiusafort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61440" y="3343680"/>
              <a:ext cx="43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Moggio Ud.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65520" y="2581920"/>
              <a:ext cx="592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Malborghetto V.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17520" y="3678480"/>
              <a:ext cx="37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Enemonz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1320" y="2981160"/>
              <a:ext cx="410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Arta Term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71480" y="3815280"/>
              <a:ext cx="36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Verzegn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5200" y="4014360"/>
              <a:ext cx="307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Cavazz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2000" y="4420080"/>
              <a:ext cx="34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Trasagh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85240" y="2603160"/>
              <a:ext cx="27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Paular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23120" y="301356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Saur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37000" y="279612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Sutri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9800" y="3095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Zugli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3800" y="2558160"/>
              <a:ext cx="38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Cercivent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7320" y="2603160"/>
              <a:ext cx="255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Trepp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8720" y="217440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Ligosull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74320" y="3954240"/>
              <a:ext cx="24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Preon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81080" y="3305160"/>
              <a:ext cx="227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Rave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03440" y="4347720"/>
              <a:ext cx="30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Bordan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27960" y="4110120"/>
              <a:ext cx="19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Resi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7960" y="4876560"/>
              <a:ext cx="38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700" spc="-1" strike="noStrike">
                  <a:solidFill>
                    <a:srgbClr val="000000"/>
                  </a:solidFill>
                  <a:latin typeface="Times New Roman"/>
                </a:rPr>
                <a:t>Montenar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62160" y="47628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51520" y="4748760"/>
              <a:ext cx="274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Distretto numero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50800" y="5049360"/>
              <a:ext cx="2134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del Gemonese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51520" y="5348880"/>
              <a:ext cx="3192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della Valcanale e d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50800" y="5648040"/>
              <a:ext cx="228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Canal del Fer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120" y="4668480"/>
              <a:ext cx="274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Distretto numero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2760" y="4966200"/>
              <a:ext cx="182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Lucida Sans Typewriter"/>
                </a:rPr>
                <a:t>della Carn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 Typewriter"/>
              </a:rPr>
              <a:t>Estensione Territoriale</a:t>
            </a:r>
            <a:endParaRPr b="1" lang="en-US" sz="32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 Typewriter"/>
              </a:rPr>
              <a:t>Viabilità</a:t>
            </a:r>
            <a:endParaRPr b="1" lang="en-US" sz="3200" spc="-1" strike="noStrike">
              <a:solidFill>
                <a:srgbClr val="ffffff"/>
              </a:solidFill>
              <a:latin typeface="Lucida Sans Typewrite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Lucida Sans Typewriter"/>
              </a:rPr>
              <a:t>Dispersione</a:t>
            </a:r>
            <a:endParaRPr b="1" lang="en-US" sz="3200" spc="-1" strike="noStrike">
              <a:solidFill>
                <a:srgbClr val="ffffff"/>
              </a:solidFill>
              <a:latin typeface="Lucida Sans Typewriter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89000"/>
            <a:ext cx="8353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contesto: Distretti, Comuni e Punti Salu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527280" y="836640"/>
            <a:ext cx="208944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Responsabile di Dist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08720" y="2133720"/>
            <a:ext cx="2592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Uff.Coord. Serviz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5640" y="3933720"/>
            <a:ext cx="718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72360" y="3933720"/>
            <a:ext cx="647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48360" y="3933720"/>
            <a:ext cx="1296720" cy="824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Equipe Multidis. Handic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8000" y="3933720"/>
            <a:ext cx="1655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nsulto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40000" y="5243400"/>
            <a:ext cx="1584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ord.A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40000" y="5746680"/>
            <a:ext cx="18018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Coord.RSA/C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20000" y="3933720"/>
            <a:ext cx="647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S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360" y="3933720"/>
            <a:ext cx="122400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Medicina di 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0000" y="6251400"/>
            <a:ext cx="19447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Poliambulat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86" idx="2"/>
            <a:endCxn id="390" idx="0"/>
          </p:cNvCxnSpPr>
          <p:nvPr/>
        </p:nvCxnSpPr>
        <p:spPr>
          <a:xfrm flipH="1" rot="16200000">
            <a:off x="3931200" y="2067120"/>
            <a:ext cx="2507400" cy="122616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86" idx="2"/>
            <a:endCxn id="395" idx="0"/>
          </p:cNvCxnSpPr>
          <p:nvPr/>
        </p:nvCxnSpPr>
        <p:spPr>
          <a:xfrm rot="5400000">
            <a:off x="3084840" y="2446920"/>
            <a:ext cx="2507400" cy="46728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86" idx="2"/>
            <a:endCxn id="387" idx="1"/>
          </p:cNvCxnSpPr>
          <p:nvPr/>
        </p:nvCxnSpPr>
        <p:spPr>
          <a:xfrm flipH="1" rot="16200000">
            <a:off x="4600440" y="1397880"/>
            <a:ext cx="880200" cy="93744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86" idx="2"/>
            <a:endCxn id="388" idx="0"/>
          </p:cNvCxnSpPr>
          <p:nvPr/>
        </p:nvCxnSpPr>
        <p:spPr>
          <a:xfrm rot="5400000">
            <a:off x="2310120" y="1672200"/>
            <a:ext cx="2507400" cy="201672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86" idx="2"/>
            <a:endCxn id="389" idx="0"/>
          </p:cNvCxnSpPr>
          <p:nvPr/>
        </p:nvCxnSpPr>
        <p:spPr>
          <a:xfrm flipH="1" rot="16200000">
            <a:off x="5279760" y="717840"/>
            <a:ext cx="2507400" cy="392508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86" idx="2"/>
            <a:endCxn id="394" idx="0"/>
          </p:cNvCxnSpPr>
          <p:nvPr/>
        </p:nvCxnSpPr>
        <p:spPr>
          <a:xfrm flipH="1" rot="16200000">
            <a:off x="4703040" y="1294200"/>
            <a:ext cx="2507400" cy="2772000"/>
          </a:xfrm>
          <a:prstGeom prst="bentConnector3">
            <a:avLst>
              <a:gd name="adj1" fmla="val 49956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88" idx="1"/>
            <a:endCxn id="392" idx="1"/>
          </p:cNvCxnSpPr>
          <p:nvPr/>
        </p:nvCxnSpPr>
        <p:spPr>
          <a:xfrm flipH="1" flipV="1" rot="10800000">
            <a:off x="2194200" y="4106520"/>
            <a:ext cx="144720" cy="131040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88" idx="1"/>
            <a:endCxn id="393" idx="1"/>
          </p:cNvCxnSpPr>
          <p:nvPr/>
        </p:nvCxnSpPr>
        <p:spPr>
          <a:xfrm flipH="1" flipV="1" rot="10800000">
            <a:off x="2194200" y="4106520"/>
            <a:ext cx="144720" cy="181368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88" idx="1"/>
            <a:endCxn id="396" idx="1"/>
          </p:cNvCxnSpPr>
          <p:nvPr/>
        </p:nvCxnSpPr>
        <p:spPr>
          <a:xfrm flipH="1" flipV="1" rot="10800000">
            <a:off x="2194200" y="4106520"/>
            <a:ext cx="144720" cy="2318400"/>
          </a:xfrm>
          <a:prstGeom prst="bentConnector3">
            <a:avLst>
              <a:gd name="adj1" fmla="val -158603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612720" y="1758960"/>
            <a:ext cx="287964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Ufficio Coordinamento Attività Distrett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86" idx="2"/>
            <a:endCxn id="406" idx="3"/>
          </p:cNvCxnSpPr>
          <p:nvPr/>
        </p:nvCxnSpPr>
        <p:spPr>
          <a:xfrm rot="5400000">
            <a:off x="3717720" y="1200600"/>
            <a:ext cx="627840" cy="108036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5437080" y="1557360"/>
            <a:ext cx="2592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Medico di Dist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86" idx="2"/>
            <a:endCxn id="408" idx="1"/>
          </p:cNvCxnSpPr>
          <p:nvPr/>
        </p:nvCxnSpPr>
        <p:spPr>
          <a:xfrm flipH="1" rot="16200000">
            <a:off x="4851720" y="1145880"/>
            <a:ext cx="304200" cy="86580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20000" y="5243400"/>
            <a:ext cx="1584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Area Min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20000" y="5805360"/>
            <a:ext cx="1765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Lucida Sans Typewriter"/>
              </a:rPr>
              <a:t>Area Anzia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2" name=""/>
          <p:cNvCxnSpPr>
            <a:stCxn id="394" idx="1"/>
            <a:endCxn id="410" idx="1"/>
          </p:cNvCxnSpPr>
          <p:nvPr/>
        </p:nvCxnSpPr>
        <p:spPr>
          <a:xfrm flipH="1" flipV="1" rot="10800000">
            <a:off x="7019640" y="4106520"/>
            <a:ext cx="2160" cy="1310400"/>
          </a:xfrm>
          <a:prstGeom prst="bentConnector3">
            <a:avLst>
              <a:gd name="adj1" fmla="val -144000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4" idx="1"/>
            <a:endCxn id="411" idx="1"/>
          </p:cNvCxnSpPr>
          <p:nvPr/>
        </p:nvCxnSpPr>
        <p:spPr>
          <a:xfrm flipH="1" flipV="1" rot="10800000">
            <a:off x="7019640" y="4105800"/>
            <a:ext cx="2160" cy="1872360"/>
          </a:xfrm>
          <a:prstGeom prst="bentConnector3">
            <a:avLst>
              <a:gd name="adj1" fmla="val -144000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468360" y="189000"/>
            <a:ext cx="7272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Lucida Sans Typewriter"/>
              </a:rPr>
              <a:t>Il Distretto: l’organizzazio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386" idx="2"/>
            <a:endCxn id="391" idx="0"/>
          </p:cNvCxnSpPr>
          <p:nvPr/>
        </p:nvCxnSpPr>
        <p:spPr>
          <a:xfrm rot="5400000">
            <a:off x="1500480" y="862560"/>
            <a:ext cx="2507400" cy="3636000"/>
          </a:xfrm>
          <a:prstGeom prst="bentConnector3">
            <a:avLst>
              <a:gd name="adj1" fmla="val 49956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1:42:34Z</dcterms:created>
  <dc:creator>M8575</dc:creator>
  <dc:description/>
  <dc:language>en-US</dc:language>
  <cp:lastModifiedBy>M8575</cp:lastModifiedBy>
  <dcterms:modified xsi:type="dcterms:W3CDTF">2003-12-08T08:52:09Z</dcterms:modified>
  <cp:revision>29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